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417-94EB-46CF-B0A1-EF1FD510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629-6129-453B-91F6-D60CC79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A95-3ACD-495B-B0AF-48804D69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97C-4C11-4991-97FC-19E66C99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E8BA-22EB-4EA0-8E5A-45AC6E16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3E76-ACFF-41E5-90CD-CBCA3AB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E89B-1C51-496B-BC64-4975F1EA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30E5-AE3D-42A5-B8B9-D628DDB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FDAD-30AB-407A-BB69-B8F7CDB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1940-5576-4AAD-8826-273AA159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3BB-E5D9-4724-8432-8435719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289-9888-4F55-9656-F34F7D8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84F6-6728-4B37-9E9E-500C1BD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046C-DDB3-432F-8DB7-018E2CF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B135-F7AD-402F-AC72-F502B7E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25D0-6E13-48DB-A948-6E36BF38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4CBB-D177-4DEE-98AF-02E09983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9CB-89B4-43A0-AB94-1D427C6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F5B-B893-4C0B-9B87-0448CB2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AFC-020A-48AA-B724-173C76C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BD2-C410-4656-BE51-E14AE171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0D0-063B-40D7-87B4-DC01BF44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4E9-4805-4AF5-8294-900C1A4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942-A147-43F2-A3AA-81704DF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2EB-468C-4E1B-AF55-265B6FAA0A5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A42A-5831-433C-915B-D97D5C00813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5" descr=""/>
          <p:cNvPicPr/>
          <p:nvPr/>
        </p:nvPicPr>
        <p:blipFill>
          <a:blip r:embed="rId2"/>
          <a:stretch/>
        </p:blipFill>
        <p:spPr>
          <a:xfrm>
            <a:off x="1352520" y="1816200"/>
            <a:ext cx="5950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762120" y="1600200"/>
            <a:ext cx="761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阵秋风，树叶落尽，冬天快要到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冬天说到就到，寒风呼呼地刮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冬腊月，大雪纷飞，漫山遍野一片白色。北风像狮子那样狂吼，河里的水结了冰，崖缝里冷得像冰窖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1600200"/>
            <a:ext cx="761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阵秋风，树叶落尽，冬天快要到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冬天说到就到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寒风呼呼地刮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冬腊月，大雪纷飞，漫山遍野一片白色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风像狮子那样狂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河里的水结了冰，崖缝里冷得像冰窖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229480" y="1390680"/>
            <a:ext cx="18874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喜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第一次劝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寒号鸟，别睡觉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好晴天，赶快垒巢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第二次劝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趁天晴，快垒巢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懒惰，将来糟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181480" y="1447920"/>
            <a:ext cx="3657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寒号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不听劝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傻喜鹊，不要吵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暖和，正好睡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06960" y="1981080"/>
            <a:ext cx="394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15680" y="426708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还是不听劝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傻喜鹊，真啰嗦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阳暖和，得过且过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1066680" y="1676520"/>
            <a:ext cx="75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悲哀地叫着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哆啰啰，哆啰啰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风冻死我，明天就垒窝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后的哀号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哆啰啰，哆啰啰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风冻死我，明天就垒窝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066680" y="1219320"/>
            <a:ext cx="75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事一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天喜鹊在枝头邻居寒号鸟，却发现邻居已经在严寒的夜晚冻死了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喜鹊会说些什么、做些什么呢？（喜鹊的话里可以用上如果、假如等词。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事二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寒号鸟接受了喜鹊的第二次劝告，在那个晴天垒巢了，结果又会怎么样呢？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日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日复明日，明日何其多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生待明日，万事成蹉跎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凡事适时做，明日不待我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事待明日，明日能几何？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0:46:26Z</dcterms:created>
  <dc:creator>许颖峰</dc:creator>
  <dc:description/>
  <dc:language>en-US</dc:language>
  <cp:lastModifiedBy>lbx777</cp:lastModifiedBy>
  <dcterms:modified xsi:type="dcterms:W3CDTF">2017-10-09T17:19:43Z</dcterms:modified>
  <cp:revision>15</cp:revision>
  <dc:subject/>
  <dc:title>17.寒号鸟</dc:title>
</cp:coreProperties>
</file>