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8.jpeg" ContentType="image/jpeg"/>
  <Override PartName="/ppt/media/image7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3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7A15-3395-465B-B340-2C483EA82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482B-6309-4AA3-96F8-28813545E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B9F6-BFE8-40A2-B7D1-F7EBCC20E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EC51-F7BA-46A7-92FA-6B8A3F9D7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9573C-F38F-46FF-AF31-C12C8F116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51C10-3FFC-4778-974A-66271DA6A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EA3F4-40C1-4A6A-8947-23C54D677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C6F40-B9E3-4EEB-861E-5A7B89F1E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12AF2-C5BE-4F3C-B287-A726B9ADD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9BFDC-5B4B-4685-BF36-50C720C18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A767F-391F-43B9-9B13-C99FCB71A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CC45-F326-401A-A8C6-45DA91CA4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EBD03-CCDE-4DD4-A2AA-7BDEC53EA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FA912-392B-49BC-B2A1-C6E216A7F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2379F-AF4F-4FF9-8D99-F4424DD36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FCDA4-F56C-4D79-82E0-BC52316B4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E27AA-65D9-4DE8-BC92-3935F83A4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8BCF87-AC7C-4E3C-947B-2CC7D99C3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1B37FF-B9C0-4D21-A1A8-446955425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AA4E0E-EC07-437F-A2D0-12B58FB0D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62B73A-9CEA-451F-8779-EBC3A3946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2F60B1-629F-42F0-828F-E358C742A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77AD-8A87-4BDF-AE55-64C9A45E0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1388E4-9432-421B-966B-11B2D6979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ABDF98-7F2B-4272-9AA0-14FAEAD47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EA1D9C-34ED-4F39-9968-36A6D88C7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B5F404-4460-4C5B-B78E-C49F52F53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879B7B-CECE-4018-A2A7-C6C99DC3A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9B0E0C-40AC-41DA-AA1B-779DD4183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313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685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313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59414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474245-997D-4DD6-AACB-A1F252380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746472-D4A9-4511-BE74-808B32784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BF5591-67F0-4D0C-9535-98907DE63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C1781F-1712-495C-8332-F771EEED0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ECAA-7A0F-4BDA-9A45-B252C8EFD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832877-B69E-4313-8D6D-2C9AA02B7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83A72E-2A65-4C74-A61F-D34844EF3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A564D4-6014-4076-BD76-5B462B051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76B339-9C4D-46CD-A629-9A1EF65B2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DA272A-67B4-42B1-A6FA-A61A0698E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38CFC2-B6E5-4A99-8F7D-07514A7A2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513A5C-11D7-43EB-9301-5B503D9EB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9B0AC8-3593-48BF-AF99-DFEB8B4B0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313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685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313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59414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BD3AE4-7391-41E9-8219-D6360ED7A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E05C5A-6F98-47BB-AE15-835FC7039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902F-27EE-451A-993C-13378E20E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E4A7EC-5087-4E3D-964D-38C221A5F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230FF3-AFAA-4214-AC60-1629E22AB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47A49B-0BD1-4A7A-B43C-A12F74556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A41293-2892-47E2-A80F-20534F3E8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6C5226-50AE-499A-AA01-E332E8F00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0A0026-55AA-4754-940F-168685B7A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931708-BA7F-4891-AAE1-2B2B8F2ED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D116F0-B87C-4B05-858C-E9FD2E0E1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5890B4-3682-4C6F-96C8-48F6909AD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49F112-1001-4CCE-86E2-85824EE7C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FDE4-537E-403B-AE5F-4067DD635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313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685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313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59414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18167D-9669-4834-8C5A-5F590168E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757F-5D2D-40B6-8DE6-8D01C6BD3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9400-FA87-499D-972C-82F4CE4D0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9101-0E35-48F9-BB20-85FAE9FED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4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image" Target="../media/image17.jpeg"/><Relationship Id="rId6" Type="http://schemas.openxmlformats.org/officeDocument/2006/relationships/image" Target="../media/image4.jpeg"/><Relationship Id="rId7" Type="http://schemas.openxmlformats.org/officeDocument/2006/relationships/image" Target="../media/image18.jpeg"/><Relationship Id="rId8" Type="http://schemas.openxmlformats.org/officeDocument/2006/relationships/slideLayout" Target="../slideLayouts/slideLayout49.xml"/><Relationship Id="rId9" Type="http://schemas.openxmlformats.org/officeDocument/2006/relationships/slideLayout" Target="../slideLayouts/slideLayout50.xml"/><Relationship Id="rId10" Type="http://schemas.openxmlformats.org/officeDocument/2006/relationships/slideLayout" Target="../slideLayouts/slideLayout51.xml"/><Relationship Id="rId11" Type="http://schemas.openxmlformats.org/officeDocument/2006/relationships/slideLayout" Target="../slideLayouts/slideLayout52.xml"/><Relationship Id="rId12" Type="http://schemas.openxmlformats.org/officeDocument/2006/relationships/slideLayout" Target="../slideLayouts/slideLayout53.xml"/><Relationship Id="rId13" Type="http://schemas.openxmlformats.org/officeDocument/2006/relationships/slideLayout" Target="../slideLayouts/slideLayout54.xml"/><Relationship Id="rId14" Type="http://schemas.openxmlformats.org/officeDocument/2006/relationships/slideLayout" Target="../slideLayouts/slideLayout55.xml"/><Relationship Id="rId15" Type="http://schemas.openxmlformats.org/officeDocument/2006/relationships/slideLayout" Target="../slideLayouts/slideLayout56.xml"/><Relationship Id="rId16" Type="http://schemas.openxmlformats.org/officeDocument/2006/relationships/slideLayout" Target="../slideLayouts/slideLayout57.xml"/><Relationship Id="rId17" Type="http://schemas.openxmlformats.org/officeDocument/2006/relationships/slideLayout" Target="../slideLayouts/slideLayout58.xml"/><Relationship Id="rId18" Type="http://schemas.openxmlformats.org/officeDocument/2006/relationships/slideLayout" Target="../slideLayouts/slideLayout59.xml"/><Relationship Id="rId19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905120"/>
            <a:ext cx="1120680" cy="495288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1143000" y="1143000"/>
            <a:ext cx="8001000" cy="571500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4"/>
          <a:stretch/>
        </p:blipFill>
        <p:spPr>
          <a:xfrm>
            <a:off x="0" y="1143000"/>
            <a:ext cx="1120680" cy="81900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5"/>
          <a:stretch/>
        </p:blipFill>
        <p:spPr>
          <a:xfrm>
            <a:off x="6134040" y="380880"/>
            <a:ext cx="3009960" cy="38124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6"/>
          <a:stretch/>
        </p:blipFill>
        <p:spPr>
          <a:xfrm>
            <a:off x="5943600" y="0"/>
            <a:ext cx="3200400" cy="10857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1"/>
          <p:cNvSpPr>
            <a:spLocks noGrp="1"/>
          </p:cNvSpPr>
          <p:nvPr>
            <p:ph type="body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DDD0E-D15C-495E-9983-4EB9921F452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38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4492800"/>
            <a:ext cx="1908000" cy="23652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8000" cy="45036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3048120" y="6477120"/>
            <a:ext cx="3009960" cy="3808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1828800" y="0"/>
            <a:ext cx="73152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D4229-31C2-4FF6-BDFA-9D1B7E63B4D3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9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5029200" y="0"/>
            <a:ext cx="3009960" cy="380880"/>
          </a:xfrm>
          <a:prstGeom prst="rect">
            <a:avLst/>
          </a:prstGeom>
          <a:ln w="0">
            <a:noFill/>
          </a:ln>
        </p:spPr>
      </p:pic>
      <p:grpSp>
        <p:nvGrpSpPr>
          <p:cNvPr id="92" name=""/>
          <p:cNvGrpSpPr/>
          <p:nvPr/>
        </p:nvGrpSpPr>
        <p:grpSpPr>
          <a:xfrm>
            <a:off x="0" y="0"/>
            <a:ext cx="9144000" cy="1474920"/>
            <a:chOff x="0" y="0"/>
            <a:chExt cx="9144000" cy="1474920"/>
          </a:xfrm>
        </p:grpSpPr>
        <p:pic>
          <p:nvPicPr>
            <p:cNvPr id="93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451476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4"/>
            <a:stretch/>
          </p:blipFill>
          <p:spPr>
            <a:xfrm>
              <a:off x="0" y="928800"/>
              <a:ext cx="434880" cy="49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" descr=""/>
            <p:cNvPicPr/>
            <p:nvPr/>
          </p:nvPicPr>
          <p:blipFill>
            <a:blip r:embed="rId5"/>
            <a:stretch/>
          </p:blipFill>
          <p:spPr>
            <a:xfrm>
              <a:off x="4495680" y="0"/>
              <a:ext cx="4648320" cy="1474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" name="PlaceHolder 1"/>
          <p:cNvSpPr>
            <a:spLocks noGrp="1"/>
          </p:cNvSpPr>
          <p:nvPr>
            <p:ph type="body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FB882-153B-48EC-8BF9-1E4D57E2BEA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aa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2819520" y="152280"/>
            <a:ext cx="3009960" cy="3812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2590920" y="0"/>
            <a:ext cx="4038480" cy="5335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463760" cy="314316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body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3E9C0-4AFC-4DEA-8A1E-BFD21953DCA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"/>
          <p:cNvGrpSpPr/>
          <p:nvPr/>
        </p:nvGrpSpPr>
        <p:grpSpPr>
          <a:xfrm>
            <a:off x="0" y="0"/>
            <a:ext cx="1474920" cy="1828440"/>
            <a:chOff x="0" y="0"/>
            <a:chExt cx="1474920" cy="1828440"/>
          </a:xfrm>
        </p:grpSpPr>
        <p:pic>
          <p:nvPicPr>
            <p:cNvPr id="18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474920" cy="95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" name="" descr=""/>
            <p:cNvPicPr/>
            <p:nvPr/>
          </p:nvPicPr>
          <p:blipFill>
            <a:blip r:embed="rId3"/>
            <a:stretch/>
          </p:blipFill>
          <p:spPr>
            <a:xfrm>
              <a:off x="0" y="952920"/>
              <a:ext cx="1474920" cy="875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84" name="" descr=""/>
          <p:cNvPicPr/>
          <p:nvPr/>
        </p:nvPicPr>
        <p:blipFill>
          <a:blip r:embed="rId4"/>
          <a:stretch/>
        </p:blipFill>
        <p:spPr>
          <a:xfrm>
            <a:off x="1447920" y="-4680"/>
            <a:ext cx="7696080" cy="183996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5"/>
          <a:stretch/>
        </p:blipFill>
        <p:spPr>
          <a:xfrm>
            <a:off x="7704000" y="5029200"/>
            <a:ext cx="1440000" cy="182880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6"/>
          <a:stretch/>
        </p:blipFill>
        <p:spPr>
          <a:xfrm>
            <a:off x="0" y="6477120"/>
            <a:ext cx="3009960" cy="38088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7"/>
          <a:stretch/>
        </p:blipFill>
        <p:spPr>
          <a:xfrm>
            <a:off x="0" y="6400800"/>
            <a:ext cx="370836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22B5D-543E-4A64-A43D-77D56553F8D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8"/>
    <p:sldLayoutId id="2147483702" r:id="rId9"/>
    <p:sldLayoutId id="2147483703" r:id="rId10"/>
    <p:sldLayoutId id="2147483704" r:id="rId11"/>
    <p:sldLayoutId id="2147483705" r:id="rId12"/>
    <p:sldLayoutId id="2147483706" r:id="rId13"/>
    <p:sldLayoutId id="2147483707" r:id="rId14"/>
    <p:sldLayoutId id="2147483708" r:id="rId15"/>
    <p:sldLayoutId id="2147483709" r:id="rId16"/>
    <p:sldLayoutId id="2147483710" r:id="rId17"/>
    <p:sldLayoutId id="2147483711" r:id="rId18"/>
    <p:sldLayoutId id="2147483712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11280" y="1557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Times New Roman"/>
              </a:rPr>
              <a:t>形声字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1332000" y="3645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形声者，以事为名，取譬相成，江河是也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 —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《说文解字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38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4360" y="16092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619280" y="1412640"/>
            <a:ext cx="720072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文化大革命”时期，盛行“外行领导”。某大报主编对众人讲话，把“墨西哥”错念成“黑西哥”。听众大笑。主编生气说：“墨”也是“黑”的，有什么可笑，你们“吹毛求庇”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吹毛求疵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ī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newsflash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9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形声字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组成形声字的两个部分，一部分表示字的意义，叫形旁（也叫义符）；另一个部分表示字的读音，叫声旁（也叫音符）。例如“一唱一和”的“和”：“口”是形旁，表示“和”是口的动作；“禾”是声旁，表示“和”的读音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aa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55280" y="836640"/>
            <a:ext cx="705492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形声字的类别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4360" y="1483920"/>
            <a:ext cx="77724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476360" y="1771920"/>
            <a:ext cx="662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左形右声：材偏铜冻证骑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右形左声：攻削瓢放鹉雌故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上形下声：管露爸芳宵界字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下形上声：架案慈斧贡膏凳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外形内声：固病庭园匾裹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内形外声：闷问闻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形在一角：裁 载 栽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声在一角：醛 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l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8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8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8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8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aa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形声字的误读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619280" y="1916280"/>
            <a:ext cx="665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莘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shēn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莘学子，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xīn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粳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(jīng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米， 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(gě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引吭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(háng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高歌， 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(kà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玫瑰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gui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，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guì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蔗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zhè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糖，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zhē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畸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jī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形，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qí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aa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79280" y="47628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巧记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37160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以交字为声旁的字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洁白方“皎”洁，有人称“佼佼”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伐木建学“校”，车速可比“较”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有文“效”率高，用口才能“咬”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犬旁为“狡”猾，右耳为城“郊”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8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8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8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8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51516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75564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有个财主家的少爷，自以为读了几句书，就爱耍点小聪明戏弄人。一次，他出去游逛，看见一位貌美的少妇在木桥上淘米，使嬉皮笑脸地对她哼哼：“有木便为‘桥’，无木也念‘乔’；去木添个女，添女便为娇’；阿娇休避我，我最爱阿娇。”少妇听了心里十分厌恶，瞪了那个财主少爷一眼，便毫不客气地回敬他：“有米便为‘粮’无米也念‘良’；去米添个女，添女便为‘娘’；老娘虽爱儿，儿不敬老娘。”少爷讨了个没趣，灰溜溜地走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mb dir="vert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6" dur="20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8T13:21:54Z</dcterms:created>
  <dc:creator>深度完美xp v10</dc:creator>
  <dc:description/>
  <dc:language>en-US</dc:language>
  <cp:lastModifiedBy>t1</cp:lastModifiedBy>
  <dcterms:modified xsi:type="dcterms:W3CDTF">2009-12-03T07:26:55Z</dcterms:modified>
  <cp:revision>8</cp:revision>
  <dc:subject/>
  <dc:title>幻灯片 1</dc:title>
</cp:coreProperties>
</file>