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4E0-46D5-4B21-AE55-34E5BC73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659-F37A-4475-A1F5-C1BFC930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F90-B7E1-42A4-B2F2-4DBAEAE0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692E-44E3-43A5-A9C6-15A5D6C2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BDBC-4A69-4B35-919A-3CF057B0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5AE2-3267-4C27-B319-0CE1504D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B046-BFB3-4A3D-8FA6-C171DD62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C410-0D82-41DC-955F-71224FE6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A4D1-97DD-43B5-BD2E-E330E75E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67E9-55D8-436B-B3D2-525FFA08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938F-1C06-499D-8547-E5FA1CA3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D8D-55D7-42B6-8789-DD8C5BF5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73AF-9D87-407B-8A6C-D296C092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9F41-A1E7-40D8-BC15-4065391D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1DA3-62D7-4FE7-9FC2-BEFEE419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F949-F414-4A9F-896B-0A56C611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F50C-F4F7-4FA9-A64E-F92D4BBD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A4C4C-D5E5-4FFC-861D-C50D807B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14CB-A7AB-4356-B055-D8BADCDF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D266-84F1-43A7-90AA-292E9797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88C5-8AD1-4766-98D3-9369B22F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6A008-2D96-42F3-9FD5-1B20FE2B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A8F0-8154-486F-92D2-66322EC8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D5B0-30A7-451F-BEAE-D298A0B0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D21F-F0B2-46C8-913C-605A9F9E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1A53-9748-4630-8D99-6DD969F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E79A-4FB7-4BA9-8028-8B500928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53964-6E45-4D90-8BD7-3F2C6114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2400-4CAF-4D63-83EB-6DE69EDF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3F36F-ED72-4EFB-AA3A-866CAA8C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95AF3-D4D6-47FE-9D9A-71F65A40F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4709E-BC24-4381-A3E1-8113CE60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8B1B-FD99-4BE5-BD04-40F310A9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3C6F-5416-4B74-88A3-600FA4A8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0A99-3824-44F7-B386-64A3627F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E6CBE-A4CA-4375-AEE8-A8E79ECE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D5C01-53A2-4234-A25E-808C1180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4DBA-AF96-452B-85AC-52E103D1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8913B-337F-40F1-AF9F-64A7914C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D635B-0775-4039-862C-EAF6DAD8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FB06-7ACC-4D6B-A50D-AF528FE1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7C3D-ADCD-4A0B-9FF1-377B7B81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245EA-378C-4A30-BA9D-62E25388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6C797-4553-4A1F-9904-C364DACD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33A-160D-4659-A0A9-9A16274E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77BDD-98C5-494D-B63E-B1A905D9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300DE-D2A3-43CE-ABB7-DC811B91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5DD00-059C-4930-B511-F704B190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E8DBB-9D07-4620-9983-1715E033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4300-0DA2-4F74-B8F3-E3752645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B20DE-2B61-4C33-8FF6-BA4B21A6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F64B-0097-4A6E-9C68-37081CF1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D1BD7-9D49-466A-A5B6-CCAB0789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95668-BFC1-4552-ACD0-3AB740CCA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B0474-A43C-4FF3-A71C-4A94352B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BB3-0017-4615-AA78-92E97EDA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5775C-20A2-40E5-8976-6292B183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2C42-30E8-4B5C-899E-17633181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B64-C7EC-4430-9322-FA37B77A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066-3851-43F5-BD9C-E503FBD9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4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1120680" cy="4952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8001000" cy="5715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1120680" cy="819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134040" y="380880"/>
            <a:ext cx="3009960" cy="3812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5943600" y="0"/>
            <a:ext cx="3200400" cy="1085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0691-3ADA-4BF4-8747-8EA89B9445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4503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F327-BDD8-4FE6-8D47-8B240ACC53C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0" y="0"/>
            <a:ext cx="9144000" cy="1474920"/>
            <a:chOff x="0" y="0"/>
            <a:chExt cx="9144000" cy="147492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51476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0" y="928800"/>
              <a:ext cx="4348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4495680" y="0"/>
              <a:ext cx="4648320" cy="14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CAF0-3648-43A7-9B4E-C4BEE23307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3009960" cy="3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590920" y="0"/>
            <a:ext cx="4038480" cy="53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63760" cy="3143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7024-36B8-491A-A094-9E6D926497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1474920" cy="1828440"/>
            <a:chOff x="0" y="0"/>
            <a:chExt cx="1474920" cy="182844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74920" cy="9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0" y="952920"/>
              <a:ext cx="1474920" cy="87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447920" y="-4680"/>
            <a:ext cx="7696080" cy="1839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7704000" y="5029200"/>
            <a:ext cx="14400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0B0C-8BB7-4136-9B56-018CEB138E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形声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320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声者，以事为名，取譬相成，江河是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说文解字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160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19280" y="1412640"/>
            <a:ext cx="720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化大革命”时期，盛行“外行领导”。某大报主编对众人讲话，把“墨西哥”错念成“黑西哥”。听众大笑。主编生气说：“墨”也是“黑”的，有什么可笑，你们“吹毛求庇”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吹毛求疵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形声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形声字的两个部分，一部分表示字的意义，叫形旁（也叫义符）；另一个部分表示字的读音，叫声旁（也叫音符）。例如“一唱一和”的“和”：“口”是形旁，表示“和”是口的动作；“禾”是声旁，表示“和”的读音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836640"/>
            <a:ext cx="70549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形声字的类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1771920"/>
            <a:ext cx="66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左形右声：材偏铜冻证骑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右形左声：攻削瓢放鹉雌故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形下声：管露爸芳宵界字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形上声：架案慈斧贡膏凳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形内声：固病庭园匾裹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形外声：闷问闻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在一角：裁 载 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声在一角：醛 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形声字的误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19280" y="1916280"/>
            <a:ext cx="665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莘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ē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莘学子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xī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jīng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gě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háng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歌，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kà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玫瑰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u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guì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蔗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糖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zh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畸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形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qí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巧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交字为声旁的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洁白方“皎”洁，有人称“佼佼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伐木建学“校”，车速可比“较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文“效”率高，用口才能“咬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犬旁为“狡”猾，右耳为城“郊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15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个财主家的少爷，自以为读了几句书，就爱耍点小聪明戏弄人。一次，他出去游逛，看见一位貌美的少妇在木桥上淘米，使嬉皮笑脸地对她哼哼：“有木便为‘桥’，无木也念‘乔’；去木添个女，添女便为娇’；阿娇休避我，我最爱阿娇。”少妇听了心里十分厌恶，瞪了那个财主少爷一眼，便毫不客气地回敬他：“有米便为‘粮’无米也念‘良’；去米添个女，添女便为‘娘’；老娘虽爱儿，儿不敬老娘。”少爷讨了个没趣，灰溜溜地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3:21:54Z</dcterms:created>
  <dc:creator>深度完美xp v10</dc:creator>
  <dc:description/>
  <dc:language>en-US</dc:language>
  <cp:lastModifiedBy>t1</cp:lastModifiedBy>
  <dcterms:modified xsi:type="dcterms:W3CDTF">2009-12-03T07:26:55Z</dcterms:modified>
  <cp:revision>8</cp:revision>
  <dc:subject/>
  <dc:title>幻灯片 1</dc:title>
</cp:coreProperties>
</file>