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B6D-35A8-4C9D-8A4E-6191DB41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5C0-FC6D-472A-BC05-836192C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235-D719-45DB-A516-53F1BE4E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B04-72DB-46EE-B648-CA63A71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151-0606-4389-BB28-6630E78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5EA-978A-4D3F-8E71-D717449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6F3-00A6-4795-8C4A-C78EAC1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A4B-C6B4-4F6F-B58F-3A21771C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7CF-5C03-4A6A-BD44-273B8B1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8EB-6092-4469-87CF-5601A32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234-F557-4BEB-9057-05138B4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C42-9A09-42E0-B6ED-8758F75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307-A5BE-4938-AED3-CC07C7BEE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18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5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6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61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kuz.com/photo/landscape/desert/page/006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35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ukuz.com/photo/landscape/desert/page/006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34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17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元二十四年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吐番发兵攻打唐属小国小勃律（在今克什米尔北）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3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春，可西节度副大使崔希逸在青涤西大破吐番军。王维奉使出塞宣慰。本篇即写出塞时沿途景色，察访军情。这实际是将王维排挤出朝迁。这道诗作于赴边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8675" descr="74ebe0bf8b246922-335bb773bd533262-d856873a65f99c83b41379b3afd88b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5516640"/>
            <a:ext cx="66596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轻车简从，要前往边境慰问将士，途中经过远在西北边塞的居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高路远，我觉得自己像飘飞的蓬草一样出了汉家边塞，又似北归大雁一般飞入胡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见那苍茫无际的沙漠，远处烽火台一缕白烟直上云霄，黄河横贯其间，天空中挂着一轮圆圆的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到萧关恰逢骑马的侦察兵，一问才知道将官正在燕然前线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轻车简从，出使边塞。（叙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“蓬” “雁”自比，内心郁愤。（抒情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边塞风光，奇特壮丽。（绘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斗紧张，战事繁忙。 （叙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诗在叙事写景中传达出幽微难言的内心情感的两句诗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征蓬出汉塞，归雁入胡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诗描绘塞外荒漠的壮美风光的诗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漠孤烟直，长河落日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诗交代了出使的目的和经过的地点的句子是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单车欲问边，属国过居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表现行程的艰苦遥远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征蓬出汉塞，归雁入胡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2291" descr="ac75323d6b6de243-99bffc6c0cdd19d9-85810d3e841e97245c42ef4fdd2148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此诗表达的情感有哪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了诗人对守边将士爱国精神的赞美之情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了诗人对祖国边塞壮丽山河的赞美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露了诗人被排挤出朝廷后内心的抑郁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3315" descr="d7036c9a17f5fda2-5b0ad06659d0fbe8-7b71a552793623f14d829d7cfff1bf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名句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漠孤烟直，长河落日圆”写自己一路跋涉，看到的沙漠中特有的景色。被国学大师王国维赞叹为“千古壮观”的名句，谈谈你对此的认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341" descr="090c9d62844e79ba-35ac6e464871dae3-f235a620ae3fbf27b9b0db46b14f7c29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38800"/>
            <a:ext cx="91440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构图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处烽烟、远处夕阳、大漠无边、长河奔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间阔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线条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纵的是烟，横的是河，圆的是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次丰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色彩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沙漫漫、夕辉橘红、白烟一缕、河水闪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鲜明优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两句诗充分体现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中有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色，非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讲究景物的画面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首先，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画一样的构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从天边的落日到空中的烽烟到地下的河流，从近处的烽烟到远处的夕阳到绵延无边的大漠，空间阔大，层次很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6387" descr="非洲沙漠1"/>
          <p:cNvPicPr/>
          <p:nvPr/>
        </p:nvPicPr>
        <p:blipFill>
          <a:blip r:embed="rId1"/>
          <a:stretch/>
        </p:blipFill>
        <p:spPr>
          <a:xfrm>
            <a:off x="2843280" y="5373720"/>
            <a:ext cx="630072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，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讲究线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望无际的大漠上，纵的是烟，横的是河，圆的是落日，线条简约，物态毕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色彩丰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广阔无垠的大漠黄沙漫漫，黄昏橘红色的夕阳收敛了光辉，静静地居于天际，辉映着波澜不惊的闪着白光的河水，沙漠上升起一缕白色的烽烟，直上高空，雄浑寥廓的边塞风光如在目前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十八回，对于“大漠孤烟直，长河落日圆”，香菱说：“这‘直’字似无理，‘圆’字似太俗。合上书一想，倒像是见了这景的。若说再找两个换这两个，竟再找不出两个字来。”你认为香菱对这两句诗的体味有没有道理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道理。香菱虽没能说清楚这两个字到底好在哪里，但是凭直觉感到它们描写孤烟与落日非常形象，不可替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2857680" y="333360"/>
            <a:ext cx="42354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使至塞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171360" y="6234120"/>
            <a:ext cx="89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使至塞上</a:t>
            </a: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这首诗，通过作者叙述出使边塞的经历和沿途风光，抒发了作者内心的激愤和抑郁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9459" descr="大漠3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领会本诗有关的文学常识和写作背景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结合写作背景，领会本诗的思想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“大漠孤烟直，长河落日圆”所描绘的意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并默写全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1747" descr="ac75323d6b6de243-cb1a21ced629c7a4-5f7ee226e44ff6d44afe5da29442f67c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26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-360"/>
            <a:ext cx="67071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维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1-76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字摩诘，唐代山水田园诗派的代表作家。有“诗佛”的美称。王维是个多才多艺并有较高艺术修养的作家，他能诗能画，精通音乐。宋朝苏轼曾称赞说：“味摩诘之诗，诗中有画；观摩诘之画，画中有诗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075" descr="01300000195282121846969478464"/>
          <p:cNvPicPr/>
          <p:nvPr/>
        </p:nvPicPr>
        <p:blipFill>
          <a:blip r:embed="rId1"/>
          <a:stretch/>
        </p:blipFill>
        <p:spPr>
          <a:xfrm>
            <a:off x="0" y="836640"/>
            <a:ext cx="22683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使至塞上               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车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问边，属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居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征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汉塞，归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胡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孤烟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直，长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落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萧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逢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候骑，都护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燕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王维《使至塞上》.mp3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2072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0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6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居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á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征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候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123" descr="180fe0f3c976b242-e30f03e295bc0a24-43a65f7fb6278fc21eca0fe4cc7cc6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765000"/>
            <a:ext cx="4356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释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单车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辆车，车辆少，这里形容轻车简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边塞去察看，指慰问守卫边疆的官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属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典属国的简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征蓬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风飘飞的蓬草，此处为诗人自喻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归雁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雁是候鸟，春天北飞，秋天南行，这里是指大雁北飞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胡天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胡人的领空。这里是指唐军占领的北方地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漠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沙漠，此处大约是指凉州之北的沙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孤烟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代边防报警时燃的狼烟。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长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指黄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171" descr="6dfb2f34eed2f074-37807a1e7ade2277-c44ea165a94508f4eb786adbd198ceb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716280"/>
            <a:ext cx="3132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萧关：古关名，在今宁夏固原东南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⑾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候骑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责侦察、通讯的骑兵。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都护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唐朝在西北边疆置安西、安北等六大都护府，其长官称都护，这里指前敌统帅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燕然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燕然山，这里代指前线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03:38:35Z</dcterms:created>
  <dc:creator>未知用户</dc:creator>
  <dc:description/>
  <dc:language>en-US</dc:language>
  <cp:lastModifiedBy>Administrator</cp:lastModifiedBy>
  <dcterms:modified xsi:type="dcterms:W3CDTF">2018-10-09T15:24:2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