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1B1-80D1-402E-B2BB-65B7009E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A02-D101-4419-93F5-208E63F8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8BB-3538-4BD2-A68F-CF7937CB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A5C-ED18-489E-B0AB-9B8209FB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C05-887F-4A6D-984E-380892B8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D12-5FEE-4662-8EA1-7F4EC560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AE3-2DA0-419D-8906-55FBEB35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54B-EE13-46A3-B4B5-1FB34714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D77-CBBE-4150-90D7-330F0851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2E0-6139-4B74-BE8F-7E9C40E9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ADE-3D98-4BAE-8204-F2F56E20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C34-1F1B-41DA-881B-D03660A0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A098-FE37-4852-A98D-9E7327342F88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5B3B-223C-41F9-B0F3-F8FC521BC4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0880" y="907560"/>
            <a:ext cx="90169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九上总复习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字音、字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36572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桥学校      郑长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1F3-34CC-4637-8A38-E4A4FCC0D4B7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EAF8-D03E-4E2E-826A-D547D08C43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掺杂          驱除          镰刀          温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叠          玄虚          渺茫          麻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摧残          诓骗          凶险          视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信          虚妄          盲从          折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俗          墨守          停滞          探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意          压榨          中伤          遁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钝          懦夫          豢养          灌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歇息          干系          怨怅          分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逞能          颠倒          勾当          聒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揖          见教          盘缠          心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宿          桑梓          侥幸          拜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760D-80DD-42E0-9ADB-613204CE754D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4C11-3546-47D6-948C-8AE446DF63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礼          傲慢          疏懒          愧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鄙贱          调停          发怔          岔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促狭          筵席          断章取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二法门          言不及义          荡然无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丽堂皇          丰功伟绩          彬彬有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发雷霆          随心所欲          一意孤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吹自擂          矫揉造作          附庸风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扭捏作态          随机应变          自惭形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不容发          金戈铁马          形销骨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抽丝剥茧          鸠占鹊巢          李代桃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D83-BB36-47FE-A317-B90D11F64883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57C9-352E-4C72-95D9-A66212A3BB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得益彰         可望而不可即    与日俱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拿九稳         郑重其事           置之不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歇斯底里         怀古伤今           埋头苦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舍身求法         前仆后继           自欺欺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足为据         不攻自破           根深蒂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之有效         孜孜不倦           持之以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言而喻         轻而易举           画龙点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暴自弃         山穷水尽           走投无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省人事         不由分说           如雷贯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世奇才         思贤如渴           箪食壶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开茅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783A-5210-42EF-A2DD-3BE1D8C3AF02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FE0A-40B2-4637-ABAA-57A3DE9959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成吉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婷               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）                    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亵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有礼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揉造作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惭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           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养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367D-DE26-4E29-93BB-F4F83C8E6BD7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A56A-2A48-497A-9DDF-3E7112CCF2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199960" y="26028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592680" y="260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696680" y="83664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450120" y="836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054880" y="1413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447600" y="141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2054880" y="1989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6378480" y="19890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èd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055600" y="256536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6088320" y="2565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2054880" y="314172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6088680" y="3141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696680" y="3716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5945400" y="37162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2920320" y="42926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6377760" y="4365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2055600" y="4869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6375240" y="4941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2127240" y="5516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231600" y="5516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下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浩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汤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琅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伛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D6CE-8E4F-4757-829E-6E39532C3FE2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4CAD-1103-4AD3-9770-B590723F87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696320" y="189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6160320" y="189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055600" y="76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6088680" y="76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562840" y="134136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6231960" y="13413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2128320" y="1916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6591240" y="1916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1698120" y="24922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790880" y="256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2199240" y="30686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4431960" y="306864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2128680" y="364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6667200" y="3716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ángy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1698120" y="4292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6377040" y="4292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ǔ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1767600" y="486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231960" y="486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1766880" y="544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6377040" y="544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定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衣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沆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户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索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A51-F44F-4B87-B58C-4C105AB07280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01DC-4601-4119-BBDF-2CA60E46F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625040" y="189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871600" y="18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696680" y="76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6088320" y="76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129040" y="1341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85720" y="134136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àngd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1767240" y="19162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 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6161760" y="19162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2199960" y="2492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6303960" y="249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1695240" y="30686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6231600" y="31417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 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1768680" y="3645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6233760" y="37162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 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2201040" y="4292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6233400" y="4292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2200320" y="4869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6231240" y="4869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1839240" y="544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6305400" y="54450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了本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瓷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拮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桥              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褴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 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嘟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颛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     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孜不倦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刀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D2A9-ED4F-48A0-9C86-60BCCEFDA4E5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A9A2-79EE-4E1C-92C3-3A7FB02BD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768680" y="404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376680" y="333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201760" y="98100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ì s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665400" y="9810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é j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1768680" y="155736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663600" y="1628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 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2201760" y="21337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án 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6665400" y="21337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2203200" y="27082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ū n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6304680" y="2708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840320" y="3284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5514480" y="3284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2203560" y="386064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uān 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6159960" y="3933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1838520" y="4437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6233760" y="4508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1982880" y="501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6090480" y="5084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1839240" y="5661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6304680" y="5661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意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兀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啰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）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事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子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07CC-A3B7-42AA-B47E-7D5DD0C32E8F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B072-F9B2-4728-85BA-62EF820C7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057760" y="404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72904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1697040" y="981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6162120" y="981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ù d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768320" y="15573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5729400" y="1557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2202480" y="21337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uó z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799240" y="21337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2128320" y="27082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5657760" y="2708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1625040" y="3284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5729040" y="32846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1767960" y="3860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6231960" y="3933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1839600" y="4508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304320" y="4508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1768320" y="508464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61588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1696680" y="56610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5729400" y="5661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              存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蓼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徜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）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3C13-E391-4A5C-827C-096204E0D82E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6168-DE6F-4920-ABED-272A364C93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130120" y="26028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945040" y="26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200320" y="8366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5947560" y="836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ǎ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200680" y="14842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6088320" y="1413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1698480" y="19890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ā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6520320" y="198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1911960" y="2637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6379200" y="263700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ǎo 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1769760" y="31417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017040" y="31417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1697040" y="37893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6016320" y="3789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2062080" y="436572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ng 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5945760" y="4365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滔滔          妖娆          折腰           风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骄          风流          嘶哑           汹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黎明          腐烂          轻灵           娉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鲜妍          冠冕          呢喃           丰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沉醉          忧戚          勃发           飘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漫游          流盼          摇曳           禅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微          旁骛          秘诀           羡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亵渎          浪荡          妄想           杜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和          赞誉          恍若           绸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琉璃          惊骇          瞥见           剪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劫掠          赃物          制裁           贸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324000" y="5661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87E0-E121-4FD1-BD92-FA7A046D4F61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B8A7-5767-4F3F-A67B-3328EBB2B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涵养          恪守          自持          汲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循          箴言          广袤          积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宥          游弋          困厄          濡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麾下          嘟嚷          灰烬          阴晦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萧索          祭祀          伶俐          愕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鄙夷          嗤笑          应酬          世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惘然          隔膜          恣睢          拮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栈桥          糟蹋          别墅          褴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婿          端详          恭维          阔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煞白          家底          觅食          嬉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旷          撩逗          炊烟          乖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468360" y="5732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D058-BB91-48F8-8AA5-06D50DD53896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2B11-FCB7-4962-9FAF-BBD4E09402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14:27:27Z</dcterms:created>
  <dc:creator>wxsa</dc:creator>
  <dc:description/>
  <cp:keywords/>
  <dc:language>en-US</dc:language>
  <cp:lastModifiedBy>CJ</cp:lastModifiedBy>
  <dcterms:modified xsi:type="dcterms:W3CDTF">2018-10-08T06:54:09Z</dcterms:modified>
  <cp:revision>182</cp:revision>
  <dc:subject/>
  <dc:title>第三讲   词语的理解与运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