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B7CC-5877-410B-950D-900A3700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5EC-9CEF-46BC-B0C8-EBA17FC1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DBB-9299-434E-91EC-7B1FBAAA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C46-503D-4659-8FF1-2B7033A5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2693-80A7-4C55-875F-CB025CCF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2E3-884C-4254-8741-1B1C4BC6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320B-A351-4B7B-92D7-3F6685A2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2971-3C45-4ABB-9BF2-220C0720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C8E-677A-41CE-B6A3-E8AC4A06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24B-9823-4E7C-9050-837FFAE4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425E-B60F-4582-BCB9-811C5498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68D-655D-4C6D-9948-3E201A16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DDFA-2D4E-4F9B-8394-1C630F3274D2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C98E-9ADD-493A-81FE-F580FD33CB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0880" y="907560"/>
            <a:ext cx="901692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九上总复习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字音、字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436572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桥学校      郑长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B814-F94B-4324-AB7C-CF89F8051CBB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D427-E8C9-4F3B-9285-4DE59B9DB9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掺杂          驱除          镰刀          温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叠          玄虚          渺茫          麻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摧残          诓骗          凶险          视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轻信          虚妄          盲从          折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俗          墨守          停滞          探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创意          压榨          中伤          遁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鲁钝          懦夫          豢养          灌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歇息          干系          怨怅          分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逞能          颠倒          勾当          聒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揖          见教          盘缠          心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星宿          桑梓          侥幸          拜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D460-61AA-4850-A2D2-8B42D5DAD181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AA3E-1559-412B-88B1-185AC71D8B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失礼          傲慢          疏懒          愧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鄙贱          调停          发怔          岔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促狭          筵席          断章取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二法门          言不及义          荡然无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富丽堂皇          丰功伟绩          彬彬有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发雷霆          随心所欲          一意孤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吹自擂          矫揉造作          附庸风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扭捏作态          随机应变          自惭形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间不容发          金戈铁马          形销骨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抽丝剥茧          鸠占鹊巢          李代桃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876F-22FF-4514-90B0-6766B63FEF35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7D0F-3EC7-4AC7-A7E3-3C500CB3F1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得益彰         可望而不可即    与日俱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拿九稳         郑重其事           置之不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歇斯底里         怀古伤今           埋头苦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舍身求法         前仆后继           自欺欺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足为据         不攻自破           根深蒂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之有效         孜孜不倦           持之以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言而喻         轻而易举           画龙点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暴自弃         山穷水尽           走投无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省人事         不由分说           如雷贯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世奇才         思贤如渴           箪食壶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顿开茅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5167-645C-4CAF-AA5E-48C82A1F7E67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E38E-696C-4C92-A5CC-30EA5C4221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         成吉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婷               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）                    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亵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有礼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揉造作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惭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           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养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93F1-7FF7-4339-B5BD-2E2984F5264F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239E-6F7B-4001-845A-F2D7BE846B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2199960" y="26028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6592680" y="26028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696680" y="83664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450120" y="83664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2054880" y="1413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6447600" y="1413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2054880" y="1989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6378480" y="198900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ièd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2055600" y="256536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u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6088320" y="256536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2054880" y="314172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6088680" y="3141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1696680" y="371628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7"/>
          <p:cNvSpPr/>
          <p:nvPr/>
        </p:nvSpPr>
        <p:spPr>
          <a:xfrm>
            <a:off x="5945400" y="371628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ē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8"/>
          <p:cNvSpPr/>
          <p:nvPr/>
        </p:nvSpPr>
        <p:spPr>
          <a:xfrm>
            <a:off x="2920320" y="429264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9"/>
          <p:cNvSpPr/>
          <p:nvPr/>
        </p:nvSpPr>
        <p:spPr>
          <a:xfrm>
            <a:off x="6377760" y="436572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2055600" y="4869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6375240" y="49417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2127240" y="551664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6231600" y="5516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下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浩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汤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 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琅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伛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DDD1-F966-4A11-AA00-FA852543A7D6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3A24-6B07-48D7-9861-87F38E36B8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696320" y="18900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6160320" y="18900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2055600" y="765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6088680" y="765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2562840" y="134136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6231960" y="134136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ē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2128320" y="191628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6591240" y="1916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1698120" y="249228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i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4790880" y="256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2199240" y="306864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4431960" y="306864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2128680" y="3645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6667200" y="371628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ángy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1698120" y="429264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6377040" y="4292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ǔl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1767600" y="4869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6231960" y="4869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2"/>
          <p:cNvSpPr/>
          <p:nvPr/>
        </p:nvSpPr>
        <p:spPr>
          <a:xfrm>
            <a:off x="1766880" y="5445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3"/>
          <p:cNvSpPr/>
          <p:nvPr/>
        </p:nvSpPr>
        <p:spPr>
          <a:xfrm>
            <a:off x="6377040" y="544500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ō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定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衣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沆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户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索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B600-4FE0-45D1-9E85-89039D43A15B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3D9A-4EFE-47E0-9BFE-2D6753C558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625040" y="18900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871600" y="189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1696680" y="765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6088320" y="765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u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2129040" y="134136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ō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085720" y="134136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àngd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1767240" y="191628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 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6161760" y="191628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2199960" y="24922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u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6303960" y="249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1695240" y="306864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6231600" y="31417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 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1768680" y="36450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6233760" y="371628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 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8"/>
          <p:cNvSpPr/>
          <p:nvPr/>
        </p:nvSpPr>
        <p:spPr>
          <a:xfrm>
            <a:off x="2201040" y="4292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9"/>
          <p:cNvSpPr/>
          <p:nvPr/>
        </p:nvSpPr>
        <p:spPr>
          <a:xfrm>
            <a:off x="6233400" y="429264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2200320" y="4869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ù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1"/>
          <p:cNvSpPr/>
          <p:nvPr/>
        </p:nvSpPr>
        <p:spPr>
          <a:xfrm>
            <a:off x="6231240" y="486900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2"/>
          <p:cNvSpPr/>
          <p:nvPr/>
        </p:nvSpPr>
        <p:spPr>
          <a:xfrm>
            <a:off x="1839240" y="5445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3"/>
          <p:cNvSpPr/>
          <p:nvPr/>
        </p:nvSpPr>
        <p:spPr>
          <a:xfrm>
            <a:off x="6305400" y="544500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i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了本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瓷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拮据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桥              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褴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  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嘟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颛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     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孜不倦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刀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20C2-F8CA-495B-88C5-213C31A190BE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DA3A-685C-4AE5-9967-238F39E8A2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768680" y="4046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376680" y="33336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2201760" y="981000"/>
            <a:ext cx="11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ì su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6665400" y="981000"/>
            <a:ext cx="11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ié j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1768680" y="155736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6663600" y="16286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 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2201760" y="213372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án l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6665400" y="213372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2203200" y="270828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ū n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6304680" y="270828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i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1840320" y="32846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5"/>
          <p:cNvSpPr/>
          <p:nvPr/>
        </p:nvSpPr>
        <p:spPr>
          <a:xfrm>
            <a:off x="5514480" y="328464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u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6"/>
          <p:cNvSpPr/>
          <p:nvPr/>
        </p:nvSpPr>
        <p:spPr>
          <a:xfrm>
            <a:off x="2203560" y="386064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uān x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7"/>
          <p:cNvSpPr/>
          <p:nvPr/>
        </p:nvSpPr>
        <p:spPr>
          <a:xfrm>
            <a:off x="6159960" y="39337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8"/>
          <p:cNvSpPr/>
          <p:nvPr/>
        </p:nvSpPr>
        <p:spPr>
          <a:xfrm>
            <a:off x="1838520" y="4437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9"/>
          <p:cNvSpPr/>
          <p:nvPr/>
        </p:nvSpPr>
        <p:spPr>
          <a:xfrm>
            <a:off x="6233760" y="450864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0"/>
          <p:cNvSpPr/>
          <p:nvPr/>
        </p:nvSpPr>
        <p:spPr>
          <a:xfrm>
            <a:off x="1982880" y="5013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1"/>
          <p:cNvSpPr/>
          <p:nvPr/>
        </p:nvSpPr>
        <p:spPr>
          <a:xfrm>
            <a:off x="6090480" y="508464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ē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2"/>
          <p:cNvSpPr/>
          <p:nvPr/>
        </p:nvSpPr>
        <p:spPr>
          <a:xfrm>
            <a:off x="1839240" y="5661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6304680" y="5661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è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9528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意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兀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啰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）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事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           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           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           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子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3921-6A0B-4615-8D60-50179D027348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60E3-FFE2-4E1A-AE33-6F8A9B276C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2057760" y="40464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572904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ǐ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1697040" y="98100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u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6162120" y="981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ù d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1768320" y="15573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5729400" y="155736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2202480" y="213372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uó z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5799240" y="21337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2128320" y="270828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5657760" y="27082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1625040" y="328464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5729040" y="328464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i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1767960" y="386064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6231960" y="3933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i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1839600" y="45086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6304320" y="45086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i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1768320" y="508464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1"/>
          <p:cNvSpPr/>
          <p:nvPr/>
        </p:nvSpPr>
        <p:spPr>
          <a:xfrm>
            <a:off x="6158880" y="5084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2"/>
          <p:cNvSpPr/>
          <p:nvPr/>
        </p:nvSpPr>
        <p:spPr>
          <a:xfrm>
            <a:off x="1696680" y="566100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ì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3"/>
          <p:cNvSpPr/>
          <p:nvPr/>
        </p:nvSpPr>
        <p:spPr>
          <a:xfrm>
            <a:off x="5729400" y="566100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u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鹤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              存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蓼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徜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）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E55E-B6DB-4E38-9AA7-ABCF3728622F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C7DE-BEA6-4EE2-A8AB-C6A613D2D6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130120" y="26028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5945040" y="26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2200320" y="83664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5947560" y="83664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ǎ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200680" y="148428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u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6088320" y="1413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1698480" y="198900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ā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6520320" y="1989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1911960" y="2637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4"/>
          <p:cNvSpPr/>
          <p:nvPr/>
        </p:nvSpPr>
        <p:spPr>
          <a:xfrm>
            <a:off x="6379200" y="263700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ǎo x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1769760" y="31417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6"/>
          <p:cNvSpPr/>
          <p:nvPr/>
        </p:nvSpPr>
        <p:spPr>
          <a:xfrm>
            <a:off x="6017040" y="314172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7"/>
          <p:cNvSpPr/>
          <p:nvPr/>
        </p:nvSpPr>
        <p:spPr>
          <a:xfrm>
            <a:off x="1697040" y="378936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é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8"/>
          <p:cNvSpPr/>
          <p:nvPr/>
        </p:nvSpPr>
        <p:spPr>
          <a:xfrm>
            <a:off x="6016320" y="378936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ē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9"/>
          <p:cNvSpPr/>
          <p:nvPr/>
        </p:nvSpPr>
        <p:spPr>
          <a:xfrm>
            <a:off x="2062080" y="436572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áng y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0"/>
          <p:cNvSpPr/>
          <p:nvPr/>
        </p:nvSpPr>
        <p:spPr>
          <a:xfrm>
            <a:off x="5945760" y="43657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滔滔          妖娆          折腰           风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骄          风流          嘶哑           汹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黎明          腐烂          轻灵           娉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鲜妍          冠冕          呢喃           丰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沉醉          忧戚          勃发           飘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漫游          流盼          摇曳           禅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精微          旁骛          秘诀           羡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亵渎          浪荡          妄想           杜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调和          赞誉          恍若           绸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琉璃          惊骇          瞥见           剪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劫掠          赃物          制裁           贸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324000" y="5661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501F-65A7-406E-BD1E-0D98BCE80CE2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DEA5-16B4-4D86-805E-9DB9623CA3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涵养          恪守          自持          汲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遵循          箴言          广袤          积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宽宥          游弋          困厄          濡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麾下          嘟嚷          灰烬          阴晦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萧索          祭祀          伶俐          愕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鄙夷          嗤笑          应酬          世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惘然          隔膜          恣睢          拮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栈桥          糟蹋          别墅          褴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女婿          端详          恭维          阔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煞白          家底          觅食          嬉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空旷          撩逗          炊烟          乖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468360" y="57326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9CDE-32C9-4501-8FD7-FF6A05B09FDA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9370-0462-4BBF-9C92-5E2E5E2F93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14:27:27Z</dcterms:created>
  <dc:creator>wxsa</dc:creator>
  <dc:description/>
  <cp:keywords/>
  <dc:language>en-US</dc:language>
  <cp:lastModifiedBy>CJ</cp:lastModifiedBy>
  <dcterms:modified xsi:type="dcterms:W3CDTF">2018-10-08T06:54:09Z</dcterms:modified>
  <cp:revision>182</cp:revision>
  <dc:subject/>
  <dc:title>第三讲   词语的理解与运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