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B36-99AE-4C48-9259-425DA3E0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BEC-7108-4BD1-9BF3-DA9317E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D9E-C8C3-47E5-AE66-0EDE25E4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B95-22A6-4F76-974D-F057DCCE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4328-206C-49CD-A24D-BBB7FCA5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EADC-B353-4EC5-A25A-ED8F79FD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5F5A-772E-45F0-86A0-5304697E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7FEA-7DAE-48BC-A0E5-387416BB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95BD-78D3-4B32-B8BB-1B6A79F8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317E-3222-4747-9CD3-CF486835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F833-A481-44D5-BA52-E1347B0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F18-3D6B-4F00-98CA-D6A8173E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E690-09F8-4C22-BE98-3B124793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84FA-9562-43B1-B60B-0B31CC2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FB41-BDBA-47F7-A915-85D436B3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772F-2C23-45CC-9BE2-6B04C63D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6B70-612C-442F-99FA-0F9274C1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879-64C9-44F2-AAB9-B7136CEA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B4A-EC7C-4AA5-82D9-1AAEF45A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689-BA27-4600-9350-E7409AA6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4AC-BCBA-49C1-9549-260B4ACD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9B7-F324-4945-A0ED-FBCFD2A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35D-52A0-41F3-B014-51CCD0F8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6E6-E6B0-4BFF-A923-4C8E9AA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38C7-739E-48A4-A599-6CDD277517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12BD-76B9-4D39-912B-20DE867F3CF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Tahoma"/>
                <a:ea typeface="华文隶书"/>
              </a:rPr>
              <a:t>师恩难忘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ahoma"/>
                <a:ea typeface="华文隶书"/>
              </a:rPr>
              <a:t>刘绍棠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19320" y="1295280"/>
            <a:ext cx="73911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恭恭敬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19320" y="1295280"/>
            <a:ext cx="73911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起承转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8305920" y="6172200"/>
            <a:ext cx="533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440" y="10663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一去二三里，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烟村四五家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亭台六七座，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八九十枝花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26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这个故事有思想，有人物，有形象，有情趣。我听得入了迷，恍如身临其境。田老师的声音戛然而止，我却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仍在发呆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。直到三年级的学兄捅了我一下，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我才惊醒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那时候的语文叫国文。田老师每讲一课，都要编一个引人入胜的故事。一、二、三、四年级的课文都是如此。我在田老师门下受业四年，听了上千个故事，有如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春雨点点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作业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2021040"/>
            <a:ext cx="98694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选择自己喜欢的老师，了解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他的工作、生活等情况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小练笔：老师，我想对你说…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生字生词：两遍字，一遍词，带拼音。（四线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刘绍棠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936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997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当代作家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河北通县（今北京市通州区）人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他的作品格调清新淳朴，文笔通俗晓畅，描写从容自然，结构简洁完整，乡土色彩浓郁。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恍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1981080"/>
            <a:ext cx="80773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戛然而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捅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开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河畔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19320" y="129528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拐杖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7:58:16Z</dcterms:created>
  <dc:creator>HOMGMA</dc:creator>
  <dc:description/>
  <dc:language>en-US</dc:language>
  <cp:lastModifiedBy>HOMGMA</cp:lastModifiedBy>
  <dcterms:modified xsi:type="dcterms:W3CDTF">2004-08-31T02:34:58Z</dcterms:modified>
  <cp:revision>5</cp:revision>
  <dc:subject/>
  <dc:title>师恩难忘</dc:title>
</cp:coreProperties>
</file>