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CCD-2925-4F95-B1BF-7B536C46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636-0A9E-4E6D-B957-125A91F4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FB9-82A4-4D08-830B-5077D1A4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CDE-49B8-4A79-8C21-0A7286B8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0F12-0CF1-4665-85F5-C2D0B55B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F8E5-0E01-4FAB-915D-B5374F2D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07C2-2650-41F5-A404-924B7C15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A7DB-A38A-486E-9F52-3D61EB5A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D662-F265-4C57-A133-B19030B6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9558-7DFB-4894-A6EA-35F9A29D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7C98-A1A4-4B34-B089-8B1F0728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7E0-CE0B-43AF-899B-8BC91053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0C92-050B-4C4B-9984-497ABB3E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B7E8-BFAD-4C38-A081-9A3606A4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427C-F527-4611-B423-463BF7B8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01B9-79F9-4084-B56F-F9BA3F43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FDE7-CC0C-4A2B-A2E0-2CF6A000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B3F-25C2-4C08-AF61-B2F791D4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E0D-724D-48EE-83BD-ADB9FC25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185E-4F16-4FFC-85FE-18C2E478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2E5-5D05-4BD9-ACA1-1E9BD28C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80D-6D33-4332-8F56-93D51071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A6C-D21A-418E-8E1C-C7561F91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335-0D7F-405F-A397-C21C094E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79EA-C17D-4B1C-A451-8F02B7999F4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0647-8893-4882-8CCF-D3C600ED5E2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Tahoma"/>
                <a:ea typeface="华文隶书"/>
              </a:rPr>
              <a:t>师恩难忘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ahoma"/>
                <a:ea typeface="华文隶书"/>
              </a:rPr>
              <a:t>刘绍棠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19320" y="1295280"/>
            <a:ext cx="739116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恭恭敬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19320" y="1295280"/>
            <a:ext cx="73911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起承转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8305920" y="6172200"/>
            <a:ext cx="533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440" y="10663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一去二三里，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烟村四五家。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亭台六七座，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八九十枝花。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264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这个故事有思想，有人物，有形象，有情趣。我听得入了迷，恍如身临其境。田老师的声音戛然而止，我却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仍在发呆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。直到三年级的学兄捅了我一下，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我才惊醒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那时候的语文叫国文。田老师每讲一课，都要编一个引人入胜的故事。一、二、三、四年级的课文都是如此。我在田老师门下受业四年，听了上千个故事，有如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春雨点点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作业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2021040"/>
            <a:ext cx="986940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选择自己喜欢的老师，了解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他的工作、生活等情况。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小练笔：老师，我想对你说……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生字生词：两遍字，一遍词，带拼音。（四线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刘绍棠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936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～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997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当代作家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河北通县（今北京市通州区）人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他的作品格调清新淳朴，文笔通俗晓畅，描写从容自然，结构简洁完整，乡土色彩浓郁。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9320" y="129528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念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19320" y="129528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恍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09480" y="1981080"/>
            <a:ext cx="80773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戛然而止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19320" y="129528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捅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19320" y="129528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开窍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19320" y="129528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河畔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19320" y="129528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拐杖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7:58:16Z</dcterms:created>
  <dc:creator>HOMGMA</dc:creator>
  <dc:description/>
  <dc:language>en-US</dc:language>
  <cp:lastModifiedBy>HOMGMA</cp:lastModifiedBy>
  <dcterms:modified xsi:type="dcterms:W3CDTF">2004-08-31T02:34:58Z</dcterms:modified>
  <cp:revision>5</cp:revision>
  <dc:subject/>
  <dc:title>师恩难忘</dc:title>
</cp:coreProperties>
</file>