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4.png" ContentType="image/png"/>
  <Override PartName="/ppt/media/chimes.wav" ContentType="audio/x-wav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A53C-8595-4261-9B0A-701C7078B0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课外拓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看图猜字（一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故事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347-2A3D-4944-9A9F-6FE114E5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E44-A638-4C56-AAFF-31096372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FE8-9114-4842-8F0A-BB78ECEB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C60-AA18-4094-92E0-1D310B61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DD8E-E772-4DC6-9DBD-B744FC90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9ADA-57EA-4634-83CA-1EC49659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116F-6DC6-4FF9-AD1E-B37C55B1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BE8B-55A5-467F-AB2B-E37801A1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CFF7-9536-4068-9373-59FE8674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52E8-3C5C-49B3-B1FE-87B489A8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61AC-9D2B-46DB-806F-428D236D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7C9-632F-4266-935E-DE5904C4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3304-B2C5-4FBF-AABE-BBF8069F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04E0-4CE2-4D83-A8AA-526926FC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8D9B-BCCD-4265-AB1B-738C2A46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9EEB-95F3-4F73-991C-8A746409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1045-7370-4E5C-A65A-6EDEF1A0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C8F-3C7D-40F9-A0B8-50E20695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B14-8FEA-4B6F-AB52-76CEFA04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7A5-B8F0-4AA5-AE2A-B9A47C46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FB4-0144-47C3-9315-583DF79D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292-F721-4589-8FAA-9ED162C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D0F-BDF4-4D47-8FC8-A3D887CF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EED-2055-47C2-8439-11D84141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E5BF-5E02-4FF9-B126-FB2C44863E99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49C8-4D41-4C6B-8840-4DC152EE45A6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484280"/>
            <a:ext cx="7489800" cy="32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1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字与画</a:t>
            </a:r>
            <a:endParaRPr b="0" lang="en-US" sz="16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253512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72680" y="30240"/>
            <a:ext cx="613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《字与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413760" y="3780000"/>
            <a:ext cx="2837880" cy="3160440"/>
            <a:chOff x="6413760" y="3780000"/>
            <a:chExt cx="2837880" cy="3160440"/>
          </a:xfrm>
        </p:grpSpPr>
        <p:pic>
          <p:nvPicPr>
            <p:cNvPr id="97" name="" descr=""/>
            <p:cNvPicPr/>
            <p:nvPr/>
          </p:nvPicPr>
          <p:blipFill>
            <a:blip r:embed="rId1">
              <a:lum bright="-6000"/>
            </a:blip>
            <a:srcRect l="0" t="0" r="0" b="22676"/>
            <a:stretch/>
          </p:blipFill>
          <p:spPr>
            <a:xfrm flipH="1" rot="18738000">
              <a:off x="6683760" y="4916520"/>
              <a:ext cx="1738080" cy="149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>
              <a:lum bright="-6000"/>
            </a:blip>
            <a:srcRect l="0" t="0" r="0" b="14916"/>
            <a:stretch/>
          </p:blipFill>
          <p:spPr>
            <a:xfrm rot="834600">
              <a:off x="7304400" y="3933720"/>
              <a:ext cx="1628280" cy="285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179280" y="260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师大版一年级语文上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阳镇第二小学：许静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5977080" cy="4559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56360" y="1125360"/>
            <a:ext cx="2736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6048360" cy="4640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443640" y="1197000"/>
            <a:ext cx="2700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619128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6192720" cy="4911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372360" y="981000"/>
            <a:ext cx="2627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34920" y="836640"/>
            <a:ext cx="280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Garamond"/>
                <a:ea typeface="隶书"/>
              </a:rPr>
              <a:t>课外拓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45840" y="2060280"/>
            <a:ext cx="7273800" cy="30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87229"/>
                </a:solidFill>
                <a:latin typeface="Arial"/>
                <a:ea typeface="楷体_GB2312"/>
              </a:rPr>
              <a:t>　　小朋友们，通过以上学习，我们已经会认很多字了。现在我们来观察以下图片和文字，看哪幅图和哪个字应该连在一起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72680" y="30240"/>
            <a:ext cx="613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《字与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"/>
                            </p:stCondLst>
                            <p:childTnLst>
                              <p:par>
                                <p:cTn id="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8000" y="6919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00"/>
                </a:solidFill>
                <a:latin typeface="Garamond"/>
                <a:ea typeface="隶书"/>
              </a:rPr>
              <a:t>看图连线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020000" cy="733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87229"/>
                </a:solidFill>
                <a:latin typeface="Arial"/>
                <a:ea typeface="楷体_GB2312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0" y="4941720"/>
            <a:ext cx="1346040" cy="1152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00000" y="5013360"/>
            <a:ext cx="1584360" cy="1152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3284640"/>
            <a:ext cx="1521000" cy="109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00000" y="3213000"/>
            <a:ext cx="1440000" cy="1130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43280" y="335772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97720" y="3284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70440" y="5084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26440" y="5084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72680" y="30240"/>
            <a:ext cx="613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《字与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4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1,114,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4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4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1403280" cy="1166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1490760" cy="1073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11280" y="3429000"/>
            <a:ext cx="1488960" cy="1073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643280" y="3573360"/>
            <a:ext cx="1368720" cy="1094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65360" y="1484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72360" y="1484280"/>
            <a:ext cx="94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65360" y="342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97720" y="3573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4653000"/>
            <a:ext cx="62942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小朋友说说图与画有什么相象之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72680" y="30240"/>
            <a:ext cx="613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《字与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4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1,114,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4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4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00000" y="1916280"/>
            <a:ext cx="6120000" cy="13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同学们，你能用下面的字口头组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99840" y="765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口头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92520" y="3284640"/>
            <a:ext cx="4082040" cy="257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　火　石　水　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山　月　禾　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72680" y="30240"/>
            <a:ext cx="613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《字与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800"/>
                            </p:stCondLst>
                            <p:childTnLst>
                              <p:par>
                                <p:cTn id="2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304920" y="-3424320"/>
            <a:ext cx="9753840" cy="13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708000" y="1341000"/>
            <a:ext cx="497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87229"/>
                </a:solidFill>
                <a:latin typeface="Arial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413000"/>
            <a:ext cx="770400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　　  </a:t>
            </a: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在很久以前，还没有文字的时候，有兄妹俩。一天早晨，哥哥很早起来，要到山上去砍柴，怎样告诉还在熟睡的妹妹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72680" y="30240"/>
            <a:ext cx="613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《字与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4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1,114,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4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4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10544" t="9908" r="1738" b="0"/>
          <a:stretch/>
        </p:blipFill>
        <p:spPr>
          <a:xfrm>
            <a:off x="2771640" y="2349360"/>
            <a:ext cx="3097440" cy="20815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5280" cy="239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87229"/>
                </a:solidFill>
                <a:latin typeface="Arial"/>
                <a:ea typeface="楷体_GB2312"/>
              </a:rPr>
              <a:t>      </a:t>
            </a:r>
            <a:r>
              <a:rPr b="1" lang="zh-CN" sz="4200" spc="-1" strike="noStrike">
                <a:solidFill>
                  <a:srgbClr val="087229"/>
                </a:solidFill>
                <a:latin typeface="Arial"/>
                <a:ea typeface="楷体_GB2312"/>
              </a:rPr>
              <a:t>他想了一个好办法，拿起树枝照着远处山的样子在地上画了一座山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4292640"/>
            <a:ext cx="799308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7229"/>
                </a:solidFill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哥哥走后，妹妹醒来，看到地上的图，就知道了哥哥的去向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72680" y="30240"/>
            <a:ext cx="613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《字与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1,114,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75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75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1,114,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7921440" cy="2702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87229"/>
                </a:solidFill>
                <a:latin typeface="Arial"/>
                <a:ea typeface="楷体_GB2312"/>
              </a:rPr>
              <a:t>       </a:t>
            </a:r>
            <a:r>
              <a:rPr b="1" lang="zh-CN" sz="3800" spc="-1" strike="noStrike">
                <a:solidFill>
                  <a:srgbClr val="087229"/>
                </a:solidFill>
                <a:latin typeface="Arial"/>
                <a:ea typeface="楷体_GB2312"/>
              </a:rPr>
              <a:t>中午，妹妹要去河边洗衣服，她照着哥哥的办法，照小河的样子在地上画了几道弯曲的水流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5147" t="0" r="0" b="0"/>
          <a:stretch/>
        </p:blipFill>
        <p:spPr>
          <a:xfrm>
            <a:off x="2987640" y="2924280"/>
            <a:ext cx="2376360" cy="1704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4292640"/>
            <a:ext cx="8208720" cy="105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87229"/>
                </a:solidFill>
                <a:latin typeface="Arial"/>
                <a:ea typeface="楷体_GB2312"/>
              </a:rPr>
              <a:t>      </a:t>
            </a:r>
            <a:r>
              <a:rPr b="1" lang="zh-CN" sz="4200" spc="-1" strike="noStrike">
                <a:solidFill>
                  <a:srgbClr val="087229"/>
                </a:solidFill>
                <a:latin typeface="Arial"/>
                <a:ea typeface="楷体_GB2312"/>
              </a:rPr>
              <a:t>哥哥回来看到图后，到河边去，果然找到了妹妹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72680" y="30240"/>
            <a:ext cx="613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《字与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4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1,114,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4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4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4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4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4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1,114,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4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4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28360" y="980640"/>
            <a:ext cx="7272360" cy="4894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87229"/>
                </a:solidFill>
                <a:latin typeface="Arial"/>
                <a:ea typeface="楷体_GB2312"/>
              </a:rPr>
              <a:t>        </a:t>
            </a:r>
            <a:r>
              <a:rPr b="1" lang="zh-CN" sz="4200" spc="-1" strike="noStrike">
                <a:solidFill>
                  <a:srgbClr val="087229"/>
                </a:solidFill>
                <a:latin typeface="Arial"/>
                <a:ea typeface="楷体_GB2312"/>
              </a:rPr>
              <a:t>兄妹俩可高兴了。从此以后，他们就用山、水图来表示字，慢慢地变成现在的字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87229"/>
                </a:solidFill>
                <a:latin typeface="Arial"/>
                <a:ea typeface="楷体_GB2312"/>
              </a:rPr>
              <a:t>　　汉字多有意思呀！古人多聪明啊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72680" y="30240"/>
            <a:ext cx="613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《字与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4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1,114,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4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4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700200"/>
            <a:ext cx="6480360" cy="4960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51600" y="2492280"/>
            <a:ext cx="2192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6624720" cy="5043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948360" y="1844640"/>
            <a:ext cx="2006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6192720" cy="479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588000" y="1197000"/>
            <a:ext cx="20876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6161040" cy="467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443640" y="981000"/>
            <a:ext cx="2700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1T08:55:32Z</dcterms:created>
  <dc:creator>微软用户</dc:creator>
  <dc:description/>
  <dc:language>en-US</dc:language>
  <cp:lastModifiedBy>User</cp:lastModifiedBy>
  <dcterms:modified xsi:type="dcterms:W3CDTF">2014-10-21T00:50:36Z</dcterms:modified>
  <cp:revision>11</cp:revision>
  <dc:subject/>
  <dc:title>幻灯片 1</dc:title>
</cp:coreProperties>
</file>