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02B-32E5-4D41-A8FD-A8929E85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471-D5FB-4899-AC89-D3C3A3A8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228-34A7-4CE2-B339-B1A643B5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8B4-7C97-4163-BD82-427B85FC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133-613B-47A5-AF74-EFF73B3A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220-2B3C-4DAD-ADDE-35762075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EF1-4220-448B-8AE3-8FC2D5E5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9C9-A8D7-4A68-9CA5-B6A0CF35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6BC-5ED7-4895-B494-D1A51B14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269-5967-4672-BFA9-711A59E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8D2-9B8C-4F7F-9F71-3C5531B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C42-CC5B-4F1A-9E3C-25048279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DAE1-E47A-4E85-BFA0-B9CC0E522B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散文阅读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一、分析行文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梳理行文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首先写了……其次写了……最后写了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27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《生死之间》第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题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高考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模拟》，下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贯穿全文的线索，在文中一次次出现，逐层深入，把感情推向高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线索在散文中的主要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组织材料，贯穿全文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结构清晰，情节集中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揭示主题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使行文富于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析句段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内容角度：内容？情感？与主旨联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结构角度：开头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中间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?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尾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插入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效果角度：首句或段？中间句或段？结尾句或段？中心句或段？点睛句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？情调句或段？串联句或段？反复句或段？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【典型例题】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P227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《生死之间》第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二、概括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一）局部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直接摘取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拼接合并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舍取综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果探寻（辨明因果关系，近远结合原则，“显”“隐”结合原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二）整体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主旨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解读题目 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分析首尾 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分析议论抒情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因文而异（写人叙事、写景状物、哲理性散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答题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本文通过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记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（或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描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象（或内容）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点（或性质）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思想（或感情）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揭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主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五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28—P22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《香椿忆事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549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4640"/>
            <a:ext cx="9144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、重点语句含义，精彩语言品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一）理解文中重要词语的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词语含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词语本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语境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修辞、情感、主旨等方面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二）理解文中重要句子（含蓄句、修辞句、结构句）的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句子含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修辞、情感、主旨等方面的作用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30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听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三）品味精彩语言的表达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修辞的运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指明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套话概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达效果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词语的锤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指明字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套话概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达效果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句式的选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感叹句、疑问句、长句、短句、整句、散句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语言风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语言特色）（牢记常用术语，各种文体的语言特征——文艺语体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科学语体、政论语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语言表达技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包括以上各类，具体分析，找全要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五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3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《在母语的屋檐下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9000"/>
            <a:ext cx="914400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、鉴赏表达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一）鉴赏角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描写角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物描写（外貌、神态表情、语言、动作、心理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景物描写（抓住景物特征，从形、声、色、味等多角度赏析；调动多种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觉，赏析动静结合、正侧结合、虚实结合等方法的妙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修辞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如比喻、拟人、排比、夸张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现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如想象、对比、烘托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语言表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语言特色、表达方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二）答题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鉴赏表达技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明手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五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31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2015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湖南《童年随之而去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00"/>
            <a:ext cx="91440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练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191—P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三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浙江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《汴京的星河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者的兴奋情绪在文中画横线部分表现为怎样的语言特点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汴京城名不虚传，而汴京人也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果有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奇术异能！</a:t>
            </a:r>
            <a:r>
              <a:rPr b="1" lang="zh-CN" sz="2000" spc="-1" strike="noStrike" u="sng">
                <a:solidFill>
                  <a:srgbClr val="6666ff"/>
                </a:solidFill>
                <a:uFillTx/>
                <a:latin typeface="楷体"/>
                <a:ea typeface="楷体"/>
              </a:rPr>
              <a:t>你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那一盏盏巧夺天工的彩灯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真个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是收尽了祥云五色荧煌炫转，那千百盏争奇斗俏的灯，一一地当街密密地排列开来，交相辉映，金光四射。近近地看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真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千姿百态，大方光华，直教人眼花缭乱；远远地看，只见高高低低，五颜六色，飞旋流转，闪闪烁烁，道它是银河垂地，一点也不夸张。不信的话，此时</a:t>
            </a:r>
            <a:r>
              <a:rPr b="1" lang="zh-CN" sz="2000" spc="-1" strike="noStrike" u="sng">
                <a:solidFill>
                  <a:srgbClr val="6666ff"/>
                </a:solidFill>
                <a:uFillTx/>
                <a:latin typeface="楷体"/>
                <a:ea typeface="楷体"/>
              </a:rPr>
              <a:t>你抬头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望望中天，平日如练的素月，也悄然失色，端端地消淡了很多光华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用词夸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夸张地描绘，与“朴实”相对，大量四字句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，辞彩绚丽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 ②运用铺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铺叙，指文章详细地叙述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、排比语句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从不同角度描绘彩灯的绚丽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语气急切：用副词“果有”“真个”“真是”等加强语气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用“你看”“你抬头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等表现急于分享的兴奋心情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“真是千姿百态”中的“真是”，体现作者观灯时内心无比的激动、欣喜之情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【常见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种语言特点】①准确周密；②简约质朴；③华丽典雅；④幽默风趣；⑤含蓄蕴藉；⑥生动形象；⑦语体：口语化、方言化、文言化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中画波浪线部分连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个“一”，具有怎样的艺术效果？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6280"/>
            <a:ext cx="91440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兴尽欲归时，在长街的拐角处，却又见到了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幅教我怦然心动的景象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间小木楼的门窗呀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声启开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长竿软软地伸将出来，竹竿头上，滴溜溜地悬了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盏八角宫灯，那宫灯虽小，款式却玲珑剔透，做工也极精致细巧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，我没看清灯壁上那悠悠旋转的花卉图样，只觉得像飘过去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簇飞花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团流云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看得呆了，循了那挑灯的手望去，恍恍的灯影下，只见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穿猩红雪衫的姑娘。许是那衣衫太红，那灯光太朦胧了，我看不清姑娘的眉眼儿，只见她那笑盈盈的脸蛋儿，被身上那件红衫，手中的那盏红灯，映照成了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团艳艳的红云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76640"/>
            <a:ext cx="91440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连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“一”将“东京梦华”定格于一个特定的现实场景，使得作品有开有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前文渲染的是“闹”，此处连用“一”凸显的是“静”，形成强烈反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前文铺陈的是“繁”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此处聚焦于“一”，梦与现实交相呼应，让作品余韵十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【艺术效果六角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虚实相生；②动静相宜；③详略得当；④抑扬结合；⑤张弛有度；⑥波澜起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从结构上分析作品为什么先写街、再写人、后写灯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先写街的繁荣做铺垫，引出人潮汹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再写游人众多，为后面观灯受阻埋伏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后写观灯盛况，把作品推向高潮并点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层层铺垫，层层推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【构思技巧三步】①明确技巧②说明体现③分析妙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根据全文，分析作者“感到如此新奇和庆幸”的深层意蕴。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庆幸遇上了改革开放的好时代，对城市发展新气象感到新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感于游人众多，人民生活富裕，精神焕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现代科技让汴京灯节重现历史繁华，实现了“我”的“星河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【五层意蕴】①比喻意蕴②引申意蕴③象征意蕴④双关意蕴⑤主题意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3T08:11:19Z</dcterms:created>
  <dc:creator>AutoBVT</dc:creator>
  <dc:description/>
  <dc:language>en-US</dc:language>
  <cp:lastModifiedBy>AutoBVT</cp:lastModifiedBy>
  <dcterms:modified xsi:type="dcterms:W3CDTF">2018-12-07T02:47:41Z</dcterms:modified>
  <cp:revision>21</cp:revision>
  <dc:subject/>
  <dc:title>幻灯片 1</dc:title>
</cp:coreProperties>
</file>