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D19-2E9E-4857-A437-3D8E9C92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996-8784-4738-9F4A-14C5A799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B67-BD1E-41D8-A180-77E5034D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EEC-99DC-4A82-9590-4383A4E2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EE16-F319-4620-AAD7-C91153AF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EC05-E0EA-43E1-8D7D-E56635B7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F2AB-60CB-49EA-BAB8-5DC5BD35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87BC-FED8-4492-A426-5835B706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E716-9EDA-434C-92C3-9D661BB6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85F8-76A7-40C7-A368-094521CE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BCAC-A054-4960-AF67-CFF46F8F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6688-9EE0-4A01-A34F-B0839DD2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7CE2-C057-4051-8CEC-B17CAF99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7027-5A74-40A5-8927-DC892FBB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E012-7552-4304-8C4B-88F1D118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18E4-FB91-4211-81EA-4589CE05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FEC8-2A54-4582-A805-3013A062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981-83C6-4F85-A264-52310C6E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425-592F-4B65-B0BD-6228A0B8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28E-3EE5-4444-B6D0-C5D89AF1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A22D-FAF5-468E-B316-04DC5E69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0733-7E74-40AE-B0B8-92BB0664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6BB-7DD5-4B5D-94E7-E0F48FDB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F1DD-11FF-49CB-93DC-9F2174FC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C3D2-518B-4804-BDE0-10ACB5E5C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61D9-D491-47B8-BB09-4B634CC995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qingdao.x.shufa.com:88/cp_list.asp?id=56&amp;cpid=&amp;page=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qingdao.x.shufa.com:88/cp_list.asp?id=56&amp;cpid=&amp;page=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5335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竹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808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管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200601311717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15120" y="666720"/>
            <a:ext cx="2600280" cy="5429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欣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590560"/>
            <a:ext cx="8077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欣赏一些关于劲竹的一些图片，然后用自己优美的语言写出一段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要认真看图片哦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9" descr="0bf24e3447b9da59241f14d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06f235293bb766e998250a2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6fc8b331463ab2bf5fdf0e3b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74cbc0fc9e500c95b801a029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cc6ae650eb6d404b1138c229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f5d654b51fbc93d937d3ca38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C:\Users\apple\Desktop\新建文件夹\slide0011_image019.JPG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用自己优美的语言写一段刚才欣赏劲竹图片的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兴趣的同学，背诵第三自然段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077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篇课文是赞颂劲竹的抒情散文。通过写劲竹的身长、气节、态度等方面赞颂了劲竹坚毅顽强，纯洁朴素，虚心有节，无私奉献的品质，抒发了作者要做具有竹的品格的人的志向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5335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竹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-3808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管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200601311717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15120" y="666720"/>
            <a:ext cx="2600280" cy="5429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检查预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字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竹僵   攀附    不朽   摇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吞没   郁郁    尘埃   潜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解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凌云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攀附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积习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154120" y="4114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空中，升高，登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211360" y="47242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跟地位高的人拉关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617800" y="5334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经过长时间积累而形成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管桦简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管桦，原名鲍化普，是我国著名作家、诗人和书画家。主要作品有中篇小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将军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中篇小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小英雄雨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辛俊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等。另外，他与作曲家合作的歌曲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快乐的节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们的田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听妈妈讲那过去的故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他还出版墨竹画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仓青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仓青馆墨竹画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自学提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感情地朗读课文，每个自然段分别写了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找一找，画一画，表现竹子抗击恶劣环境的顽强精神的句子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文中写桃花，紫罗兰，牡丹等花的作用是什么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文通过描绘竹子，突出了它什么精神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学们，可以先小组讨论，然后全班交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自学提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感情地朗读课文，每个自然段分别写了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段，写作者对劲竹的热爱。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段，写劲竹的奉献精神。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段，写劲竹给人带来的精神慰藉。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自学提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找一找，画一画，表现竹子抗击恶劣环境的顽强精神的句子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答：在命运的风暴中，你轰响着翻卷碧波，击打着汹涌的云海。你全身闪耀着电光，你的吼声吞没了雷声。为了给人间以春天的绿色，寒霜冰雪里你更加郁郁葱葱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自学提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文中写桃花，紫罗兰，牡丹等花的作用是什么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答：与竹对比，突出了劲竹如同苍松一般抗击风雪，并在酷热的夏天里，给人送去绿色和凉意，写出了劲竹的奉献精神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自学提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文通过描绘竹子，突出了它什么精神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答：突出竹子的坚毅顽强，纯洁朴素，虚心有节，无私奉献的精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课后题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文中用“你”称呼劲竹，读一读，体会作者需要表达怎样的情感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答：全文处处体现了作者对劲竹的热爱，       对劲竹品格的赞美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bx777</cp:lastModifiedBy>
  <dcterms:modified xsi:type="dcterms:W3CDTF">2016-05-12T14:38:3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