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0.jpeg" ContentType="image/jpeg"/>
  <Override PartName="/ppt/media/image22.png" ContentType="image/png"/>
  <Override PartName="/ppt/media/image2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2.wmf" ContentType="image/x-wmf"/>
  <Override PartName="/ppt/media/image33.jpeg" ContentType="image/jpeg"/>
  <Override PartName="/ppt/media/image27.png" ContentType="image/png"/>
  <Override PartName="/ppt/media/image11.png" ContentType="image/png"/>
  <Override PartName="/ppt/media/image9.jpeg" ContentType="image/jpeg"/>
  <Override PartName="/ppt/media/image8.jpeg" ContentType="image/jpeg"/>
  <Override PartName="/ppt/media/image13.wmf" ContentType="image/x-wmf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5.gif" ContentType="image/gif"/>
  <Override PartName="/ppt/media/image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camera.wav" ContentType="audio/x-wav"/>
  <Override PartName="/ppt/media/image21.jpeg" ContentType="image/jpe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12D-44FA-4065-9BE4-EE244DE0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5BE-E4DA-484D-9949-C21375A0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658-B6A3-451F-8A8C-80B48AE4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110-0F70-4FAB-B6D3-9561548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973-4034-4C50-A9C7-0E41C34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D5B-581F-4643-9702-99AE4F84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7DD-EDB8-4450-B2A1-1FA0F67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798-9D67-48EC-867B-14B835C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392-5DD8-4D5E-90EE-6CAB1FF8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886-A0BC-4EA8-8E11-30323B9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504-010B-4E79-8B72-4887F52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849-9646-44EA-9AF7-14D9007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94D-D2DF-4B4C-9311-1F1C115AC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hyperlink" Target="C:\Documents and Settings\Administrator\&#26700;&#38754;\&#25105;&#22810;&#24819;\&#22269;&#24198;&#33410;&#22825;&#23433;&#38376;&#24191;&#22330;&#21319;&#26071;&#20202;&#24335;.fl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长城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292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鸟巢"/>
          <p:cNvPicPr/>
          <p:nvPr/>
        </p:nvPicPr>
        <p:blipFill>
          <a:blip r:embed="rId2"/>
          <a:stretch/>
        </p:blipFill>
        <p:spPr>
          <a:xfrm>
            <a:off x="4932360" y="3645000"/>
            <a:ext cx="421164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ian'anmen"/>
          <p:cNvPicPr/>
          <p:nvPr/>
        </p:nvPicPr>
        <p:blipFill>
          <a:blip r:embed="rId3"/>
          <a:stretch/>
        </p:blipFill>
        <p:spPr>
          <a:xfrm>
            <a:off x="0" y="0"/>
            <a:ext cx="4356000" cy="299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1"/>
          <p:cNvPicPr/>
          <p:nvPr/>
        </p:nvPicPr>
        <p:blipFill>
          <a:blip r:embed="rId4"/>
          <a:stretch/>
        </p:blipFill>
        <p:spPr>
          <a:xfrm>
            <a:off x="0" y="3645000"/>
            <a:ext cx="4427640" cy="244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04292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227640" y="616572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87280" y="60930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516720" y="292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4067280" y="2637000"/>
            <a:ext cx="129672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067280" y="29242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A1_196"/>
          <p:cNvPicPr/>
          <p:nvPr/>
        </p:nvPicPr>
        <p:blipFill>
          <a:blip r:embed="rId2"/>
          <a:stretch/>
        </p:blipFill>
        <p:spPr>
          <a:xfrm>
            <a:off x="38088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076720" y="177336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诉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47640" y="24210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弯的小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715000" y="3276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093080" y="56610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340000" y="4797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安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771640" y="328464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851280" y="551664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419640" y="47628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旗仪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143000" y="41148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4">
            <a:hlinkClick r:id="rId3"/>
          </p:cNvPr>
          <p:cNvSpPr/>
          <p:nvPr/>
        </p:nvSpPr>
        <p:spPr>
          <a:xfrm>
            <a:off x="179280" y="602136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752480" y="2590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143000" y="1676520"/>
            <a:ext cx="5143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北京是我国的首都。</a:t>
            </a:r>
            <a:endParaRPr b="0" lang="en-US" sz="4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1828800" y="2666880"/>
            <a:ext cx="6286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五星红旗是我国的国旗。</a:t>
            </a:r>
            <a:endParaRPr b="0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2743200" y="3581280"/>
            <a:ext cx="3429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我们爱北京。</a:t>
            </a:r>
            <a:endParaRPr b="0" lang="en-US" sz="44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3200400" y="4495680"/>
            <a:ext cx="4572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们爱五星红旗。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43280" y="1125360"/>
            <a:ext cx="12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sh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508720" y="1125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492360" y="112536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Times New Roman"/>
              </a:rPr>
              <a:t>g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1" descr="图1"/>
          <p:cNvPicPr/>
          <p:nvPr/>
        </p:nvPicPr>
        <p:blipFill>
          <a:blip r:embed="rId1"/>
          <a:stretch/>
        </p:blipFill>
        <p:spPr>
          <a:xfrm>
            <a:off x="5724360" y="1052640"/>
            <a:ext cx="495360" cy="46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图2"/>
          <p:cNvPicPr/>
          <p:nvPr/>
        </p:nvPicPr>
        <p:blipFill>
          <a:blip r:embed="rId2"/>
          <a:stretch/>
        </p:blipFill>
        <p:spPr>
          <a:xfrm>
            <a:off x="4067280" y="1197000"/>
            <a:ext cx="171360" cy="141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图2"/>
          <p:cNvPicPr/>
          <p:nvPr/>
        </p:nvPicPr>
        <p:blipFill>
          <a:blip r:embed="rId3"/>
          <a:stretch/>
        </p:blipFill>
        <p:spPr>
          <a:xfrm>
            <a:off x="5076720" y="1197000"/>
            <a:ext cx="2286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03280" y="1989000"/>
            <a:ext cx="691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首都是（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的国旗是（  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90800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87640" y="1557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ǒu d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8720" y="1989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北  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92720" y="2997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五星红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天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雄伟的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867280" y="2286000"/>
            <a:ext cx="91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5562720" y="2590920"/>
            <a:ext cx="838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990720" y="42670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62320" y="6019920"/>
            <a:ext cx="1752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826920" y="3284640"/>
            <a:ext cx="2881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195640" y="1773360"/>
            <a:ext cx="0" cy="2950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93236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932360" y="3213000"/>
            <a:ext cx="2881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6300720" y="1773360"/>
            <a:ext cx="0" cy="2950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5292720" y="2276640"/>
            <a:ext cx="208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门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21964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é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11600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uǎ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258920" y="501336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148360" y="50846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284720" y="1773360"/>
            <a:ext cx="288108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5003640" y="2205000"/>
            <a:ext cx="172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11600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716360" y="765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826920" y="53006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六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500720" y="5157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七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1"/>
          <p:cNvSpPr/>
          <p:nvPr/>
        </p:nvSpPr>
        <p:spPr>
          <a:xfrm>
            <a:off x="1116000" y="76500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ě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716360" y="5229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八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332000" y="5157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五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643280" y="83664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773360"/>
            <a:ext cx="288144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7640" y="1773360"/>
            <a:ext cx="2881080" cy="2950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332000" y="2205000"/>
            <a:ext cx="172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4859280" y="2276640"/>
            <a:ext cx="1728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京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wgl010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壮观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1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0.so.qhmsg.com/bdr/_240_/t0102944ff8aeedb27a.jpg"/>
          <p:cNvPicPr/>
          <p:nvPr/>
        </p:nvPicPr>
        <p:blipFill>
          <a:blip r:embed="rId1"/>
          <a:stretch/>
        </p:blipFill>
        <p:spPr>
          <a:xfrm>
            <a:off x="285840" y="428760"/>
            <a:ext cx="35337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p2.so.qhmsg.com/bdr/_240_/t01383caa40ec3e0507.jpg"/>
          <p:cNvPicPr/>
          <p:nvPr/>
        </p:nvPicPr>
        <p:blipFill>
          <a:blip r:embed="rId2"/>
          <a:stretch/>
        </p:blipFill>
        <p:spPr>
          <a:xfrm>
            <a:off x="4714920" y="4287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p4.so.qhmsg.com/bdr/_240_/t01e81a3032ebbc6ad4.jpg"/>
          <p:cNvPicPr/>
          <p:nvPr/>
        </p:nvPicPr>
        <p:blipFill>
          <a:blip r:embed="rId3"/>
          <a:stretch/>
        </p:blipFill>
        <p:spPr>
          <a:xfrm>
            <a:off x="357120" y="307188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p0.so.qhmsg.com/bdr/_240_/t01378e7b265609127f.jpg"/>
          <p:cNvPicPr/>
          <p:nvPr/>
        </p:nvPicPr>
        <p:blipFill>
          <a:blip r:embed="rId4"/>
          <a:stretch/>
        </p:blipFill>
        <p:spPr>
          <a:xfrm>
            <a:off x="4857840" y="3000240"/>
            <a:ext cx="3929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xxxx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40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1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9907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"/>
          <p:cNvSpPr/>
          <p:nvPr/>
        </p:nvSpPr>
        <p:spPr>
          <a:xfrm flipH="1">
            <a:off x="5410080" y="38098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H="1">
            <a:off x="2666880" y="38098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5796000" y="458136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6372360" y="458136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天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雄伟的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56386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617220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57150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562720" y="2590920"/>
            <a:ext cx="83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826920" y="4292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遥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中国地图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1447920" y="380880"/>
            <a:ext cx="7086600" cy="4638600"/>
            <a:chOff x="1447920" y="380880"/>
            <a:chExt cx="7086600" cy="4638600"/>
          </a:xfrm>
        </p:grpSpPr>
        <p:pic>
          <p:nvPicPr>
            <p:cNvPr id="224" name="Picture 6" descr="008_JPG"/>
            <p:cNvPicPr/>
            <p:nvPr/>
          </p:nvPicPr>
          <p:blipFill>
            <a:blip r:embed="rId2"/>
            <a:stretch/>
          </p:blipFill>
          <p:spPr>
            <a:xfrm>
              <a:off x="1447920" y="380880"/>
              <a:ext cx="68580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" descr="008_JPG"/>
            <p:cNvPicPr/>
            <p:nvPr/>
          </p:nvPicPr>
          <p:blipFill>
            <a:blip r:embed="rId3"/>
            <a:stretch/>
          </p:blipFill>
          <p:spPr>
            <a:xfrm>
              <a:off x="7848720" y="4572000"/>
              <a:ext cx="68580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Line 8"/>
          <p:cNvSpPr/>
          <p:nvPr/>
        </p:nvSpPr>
        <p:spPr>
          <a:xfrm flipH="1" flipV="1">
            <a:off x="6629040" y="2971440"/>
            <a:ext cx="762120" cy="1600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43828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约需要行走两天一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中国地图"/>
          <p:cNvPicPr/>
          <p:nvPr/>
        </p:nvPicPr>
        <p:blipFill>
          <a:blip r:embed="rId1"/>
          <a:stretch/>
        </p:blipFill>
        <p:spPr>
          <a:xfrm>
            <a:off x="304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"/>
          <p:cNvSpPr/>
          <p:nvPr/>
        </p:nvSpPr>
        <p:spPr>
          <a:xfrm flipH="1" flipV="1">
            <a:off x="6629040" y="2971440"/>
            <a:ext cx="762120" cy="16765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1371600" y="380880"/>
            <a:ext cx="7105680" cy="4876920"/>
            <a:chOff x="1371600" y="380880"/>
            <a:chExt cx="7105680" cy="4876920"/>
          </a:xfrm>
        </p:grpSpPr>
        <p:pic>
          <p:nvPicPr>
            <p:cNvPr id="233" name="Picture 7" descr="013_JPG"/>
            <p:cNvPicPr/>
            <p:nvPr/>
          </p:nvPicPr>
          <p:blipFill>
            <a:blip r:embed="rId2"/>
            <a:stretch/>
          </p:blipFill>
          <p:spPr>
            <a:xfrm>
              <a:off x="7848720" y="4572000"/>
              <a:ext cx="6285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" descr="013_JPG"/>
            <p:cNvPicPr/>
            <p:nvPr/>
          </p:nvPicPr>
          <p:blipFill>
            <a:blip r:embed="rId3"/>
            <a:stretch/>
          </p:blipFill>
          <p:spPr>
            <a:xfrm>
              <a:off x="1371600" y="380880"/>
              <a:ext cx="6285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9"/>
          <p:cNvSpPr/>
          <p:nvPr/>
        </p:nvSpPr>
        <p:spPr>
          <a:xfrm>
            <a:off x="2362320" y="380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需要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矩形 1" descr=""/>
          <p:cNvPicPr/>
          <p:nvPr/>
        </p:nvPicPr>
        <p:blipFill>
          <a:blip r:embed="rId1"/>
          <a:stretch/>
        </p:blipFill>
        <p:spPr>
          <a:xfrm>
            <a:off x="1006560" y="689040"/>
            <a:ext cx="72658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a0.att.hudong.com/36/12/01300000257324122447125981168.jpg"/>
          <p:cNvPicPr/>
          <p:nvPr/>
        </p:nvPicPr>
        <p:blipFill>
          <a:blip r:embed="rId1"/>
          <a:stretch/>
        </p:blipFill>
        <p:spPr>
          <a:xfrm>
            <a:off x="1042920" y="0"/>
            <a:ext cx="6913800" cy="6381720"/>
          </a:xfrm>
          <a:prstGeom prst="rect">
            <a:avLst/>
          </a:prstGeom>
          <a:ln w="0">
            <a:noFill/>
          </a:ln>
        </p:spPr>
      </p:pic>
      <p:pic>
        <p:nvPicPr>
          <p:cNvPr id="239" name="矩形 2" descr=""/>
          <p:cNvPicPr/>
          <p:nvPr/>
        </p:nvPicPr>
        <p:blipFill>
          <a:blip r:embed="rId2"/>
          <a:stretch/>
        </p:blipFill>
        <p:spPr>
          <a:xfrm>
            <a:off x="-12600" y="3187800"/>
            <a:ext cx="8650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矩形 2" descr=""/>
          <p:cNvPicPr/>
          <p:nvPr/>
        </p:nvPicPr>
        <p:blipFill>
          <a:blip r:embed="rId1"/>
          <a:stretch/>
        </p:blipFill>
        <p:spPr>
          <a:xfrm>
            <a:off x="139680" y="841320"/>
            <a:ext cx="8437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p2.so.qhmsg.com/bdr/_240_/t01383caa40ec3e0507.jpg"/>
          <p:cNvPicPr/>
          <p:nvPr/>
        </p:nvPicPr>
        <p:blipFill>
          <a:blip r:embed="rId1"/>
          <a:stretch/>
        </p:blipFill>
        <p:spPr>
          <a:xfrm>
            <a:off x="250920" y="765000"/>
            <a:ext cx="3529080" cy="237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p2.so.qhmsg.com/bdr/_240_/t012ac4b4c9b7726072.jpg"/>
          <p:cNvPicPr/>
          <p:nvPr/>
        </p:nvPicPr>
        <p:blipFill>
          <a:blip r:embed="rId2"/>
          <a:stretch/>
        </p:blipFill>
        <p:spPr>
          <a:xfrm>
            <a:off x="4859280" y="692280"/>
            <a:ext cx="3294000" cy="2449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p1.so.qhmsg.com/bdr/_240_/t01d8eae82de9768d86.jpg"/>
          <p:cNvPicPr/>
          <p:nvPr/>
        </p:nvPicPr>
        <p:blipFill>
          <a:blip r:embed="rId3"/>
          <a:stretch/>
        </p:blipFill>
        <p:spPr>
          <a:xfrm>
            <a:off x="395280" y="3645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p4.so.qhmsg.com/bdr/_240_/t01b48d0a535aca069e.jpg"/>
          <p:cNvPicPr/>
          <p:nvPr/>
        </p:nvPicPr>
        <p:blipFill>
          <a:blip r:embed="rId4"/>
          <a:stretch/>
        </p:blipFill>
        <p:spPr>
          <a:xfrm>
            <a:off x="4716360" y="3573360"/>
            <a:ext cx="3264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050920" y="1773360"/>
            <a:ext cx="5105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多想去看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4">
            <a:hlinkClick r:id="rId1" action="ppaction://hlinksldjump"/>
          </p:cNvPr>
          <p:cNvSpPr/>
          <p:nvPr/>
        </p:nvSpPr>
        <p:spPr>
          <a:xfrm>
            <a:off x="723960" y="5943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>
            <a:hlinkClick r:id="rId2" action="ppaction://hlinksldjump"/>
          </p:cNvPr>
          <p:cNvSpPr/>
          <p:nvPr/>
        </p:nvSpPr>
        <p:spPr>
          <a:xfrm>
            <a:off x="32958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学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962680" y="5943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84582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148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20">
                <a:moveTo>
                  <a:pt x="11905" y="14292"/>
                </a:moveTo>
                <a:lnTo>
                  <a:pt x="11905" y="12333"/>
                </a:lnTo>
                <a:cubicBezTo>
                  <a:pt x="11905" y="11506"/>
                  <a:pt x="12236" y="10810"/>
                  <a:pt x="12837" y="10810"/>
                </a:cubicBezTo>
                <a:cubicBezTo>
                  <a:pt x="13968" y="10810"/>
                  <a:pt x="14865" y="9444"/>
                  <a:pt x="14865" y="7860"/>
                </a:cubicBezTo>
                <a:cubicBezTo>
                  <a:pt x="14865" y="5544"/>
                  <a:pt x="13011" y="3804"/>
                  <a:pt x="10800" y="3804"/>
                </a:cubicBezTo>
                <a:cubicBezTo>
                  <a:pt x="8589" y="3804"/>
                  <a:pt x="6918" y="5544"/>
                  <a:pt x="6918" y="7860"/>
                </a:cubicBezTo>
                <a:lnTo>
                  <a:pt x="8772" y="7860"/>
                </a:lnTo>
                <a:cubicBezTo>
                  <a:pt x="8772" y="6719"/>
                  <a:pt x="9695" y="5832"/>
                  <a:pt x="10800" y="5832"/>
                </a:cubicBezTo>
                <a:cubicBezTo>
                  <a:pt x="11905" y="5832"/>
                  <a:pt x="12837" y="6719"/>
                  <a:pt x="12837" y="7860"/>
                </a:cubicBezTo>
                <a:cubicBezTo>
                  <a:pt x="12837" y="8599"/>
                  <a:pt x="12367" y="9331"/>
                  <a:pt x="11905" y="9331"/>
                </a:cubicBezTo>
                <a:cubicBezTo>
                  <a:pt x="10800" y="9331"/>
                  <a:pt x="9695" y="10810"/>
                  <a:pt x="9695" y="12333"/>
                </a:cubicBezTo>
                <a:lnTo>
                  <a:pt x="9695" y="14292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981734599058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38080" y="1828800"/>
            <a:ext cx="5791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沿着弯弯的小路，就能走出天山。遥远的北京城，有一座雄伟的天安门，广场上升旗仪式非常壮观，我对妈妈说，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990720" y="42670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矩形 2" descr=""/>
          <p:cNvPicPr/>
          <p:nvPr/>
        </p:nvPicPr>
        <p:blipFill>
          <a:blip r:embed="rId1"/>
          <a:stretch/>
        </p:blipFill>
        <p:spPr>
          <a:xfrm>
            <a:off x="858960" y="871560"/>
            <a:ext cx="73832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09_JPG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50920" y="1557360"/>
            <a:ext cx="8893080" cy="37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ǎng   gào   sù   lù    jīng   ān  m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   告   诉  路   京  安   门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ǎng  cháng  fēi cháng zhuàng gu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   场     非   常  壮    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987640" y="907920"/>
            <a:ext cx="2808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  会  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71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北京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74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8"/>
            <p:cNvSpPr/>
            <p:nvPr/>
          </p:nvSpPr>
          <p:spPr>
            <a:xfrm>
              <a:off x="5163120" y="3560040"/>
              <a:ext cx="166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77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536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1"/>
            <p:cNvSpPr/>
            <p:nvPr/>
          </p:nvSpPr>
          <p:spPr>
            <a:xfrm>
              <a:off x="5807520" y="1895400"/>
              <a:ext cx="193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新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80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4"/>
            <p:cNvSpPr/>
            <p:nvPr/>
          </p:nvSpPr>
          <p:spPr>
            <a:xfrm>
              <a:off x="454680" y="1969560"/>
              <a:ext cx="1560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告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83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86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20"/>
            <p:cNvSpPr/>
            <p:nvPr/>
          </p:nvSpPr>
          <p:spPr>
            <a:xfrm>
              <a:off x="432360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雪莲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826920" y="2924280"/>
            <a:ext cx="1893960" cy="1833480"/>
            <a:chOff x="826920" y="2924280"/>
            <a:chExt cx="1893960" cy="1833480"/>
          </a:xfrm>
        </p:grpSpPr>
        <p:pic>
          <p:nvPicPr>
            <p:cNvPr id="89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96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3"/>
            <p:cNvSpPr/>
            <p:nvPr/>
          </p:nvSpPr>
          <p:spPr>
            <a:xfrm>
              <a:off x="104292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升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92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6"/>
            <p:cNvSpPr/>
            <p:nvPr/>
          </p:nvSpPr>
          <p:spPr>
            <a:xfrm>
              <a:off x="2269800" y="282060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多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95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29"/>
            <p:cNvSpPr/>
            <p:nvPr/>
          </p:nvSpPr>
          <p:spPr>
            <a:xfrm>
              <a:off x="4179240" y="21337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广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98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2"/>
            <p:cNvSpPr/>
            <p:nvPr/>
          </p:nvSpPr>
          <p:spPr>
            <a:xfrm>
              <a:off x="577656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遥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102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北京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105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8"/>
            <p:cNvSpPr/>
            <p:nvPr/>
          </p:nvSpPr>
          <p:spPr>
            <a:xfrm>
              <a:off x="5163120" y="3560040"/>
              <a:ext cx="166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升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108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536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1"/>
            <p:cNvSpPr/>
            <p:nvPr/>
          </p:nvSpPr>
          <p:spPr>
            <a:xfrm>
              <a:off x="5807520" y="1895400"/>
              <a:ext cx="193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广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111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4"/>
            <p:cNvSpPr/>
            <p:nvPr/>
          </p:nvSpPr>
          <p:spPr>
            <a:xfrm>
              <a:off x="454680" y="1969560"/>
              <a:ext cx="1560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多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114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遥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995640" y="0"/>
            <a:ext cx="1581120" cy="1833480"/>
            <a:chOff x="3995640" y="0"/>
            <a:chExt cx="1581120" cy="1833480"/>
          </a:xfrm>
        </p:grpSpPr>
        <p:pic>
          <p:nvPicPr>
            <p:cNvPr id="117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99564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20"/>
            <p:cNvSpPr/>
            <p:nvPr/>
          </p:nvSpPr>
          <p:spPr>
            <a:xfrm>
              <a:off x="431424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826920" y="2924280"/>
            <a:ext cx="1893960" cy="1833480"/>
            <a:chOff x="826920" y="2924280"/>
            <a:chExt cx="1893960" cy="1833480"/>
          </a:xfrm>
        </p:grpSpPr>
        <p:pic>
          <p:nvPicPr>
            <p:cNvPr id="120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96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23"/>
            <p:cNvSpPr/>
            <p:nvPr/>
          </p:nvSpPr>
          <p:spPr>
            <a:xfrm>
              <a:off x="104292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公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123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26"/>
            <p:cNvSpPr/>
            <p:nvPr/>
          </p:nvSpPr>
          <p:spPr>
            <a:xfrm>
              <a:off x="2269800" y="282060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告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126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29"/>
            <p:cNvSpPr/>
            <p:nvPr/>
          </p:nvSpPr>
          <p:spPr>
            <a:xfrm>
              <a:off x="4179240" y="21337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新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129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32"/>
            <p:cNvSpPr/>
            <p:nvPr/>
          </p:nvSpPr>
          <p:spPr>
            <a:xfrm>
              <a:off x="577656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雪莲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2:16:28Z</dcterms:created>
  <dc:creator/>
  <dc:description/>
  <dc:language>en-US</dc:language>
  <cp:lastModifiedBy/>
  <dcterms:modified xsi:type="dcterms:W3CDTF">2017-02-21T19:01:58Z</dcterms:modified>
  <cp:revision>1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