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4E6B7-DEC2-47D8-B03E-FD1F958D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A3DC-C863-4914-961C-C307E6E5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F077-BFF3-4AB1-A476-F27C3421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BDB4-9866-4674-A36F-F3D4C96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AB267-FE02-41B3-B966-0A7A9B99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94D2A-E1CD-47A3-A3A8-8D0C1477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70C03-DCCF-43B0-8820-19553FAF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E8CE-9A60-42F6-98AC-CBEE85F5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5587E-BEBC-4036-BD4D-FA064132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95B0-ACF1-4403-AF41-3889E11D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A6B7-EA88-4FFF-8279-4001A632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0D43-A542-47F9-A04C-197931DA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1707C-EB77-4ABB-AA96-7C3F572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B7DF7-9A3D-4C0C-9C79-F847B51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CDE22-A429-4461-A71B-A5241B8A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D48A3-733F-4A45-9C86-2A26EF8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9A188-C2AC-45AD-8767-3A9EB7C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B25EE-D521-4D33-AEE0-D9C51E0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0102F-47C0-4192-A813-64B67BF4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B12B-2C0F-480B-9519-A6B9C6C7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0130-2FBF-4274-8D1C-77D4624C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B625-BC64-4187-BC7C-C96BD2CE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531A6-31F8-4907-A6D4-629AED97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D1DAF-85E0-49D1-8DAC-AE495CC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545D2-4F0F-405B-BFF6-EECE79A0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9096E-E39D-4DB0-AFE4-781AA484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A46EB-E9FB-4A35-A099-FCAB7B2D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B69CD-66FC-4BB0-8EA2-77F595C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52EFB-0EB4-4DC7-A89F-783F3B3D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7BEDB-9C6C-4D87-9EFD-C4083BE2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AEF04-8802-496C-B41C-7B137963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F8C6B-20D9-407B-B64C-EA80883B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459E1-BF8D-4663-8D8C-1B5ED991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FCE63-1661-4225-9B9C-1E8BF416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1BD3F-92DB-4B50-B840-FB6A457E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7EFDA-5A35-4ABF-949C-DD142493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E0A2C-3F4E-44D3-84B4-F518D8F8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D6772-948C-4ABB-B757-B968B522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F652-8EE8-4696-9B27-C93B025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6E48D-62C9-4336-84DE-86FDCC1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C0B14-52A1-44BB-B1C7-9C407CF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415C0-93B4-4E39-AEEE-3DAD6DF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9E9EB-D1D9-4639-BDFA-F8AF830B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E3681-FC26-4018-9D80-7E79597C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F3BD9-6E18-4310-83F4-B786F3F2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4D8-F207-42F4-AD3A-F5E5873F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176-1E71-46E4-9F0E-EB65528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185-89B9-4B56-B7C8-DCBCE0B5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2B1-0DFF-43BA-8957-7E7AA58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EFF-8971-4392-B6BB-AFFD9E8C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87F-5614-4C6F-9BF4-66ACC6BC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04F-8F59-4007-9865-8E52E90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295-291F-4737-BF62-5BC6F9DB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1EC-B5EB-436D-BB0D-55E0E391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7A2-66EF-4315-A75E-1255362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EA1-D8A5-4660-A919-8133948F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823-B5C8-4B60-95B3-BE7E3A1E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6B77-9BC3-456C-87DC-856D7507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2854-E29B-43AD-A234-5735BFE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8E8-E1C3-4D9E-B732-7C80794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ACEE-C08D-4340-8F75-C320B87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A7D6-E5E6-47C6-B092-7FCB540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24E5-C89E-4535-8677-8C1589C8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141B-3C63-464D-892A-8BA3325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9466-A25F-406B-ADAE-245BD54C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8F8A-B8BC-4EA2-ADAB-14FE17D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81C5-14EA-48DC-9AED-D139459E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073D-60D2-473E-A52E-6BA6DE05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F126-FF22-4239-A223-3FF542F7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A57E-641B-4863-8C24-D68CC24E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6735-6ED9-45E1-BC6E-BC7AE82E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A617-BAC5-4C03-911D-4A749716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8DBB-6429-42A1-8231-64AA3C51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7E9F-1676-45E2-A3D7-F6033219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EC99-EA77-4642-A39F-E62A2568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D049-5021-42EF-9343-563DA72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6122-110A-454C-B113-12BC9B9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E28B-32DC-4F07-A919-2061C0C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6136-1268-46B5-8300-F44AE9FF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3651-0CCB-4850-ABCC-E9D1A6DF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4B16-8816-40C9-99D6-901D1BCA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EB8E-DFE0-4D83-86BA-9C25A81F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2407-CFB4-4518-907A-BD2E0B42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4098-E3F3-41E8-95E0-32C48EF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48FC-A91E-42B1-9542-BDF6BCBA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81C1-57DA-4F04-B5AB-F29B566A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10A6D-B646-435D-A219-273771AD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48AD1-6145-4B83-AE05-81A4FE75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61439-22DA-476A-A479-E9E9D8D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8F6B-78CF-469B-9F00-7C4F65C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4BEC-9F61-423F-8C66-AAC30793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954F-98EF-4F97-AA49-B90BF267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89CD8-7EF3-4A58-8406-8DE9FB5C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5CC88-212D-4E10-A6A5-DA8EC37E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D97ED-5EAC-4124-A6C8-83D65F8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072A-CD84-40F2-A656-5EABE96F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0511-30F9-4924-AF0E-0A49501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2F9A6-4CF5-4BE2-A3FA-E8B03285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E3C4-4246-492F-8D5F-6F7F30CF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CCB7-3449-4B22-A4A4-298749E1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3F1C-EC89-46ED-80EB-DF74393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3718-68EB-49CA-92A1-47D03AC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7DFA-3377-4402-86A4-807A2724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21BC-A2B0-4111-8761-83B227C5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80725-6B56-427C-8BC9-AEFD9E82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833F1-0B10-4665-AD62-F04DD204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CA04-1635-4034-A85E-AEE6AA1D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5D6B-DD75-4715-A0F3-45A1A144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831E-D913-4230-86E9-ABBCED0C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594D-C5DD-4296-855F-ED5D3A1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5BFA-D715-44A0-8F21-7130532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9A57-A3CF-44E9-B9F7-024D6CE7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908A-E376-4978-BFD8-A8E76EE3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2DB64-010F-4EB1-9C7D-B3D1406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7BF8-E628-4B08-AC44-DBD8A6DD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90D4B-C2DB-4038-AF8A-3A140C0C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46C6-AC3A-4A9B-8E59-93C6DEB9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A2919-8A97-4059-93E2-51102DC0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117D0-82DA-41A6-9EAC-4463B7CC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BC9E-12C7-428D-A959-E79545E4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547-E391-408F-A3C6-0AEF2D6F6C45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BD0E-998F-4E49-BDD4-A5972FD5734E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520704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520704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6EA-7EAE-4BD6-AE40-02148D7D35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373-E209-4B5F-9D42-147EC7A1DFA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3210-4365-4089-AF76-98B85165F8A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A279-5F0B-4798-8205-6B6BE609AFF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7CD6-4143-4021-8EBE-01698030BE1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34FC-C42C-48C6-A99A-DA0EECFB64B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EC45-125C-4BF0-957D-20B9D069EAC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A26E-6CEE-421E-9277-0865BCF0421A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idu.com/s?wd=&#32993;&#19981;&#24402;&amp;hl_tag=textlink&amp;tn=SE_hldp01350_v6v6zkg6" TargetMode="External"/><Relationship Id="rId2" Type="http://schemas.openxmlformats.org/officeDocument/2006/relationships/hyperlink" Target="http://www.baidu.com/s?wd=&#32993;&#19981;&#24402;&amp;hl_tag=textlink&amp;tn=SE_hldp01350_v6v6zkg6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2" descr="6.png"/>
          <p:cNvPicPr/>
          <p:nvPr/>
        </p:nvPicPr>
        <p:blipFill>
          <a:blip r:embed="rId1"/>
          <a:srcRect l="-3905" t="0" r="0" b="0"/>
          <a:stretch/>
        </p:blipFill>
        <p:spPr>
          <a:xfrm>
            <a:off x="1160640" y="912960"/>
            <a:ext cx="7983360" cy="480204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4" descr="10.png"/>
          <p:cNvPicPr/>
          <p:nvPr/>
        </p:nvPicPr>
        <p:blipFill>
          <a:blip r:embed="rId2"/>
          <a:srcRect l="0" t="0" r="50205" b="52247"/>
          <a:stretch/>
        </p:blipFill>
        <p:spPr>
          <a:xfrm>
            <a:off x="0" y="2986200"/>
            <a:ext cx="4554360" cy="27288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5" descr="2.png"/>
          <p:cNvPicPr/>
          <p:nvPr/>
        </p:nvPicPr>
        <p:blipFill>
          <a:blip r:embed="rId3"/>
          <a:srcRect l="73439" t="55002" r="14063" b="25002"/>
          <a:stretch/>
        </p:blipFill>
        <p:spPr>
          <a:xfrm>
            <a:off x="8829720" y="3786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5.png"/>
          <p:cNvPicPr/>
          <p:nvPr/>
        </p:nvPicPr>
        <p:blipFill>
          <a:blip r:embed="rId4"/>
          <a:srcRect l="82814" t="26250" r="9375" b="62501"/>
          <a:stretch/>
        </p:blipFill>
        <p:spPr>
          <a:xfrm>
            <a:off x="9001080" y="243036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1" descr="3.png"/>
          <p:cNvPicPr/>
          <p:nvPr/>
        </p:nvPicPr>
        <p:blipFill>
          <a:blip r:embed="rId5"/>
          <a:srcRect l="14063" t="46251" r="75002" b="35001"/>
          <a:stretch/>
        </p:blipFill>
        <p:spPr>
          <a:xfrm>
            <a:off x="9468000" y="1562040"/>
            <a:ext cx="1000080" cy="1071720"/>
          </a:xfrm>
          <a:prstGeom prst="rect">
            <a:avLst/>
          </a:prstGeom>
          <a:ln w="0">
            <a:noFill/>
          </a:ln>
        </p:spPr>
      </p:pic>
      <p:sp>
        <p:nvSpPr>
          <p:cNvPr id="515" name="WordArt 15"/>
          <p:cNvSpPr txBox="1"/>
          <p:nvPr/>
        </p:nvSpPr>
        <p:spPr>
          <a:xfrm>
            <a:off x="1332000" y="1273320"/>
            <a:ext cx="666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诗经  郑风  子衿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16" name="子衿 - 诗经.mp3" descr=""/>
          <p:cNvPicPr/>
          <p:nvPr/>
        </p:nvPicPr>
        <p:blipFill>
          <a:blip r:embed="rId6"/>
          <a:stretch/>
        </p:blipFill>
        <p:spPr>
          <a:xfrm>
            <a:off x="4419720" y="270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38 4.05338E-006 C -0.01424 -0.00139 -0.04063 -0.00473 -0.05816 -0.00834 C -0.0757 -0.01196 -0.07049 -0.00195 -0.11025 -0.02141 C -0.15 -0.04087 -0.25799 -0.10426 -0.29688 -0.12594 E">
                                      <p:cBhvr>
                                        <p:cTn id="13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1.11111E-006 C -0.00903 -0.0025 -0.03386 -0.00833 -0.054 -0.01528 C -0.07413 -0.02222 -0.09288 -0.04639 -0.12118 -0.04139 C -0.14948 -0.03639 -0.20209 0.00333 -0.22344 0.015 E">
                                      <p:cBhvr>
                                        <p:cTn id="15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452 1.58421E-006 C -0.02934 -0.00028 -0.14149 0.00861 -0.19826 -0.00223 C -0.25503 -0.01306 -0.30729 -0.05225 -0.33593 -0.06532 E">
                                      <p:cBhvr>
                                        <p:cTn id="17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8195" descr="18"/>
          <p:cNvPicPr/>
          <p:nvPr/>
        </p:nvPicPr>
        <p:blipFill>
          <a:blip r:embed="rId1"/>
          <a:stretch/>
        </p:blipFill>
        <p:spPr>
          <a:xfrm>
            <a:off x="762120" y="243000"/>
            <a:ext cx="3873240" cy="5472000"/>
          </a:xfrm>
          <a:prstGeom prst="rect">
            <a:avLst/>
          </a:prstGeom>
          <a:ln w="0">
            <a:noFill/>
          </a:ln>
        </p:spPr>
      </p:pic>
      <p:sp>
        <p:nvSpPr>
          <p:cNvPr id="544" name="文本框 8196"/>
          <p:cNvSpPr/>
          <p:nvPr/>
        </p:nvSpPr>
        <p:spPr>
          <a:xfrm>
            <a:off x="1450800" y="217440"/>
            <a:ext cx="66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挑兮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兮，在城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8197"/>
          <p:cNvSpPr/>
          <p:nvPr/>
        </p:nvSpPr>
        <p:spPr>
          <a:xfrm>
            <a:off x="3852720" y="1236600"/>
            <a:ext cx="4079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注释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挑达：来往轻盈的样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城阙：城门两侧的角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8198"/>
          <p:cNvSpPr/>
          <p:nvPr/>
        </p:nvSpPr>
        <p:spPr>
          <a:xfrm>
            <a:off x="3790800" y="3338640"/>
            <a:ext cx="37814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走来走去望眼欲穿啊，在高高的城楼上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1269" descr="242"/>
          <p:cNvPicPr/>
          <p:nvPr/>
        </p:nvPicPr>
        <p:blipFill>
          <a:blip r:embed="rId1"/>
          <a:stretch/>
        </p:blipFill>
        <p:spPr>
          <a:xfrm>
            <a:off x="762120" y="3076560"/>
            <a:ext cx="2560680" cy="263844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11270"/>
          <p:cNvSpPr/>
          <p:nvPr/>
        </p:nvSpPr>
        <p:spPr>
          <a:xfrm>
            <a:off x="2052720" y="576360"/>
            <a:ext cx="4140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1271"/>
          <p:cNvSpPr/>
          <p:nvPr/>
        </p:nvSpPr>
        <p:spPr>
          <a:xfrm>
            <a:off x="1512720" y="757080"/>
            <a:ext cx="62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日不见，如三月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1272"/>
          <p:cNvSpPr/>
          <p:nvPr/>
        </p:nvSpPr>
        <p:spPr>
          <a:xfrm>
            <a:off x="3732120" y="2317680"/>
            <a:ext cx="4349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没有见到你，仿佛像三个月一般，如此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2481120" y="409680"/>
            <a:ext cx="39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青青子衿，悠悠我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纵我不往，子宁不嗣音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60760" y="4513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青的是你的衣领，悠悠的是我的心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纵然我不曾去会你，难道你就此断音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1403280" y="336600"/>
            <a:ext cx="6840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青青子佩，悠悠我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纵我不往，子宁不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161160" y="364968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青的是你的玉佩，悠悠的是我的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纵然我不曾去会你，难道你不能主动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3671280" y="554040"/>
            <a:ext cx="170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挑兮达兮，在城阙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日不见，如三月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299120" y="39369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来往往张眼望啊，在这高高城楼上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天不见你的面呵，好像已有三月长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4"/>
          <p:cNvSpPr txBox="1"/>
          <p:nvPr/>
        </p:nvSpPr>
        <p:spPr>
          <a:xfrm>
            <a:off x="539640" y="480960"/>
            <a:ext cx="18288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赏析</a:t>
            </a:r>
            <a:endParaRPr b="0" lang="en-US" sz="72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50920" y="1704960"/>
            <a:ext cx="90122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　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这首诗写一个女子在城楼上等候她的恋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全诗三章，采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倒叙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前两章以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我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的口气自述怀人。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青青子衿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青青子佩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，是以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的衣饰借代恋人。对方的衣饰给她留下这么深刻的印象，使她念念不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可见其相思萦怀之情。如今因受阻不能前去赴约，只好等恋人过来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会，可望穿秋水，不见人影儿，浓浓的爱意不由转化为惆怅与幽怨：纵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我没有去找你，你为何就不能捎个音信？纵然我没有去找你，你为何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不能主动前来？第三章点明地点，写她在城楼上因久候恋人不至而心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意乱，来来回回地走个不停，觉得虽然只有一天不见面，却好像分别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三个月那么漫长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07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17411"/>
          <p:cNvSpPr/>
          <p:nvPr/>
        </p:nvSpPr>
        <p:spPr>
          <a:xfrm>
            <a:off x="1271520" y="157320"/>
            <a:ext cx="43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事对象使用第二人称你，在感情表达上更加直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17412" descr="24"/>
          <p:cNvPicPr/>
          <p:nvPr/>
        </p:nvPicPr>
        <p:blipFill>
          <a:blip r:embed="rId1"/>
          <a:stretch/>
        </p:blipFill>
        <p:spPr>
          <a:xfrm>
            <a:off x="3851280" y="2090880"/>
            <a:ext cx="4530600" cy="3624120"/>
          </a:xfrm>
          <a:prstGeom prst="rect">
            <a:avLst/>
          </a:prstGeom>
          <a:ln w="0">
            <a:noFill/>
          </a:ln>
        </p:spPr>
      </p:pic>
      <p:sp>
        <p:nvSpPr>
          <p:cNvPr id="561" name="文本框 17413"/>
          <p:cNvSpPr/>
          <p:nvPr/>
        </p:nvSpPr>
        <p:spPr>
          <a:xfrm>
            <a:off x="1450800" y="2197080"/>
            <a:ext cx="46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从诗中，我们看到了一个痴情的女子，一个热情奔放的女子，一个感性的女子。她没有太多的矜持，勇敢追求爱情。从她身上，我们可以看见先秦时代人民对生活的热情以及对于美好生活的追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1143000" y="190440"/>
            <a:ext cx="6222960" cy="7398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211400" y="1117440"/>
            <a:ext cx="6121440" cy="4260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比一比、赛一赛，看哪位同学背得最快、最熟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练笔：学会用诗歌释放感情的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笑脸 63491"/>
          <p:cNvSpPr/>
          <p:nvPr/>
        </p:nvSpPr>
        <p:spPr>
          <a:xfrm>
            <a:off x="5052960" y="2378160"/>
            <a:ext cx="1440000" cy="126036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艺术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1280" y="912960"/>
            <a:ext cx="822960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“赋”的运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赋”就是铺陈直叙。即诗人把思想感情及有关的事物平铺直叙地表达出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造了诗歌的艺术形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句式以“四言”为主，其间杂有“五言”。四字句节奏鲜明而略显短促，使得整首诗韵律整齐，带有很强的节奏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“重章叠句”和“双生叠韵” 读起来回环往复，节奏舒卷徐缓，一唱三叹的艺术效果，不仅使语言具有了音乐美，而且在表意和修辞上也具有很好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语言上具有音乐美，而且在表意和修辞上、描写手法上也具有很好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94211" descr="2005072601050870641"/>
          <p:cNvPicPr/>
          <p:nvPr/>
        </p:nvPicPr>
        <p:blipFill>
          <a:blip r:embed="rId1"/>
          <a:stretch/>
        </p:blipFill>
        <p:spPr>
          <a:xfrm>
            <a:off x="762120" y="1477800"/>
            <a:ext cx="7619760" cy="42372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85800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在你的生活中哪些人会时刻思念着你？你想对他们说些什么？组织一段文字写出自己的感受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94212"/>
          <p:cNvSpPr/>
          <p:nvPr/>
        </p:nvSpPr>
        <p:spPr>
          <a:xfrm>
            <a:off x="1092240" y="457200"/>
            <a:ext cx="75009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94214"/>
          <p:cNvSpPr/>
          <p:nvPr/>
        </p:nvSpPr>
        <p:spPr>
          <a:xfrm>
            <a:off x="1392120" y="396720"/>
            <a:ext cx="73202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94215"/>
          <p:cNvSpPr/>
          <p:nvPr/>
        </p:nvSpPr>
        <p:spPr>
          <a:xfrm>
            <a:off x="1434960" y="157320"/>
            <a:ext cx="70977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Calibri"/>
              </a:rPr>
              <a:t>教学目标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811160" y="1536480"/>
            <a:ext cx="68580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在理解解诗意的基础上，背诵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子衿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品读诗词，体验思念这种情感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尝试将自己的思念之情化为诗歌，学会用诗歌释放情感的方法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15376"/>
          <p:cNvSpPr/>
          <p:nvPr/>
        </p:nvSpPr>
        <p:spPr>
          <a:xfrm>
            <a:off x="2951280" y="2197080"/>
            <a:ext cx="3706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5377"/>
          <p:cNvSpPr/>
          <p:nvPr/>
        </p:nvSpPr>
        <p:spPr>
          <a:xfrm>
            <a:off x="1751040" y="1897200"/>
            <a:ext cx="63612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一、温故知新：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、重温经典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式微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143000" y="111744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简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齐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指生背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91880" y="157320"/>
            <a:ext cx="6737400" cy="768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经典再现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式微</a:t>
            </a:r>
            <a:r>
              <a:rPr b="1" lang="en-US" sz="3600" spc="-1" strike="noStrike" baseline="30000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996840"/>
            <a:ext cx="6858000" cy="4440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式微，式微！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胡不归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微君之故，胡为乎中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式微，式微！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  <a:hlinkClick r:id="rId2"/>
              </a:rPr>
              <a:t>胡不归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微君之躬，胡为乎泥中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68646"/>
          <p:cNvSpPr/>
          <p:nvPr/>
        </p:nvSpPr>
        <p:spPr>
          <a:xfrm>
            <a:off x="1152360" y="338040"/>
            <a:ext cx="528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朗读、背诵         诗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子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68647"/>
          <p:cNvSpPr/>
          <p:nvPr/>
        </p:nvSpPr>
        <p:spPr>
          <a:xfrm>
            <a:off x="2771640" y="1236600"/>
            <a:ext cx="461988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青青子衿，悠悠我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纵我不往，子宁不嗣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青青子佩，悠悠我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纵我不往，子宁不来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挑兮达兮，在城阙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日不见，如三月兮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4099" descr="21"/>
          <p:cNvPicPr/>
          <p:nvPr/>
        </p:nvPicPr>
        <p:blipFill>
          <a:blip r:embed="rId1"/>
          <a:stretch/>
        </p:blipFill>
        <p:spPr>
          <a:xfrm>
            <a:off x="3732120" y="0"/>
            <a:ext cx="4996080" cy="571500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4104"/>
          <p:cNvSpPr/>
          <p:nvPr/>
        </p:nvSpPr>
        <p:spPr>
          <a:xfrm>
            <a:off x="1092240" y="157320"/>
            <a:ext cx="66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悠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4105"/>
          <p:cNvSpPr/>
          <p:nvPr/>
        </p:nvSpPr>
        <p:spPr>
          <a:xfrm>
            <a:off x="1271520" y="817560"/>
            <a:ext cx="438012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释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：男子的美称。 这里是指第二人称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衿：衣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：思绪不断的样子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形容忧伤的样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4106"/>
          <p:cNvSpPr/>
          <p:nvPr/>
        </p:nvSpPr>
        <p:spPr>
          <a:xfrm>
            <a:off x="1152360" y="4057560"/>
            <a:ext cx="43196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那青青的衣领啊</a:t>
            </a: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在我的心间萦绕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5123" descr="22"/>
          <p:cNvPicPr/>
          <p:nvPr/>
        </p:nvPicPr>
        <p:blipFill>
          <a:blip r:embed="rId1"/>
          <a:stretch/>
        </p:blipFill>
        <p:spPr>
          <a:xfrm>
            <a:off x="762120" y="1000080"/>
            <a:ext cx="2619360" cy="471492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5124"/>
          <p:cNvSpPr/>
          <p:nvPr/>
        </p:nvSpPr>
        <p:spPr>
          <a:xfrm>
            <a:off x="1152360" y="157320"/>
            <a:ext cx="588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，子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不嗣音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5125"/>
          <p:cNvSpPr/>
          <p:nvPr/>
        </p:nvSpPr>
        <p:spPr>
          <a:xfrm>
            <a:off x="3611520" y="817560"/>
            <a:ext cx="38401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注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往：前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宁：难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嗣音：继续传送音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5126"/>
          <p:cNvSpPr/>
          <p:nvPr/>
        </p:nvSpPr>
        <p:spPr>
          <a:xfrm>
            <a:off x="3790800" y="3817800"/>
            <a:ext cx="36021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127"/>
          <p:cNvSpPr/>
          <p:nvPr/>
        </p:nvSpPr>
        <p:spPr>
          <a:xfrm>
            <a:off x="3611520" y="3457440"/>
            <a:ext cx="45910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纵然我不前往与你相会，你难道就不捎个音信给我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6148" descr="25"/>
          <p:cNvPicPr/>
          <p:nvPr/>
        </p:nvPicPr>
        <p:blipFill>
          <a:blip r:embed="rId1"/>
          <a:stretch/>
        </p:blipFill>
        <p:spPr>
          <a:xfrm>
            <a:off x="762120" y="0"/>
            <a:ext cx="3689280" cy="29494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6149"/>
          <p:cNvSpPr/>
          <p:nvPr/>
        </p:nvSpPr>
        <p:spPr>
          <a:xfrm>
            <a:off x="1152360" y="2857680"/>
            <a:ext cx="31798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悠悠我思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6150"/>
          <p:cNvSpPr/>
          <p:nvPr/>
        </p:nvSpPr>
        <p:spPr>
          <a:xfrm>
            <a:off x="4451400" y="1117440"/>
            <a:ext cx="3300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注释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佩：玉佩，绿色宝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6151"/>
          <p:cNvSpPr/>
          <p:nvPr/>
        </p:nvSpPr>
        <p:spPr>
          <a:xfrm>
            <a:off x="4392720" y="3278160"/>
            <a:ext cx="39891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译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所佩戴的那绿色的宝石，一直在我的脑海徘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7172"/>
          <p:cNvSpPr/>
          <p:nvPr/>
        </p:nvSpPr>
        <p:spPr>
          <a:xfrm>
            <a:off x="1092240" y="517680"/>
            <a:ext cx="263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子宁不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7175"/>
          <p:cNvSpPr/>
          <p:nvPr/>
        </p:nvSpPr>
        <p:spPr>
          <a:xfrm>
            <a:off x="1571760" y="3097080"/>
            <a:ext cx="57006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然我不前往与你见面，你难道就不主动前来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7176" descr="26"/>
          <p:cNvPicPr/>
          <p:nvPr/>
        </p:nvPicPr>
        <p:blipFill>
          <a:blip r:embed="rId1"/>
          <a:stretch/>
        </p:blipFill>
        <p:spPr>
          <a:xfrm>
            <a:off x="3581280" y="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9:39:30Z</dcterms:created>
  <dc:creator>锐得PPT</dc:creator>
  <dc:description>http://bbs.ruideppt.com</dc:description>
  <dc:language>en-US</dc:language>
  <cp:lastModifiedBy>User</cp:lastModifiedBy>
  <dcterms:modified xsi:type="dcterms:W3CDTF">2018-02-06T01:55:36Z</dcterms:modified>
  <cp:revision>68</cp:revision>
  <dc:subject/>
  <dc:title>岁寒三友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