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E89-1206-4823-B210-61A19C2D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49C-EC07-47B9-ACED-7E066B11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379-E4CF-4FF5-8CEC-0A6190FD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2A5-E58F-4410-BB71-CA383F4A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E87C-7C05-43F7-9180-D02BE073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32A-C1CD-4D68-BD85-BEC1F91B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4EB-65FD-4299-84AC-1BFA0FD6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3A4-89D6-412D-AC63-82CD0D24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681-6A1E-4668-866E-538B97E9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028-5D5F-4A6D-BE83-858F2652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C74-D072-437F-AFAD-70E18F85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0FC-5AFB-4292-B06E-266CBF3F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871B-0500-447A-AB9C-644FAB9B50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3edu.net/ws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1523880"/>
            <a:ext cx="5410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反对党八股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1904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4267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论证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这段文字总的论证方法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边破边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论证方法，但在论述具体问题时，又具有各种不同的论证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证：斯大林的演说和《资本论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证：俗语“到什么山上唱什么歌”“看菜吃饭，量体裁衣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比论证：《资本论》与有些老爷的长文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喻论证：长而空的文章像“懒婆娘的裹脚，又长又臭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论述党八股第六条罪状的内容与前后文有什么联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段内容上主要讲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写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态度和造成后果的问题，在整篇文章中起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承上启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重要作用。“不负责任”是产生上述五条罪状的根源。“到处害人”则是它的必然结果。具体内容就是第七条罪状“流毒全党，妨害革命”和第八条罪状“传播出去，祸国殃民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斯大林的演说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资本论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延安城墙上的标语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洗脸后照镜子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合作探究：下列论据论证什么观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12938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章要写得短而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19335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章长短要“量体裁衣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2520" y="299412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反面论证写文章要看对象，有群众观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58640" y="3732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有责任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语言特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说理严谨、周密，且语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动活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请摘录相关语句，具体说明生动活泼这一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什么山上唱什么歌”“看菜吃饭，量体裁衣”比“要由内容来决定”“要从实际出发”之类的说法更通俗、更生动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牛弹琴”“得胜回朝”。前者排除了原意讽刺牛的无知这一面，强调“不看对象，乱弹一气”的可笑，后者改变了赞扬替封建王朝卖命的人的原意，用以讽刺那些装腔作势而自鸣得意的人，都可以说切中肯綮而又风趣生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“懒婆娘的裹脚”比喻“长而空”的文章之令人掩鼻，很新鲜别致令人会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联系实际，谈一谈我们要树立良好文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2209680"/>
            <a:ext cx="1257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W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0" y="243828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Z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4628520" y="4038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手写我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4520" y="405936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假话空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故作高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251460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33720" y="1905120"/>
            <a:ext cx="44193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99"/>
                </a:solidFill>
                <a:latin typeface="Arial"/>
              </a:rPr>
              <a:t>谢 谢 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议论文的基本结构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议论文论点、论据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不良文风的表现和危害，认识树立良好文风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GulimChe"/>
                <a:ea typeface="GulimChe"/>
              </a:rPr>
              <a:t>《反对党八股》是毛泽东同志于</a:t>
            </a:r>
            <a:r>
              <a:rPr b="1" lang="zh-CN" sz="3000" spc="-1" strike="noStrike">
                <a:solidFill>
                  <a:srgbClr val="000000"/>
                </a:solidFill>
                <a:latin typeface="GulimChe"/>
                <a:ea typeface="GulimChe"/>
              </a:rPr>
              <a:t>1942.2.8</a:t>
            </a:r>
            <a:r>
              <a:rPr b="1" lang="zh-CN" sz="3000" spc="-1" strike="noStrike">
                <a:solidFill>
                  <a:srgbClr val="000000"/>
                </a:solidFill>
                <a:latin typeface="GulimChe"/>
                <a:ea typeface="GulimChe"/>
              </a:rPr>
              <a:t>在延安干部会议上的讲演。毛泽东同志的这篇讲演和《改造我们的学习》、《整顿党的作风》，是整风运动的基本著作，是我党思想建设的重要文献。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GulimChe"/>
                <a:ea typeface="GulimChe"/>
              </a:rPr>
              <a:t>    这篇文章着重谈的是关于改进“</a:t>
            </a:r>
            <a:r>
              <a:rPr b="1" lang="zh-CN" sz="3000" spc="-1" strike="noStrike">
                <a:solidFill>
                  <a:srgbClr val="ff0000"/>
                </a:solidFill>
                <a:latin typeface="GulimChe"/>
                <a:ea typeface="GulimChe"/>
              </a:rPr>
              <a:t>文风</a:t>
            </a:r>
            <a:r>
              <a:rPr b="1" lang="zh-CN" sz="3000" spc="-1" strike="noStrike">
                <a:solidFill>
                  <a:srgbClr val="000000"/>
                </a:solidFill>
                <a:latin typeface="GulimChe"/>
                <a:ea typeface="GulimChe"/>
              </a:rPr>
              <a:t>”的问题。它深刻地</a:t>
            </a:r>
            <a:r>
              <a:rPr b="1" lang="zh-CN" sz="3000" spc="-1" strike="noStrike">
                <a:solidFill>
                  <a:srgbClr val="ff0000"/>
                </a:solidFill>
                <a:latin typeface="GulimChe"/>
                <a:ea typeface="GulimChe"/>
              </a:rPr>
              <a:t>论述了党八股产生的历史根源和阶级根源，阐明了反对党八股的重要意义，并具体指出党八股的八大罪状及其危害性，最后提出马克思列宁主义新文风的要求，指明了今后努力的方向。</a:t>
            </a:r>
            <a:r>
              <a:rPr b="1" lang="zh-CN" sz="3000" spc="-1" strike="noStrike">
                <a:solidFill>
                  <a:srgbClr val="000000"/>
                </a:solidFill>
                <a:latin typeface="GulimChe"/>
                <a:ea typeface="GulimChe"/>
              </a:rPr>
              <a:t>本文节选的是《反对党八股》中</a:t>
            </a:r>
            <a:r>
              <a:rPr b="1" lang="zh-CN" sz="3000" spc="-1" strike="noStrike">
                <a:solidFill>
                  <a:srgbClr val="000000"/>
                </a:solidFill>
                <a:latin typeface="GulimChe"/>
                <a:ea typeface="GulimChe"/>
              </a:rPr>
              <a:t>9─18 </a:t>
            </a:r>
            <a:r>
              <a:rPr b="1" lang="zh-CN" sz="3000" spc="-1" strike="noStrike">
                <a:solidFill>
                  <a:srgbClr val="000000"/>
                </a:solidFill>
                <a:latin typeface="GulimChe"/>
                <a:ea typeface="GulimChe"/>
              </a:rPr>
              <a:t>节。</a:t>
            </a:r>
            <a:br>
              <a:rPr sz="3000"/>
            </a:b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GulimCh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892520"/>
            <a:ext cx="853416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股”，即八股文，也称“八比”，原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代科举制度规定的一种应试文体。它要求应考人读一定的书，学一定的注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朱熹的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按规定规格写文章，连字数都有限制，考生只能按照题目的字数敷衍成文。每篇文章都由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破题、承题、起讲、入手、起股、中股、后股、束股八部分构成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四股各要求有两股文字相对偶。这种八股文，无论内容还是形式都是僵化的，束缚着人们的思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党八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革命队伍中某些人所写的文章，这种文章对于事物不加分析，只是搬用一些革命的名词术语，言之无物，空话连篇，如同“八股文”，所以称之为党八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浏览课文，梳理基本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论部分（提出问题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段，指出党八股有八大罪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论部分（分析问题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2—9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段，列举党八股八大罪状，论证其危害和纠正的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论部分（中心论点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段，必须抛弃党八股，采取生动活泼新鲜有力的马克思列宁主义的文风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3440" y="3476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采用并列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党八股有哪些罪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空话连篇，言之无物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装腔作势，借以吓人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无的放矢，不看对象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语言无味，像个瘪三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甲乙丙丁，开中药铺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不负责任，到处害人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流毒全党，妨害革命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传播出去，祸国殃民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914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容空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600200"/>
            <a:ext cx="2209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机不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2133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目的不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2743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少文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3352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式主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3886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责任心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4724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危害后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话连篇，言之无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腔作势，借以吓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的放矢，不看对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无味，像个瘪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乙丙丁，开中药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负责任，到处害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毒全党，妨害革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出去，祸国殃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52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容空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762120"/>
            <a:ext cx="2133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机不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13716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目的不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少文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2666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式主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32004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责任心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危害后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228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3886200"/>
            <a:ext cx="75960" cy="914400"/>
          </a:xfrm>
          <a:custGeom>
            <a:avLst/>
            <a:gdLst>
              <a:gd name="textAreaLeft" fmla="*/ 0 w 75960"/>
              <a:gd name="textAreaRight" fmla="*/ 5328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762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思想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文章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4680" y="3200400"/>
            <a:ext cx="12193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4114800"/>
            <a:ext cx="12193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3886200"/>
            <a:ext cx="152640" cy="838080"/>
          </a:xfrm>
          <a:custGeom>
            <a:avLst/>
            <a:gdLst>
              <a:gd name="textAreaLeft" fmla="*/ 0 w 152640"/>
              <a:gd name="textAreaRight" fmla="*/ 107280 w 15264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01000" y="838080"/>
            <a:ext cx="152280" cy="1752840"/>
          </a:xfrm>
          <a:custGeom>
            <a:avLst/>
            <a:gdLst>
              <a:gd name="textAreaLeft" fmla="*/ 0 w 152280"/>
              <a:gd name="textAreaRight" fmla="*/ 106920 w 152280"/>
              <a:gd name="textAreaTop" fmla="*/ 72720 h 1752840"/>
              <a:gd name="textAreaBottom" fmla="*/ 1680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94480" y="990720"/>
            <a:ext cx="4244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4267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61048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10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2400" y="5257800"/>
            <a:ext cx="529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由表及里，由浅入深，符合人们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事物的规律，具有严密的逻辑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对          提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空话连篇，言之无物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装腔作势，借以吓人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无的放矢，不看对象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语言无味，像个瘪三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五甲乙丙丁，开中药铺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六不负责任，到处害人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七流毒全党，妨害革命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八传播出去，祸国殃民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1295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内容充实，言之有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1905120"/>
            <a:ext cx="3353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事求是，宣传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2362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的放矢，尊重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2895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语言丰富，生动活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善于分析，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3962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责任心强，有益于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4495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影响全党，有益革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510552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传播出去，利国利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怎样论述党八股的第一条罪状？用了哪些主要的论证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出本段论点：“党八股的第一条罪状是：空话连篇，言之无物。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接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析批判“空话”的两种表现形态：第一是长而空。长而空的后果是“懒婆娘的裹脚，又长又臭”。其产生原因是“下决心不要群众看”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然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斯大林的演说为范例，一褒一贬，从正反两方面说明战争时期尤其需要简短和精粹的文章。第二是短而空。先承上启下，辩证地指出短而空也不好，因为“我们应当禁绝一切空话”。紧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接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长篇巨著《资本论》作为例证，并引用俗语“到什么山上唱什么歌”“看菜吃饭，量体裁衣”。说明文章长短要服从内容的需要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最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出结论：战争时期固然需要短文章，但尤其需要有内容的文章，最要反对的是言之无物的文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9-08T07:35:1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