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5EB-914F-4EEF-BAB9-8E984EC9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244-9E81-4106-A76F-3D744EF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7B9-626B-4AA0-8FDB-F6D53403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181-4799-4326-8FEC-AA659BC4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644-4A36-460B-A327-1157251D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EC7-95B6-43F5-AACA-14398A5B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9AA-D16E-4A52-B739-DCBE639F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F59-663C-410B-9DF0-86C8A44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C3B-9835-4623-927E-DC3160D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D7D-430E-4433-A383-4402AB5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12C-49F3-4A20-8E35-8DA1901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3A3-CDF3-41D2-956D-82B4762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00EE-6C95-4990-A45B-4197C3E666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t0177b8477dd55da22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1001880" y="1209600"/>
            <a:ext cx="878508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</a:t>
            </a: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现代文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</a:t>
            </a:r>
            <a:r>
              <a:rPr b="0" lang="zh-CN" sz="8000" spc="-1" strike="noStrike">
                <a:solidFill>
                  <a:srgbClr val="d60093"/>
                </a:solidFill>
                <a:latin typeface="华文琥珀"/>
                <a:ea typeface="华文琥珀"/>
              </a:rPr>
              <a:t>环境描写解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00040" y="1428840"/>
            <a:ext cx="8215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情节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推动情节的发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为后面情节的发展作铺垫或制造悬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作为情节发展的线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071880" y="28584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分析作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642960" y="1990800"/>
            <a:ext cx="82152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主题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暗示、揭示主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深化主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000240" y="67464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分析作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357120" y="642960"/>
            <a:ext cx="835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（一）突出环境特征，反映（暗示）社会背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729960" y="2300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57120" y="26607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自然环境：突出季节特征，表现地域风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社会环境：交代故事发生的时间、地点等要素，揭示作品的时代背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57120" y="11066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夜晚，敌人从炮楼的小窗子里，呆望着这阴森黑暗的大苇塘，天空的星星也像浸在水里，而且要滴落下来的样子。到这样的深夜，苇塘里才有水鸟飞动和唱歌的声音，白天它们是紧紧藏到窝里躲避炮火去了。苇子还是那么狠狠地往上钻，目标好像就是天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芦花荡》孙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85840" y="375588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交代了故事发生的时代背景，点明了战争期间环境的恶劣，烘托了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阴森黑暗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紧张氛围。最后一句写苇子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狠狠地向上钻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表现了白洋淀人民的威武不屈，为下文表现惊心动魄的斗争创造了典型的环境氛围，也为写老头子英勇无畏的精神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57120" y="11066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下里一片寂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场上连人影也没有。小铺和酒店敞开大门，无精打采地面对着上帝创造的这个世界，像是一张张饥饿的嘴巴。店门附近连一个乞丐都没有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变色龙》契科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9020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寥寥几笔就真实地再现出沙皇统治的社会的一片萧条、败落的景象，反映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世纪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年代俄国社会的阴森、恐怖的黑暗面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57120" y="11066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锯木厂后边草地上，普鲁士兵正在操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最后一课》都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28760" y="2714760"/>
            <a:ext cx="864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社会环境描写，暗示了当时的时代背景，阿尔萨斯省已经被敌军占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85880" y="1825560"/>
            <a:ext cx="75009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（二）引出下文，为内容</a:t>
            </a:r>
            <a:r>
              <a:rPr b="1" lang="zh-CN" sz="6000" spc="-1" strike="noStrike">
                <a:solidFill>
                  <a:srgbClr val="d60093"/>
                </a:solidFill>
                <a:latin typeface="宋体"/>
              </a:rPr>
              <a:t>作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铺垫或埋伏笔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729960" y="2300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57120" y="1106640"/>
            <a:ext cx="8643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是费城七月里一个闷热的日子，虽然时隔五十七年，可那种闷热我至今还能感觉得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走一步，再走一步》莫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亨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85840" y="37558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强调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闷热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既点明事情发生时的天气状况，又说明这一天令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我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终生难忘。这段环境描写虽然简单，但交代了时间、地点以及事情发生的起因，为下文爬悬崖埋下了伏笔，激发了读者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57120" y="131436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镇的酒店的格局，是和别处不同的：都是当街一个曲尺形的大柜台，柜里面预备着热水，可以随时温酒。做工的人，傍午傍晚散了工，每每花四文铜钱，买一碗酒，——这是二十多年前的事，现在每碗要涨到十文，——靠柜外站着，热热的喝了休息；倘肯多花一文，便可以买一碟盐煮笋，或者茴香豆，做下酒物了，如果出到十几文，那就能买一样荤菜，但这些顾客，多是短衣帮，大抵没有这样阔绰。只有穿长衫的，才踱进店面隔壁的房子里，要酒要菜，慢慢地坐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579480" y="527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85840" y="1825560"/>
            <a:ext cx="864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段文字描写鲁镇酒店的格局，交代了故事发生的社会背景。两类顾客的衣着和喝酒方式的差异揭示了清末社会阶级对立、贫富悬殊等情况，为下文描写孔乙己是“站着喝酒而穿长衫”的唯一的人这种独特形象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矩形 6"/>
          <p:cNvSpPr/>
          <p:nvPr/>
        </p:nvSpPr>
        <p:spPr>
          <a:xfrm>
            <a:off x="2286000" y="1415880"/>
            <a:ext cx="50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宋体"/>
              </a:rPr>
              <a:t>自然环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宋体"/>
              </a:rPr>
              <a:t>社会环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357120" y="857160"/>
            <a:ext cx="835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（三）渲染气氛，烘托人物心情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729960" y="2300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57120" y="223992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作者往往用生动的自然环境描写，来创造故事的特定氛围，从而增强故事的真实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突显主观情感的词语：如冷色调的凄风、苦雨、落叶、暮色、寒雁等词语；暖色调的艳阳、春苗、绿柳、夏荷等词语。不同色调的词语营造出迥异的环境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57120" y="14018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一个人慢慢地走在路上。月亮出来了，冷冷的，我不禁打了个寒战。路上一点声音也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羚羊木雕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之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579480" y="241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85840" y="31114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用环境描写来反映人物的心理，是文学作品中最常见的手法。气氛的舒缓与紧张，人物的快乐和悲伤等，都可以通过环境来表达。上文中月光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冷冷的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就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心里的感觉，这里用环境描写烘托了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心情的悲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285840" y="14018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我们面前，天边远处仿佛有一片紫色的阴影从海里钻出来，那就是哲尔赛岛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叔叔于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莫泊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85840" y="34290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环境描写渲染了阴郁的氛围，给人物的心境笼罩上一层阴冷的面纱，烘托了人物失望、沮丧的心情。“天边远处”、“紫色的阴影”、“钻出来”，这里边隐藏了令人不寒而栗的恐怖，冷酷，隐藏着金钱酿造的罪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714240" y="1285920"/>
            <a:ext cx="78584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（四）烘托人物形象，展示人物心理，表现人物的性格、精神品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729960" y="372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57120" y="139860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气那么暖和，那么晴朗！画眉在树林边宛转地唱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最后一课》都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57120" y="32860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轻松明快的自然环境，烘托出小弗朗士轻松、愉快的心情，反映了小弗郎士天真幼稚、无忧无虑、贪玩、不懂事的特点，这与后文小弗郎士的思想转变形成强烈的对比，使得人物的性格更加丰满，更令人信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57120" y="1106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亮升起来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院子里凉爽的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干净的很。白天破好的苇眉子湿润润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正好编席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《荷花淀》孙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这段景物描写为我们展现了一个美丽、洁净又温馨的自然环境。有力地烘托了水生嫂的形象；美丽、勤快、利落、善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357120" y="1071720"/>
            <a:ext cx="864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驿路梨花》中对小茅屋的描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木门板上用黑炭写两个字：“请进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塘里的灰是冷的，显然好多天没人住过了。一张简陋的大竹床铺着厚厚的稻草。倚在墙边的大竹筒里装满了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墙上写着几行粗大的字：“屋后边有干柴，梁上竹筒里有米，有盐巴，有辣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都反映出主人的热情、好客、细心的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571680" y="1285920"/>
            <a:ext cx="7858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（五）推动情节的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景物描写还可以推动故事情节的发展。因为作者所写的物体、景色、天气等可能会对故事中的人物带来影响，从而使情节产生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729960" y="372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57120" y="1978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《林教头风雪山神庙》对风雪的描写，虽着墨不多，但确实给人以“风大雪紧”的印象；更重要的是，风雪的变化不断推动着情节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85840" y="123984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们奔着那不知道有几亩大小的荷花淀去，那一望无边际的密密层层的大荷叶，迎着阳光舒展开，就像铜墙铁壁一样。粉色荷花箭高高地挺出来，是监视白洋淀的哨兵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荷花淀》孙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景物描写推动着情节的发展，暗示了一场激烈的战斗，将在这清香四溢的环境中展开；对荷花的形象传神、充满寓意的描写，还在暗示着白洋淀妇女的成长，粉色的荷花都成了“监视白洋淀”的哨兵，昔日粉妆的女人们，也将成为保卫白洋淀的战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57948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936720" y="1111320"/>
            <a:ext cx="713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自然环境：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指自然界的景物，如季节变化、风霜雨雪、山川湖海、森林原野等，自然环境描写又称为景物描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85840" y="92880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此时正是五月半天气，虽是晴明得好，只是酷热难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日客店里辰牌时分慢慢地打火，吃了早饭行，正是六月初四日时节，天气未及晌午，一轮红日当天，没半点云彩，其日十分大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时杨志催促一行人在山中僻路里行，看看日色当午，那石头上热了，脚疼走不得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《智取生辰纲》施耐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634920" y="142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16318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几段景物描写了天气的炎热、道路的崎岖难行，表明了押送的过程异常艰辛。这些描写不仅可以烘托气氛，有助于刻画人物性格，同时能推动故事情节的开展，为下文写众军汉不听杨志劝告，执意去冈上休息并买酒埋下伏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32320" y="500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357120" y="561960"/>
            <a:ext cx="8358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（六）借景抒情，情景交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729960" y="7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57120" y="17542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岸的豆麦和河底的水草所发散出来的清香，夹杂在水气中扑面的吹来；月色便朦胧在这水气里。淡黑的起伏的连山，仿佛是踊跃的铁的兽脊似的，都远远的向船尾跑去了，但我却还以为船慢。他们换了四回手，渐望见依稀的赵庄，而且似乎听到歌吹了，还有几点火，料想便是戏台，但或者也许是渔火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社戏》鲁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57120" y="102564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桃树、杏树、梨树，你不让我，我不让你，都开满了花赶趟儿。红的像火，粉的像霞，白的像雪。花里带着甜味儿；闭了眼，树上仿佛已经满是桃儿、杏儿、梨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春》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579480" y="241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85840" y="3544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这段景物描写，生动形象地刻画出春天千树争春、百花竟放的情景，表现了作者对春花的喜爱之情，景中含情，寓情于景，情景交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9525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（七）揭示、深化文章主旨，升华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729960" y="7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析经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57120" y="1754280"/>
            <a:ext cx="84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了这么多年，藤萝又开花了，而且开得这样盛，这样密，紫色的瀑布遮住了粗壮的盘虬卧龙般的枝干，不断地流着，流着，流向人的心底。花和人都会遇到各种各样的不幸，但是生命的长河是无止境的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抚摸了一下那小小的紫色的花舱，那里满装生命的酒酿，它张满了帆，在这闪光的花的河流上航行。它是万花中的一朵，也正是一朵一朵花，组成了万花灿烂的流动的瀑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浅紫色的光辉和浅紫色的芳香中，我不觉加快了脚步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紫藤萝瀑布》宗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57120" y="145728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作者借描写紫藤萝花的生机勃勃，赞美生命的顽强美好，表现对生命的永恒的感悟。告诉人们，不能让昨天的不幸把自己压垮，每个人都应该像紫藤萝的花朵一样，以饱满的生命力，投身到生命的长河中去，在闪光的花的河流上航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579480" y="38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357120" y="14050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在朦胧中，眼前展开一片海边碧绿的沙地来，上面深蓝的天空中挂着一轮金黄的圆月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故乡》鲁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这段文字描写了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我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憧憬中的海边美丽景象。作者用鲜明的笔触描写故乡发生的巨大变化，引起人们对旧中国农村经济日益凋敝、农民生活日趋贫困的社会根源的深深思索，激发人们改造旧社会、创造新生活的强烈愿望，从而深刻地揭示了全文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3579480" y="38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57120" y="14050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给那些因为在近旁而极响的爆竹声惊醒，看见豆一般大的黄色的灯火光，接着又听得毕毕剥剥的鞭炮，是四叔家正在“祝福”了，知道已是五更将近时候，我在朦胧中，又隐约听到远处的爆竹声连绵不断，似乎合成一天音响的浓云，夹着团团飞舞的雪花，拥抱了全市镇…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祝福》鲁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579480" y="38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析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57120" y="1644480"/>
            <a:ext cx="8643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第一步：分析环境本身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第二步：分析环境描写与人物的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第三步：分析环境描写对情节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第四步：结合文章主题作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3573000" y="527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Calibri"/>
              </a:rPr>
              <a:t>答题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357120" y="164448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第一步：分析环境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环境描写：表现了……地域特点，提示了……时间、季节，渲染、营造了……氛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会环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现了环境怎样的特点，揭示了……社会现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547080" y="428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Calibri"/>
              </a:rPr>
              <a:t>答题思路细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85880" y="642960"/>
            <a:ext cx="770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社会环境：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狭义社会环境是指能反映社会、时代特征的建筑、场所、陈设等景物以及民俗民风等；广义社会环境是指一定的历史时期的时代背景、社会生活、社会风俗、思想观念以及人际关系。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社会环境描写必须具有鲜明的时代色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357120" y="1285920"/>
            <a:ext cx="864396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第二步：分析环境描写与人物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衬托人物……心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交代人物……身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表现人物……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暗示人物……命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表达人物……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547080" y="428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Calibri"/>
              </a:rPr>
              <a:t>答题思路细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7120" y="1500120"/>
            <a:ext cx="864396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第三步：分析环境描写对情节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动着故事情节的发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下文……内容埋伏笔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铺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第四步：结合文章主题作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出、深化了文章……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547080" y="428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Calibri"/>
              </a:rPr>
              <a:t>答题思路细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57120" y="107172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临近中午时，雷声已如万辆战车从天边滚动过来，不一会儿，暴风雨就歇斯底里地开始了，顿时，天昏地暗，仿佛世纪已到了末日。四下里，一片呼呼的风声和千万支芦苇被风折断的咔嚓声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《孤独之旅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曹文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57300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Calibri"/>
              </a:rPr>
              <a:t>实战演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285840" y="35002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景物描写，生动形象地刻画出暴风雨来临时来势凶猛的景象，表现了天气的恶劣，渲染了恐怖、紧张的气氛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环境本身特点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推动了故事情节的发展，为下文鸭子逃窜，杜小康在暴风雨中找鸭子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了铺垫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环境描写对情节的作用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恶劣的自然环境是促进杜小康思想转化的一个因素，突来的暴风雨，使杜小康意识到自己的责任，写出了杜小康从恐惧到坚强勇敢的成长过程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环境描写与人物的关系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357120" y="11844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时候既然是深秋；渐近故乡时，天气又阴晦了，冷风吹进船舱中，呜呜的响，从篷隙向外一望，苍黄的天底下，远近横着几个萧索的荒村，没有一些活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故乡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573000" y="169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Calibri"/>
              </a:rPr>
              <a:t>实战演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85840" y="33577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景物描写，生动形象地描写了故乡死气沉沉的景象，渲染了农村萧条、荒凉、沉寂的气氛。 “横”字富有表现力，突出了萧条的荒村的颓败、破落、毫无生气的特点，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环境本身特点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写出了旧中国农村的日益凋敝与黑暗的半封建半殖民地社会的概貌，交代了小说的社会背景，为全篇奠定了抑郁、深沉的感情基调。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揭示的社会现实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357120" y="142920"/>
            <a:ext cx="8358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向生命鞠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早就想带儿子爬一次山。这和锻炼身体无关，而是想让他尽早知道世界并不仅仅是由电视、高楼以及汽车这些人造的东西构成的。只是这一想法的实现已是儿子两岁半时的初冬季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初冬的山上满目萧瑟。刈剩的麦茬已经黄中带黑，本就稀拉的树木因枯叶的飘落更显孤单，黄土地少了绿色的润泽了无生气。因此，当儿子发现了一只蚂蚱并指给我看时，我也感到十分惊讶。我想，这恐怕是山上唯一还倔强活着的蚂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428760" y="9129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我蹑手蹑脚地靠近，它发现有人，蹦了一下，但显然已经很衰老，才蹦出去不到一米。我张开双手，迅疾扑过去将它罩住，然后将手指裂开一条缝，捏着它的翅膀将它活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我觉得就这样交给儿子，会被它挣脱，于是拔了一根干草，将细而光的草秆从它身体的末端捅进，再从它的嘴里捅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候我们抓蚂蚱，为防止其逃跑都是这样做的，有时一根草秆上要穿六七只蚂蚱。蚂蚱的嘴里滴出淡绿的液体，那是它的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214200" y="14940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将蚂蚱交给儿子；告诉他：这叫蚂蚱，专吃庄稼，是害虫。儿子似懂非懂地点头，握住草秆，将蚂蚱盯了半天，然后又继续低头用树枝专心致志地刨土。儿子还没有益虫、害虫的概念，在他眼里一切都很新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跑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跑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子忽然急切地叫起来。我扭头看见儿子只握着一根光秃秃的草秆，上面的蚂蚱已不翼而飞。我连忙跟儿子四处找。其实蚂蚱并未逃出多远，它只是在地上艰难地爬，间或无力地跳一下，因此我很轻易就发现了它，再一次将它生擒。我将蚂蚱重新穿回草秆，所不同的是，当儿子又开始兴致勃勃地刨土时，我没有离开，想看看这小玩意儿究竟用何种方法逃跑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428760" y="8334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儿子手里握着的草秆不经意间碰到了旁边的一丛枯草，蚂蚱迅速将一根草茎抱住。随着儿子手抬高，那穿着蚂蚱的草秆渐成弓形，可是蚂蚱死死地抱住草茎。难以想象这如此孱弱受着重创的蚂蚱竟还有这么大的力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儿子的手稍一松，它就开始艰难地顺着草茎往上爬。穿出它嘴的草秆在一点儿一点儿缩短，退出它身体的草秆已被它的血染得微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428760" y="57168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张大嘴巴，看得出了神。我的心被悲壮的蚂蚱强烈震撼。它所忍受的疼痛我们人类不可能忍受。它的壮举在人世间也不可能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相信，自己正在目睹一个奇迹，我想这是并非所有人都有幸目睹的生命的奇迹。等蚂蚱终于将草秆从身体里完全退出后，反而腿一松，从所抱的草茎上滚落到地上。它一定是筋疲力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428760" y="83340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儿子手握着草秆再没有动。原来他和我一样，在呆呆地盯着蚂蚱的一举一动，并为之震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慢慢站起来，随即向前微微弯腰。儿子以为我又要抓蚂蚱，连忙喊：别，别，别动它！我明白儿子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但是，儿子大概永远也不会明白我弯腰的意思。我几乎是在下意识地鞠躬，向一个生命、一个顽强的生命鞠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785880" y="1214280"/>
            <a:ext cx="770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自然环境描写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主要是突出季节特征，表现地域风光、渲染气氛、刻画人物形象等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社会环境描写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主要是交代人物的生存环境、社会关系、暗示人物命运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1143000"/>
            <a:ext cx="8680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第（</a:t>
            </a: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）段中的自然环境描写有什么作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冬的山上满目萧瑟。刈剩的麦茬已经黄中带黑，本就稀拉的树木因枯叶的飘落更显孤单，黄土地少了绿色的润泽了无生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567240" y="291960"/>
            <a:ext cx="19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【</a:t>
            </a: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原题再现</a:t>
            </a:r>
            <a:r>
              <a:rPr b="1" lang="en-US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571680" y="3643200"/>
            <a:ext cx="8143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宋体"/>
              </a:rPr>
              <a:t>         </a:t>
            </a:r>
            <a:r>
              <a:rPr b="1" lang="en-US" sz="4000" spc="-1" strike="noStrike">
                <a:solidFill>
                  <a:srgbClr val="d60093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参考答案</a:t>
            </a:r>
            <a:r>
              <a:rPr b="1" lang="en-US" sz="4000" spc="-1" strike="noStrike">
                <a:solidFill>
                  <a:srgbClr val="d60093"/>
                </a:solidFill>
                <a:latin typeface="宋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描写了萧瑟、冷清的初冬山景、交代蚂蚱生存的环境恶劣，突出蚂蚱生命的顽强。为后文写蚂蚱给我们的震撼做了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571680" y="208908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宋体"/>
              </a:rPr>
              <a:t>《祝福》鲁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宋体"/>
              </a:rPr>
              <a:t>《草房子》曹文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081240" y="7700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宋体"/>
              </a:rPr>
              <a:t>阅读书目推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2500200" y="221616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zh-CN" sz="9600" spc="-1" strike="noStrike">
                <a:solidFill>
                  <a:srgbClr val="0000cc"/>
                </a:solidFill>
                <a:latin typeface="宋体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85840" y="833400"/>
            <a:ext cx="88581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宋体"/>
              </a:rPr>
              <a:t>       </a:t>
            </a:r>
            <a:r>
              <a:rPr b="1" lang="zh-CN" sz="4800" spc="-1" strike="noStrike">
                <a:solidFill>
                  <a:srgbClr val="d60093"/>
                </a:solidFill>
                <a:latin typeface="宋体"/>
              </a:rPr>
              <a:t>分析环境描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联系文章主旨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联系人物个性、命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联系故事背景和感情基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47640" y="161604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考查题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准确找出描写环境的句子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就指定的环境描写说出具体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642960" y="1104840"/>
            <a:ext cx="82152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环境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突出季节特征，表现地域风光；②交代故事发生的时间、地点，暗示社会环境，如背景、习俗、思想观念以及人与人之间的关系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渲染气氛，奠定感情基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000240" y="14292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分析作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t0177b8477dd55da22a.jpg"/>
          <p:cNvPicPr/>
          <p:nvPr/>
        </p:nvPicPr>
        <p:blipFill>
          <a:blip r:embed="rId1"/>
          <a:stretch/>
        </p:blipFill>
        <p:spPr>
          <a:xfrm>
            <a:off x="4572000" y="4643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71680" y="1143000"/>
            <a:ext cx="82152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人物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烘托心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表现身份、地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暗示命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烘托人物形象，表现人物性格、心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00240" y="7128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分析作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n</cp:lastModifiedBy>
  <dcterms:modified xsi:type="dcterms:W3CDTF">2018-10-26T03:15:13Z</dcterms:modified>
  <cp:revision>313</cp:revision>
  <dc:subject/>
  <dc:title>幻灯片 1</dc:title>
</cp:coreProperties>
</file>