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9.gif" ContentType="image/gif"/>
  <Override PartName="/ppt/media/image12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13.gif" ContentType="image/gif"/>
  <Override PartName="/ppt/media/image5.gif" ContentType="image/gif"/>
  <Override PartName="/ppt/media/image10.gif" ContentType="image/gif"/>
  <Override PartName="/ppt/media/image3.gif" ContentType="image/gif"/>
  <Override PartName="/ppt/media/image6.png" ContentType="image/pn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570D-E88E-4CD0-B740-EAE42B50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A208-220E-4648-A024-9DF4F2DC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BB7A-3BE6-4837-A09F-9571E77B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C08A-2D95-4284-81B9-22372EAA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6051-4E19-4D8A-B169-9C9825CB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978A-2D6A-4516-A8F8-DFEF810B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3D46-C40D-4D9F-A773-8D3BC988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ED3C-32F4-4829-9289-34C58125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43C6-0B18-4DC1-84B6-B6842966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40608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F5CA-CDC7-4C05-AA2F-548D631A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BC5A-D23B-4E86-8DDF-1CD1520B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6CD1-D3D4-45C1-8A94-F2F1716B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70C6-5763-4473-B066-8FDBF02C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AA3F-734B-465C-BAE0-30FC3AAD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F524-E2E9-4F9B-96C6-9C2B5A05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A9C6-C920-4DD0-B9FB-4A9C6CE7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1822-AE63-4A11-A407-B77C0DFD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2796-2CA0-42CD-85D8-286900E2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3625-88E6-4154-8C28-2908AA3D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7AF4-2698-4540-B326-4099F1B7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0608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9C7F-960A-4F53-8977-A75463D5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8A8C-A5E4-491E-A12F-0C8895C6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585D-BBDC-4B92-9216-C060D1FF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D70D-6F7F-4837-89A4-8D5510B3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25" descr="2-2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7727-729C-4380-93F9-A27A533C5C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2049" descr="2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236D-4CDD-4E32-B2DB-0C688BFFFD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导入新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秋天傍晚时分，诗人遥望山野，看到一派秋意颇浓的山野景色，看到放牧和打猎的人各自随愿而归，不禁怀念起古代采薇而食的隐士。全诗于萧瑟恬静的景色描写中流露出孤独抑郁的心情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首诗写景抒情朴素自然，摆脱了初唐轻靡华艳的诗风，在当时的诗坛上别具一格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3075" descr="t0137350a222bd2bf0e"/>
          <p:cNvPicPr/>
          <p:nvPr/>
        </p:nvPicPr>
        <p:blipFill>
          <a:blip r:embed="rId1"/>
          <a:stretch/>
        </p:blipFill>
        <p:spPr>
          <a:xfrm>
            <a:off x="3276720" y="5373720"/>
            <a:ext cx="5867280" cy="1484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 首联“望”字意蕴丰富，请简析它的双重意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望”既写诗人眺望之意，又暗指诗人内心的期望， 希望觅得知音，得到理解、赏识和重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13316" descr="t01afeaa38d28b460ef"/>
          <p:cNvPicPr/>
          <p:nvPr/>
        </p:nvPicPr>
        <p:blipFill>
          <a:blip r:embed="rId1"/>
          <a:stretch/>
        </p:blipFill>
        <p:spPr>
          <a:xfrm flipH="1" rot="10800000">
            <a:off x="0" y="6858000"/>
            <a:ext cx="9144000" cy="1778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诗人在傍晚野望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描绘出了怎样的景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了什么手法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落日西沉，红霞映天，余晖铺洒在每一座山头上，天地被渲染得一派静穆和安详。放牧的人赶着小牛走在回家的小路上，打猎的人牵着马，马上驮着猎物也回去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描写手法：白描的手法写景物，自然朴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相顾无相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长歌怀采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达了诗人怎样的心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景与人）动静结合，活现一幅浓浓的秋暮晚归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树树皆秋色，山山唯落晖”描绘了一幅怎样的画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举目四望，树林和山峦一片秋色，在夕阳的余晖中越发显得萧瑟。整个画面萧瑟恬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15363" descr="t012bbb3ac2ee73033c"/>
          <p:cNvPicPr/>
          <p:nvPr/>
        </p:nvPicPr>
        <p:blipFill>
          <a:blip r:embed="rId1"/>
          <a:stretch/>
        </p:blipFill>
        <p:spPr>
          <a:xfrm>
            <a:off x="5364000" y="5634000"/>
            <a:ext cx="378000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相顾无相识，长歌怀采薇”表达了作者怎样的思想感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抒发了孤独抑郁的心情和避世退隐的愿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小结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王绩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野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品取境开阔，风格清新，属对工整，格律谐和，是唐初最早的五言律诗之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16387" descr="t01111c265b0c57e2ae"/>
          <p:cNvPicPr/>
          <p:nvPr/>
        </p:nvPicPr>
        <p:blipFill>
          <a:blip r:embed="rId1"/>
          <a:stretch/>
        </p:blipFill>
        <p:spPr>
          <a:xfrm>
            <a:off x="0" y="2924280"/>
            <a:ext cx="9144000" cy="792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主题思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126792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本诗描绘了萧瑟恬静的秋天黄昏景色，表现了诗人当时孤独、抑郁的心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18435" descr="t016001eae9154c14c9"/>
          <p:cNvPicPr/>
          <p:nvPr/>
        </p:nvPicPr>
        <p:blipFill>
          <a:blip r:embed="rId1"/>
          <a:stretch/>
        </p:blipFill>
        <p:spPr>
          <a:xfrm flipH="1" rot="10800000">
            <a:off x="0" y="6858000"/>
            <a:ext cx="9144000" cy="1000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4100" descr="t01d3669b250ba734d6"/>
          <p:cNvPicPr/>
          <p:nvPr/>
        </p:nvPicPr>
        <p:blipFill>
          <a:blip r:embed="rId1"/>
          <a:stretch/>
        </p:blipFill>
        <p:spPr>
          <a:xfrm>
            <a:off x="0" y="-103320"/>
            <a:ext cx="9144000" cy="69519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19600" y="474480"/>
            <a:ext cx="604512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野望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积累与王绩有关的文学常识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积累文言词语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体会诗歌的思想内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领会诗人惆怅、孤寂的情怀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背诵、默写诗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5123" descr="t012e3cc6bd4431dd84"/>
          <p:cNvPicPr/>
          <p:nvPr/>
        </p:nvPicPr>
        <p:blipFill>
          <a:blip r:embed="rId1"/>
          <a:stretch/>
        </p:blipFill>
        <p:spPr>
          <a:xfrm>
            <a:off x="0" y="6297480"/>
            <a:ext cx="9144000" cy="560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朗读诗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野 望                     王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东皋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薄暮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望，徙倚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欲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何依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树树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皆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秋色，山山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唯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落晖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牧人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驱犊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返，猎马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带禽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归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相顾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相识，长歌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怀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采薇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《野望》初中音频朗读（王绩）.mp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792000" cy="13669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7172" descr="t0177c2012190e46588"/>
          <p:cNvPicPr/>
          <p:nvPr/>
        </p:nvPicPr>
        <p:blipFill>
          <a:blip r:embed="rId2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534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王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9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44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字无功，号东皋子，绛州龙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今山西河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。隋末举孝廉，除秘书正字。不乐在朝，辞疾，复授扬州六合丞。时天下大乱，弃官还故乡。唐武德中，诏以前朝官待诏门下省。贞观初，以疾罢归河渚间，躬耕东皋，自号“东皋子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9219" descr="t0118f9ab21132852f7"/>
          <p:cNvPicPr/>
          <p:nvPr/>
        </p:nvPicPr>
        <p:blipFill>
          <a:blip r:embed="rId1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注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选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东皋子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卷中。王绩（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89—64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字无功，绛州龙门人（现在山西河津），唐代诗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东皋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gāo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人隐居的地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薄暮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傍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徙倚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xǐ    yǐ)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徘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8195" descr="4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⑤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依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归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落晖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落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犊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ú)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里指牛群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禽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鸟兽，这里指猎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采薇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薇，是一种植物。相传周武王灭商后，伯夷、叔齐不愿做周的臣子，在首阳山上采薇而食，最后饿死。古时“采薇”代指隐居生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10243" descr="A3_063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翻译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傍晚时分站在东皋纵目远眺，徘徊不定不知归依何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层层树林都染上秋天的色彩，重重山岭披覆着落日的余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牧人驱赶着牛群返回，猎人带着猎物回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看到这些人又并不认识，长声歌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“采薇”的诗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11267" descr="t0139b4128d5952a770"/>
          <p:cNvPicPr/>
          <p:nvPr/>
        </p:nvPicPr>
        <p:blipFill>
          <a:blip r:embed="rId1"/>
          <a:stretch/>
        </p:blipFill>
        <p:spPr>
          <a:xfrm>
            <a:off x="-252360" y="0"/>
            <a:ext cx="161928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析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首联：遥望山野，徘徊犹豫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颔联：对仗工整，萧瑟恬静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颈联：牧猎悠闲，随愿而归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尾联：巧用典故，孤独抑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12291" descr="t01557e0b2cfcc88a1d"/>
          <p:cNvPicPr/>
          <p:nvPr/>
        </p:nvPicPr>
        <p:blipFill>
          <a:blip r:embed="rId1"/>
          <a:stretch/>
        </p:blipFill>
        <p:spPr>
          <a:xfrm>
            <a:off x="0" y="6404040"/>
            <a:ext cx="9144000" cy="4539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1T12:04:06Z</dcterms:created>
  <dc:creator>未知用户</dc:creator>
  <dc:description/>
  <cp:keywords/>
  <dc:language>en-US</dc:language>
  <cp:lastModifiedBy>微软用户</cp:lastModifiedBy>
  <dcterms:modified xsi:type="dcterms:W3CDTF">2019-10-25T02:58:42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715</vt:lpwstr>
  </property>
</Properties>
</file>