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2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10.gif" ContentType="image/gif"/>
  <Override PartName="/ppt/media/image3.gif" ContentType="image/gif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329-6565-44BD-A5ED-6BF830476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65D-CD9B-48E3-8C67-11083C83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DFB-1FA3-476F-9BEE-88713F77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73A-57CD-4C36-87F4-5EE1FB5E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3FF4-9F8F-404C-AF62-16D8D3BD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D19-AB30-4C83-AE7A-6D522B2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EEB-340B-402C-9908-9BE3525A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A2F-DDCC-4024-B0EC-87E2EF58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3543-8B4E-45AD-8E90-329604B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40608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A15-20E3-4435-A5E0-007DE495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9C2A-78A8-43A0-B0D4-6A12B429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3A0-DC6A-46AA-A7A4-E283F04C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7758-9BA7-43A4-B4D9-5E32C7B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DD72-E853-4FCE-B517-07AF44C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A6C0-AB44-4208-B4DB-2D6C37B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D816-DCFC-49D9-AAB3-7A8ADB2E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44B1-CED6-47D9-B409-79E14AD4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D2F-55D1-4B1A-8289-1CBCB49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54B-C901-482B-BB2E-9D3DED44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5CB-FE41-49E6-BDDA-4DA0B50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0608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A71-2412-43BD-AAF4-39F1A23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0A0-DFE1-4DF6-ADA8-7D0EC44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335-F33B-42F1-9FB1-0403659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3CE-2442-43A7-ABDF-FE7B1F5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2-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A706-D564-483D-8623-9E0D60E056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2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D96-D053-4A03-8488-B3F9A47AFA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傍晚时分，诗人遥望山野，看到一派秋意颇浓的山野景色，看到放牧和打猎的人各自随愿而归，不禁怀念起古代采薇而食的隐士。全诗于萧瑟恬静的景色描写中流露出孤独抑郁的心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写景抒情朴素自然，摆脱了初唐轻靡华艳的诗风，在当时的诗坛上别具一格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075" descr="t0137350a222bd2bf0e"/>
          <p:cNvPicPr/>
          <p:nvPr/>
        </p:nvPicPr>
        <p:blipFill>
          <a:blip r:embed="rId1"/>
          <a:stretch/>
        </p:blipFill>
        <p:spPr>
          <a:xfrm>
            <a:off x="3276720" y="5373720"/>
            <a:ext cx="5867280" cy="1484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首联“望”字意蕴丰富，请简析它的双重意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”既写诗人眺望之意，又暗指诗人内心的期望， 希望觅得知音，得到理解、赏识和重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3316" descr="t01afeaa38d28b460ef"/>
          <p:cNvPicPr/>
          <p:nvPr/>
        </p:nvPicPr>
        <p:blipFill>
          <a:blip r:embed="rId1"/>
          <a:stretch/>
        </p:blipFill>
        <p:spPr>
          <a:xfrm flipH="1" rot="10800000">
            <a:off x="0" y="6858000"/>
            <a:ext cx="9144000" cy="177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人在傍晚野望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绘出了怎样的景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了什么手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西沉，红霞映天，余晖铺洒在每一座山头上，天地被渲染得一派静穆和安详。放牧的人赶着小牛走在回家的小路上，打猎的人牵着马，马上驮着猎物也回去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描写手法：白描的手法写景物，自然朴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无相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歌怀采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了诗人怎样的心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景与人）动静结合，活现一幅浓浓的秋暮晚归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树树皆秋色，山山唯落晖”描绘了一幅怎样的画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目四望，树林和山峦一片秋色，在夕阳的余晖中越发显得萧瑟。整个画面萧瑟恬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5363" descr="t012bbb3ac2ee73033c"/>
          <p:cNvPicPr/>
          <p:nvPr/>
        </p:nvPicPr>
        <p:blipFill>
          <a:blip r:embed="rId1"/>
          <a:stretch/>
        </p:blipFill>
        <p:spPr>
          <a:xfrm>
            <a:off x="5364000" y="5634000"/>
            <a:ext cx="3780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相顾无相识，长歌怀采薇”表达了作者怎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抒发了孤独抑郁的心情和避世退隐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结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品取境开阔，风格清新，属对工整，格律谐和，是唐初最早的五言律诗之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6387" descr="t01111c265b0c57e2ae"/>
          <p:cNvPicPr/>
          <p:nvPr/>
        </p:nvPicPr>
        <p:blipFill>
          <a:blip r:embed="rId1"/>
          <a:stretch/>
        </p:blipFill>
        <p:spPr>
          <a:xfrm>
            <a:off x="0" y="292428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26792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描绘了萧瑟恬静的秋天黄昏景色，表现了诗人当时孤独、抑郁的心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8435" descr="t016001eae9154c14c9"/>
          <p:cNvPicPr/>
          <p:nvPr/>
        </p:nvPicPr>
        <p:blipFill>
          <a:blip r:embed="rId1"/>
          <a:stretch/>
        </p:blipFill>
        <p:spPr>
          <a:xfrm flipH="1" rot="10800000"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100" descr="t01d3669b250ba734d6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51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19600" y="474480"/>
            <a:ext cx="604512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野望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与王绩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语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诗人惆怅、孤寂的情怀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5123" descr="t012e3cc6bd4431dd84"/>
          <p:cNvPicPr/>
          <p:nvPr/>
        </p:nvPicPr>
        <p:blipFill>
          <a:blip r:embed="rId1"/>
          <a:stretch/>
        </p:blipFill>
        <p:spPr>
          <a:xfrm>
            <a:off x="0" y="6297480"/>
            <a:ext cx="9144000" cy="560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野 望                     王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薄暮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，徙倚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欲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色，山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驱犊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返，猎马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顾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相识，长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采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《野望》初中音频朗读（王绩）.mp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92000" cy="1366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7172" descr="t0177c2012190e46588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3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王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4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字无功，号东皋子，绛州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山西河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。隋末举孝廉，除秘书正字。不乐在朝，辞疾，复授扬州六合丞。时天下大乱，弃官还故乡。唐武德中，诏以前朝官待诏门下省。贞观初，以疾罢归河渚间，躬耕东皋，自号“东皋子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9219" descr="t0118f9ab21132852f7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选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皋子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卷中。王绩（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89—64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无功，绛州龙门人（现在山西河津），唐代诗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东皋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ā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隐居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薄暮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徙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xǐ    yǐ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徘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195" descr="4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依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落晖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落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犊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ú)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里指牛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鸟兽，这里指猎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采薇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薇，是一种植物。相传周武王灭商后，伯夷、叔齐不愿做周的臣子，在首阳山上采薇而食，最后饿死。古时“采薇”代指隐居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243" descr="A3_063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傍晚时分站在东皋纵目远眺，徘徊不定不知归依何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层层树林都染上秋天的色彩，重重山岭披覆着落日的余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牧人驱赶着牛群返回，猎人带着猎物回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看到这些人又并不认识，长声歌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“采薇”的诗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1267" descr="t0139b4128d5952a770"/>
          <p:cNvPicPr/>
          <p:nvPr/>
        </p:nvPicPr>
        <p:blipFill>
          <a:blip r:embed="rId1"/>
          <a:stretch/>
        </p:blipFill>
        <p:spPr>
          <a:xfrm>
            <a:off x="-252360" y="0"/>
            <a:ext cx="16192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首联：遥望山野，徘徊犹豫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颔联：对仗工整，萧瑟恬静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颈联：牧猎悠闲，随愿而归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尾联：巧用典故，孤独抑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2291" descr="t01557e0b2cfcc88a1d"/>
          <p:cNvPicPr/>
          <p:nvPr/>
        </p:nvPicPr>
        <p:blipFill>
          <a:blip r:embed="rId1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1T12:04:06Z</dcterms:created>
  <dc:creator>未知用户</dc:creator>
  <dc:description/>
  <cp:keywords/>
  <dc:language>en-US</dc:language>
  <cp:lastModifiedBy>微软用户</cp:lastModifiedBy>
  <dcterms:modified xsi:type="dcterms:W3CDTF">2019-10-25T02:58:4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