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3.wmf" ContentType="image/x-wmf"/>
  <Override PartName="/ppt/media/type.wav" ContentType="audio/x-wav"/>
  <Override PartName="/ppt/media/image2.jpeg" ContentType="image/jpeg"/>
  <Override PartName="/ppt/media/image3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C74D-380C-435B-9EE4-DE1A409EA7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16F-5014-4CC0-932C-24579C24AA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D410-8B03-4152-87D8-129C343FDB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842F-C549-44E2-BF10-4A5E315EB7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CEE-47F9-4559-99FE-92B4A5F105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932-AF20-477A-9693-CA01ABA0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6BB-E4EC-4084-B5DA-8A70EF3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3FAC1-A6C0-4D98-936A-6282EAB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FFE5-4B39-49DB-8FA9-6D2EBAF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60553-9162-468C-AC50-BBFFC45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92A5B-BE20-4F5B-9315-9E7050F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05617-8B12-4B82-AFB1-894BD79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AAAB0-EA0C-4EAC-B6CE-2829C44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DF40-2B55-469B-A4C9-05E3FC8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53EDA-1759-432A-95C8-20A6AF70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541AE-78D9-452E-8239-4B6EC941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62F3B-4812-4FF2-92CE-D3F9FF74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152-CE25-466E-8B89-0C8A9D77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46186-881D-4829-848C-D813CB95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45D4-1817-4AEB-8C2B-483ACA5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270D4-9716-4D67-83F3-82E54E7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241C5-B3A9-443D-9049-0A37FD6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C306B-4183-4900-B5DB-5ACDF26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2D33D-BAED-4370-8B5F-55FAD16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026E7-91AA-434A-9F25-31A259D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A9303-9576-4972-9A55-EC478FB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359B2-7749-4D1E-8F7A-305F6583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7F95C-A318-402B-9B3F-1D53116E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888-722A-48BC-96A6-D7CBE3A5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44DFA-B07E-4E07-A3CB-334423CD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C0035-B9DA-4248-9D1E-E7E520C7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AF0B3-278A-4A97-9E1F-846E4C13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1649D-F981-43B9-B647-E6E0774C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B18E-63EE-4A59-8ABC-9773ED6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A6CBA-A762-47EA-9E51-8FB07149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15826-2C09-4552-972F-7DFD3209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59B6E-118F-442F-AEA2-8DEE73B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79C6D-714E-4051-AD1B-A3D6E45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8DA1A-3E5F-4E7D-9874-B37D492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8D27-7984-4E7D-9DA7-2CEFA47A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5CBD3-89DE-42B2-88DD-E71E2B5C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8021C-A13C-4392-B3E6-01CC8EB8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31822-B658-4B34-837E-1FA29AC6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7CB56-5877-4EFE-9E6A-FBB27620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0BD78-1805-4AD0-98D3-1CD9DFB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7CB8B-D79F-47C9-ADE5-1FD0A3A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7C7EA-C4BB-49BD-8679-6B6EA18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64F6B-45E5-435D-839F-ADAA3A89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6D1B7-0E0B-4F7F-9F9C-BB48C3A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85432-870E-4095-9068-FAB16D1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500F-6153-492D-9102-D314E46F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6A1B5-9B53-4CC0-B8B6-B7DD484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DD8C1-462A-46AE-8AA4-98D14A5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31DBB-E693-407F-8CE0-A2B7213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70C08-36D2-4DA2-8036-BDC8C9A5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718DE-3E02-4270-91A1-BDFF8107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F8413-97CB-4B2E-A53F-F89C51AB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F7AB2-4429-4E44-A49C-F97E9C1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20E34-07C8-4B2E-B775-B634B47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C1F4C-2B0B-4618-9CA8-AA2107AF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BDB21-41C8-4E59-AB02-1CD72B3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357B-0ED7-4467-B159-DC0E0CC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67BDD-E94B-44A9-8D9B-BA5DF0F7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A9858-FA33-4EF3-B3D6-3F807172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6B22C-B239-47C9-94F6-4790919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89CCB-0D99-45ED-94DD-2D30B87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F869E-D400-4B04-852C-A442C600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26D53-A7AA-4B37-BC09-0B356B2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D5C3D-0077-48D3-A7DA-DD7E1499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B2E3-86D7-4154-A9E4-69983582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28B-92E5-4E6F-9538-DE7F5F8F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FEA-1F23-41F9-9459-41E960B9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86F7-B2E5-4C9C-9F25-18A18D4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E95-1A57-4720-8471-4F28BE2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3118-F9E2-4B66-9D61-010EEC1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9DC8-0AB0-4C97-B761-BE31BC80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7AFE-3655-444A-A718-12F5162D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1938-673E-42A6-8C23-81BE8B5D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2459-4905-4F88-AE56-16A169F1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CA19-F0AA-470C-BB5A-84D09571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EBDE-8EA4-4522-9EC1-AEBA5AC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4B89-3694-45BF-B6D5-862E978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2159-3881-437C-879F-A5C33F8D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19F9-25B9-4FB7-A3E9-CC376C58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702-9391-4D6A-B68B-33334A4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3163-E635-4824-A3C3-9EAC6C8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6005-6317-4585-9E72-555616C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A93E-3127-4E75-ADC6-CE9333A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E5F1-DD4B-4543-965F-D64E0FC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3257-DB29-4960-AA59-7F4AEBEC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6E04-291E-41B5-8A22-888054DE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4BAA-D757-4CC6-B47D-88FAF113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C076-269F-400D-8C0D-DEE3DC6E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A4D7-6557-40CD-BF79-C60BFAF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A073-5AD6-4C10-94F9-DB08EA1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A24-DDAE-4497-85CE-94F64E9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AB368-E09A-4B27-8889-28CFCE9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E826-9C00-44F9-BC05-91C7E76E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A95E-BAC7-45A4-B4D7-67ACCA79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91FB-F6A5-4D70-A07F-7BEF4E2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5F29C-4B46-489E-8DEE-B7497D0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F40B-892E-442E-89F5-62F6E68B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3110-2E06-4CC8-B9FD-FF8924C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8542-8D8F-4B56-BA2A-4391A49D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EE84-E4AA-48EF-845A-E3A39EF5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92D6-8A3A-4A5E-BEFC-CC1BB9FE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C41-5A08-4B85-8C7D-B0684F7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B297-D35E-41AC-825C-764786E8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1FFD-AEC1-47B7-914D-DC81DB9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F6AC-2FA9-47DF-9D5E-CB8A07F9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BC12-0877-45F6-BB7B-82A0D144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F770-EC00-417A-854B-2E29E8C9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3A0F-3CBE-42C6-990F-F714415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362D-F9AD-4BF4-BB75-4655F08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924D-6359-4729-8F9B-ABA5DE5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2D400-41FC-4E60-955D-E53A7CB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421F-A458-4FBA-AAB7-835B8657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FF4-D260-4489-9BC5-FEBCD13B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91B0-4DC8-4F92-AB87-2538928B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05BE-43D7-414F-BFA5-32004072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3618-EDAB-4B84-9FF3-C1A99CF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1FAE-0B92-479D-8191-D2F32C9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98FA-55D4-4A1B-9C2C-F1CAAF5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B83E-10B9-4F02-83AF-CBCFF841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0805-6857-4882-8EB9-1D03BC51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78BD6-EFDC-4456-9638-A681D7B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3F6B7-5573-4E31-87B0-7067BFC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D248-3A8F-4DA2-8FA4-3C1424C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16A-5C92-404D-80EA-F611E75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F4C8-CCB4-49C3-89D1-1A1D2164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F47B-5AAB-4AF3-80CC-7E604F45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26A3-5978-4DC8-81A6-D6C00175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A5B1-DD8E-4ABB-9631-B3C85322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D672-0E8D-45B3-97EB-7E6812A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9172-2C95-4BF0-89B0-EA2E36C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D0FF-17F6-44E5-8DE1-730D38E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AA660-144E-4141-8919-B0F141F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AFCA6-0F69-40E1-A828-5989CE4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868AF-DBF9-4BA8-A2D7-507163B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1B4-7368-4F06-AE7C-161F92A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650A-B9CA-4B57-9187-8AD3E5C8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E27F-0BB6-40E5-9121-69BA3595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4CA2B-69EA-4AC0-9589-8DA9663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7249B-D03D-4F80-8F38-62220786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AD5E-B657-46A2-996D-77714E82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7E50-08D0-4CAD-99DC-5A47BDEA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F2ED-541F-4298-9A88-8DDAAB14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DB192-5CBF-49E9-A84A-03C5A8D8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1609B-96B2-423A-A57C-FBD45D96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75E4C-6A2A-4013-AF60-A0F9AE6C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A0E-5C78-4686-B112-08550D3D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97CE-C50D-4132-81BF-69D4D1B0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A632C-064F-4ECA-8A51-DCDFA17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2A78-D6F1-40F1-8ED8-31913AB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76BB9-3E0C-46B4-88F2-7515242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1C02-11A2-4D1D-AD87-2F3E9EC1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734B-96E9-44AA-8AF2-10F8BD4F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EBF6B-99FF-4C63-82C5-C53CE682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068EA-0650-46EA-B34E-BBC0D72F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73BE2-AE4C-4640-95A2-5ED885C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206DB-EE07-4818-9D5F-0800964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8717-20AC-44AC-9A93-66D434A4A8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72CB-A94E-4B99-8144-C4EFD84EA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D24-E78A-47B9-8017-105CE76C3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DA7C-B4B1-4B93-B7A2-2E14915A3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CFE-B1C4-4177-B643-940BCFA4E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EA3-5E13-4346-840B-BECECB4923A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B9F-AD7D-4D85-8722-3DF7E67E1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8696-C50E-4384-BB41-209397D80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83B-D555-454C-9C38-2BC7E643EA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EDF-CD92-4F92-B273-CFD2F3886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EFD1-7B4D-40A1-A3A8-3EA7C684FD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6E6A-99FA-4491-AF6B-FEF149EBF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795-7337-4E29-96F1-667EC4A7D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" Target="slide3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2312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2"/>
          <p:cNvSpPr/>
          <p:nvPr/>
        </p:nvSpPr>
        <p:spPr>
          <a:xfrm>
            <a:off x="2050920" y="2133720"/>
            <a:ext cx="48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孟子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三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"/>
          <p:cNvSpPr/>
          <p:nvPr/>
        </p:nvSpPr>
        <p:spPr>
          <a:xfrm>
            <a:off x="468360" y="692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以说：使百姓定居下来，不能依靠疆域的界限，巩固国防不能靠山河的险要，威慑天下不能靠武器装备的强大。施行仁政的人，帮助支持他的人就多，不施行仁政的人，帮助支持他的人就少。帮助他的人少到了极点，兄弟骨肉都会背叛他。帮助他的人多到了极点，天下人都归顺他。凭借天下人都归顺他的条件，攻打兄弟骨肉都背叛他的人，所以施行仁政的人要么不作战，作战就一定胜利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611280" y="1341360"/>
            <a:ext cx="8208720" cy="523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本文的中心论点是什么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中心论点提出来后作者是怎样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进行论证的？使用什么论证方法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中心论点既然已得到了论证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为什么还要写后面的内容？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395080" y="4762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imes New Roman"/>
              </a:rPr>
              <a:t>读课文，思考讨论下列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457200" y="13716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论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609480" y="2514600"/>
            <a:ext cx="72756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 action="ppaction://hlinksldjump"/>
              </a:rPr>
              <a:t>天时不如地利，地利不如人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得道者多助，失道者寡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WordArt 5"/>
          <p:cNvSpPr txBox="1"/>
          <p:nvPr/>
        </p:nvSpPr>
        <p:spPr>
          <a:xfrm>
            <a:off x="7086600" y="3276720"/>
            <a:ext cx="1019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611280" y="249228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天时不如地利，地利不如人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BD06455_"/>
          <p:cNvPicPr/>
          <p:nvPr/>
        </p:nvPicPr>
        <p:blipFill>
          <a:blip r:embed="rId1"/>
          <a:stretch/>
        </p:blipFill>
        <p:spPr>
          <a:xfrm>
            <a:off x="2514600" y="2438280"/>
            <a:ext cx="1020600" cy="10130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380880" y="1143000"/>
            <a:ext cx="1067040" cy="5814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1371600" y="2590920"/>
            <a:ext cx="990720" cy="990360"/>
          </a:xfrm>
          <a:custGeom>
            <a:avLst/>
            <a:gdLst>
              <a:gd name="textAreaLeft" fmla="*/ 132480 w 990720"/>
              <a:gd name="textAreaRight" fmla="*/ 858240 w 9907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3581280" y="2666880"/>
            <a:ext cx="838440" cy="990720"/>
          </a:xfrm>
          <a:custGeom>
            <a:avLst/>
            <a:gdLst>
              <a:gd name="textAreaLeft" fmla="*/ 112320 w 838440"/>
              <a:gd name="textAreaRight" fmla="*/ 726120 w 8384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1460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539640" y="2708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4956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2666880" y="3276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5105520" y="1219320"/>
            <a:ext cx="1143000" cy="5814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地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838080" y="1828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2"/>
          <p:cNvSpPr/>
          <p:nvPr/>
        </p:nvSpPr>
        <p:spPr>
          <a:xfrm flipH="1">
            <a:off x="990360" y="3733920"/>
            <a:ext cx="1600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1828800" y="160020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590920" y="914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不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WordArt 15"/>
          <p:cNvSpPr txBox="1"/>
          <p:nvPr/>
        </p:nvSpPr>
        <p:spPr>
          <a:xfrm>
            <a:off x="609480" y="4267080"/>
            <a:ext cx="9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11" name="WordArt 16"/>
          <p:cNvSpPr txBox="1"/>
          <p:nvPr/>
        </p:nvSpPr>
        <p:spPr>
          <a:xfrm>
            <a:off x="5410080" y="4343400"/>
            <a:ext cx="5619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64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胜</a:t>
            </a:r>
            <a:endParaRPr b="1" i="1" lang="en-US" sz="4400" spc="1" strike="noStrike">
              <a:ln w="64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2" name="Line 17"/>
          <p:cNvSpPr/>
          <p:nvPr/>
        </p:nvSpPr>
        <p:spPr>
          <a:xfrm flipV="1">
            <a:off x="5791320" y="213336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8"/>
          <p:cNvSpPr/>
          <p:nvPr/>
        </p:nvSpPr>
        <p:spPr>
          <a:xfrm>
            <a:off x="3124080" y="4724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685800" y="5105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举例证明论点一：天时不如地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4572000" y="4419720"/>
            <a:ext cx="838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守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2895480" y="4572000"/>
            <a:ext cx="533520" cy="2286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152388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4"/>
          <p:cNvSpPr/>
          <p:nvPr/>
        </p:nvSpPr>
        <p:spPr>
          <a:xfrm flipH="1">
            <a:off x="3352320" y="4648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-90360" y="409680"/>
            <a:ext cx="127764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守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j0332025"/>
          <p:cNvPicPr/>
          <p:nvPr/>
        </p:nvPicPr>
        <p:blipFill>
          <a:blip r:embed="rId1"/>
          <a:stretch/>
        </p:blipFill>
        <p:spPr>
          <a:xfrm>
            <a:off x="3733920" y="762120"/>
            <a:ext cx="1557360" cy="18079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"/>
          <p:cNvSpPr/>
          <p:nvPr/>
        </p:nvSpPr>
        <p:spPr>
          <a:xfrm>
            <a:off x="3200400" y="15238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城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1148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池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5410080" y="99072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兵革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4038480" y="380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粮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21932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守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2057400" y="3352680"/>
            <a:ext cx="4572000" cy="152640"/>
          </a:xfrm>
          <a:prstGeom prst="cube">
            <a:avLst>
              <a:gd name="adj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1066680" y="3886200"/>
            <a:ext cx="1143000" cy="52056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地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7467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攻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2057400" y="3352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9810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32400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委而去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2819520" y="6095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WordArt 17"/>
          <p:cNvSpPr txBox="1"/>
          <p:nvPr/>
        </p:nvSpPr>
        <p:spPr>
          <a:xfrm>
            <a:off x="2362320" y="4876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5" name="Line 18"/>
          <p:cNvSpPr/>
          <p:nvPr/>
        </p:nvSpPr>
        <p:spPr>
          <a:xfrm flipH="1">
            <a:off x="7956360" y="2133720"/>
            <a:ext cx="4428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WordArt 19"/>
          <p:cNvSpPr txBox="1"/>
          <p:nvPr/>
        </p:nvSpPr>
        <p:spPr>
          <a:xfrm rot="21010200">
            <a:off x="7711560" y="4405320"/>
            <a:ext cx="863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胜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5867280" y="4797360"/>
            <a:ext cx="990720" cy="52056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1"/>
          <p:cNvSpPr/>
          <p:nvPr/>
        </p:nvSpPr>
        <p:spPr>
          <a:xfrm flipH="1">
            <a:off x="6948000" y="50133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2"/>
          <p:cNvSpPr/>
          <p:nvPr/>
        </p:nvSpPr>
        <p:spPr>
          <a:xfrm>
            <a:off x="2268360" y="4149720"/>
            <a:ext cx="365760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3"/>
          <p:cNvSpPr/>
          <p:nvPr/>
        </p:nvSpPr>
        <p:spPr>
          <a:xfrm rot="780000">
            <a:off x="3428640" y="388584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不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1187280" y="5661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举例证明论点二：地利不如人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22860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28"/>
          <p:cNvCxnSpPr/>
          <p:nvPr/>
        </p:nvCxnSpPr>
        <p:spPr>
          <a:xfrm flipV="1">
            <a:off x="5105160" y="2514240"/>
            <a:ext cx="533880" cy="457920"/>
          </a:xfrm>
          <a:prstGeom prst="bentConnector3">
            <a:avLst>
              <a:gd name="adj1" fmla="val 9993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21" idx="2"/>
          </p:cNvCxnSpPr>
          <p:nvPr/>
        </p:nvCxnSpPr>
        <p:spPr>
          <a:xfrm flipH="1" rot="16200000">
            <a:off x="3577680" y="2358360"/>
            <a:ext cx="501840" cy="7246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endCxn id="621" idx="0"/>
          </p:cNvCxnSpPr>
          <p:nvPr/>
        </p:nvCxnSpPr>
        <p:spPr>
          <a:xfrm rot="5400000">
            <a:off x="3294720" y="780840"/>
            <a:ext cx="915120" cy="572040"/>
          </a:xfrm>
          <a:prstGeom prst="bentConnector3">
            <a:avLst>
              <a:gd name="adj1" fmla="val -173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AutoShape 31"/>
          <p:cNvCxnSpPr>
            <a:stCxn id="623" idx="0"/>
          </p:cNvCxnSpPr>
          <p:nvPr/>
        </p:nvCxnSpPr>
        <p:spPr>
          <a:xfrm flipV="1" rot="16200000">
            <a:off x="5180760" y="532800"/>
            <a:ext cx="381960" cy="53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1042920" y="549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论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时不如地利，地利不如人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971640" y="1557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论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2124000" y="141300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2124000" y="1268280"/>
            <a:ext cx="45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时不如地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2124000" y="1844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利不如人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1187280" y="3284640"/>
            <a:ext cx="16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1"/>
          <p:cNvSpPr/>
          <p:nvPr/>
        </p:nvSpPr>
        <p:spPr>
          <a:xfrm>
            <a:off x="2124000" y="2997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2195640" y="278136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域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2268360" y="342900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固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2268360" y="4005360"/>
            <a:ext cx="16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威天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5"/>
          <p:cNvSpPr/>
          <p:nvPr/>
        </p:nvSpPr>
        <p:spPr>
          <a:xfrm>
            <a:off x="5796000" y="1484280"/>
            <a:ext cx="43164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6"/>
          <p:cNvSpPr/>
          <p:nvPr/>
        </p:nvSpPr>
        <p:spPr>
          <a:xfrm flipV="1">
            <a:off x="5867280" y="1699920"/>
            <a:ext cx="360360" cy="398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7"/>
          <p:cNvSpPr/>
          <p:nvPr/>
        </p:nvSpPr>
        <p:spPr>
          <a:xfrm>
            <a:off x="6227640" y="119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战争中需要“人和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8"/>
          <p:cNvSpPr/>
          <p:nvPr/>
        </p:nvSpPr>
        <p:spPr>
          <a:xfrm>
            <a:off x="3276720" y="3068640"/>
            <a:ext cx="16556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0"/>
          <p:cNvSpPr/>
          <p:nvPr/>
        </p:nvSpPr>
        <p:spPr>
          <a:xfrm flipV="1">
            <a:off x="3203640" y="3429000"/>
            <a:ext cx="172872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1"/>
          <p:cNvSpPr/>
          <p:nvPr/>
        </p:nvSpPr>
        <p:spPr>
          <a:xfrm flipV="1">
            <a:off x="3564000" y="3429000"/>
            <a:ext cx="136836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5003640" y="3068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治国需要“人和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87280" y="49417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4"/>
          <p:cNvSpPr/>
          <p:nvPr/>
        </p:nvSpPr>
        <p:spPr>
          <a:xfrm>
            <a:off x="2268360" y="479736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道者多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顺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2268360" y="530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失道者寡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畔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195640" y="501336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2"/>
          <p:cNvSpPr/>
          <p:nvPr/>
        </p:nvSpPr>
        <p:spPr>
          <a:xfrm>
            <a:off x="4356000" y="155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论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37"/>
          <p:cNvSpPr/>
          <p:nvPr/>
        </p:nvSpPr>
        <p:spPr>
          <a:xfrm flipH="1">
            <a:off x="4427280" y="1557360"/>
            <a:ext cx="64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39"/>
          <p:cNvSpPr/>
          <p:nvPr/>
        </p:nvSpPr>
        <p:spPr>
          <a:xfrm flipH="1">
            <a:off x="4355640" y="21337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40"/>
          <p:cNvSpPr/>
          <p:nvPr/>
        </p:nvSpPr>
        <p:spPr>
          <a:xfrm flipH="1">
            <a:off x="3779640" y="3716280"/>
            <a:ext cx="2376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1"/>
          <p:cNvSpPr/>
          <p:nvPr/>
        </p:nvSpPr>
        <p:spPr>
          <a:xfrm>
            <a:off x="6012000" y="508464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施行“仁政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2"/>
          <p:cNvSpPr/>
          <p:nvPr/>
        </p:nvSpPr>
        <p:spPr>
          <a:xfrm>
            <a:off x="1692360" y="6021360"/>
            <a:ext cx="3095640" cy="58140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（对比论证</a:t>
            </a:r>
            <a:r>
              <a:rPr b="1" lang="zh-CN" sz="3200" spc="-1" strike="noStrike">
                <a:solidFill>
                  <a:srgbClr val="ff9966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43"/>
          <p:cNvSpPr/>
          <p:nvPr/>
        </p:nvSpPr>
        <p:spPr>
          <a:xfrm>
            <a:off x="3203640" y="5734080"/>
            <a:ext cx="0" cy="393840"/>
          </a:xfrm>
          <a:prstGeom prst="line">
            <a:avLst/>
          </a:prstGeom>
          <a:ln w="381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4"/>
          <p:cNvSpPr/>
          <p:nvPr/>
        </p:nvSpPr>
        <p:spPr>
          <a:xfrm>
            <a:off x="2411280" y="5300640"/>
            <a:ext cx="352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4572000" y="2276640"/>
            <a:ext cx="2448000" cy="52056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（举例论证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611280" y="907920"/>
            <a:ext cx="35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摆出观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468360" y="2924280"/>
            <a:ext cx="35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论证观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539640" y="4653000"/>
            <a:ext cx="35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得出结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6675840" y="434880"/>
            <a:ext cx="16437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结构图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2771640" y="6922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时不如地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利不如人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2700360" y="2708280"/>
            <a:ext cx="510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时不如地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2700360" y="3573360"/>
            <a:ext cx="510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利不如人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"/>
          <p:cNvSpPr/>
          <p:nvPr/>
        </p:nvSpPr>
        <p:spPr>
          <a:xfrm>
            <a:off x="2771640" y="465300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得道多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失道寡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6417720" y="1557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战争事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6417720" y="4365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治国道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2"/>
          <p:cNvSpPr/>
          <p:nvPr/>
        </p:nvSpPr>
        <p:spPr>
          <a:xfrm>
            <a:off x="7164360" y="2565360"/>
            <a:ext cx="647640" cy="2016000"/>
          </a:xfrm>
          <a:prstGeom prst="downArrow">
            <a:avLst>
              <a:gd name="adj1" fmla="val 50000"/>
              <a:gd name="adj2" fmla="val 77821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WordArt 13"/>
          <p:cNvSpPr txBox="1"/>
          <p:nvPr/>
        </p:nvSpPr>
        <p:spPr>
          <a:xfrm>
            <a:off x="6227640" y="2852640"/>
            <a:ext cx="237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类　推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627280" y="2924280"/>
            <a:ext cx="216000" cy="122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WordArt 15"/>
          <p:cNvSpPr txBox="1"/>
          <p:nvPr/>
        </p:nvSpPr>
        <p:spPr>
          <a:xfrm>
            <a:off x="971640" y="1628640"/>
            <a:ext cx="100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1" name="WordArt 16"/>
          <p:cNvSpPr txBox="1"/>
          <p:nvPr/>
        </p:nvSpPr>
        <p:spPr>
          <a:xfrm>
            <a:off x="826920" y="530064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2" name="WordArt 17"/>
          <p:cNvSpPr txBox="1"/>
          <p:nvPr/>
        </p:nvSpPr>
        <p:spPr>
          <a:xfrm>
            <a:off x="826920" y="3500280"/>
            <a:ext cx="129240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68360" y="558720"/>
            <a:ext cx="82296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字词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古今异义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郭　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外城 七里之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姓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池　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护城河 池非不深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池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　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离开 委而去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亲戚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内亲外戚 亲戚畔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跟自己家庭有婚姻关系的家庭或它的成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委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放弃 委而去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今义：委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域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界限，限制 域民不以封疆之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今义：地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 是天时不如地利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今义：判断动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91440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通假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畔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背叛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亲戚畔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虚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代词 他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亲戚畔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助词 的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三里之城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动词 到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寡助之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并列 并且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泉香而酒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修饰 着、地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夫环而攻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转折 却、但是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攻之而不胜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539640" y="476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132000" y="1095480"/>
            <a:ext cx="54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孟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约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72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，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子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战国中期邹国（今山东邹县东南人），离孔子的故乡曲阜不远。是著名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思想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政治家、教育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孔子学说的继承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儒家的重要代表人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孟子继承和发展了孔子的德治思想，发展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仁政学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成为其政治思想的核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孟子把伦理和政治紧密结合起来，强调道德修养是搞好政治的根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4" descr="01300000202701123211953307381[1]"/>
          <p:cNvPicPr/>
          <p:nvPr/>
        </p:nvPicPr>
        <p:blipFill>
          <a:blip r:embed="rId1"/>
          <a:stretch/>
        </p:blipFill>
        <p:spPr>
          <a:xfrm>
            <a:off x="324000" y="1170000"/>
            <a:ext cx="2808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250560" y="227664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Times New Roman"/>
              </a:rPr>
              <a:t>富贵不能淫 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16000" y="5331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、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景春曰：“公孙衍、张仪岂不诚大丈夫哉？一怒而诸侯惧，安居而天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Box 3"/>
          <p:cNvSpPr/>
          <p:nvPr/>
        </p:nvSpPr>
        <p:spPr>
          <a:xfrm>
            <a:off x="900000" y="4221000"/>
            <a:ext cx="7920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景春说：“公孙衍和张仪难道不是真正的大丈夫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起怒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诸侯们都会害怕；安静下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下就会平安无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”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椭圆形标注 4"/>
          <p:cNvSpPr/>
          <p:nvPr/>
        </p:nvSpPr>
        <p:spPr>
          <a:xfrm>
            <a:off x="3564000" y="1773360"/>
            <a:ext cx="1922400" cy="612720"/>
          </a:xfrm>
          <a:prstGeom prst="wedgeEllipseCallout">
            <a:avLst>
              <a:gd name="adj1" fmla="val -69162"/>
              <a:gd name="adj2" fmla="val 2767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争平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71480" y="169992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孟子说：“这个怎么能够叫大丈夫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没有学过礼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男子举行加冠礼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父亲给予训导；女子出嫁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母亲给予训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送她到门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告诫她说：‘到了你丈夫家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定要恭敬．一定要谨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违背你的丈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顺从为原则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妾妇之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0920" y="2458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24000" y="2361960"/>
            <a:ext cx="882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下之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立天下之 正位，行天下之 大道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志，与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，不得志，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富贵不能淫，贫贱不能移，威武不能屈，此之谓 大丈夫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椭圆形标注 3"/>
          <p:cNvSpPr/>
          <p:nvPr/>
        </p:nvSpPr>
        <p:spPr>
          <a:xfrm>
            <a:off x="1403280" y="1628640"/>
            <a:ext cx="1058760" cy="613080"/>
          </a:xfrm>
          <a:prstGeom prst="wedgeEllipseCallout">
            <a:avLst>
              <a:gd name="adj1" fmla="val -66939"/>
              <a:gd name="adj2" fmla="val 9138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椭圆形标注 4"/>
          <p:cNvSpPr/>
          <p:nvPr/>
        </p:nvSpPr>
        <p:spPr>
          <a:xfrm>
            <a:off x="2843280" y="1484280"/>
            <a:ext cx="1347840" cy="612720"/>
          </a:xfrm>
          <a:prstGeom prst="wedgeEllipseCallout">
            <a:avLst>
              <a:gd name="adj1" fmla="val 9476"/>
              <a:gd name="adj2" fmla="val 11546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椭圆形标注 5"/>
          <p:cNvSpPr/>
          <p:nvPr/>
        </p:nvSpPr>
        <p:spPr>
          <a:xfrm>
            <a:off x="4572000" y="1413000"/>
            <a:ext cx="1871640" cy="612720"/>
          </a:xfrm>
          <a:prstGeom prst="wedgeEllipseCallout">
            <a:avLst>
              <a:gd name="adj1" fmla="val -60703"/>
              <a:gd name="adj2" fmla="val 22860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椭圆形标注 6"/>
          <p:cNvSpPr/>
          <p:nvPr/>
        </p:nvSpPr>
        <p:spPr>
          <a:xfrm>
            <a:off x="1547640" y="5589720"/>
            <a:ext cx="1872000" cy="863640"/>
          </a:xfrm>
          <a:prstGeom prst="wedgeEllipseCallout">
            <a:avLst>
              <a:gd name="adj1" fmla="val 4481"/>
              <a:gd name="adj2" fmla="val -22048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固守坚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椭圆形标注 7"/>
          <p:cNvSpPr/>
          <p:nvPr/>
        </p:nvSpPr>
        <p:spPr>
          <a:xfrm>
            <a:off x="7164360" y="1268280"/>
            <a:ext cx="1346400" cy="1117800"/>
          </a:xfrm>
          <a:prstGeom prst="wedgeEllipseCallout">
            <a:avLst>
              <a:gd name="adj1" fmla="val -72388"/>
              <a:gd name="adj2" fmla="val 1229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椭圆形标注 8"/>
          <p:cNvSpPr/>
          <p:nvPr/>
        </p:nvSpPr>
        <p:spPr>
          <a:xfrm>
            <a:off x="4572000" y="5516640"/>
            <a:ext cx="1994040" cy="612720"/>
          </a:xfrm>
          <a:prstGeom prst="wedgeEllipseCallout">
            <a:avLst>
              <a:gd name="adj1" fmla="val -97939"/>
              <a:gd name="adj2" fmla="val -28656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则，行为准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68360" y="2060280"/>
            <a:ext cx="842472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至于大丈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应该住在天下最宽广的住宅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站在天下最正确的位置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着天下最光明的大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志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便与老百姓一同前进；不得志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便独自坚持自己的原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富贵不能使我骄奢淫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贫贱不能使我改移节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威武不能使我屈服意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样才叫做大丈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71120" y="1218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、孟子对大丈夫的阐述精髓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611280" y="4941720"/>
            <a:ext cx="7848360" cy="792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威武不能屈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 —</a:t>
            </a: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威力相逼不能使我卑躬屈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6"/>
          <p:cNvSpPr/>
          <p:nvPr/>
        </p:nvSpPr>
        <p:spPr>
          <a:xfrm>
            <a:off x="611280" y="3789360"/>
            <a:ext cx="7704000" cy="7920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贫贱不能移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 —</a:t>
            </a: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家贫位卑不能改变我志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7"/>
          <p:cNvSpPr/>
          <p:nvPr/>
        </p:nvSpPr>
        <p:spPr>
          <a:xfrm>
            <a:off x="611280" y="2573280"/>
            <a:ext cx="7345440" cy="792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楷体"/>
              </a:rPr>
              <a:t>富贵不能淫</a:t>
            </a: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楷体"/>
              </a:rPr>
              <a:t>高官厚禄不能乱我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1258920" y="191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文本框 1"/>
          <p:cNvSpPr/>
          <p:nvPr/>
        </p:nvSpPr>
        <p:spPr>
          <a:xfrm>
            <a:off x="1825200" y="306360"/>
            <a:ext cx="30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二、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“是焉得为大丈夫乎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和“此之谓大丈夫”句中的“是”和“此”各代指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85800" y="263664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”指代“一怒而诸侯惧，安居而天下熄”。“此”指代“富贵不能淫，贫贱不能移，威武不能屈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0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对比分析孟子的“妾妇之道”和“大丈夫之道”的不同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980720"/>
            <a:ext cx="8062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妾妇之道”表现为顺从，本质是在权利面前无原则，如张仪之流，只是顺从秦王的意思； “大丈夫之道”表现为“富贵不能淫，贫贱不能移，威武不能屈”，其本质是对内心的仁、义、礼的坚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结合孟子“穷则独善其身，达则兼济天下。”谈谈对大丈夫的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心怀仁德，践行礼义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达时，施仁政，困窘时，独善其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因外界因素（富贵、贫贱、强权）改变自己的追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2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思考：每个人的心目中都有自己大丈夫的标准，肯定珍藏着许多大丈夫的名字，谈谈你所了解的大丈夫形象？请举例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71640" y="2906640"/>
            <a:ext cx="69213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富贵不能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羽、文天祥、方志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贫贱不能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陶渊明、杜甫、朱自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威武不能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颜真卿、闻一多、刘胡兰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4" descr="201009140839484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72360" y="59500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5"/>
          <p:cNvSpPr/>
          <p:nvPr/>
        </p:nvSpPr>
        <p:spPr>
          <a:xfrm>
            <a:off x="3712680" y="2602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三、拓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826920" y="2205000"/>
            <a:ext cx="756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得道多助，失道寡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439723_QWPEJYA4ikvK"/>
          <p:cNvPicPr/>
          <p:nvPr/>
        </p:nvPicPr>
        <p:blipFill>
          <a:blip r:embed="rId1"/>
          <a:srcRect l="4016" t="0" r="52001" b="12992"/>
          <a:stretch/>
        </p:blipFill>
        <p:spPr>
          <a:xfrm>
            <a:off x="5869080" y="260280"/>
            <a:ext cx="3351240" cy="66294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439723_QWPEJYA4ikvK"/>
          <p:cNvPicPr/>
          <p:nvPr/>
        </p:nvPicPr>
        <p:blipFill>
          <a:blip r:embed="rId2"/>
          <a:srcRect l="4016" t="0" r="66982" b="62999"/>
          <a:stretch/>
        </p:blipFill>
        <p:spPr>
          <a:xfrm>
            <a:off x="5796000" y="404640"/>
            <a:ext cx="2209680" cy="28195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" descr="439723_QWPEJYA4ikvK"/>
          <p:cNvPicPr/>
          <p:nvPr/>
        </p:nvPicPr>
        <p:blipFill>
          <a:blip r:embed="rId3"/>
          <a:srcRect l="9307" t="39004" r="50857" b="29995"/>
          <a:stretch/>
        </p:blipFill>
        <p:spPr>
          <a:xfrm>
            <a:off x="4191120" y="4495680"/>
            <a:ext cx="3035160" cy="23623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" descr="幻灯封面no2"/>
          <p:cNvPicPr/>
          <p:nvPr/>
        </p:nvPicPr>
        <p:blipFill>
          <a:blip r:embed="rId4"/>
          <a:stretch/>
        </p:blipFill>
        <p:spPr>
          <a:xfrm>
            <a:off x="-463680" y="44280"/>
            <a:ext cx="311796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201009140839484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4440"/>
            <a:ext cx="722160" cy="71928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8"/>
          <p:cNvSpPr/>
          <p:nvPr/>
        </p:nvSpPr>
        <p:spPr>
          <a:xfrm>
            <a:off x="1908000" y="1197000"/>
            <a:ext cx="626436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丈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在于性别，而在于他的高尚的道德品质。结合自己的理想，说说你准备做一个什么样的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324000" y="20574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生于忧患，死于安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3"/>
          <p:cNvSpPr/>
          <p:nvPr/>
        </p:nvSpPr>
        <p:spPr>
          <a:xfrm>
            <a:off x="685800" y="1563840"/>
            <a:ext cx="4572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舜发于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畎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亩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傅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说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版筑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鬲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鱼盐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行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乱其所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法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曾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益其所不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1276560" y="457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给下列红字注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5632560" y="1600200"/>
            <a:ext cx="191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ｑ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5861880" y="243828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ｙ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5925240" y="32306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6012000" y="399240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f 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6069960" y="4876920"/>
            <a:ext cx="100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0"/>
          <p:cNvSpPr/>
          <p:nvPr/>
        </p:nvSpPr>
        <p:spPr>
          <a:xfrm>
            <a:off x="6051960" y="56689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z ēn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1">
            <a:hlinkClick r:id="rId2" action="ppaction://hlinksldjump"/>
          </p:cNvPr>
          <p:cNvSpPr/>
          <p:nvPr/>
        </p:nvSpPr>
        <p:spPr>
          <a:xfrm>
            <a:off x="7772400" y="6172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3238920" y="189000"/>
            <a:ext cx="30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于忧患   死于安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95280" y="119700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畎亩之中，傅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版筑之间，胶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鱼盐之中，管夷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，孙叔敖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，百里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，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将降大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人也，必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志，劳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筋骨，饿 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肤，空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身，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拂 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为，所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忍性，曾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不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恒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能改，困于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于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作；征于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喻。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法家拂士，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敌国外患者，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恒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忧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死于安乐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舜发于畎亩之中，傅说举于版筑之间，胶鬲举于鱼盐之中，管夷吾举于士，孙叔敖举于海，百里奚举于市。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0" y="22096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      　　　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畎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   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　　　　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0" y="3809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舜从田地中被任用，傅说从筑墙的泥水匠中被选拔，胶鬲从鱼盐贩中被举用，管夷吾从狱官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手中获释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被任用为相，孙叔敖从隐居的海边被任用，百里奚从奴隶市场上被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赎回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并登上相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900000" y="2276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起，指被任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5364000" y="2244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田间、田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4067280" y="314172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狱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7380360" y="3068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116000" y="306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举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380880" y="1143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　　②故天将降大任于是人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228600" y="2666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降：　　    大任：　        　   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52280" y="4038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所以，上天将要下达重要使命给这样的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1208520" y="2633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下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3746520" y="2637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重大责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6546240" y="26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样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228600" y="6094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　　必先苦其心志，劳其筋骨，饿其体肤，空乏其身，行拂乱其所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0" y="1916280"/>
            <a:ext cx="89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苦：　　        心志：　            劳：    　　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饿：     　　   体肤：　　　空乏：        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拂：　　　        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4140360" y="3645000"/>
            <a:ext cx="151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扰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5"/>
          <p:cNvSpPr/>
          <p:nvPr/>
        </p:nvSpPr>
        <p:spPr>
          <a:xfrm>
            <a:off x="1177560" y="191628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痛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3860640" y="1916280"/>
            <a:ext cx="23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内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6645240" y="1916280"/>
            <a:ext cx="21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劳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"/>
          <p:cNvSpPr/>
          <p:nvPr/>
        </p:nvSpPr>
        <p:spPr>
          <a:xfrm>
            <a:off x="684360" y="2778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受饥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9"/>
          <p:cNvSpPr/>
          <p:nvPr/>
        </p:nvSpPr>
        <p:spPr>
          <a:xfrm>
            <a:off x="4173480" y="270504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躯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6957000" y="277812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受贫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900000" y="364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违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228600" y="45720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一定先使他的内心痛苦，使他的筋骨劳累，使他经受饥饿之苦，使他受到贫困之苦，使他做事不顺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19320" y="8380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所以动心忍性，曾益其所不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611280" y="170028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所以：　　　　          动：　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忍：　　　　           曾：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80880" y="4191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用（这样的方法）使他内心惊动，使他性格坚韧起来，增加他过去所不具有的才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823120" y="1595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这些办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5817600" y="164952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惊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2484360" y="220500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坚韧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坚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6047280" y="242100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“增”，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2410200" y="3141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具备的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152280" y="53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③人恒过，然后能改；困于心，衡于虑，而后作；征于色，发于声，而后喻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1989000"/>
            <a:ext cx="86104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恒：　         　                     过：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衡：　                                  作：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征：　                                  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2280" y="390384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一个人常常犯错误，这样以后才能改正；内心困惑，思虑堵塞，然后才能奋起，有所作为；憔悴枯槁表现在脸色上，吟咏叹息表现在声音上，然后才能被人们了解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1243080" y="1989000"/>
            <a:ext cx="26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常常、往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5540400" y="1913040"/>
            <a:ext cx="20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犯错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741240" y="2778120"/>
            <a:ext cx="46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“横”，梗塞，指不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5492880" y="2637000"/>
            <a:ext cx="21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1619280" y="34257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0"/>
          <p:cNvSpPr/>
          <p:nvPr/>
        </p:nvSpPr>
        <p:spPr>
          <a:xfrm>
            <a:off x="6164280" y="335448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黑体"/>
              </a:rPr>
              <a:t>入则无法家拂士，出则无敌国外患者，国恒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304920" y="23623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入：　　          拂：　　                    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80880" y="3657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（一个国家）国内如果没有坚守法度的大臣和能辅佐君主的贤士，在国外如果没有势力、地位相等的国家和外来的忧患，这个国家常常会导致灭亡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1116000" y="234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国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3635280" y="24177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“弼”，辅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7342200" y="23446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国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24000" y="990720"/>
            <a:ext cx="84960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朗读课文，注意读出文章的节奏和气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域民／不以／封疆之界，固国／不以／山溪之险，威天下／不以／兵革之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得道者／多助，失道者／寡助。寡助／之至，亲戚／畔之；多助／之至，天下／顺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380880" y="914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　④然后知生于忧患，而死于安乐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108000" y="2438280"/>
            <a:ext cx="87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0" y="4343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这样以后，人们才会知道因忧患而得以生存，因沉迷安乐而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32000" y="2492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样以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228600" y="53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天将降大任于是人也，必先苦其心志，劳其筋骨，饿其体肤，空乏其身，行拂乱其所为，所以动心忍性，曾益其所不能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228600" y="2590920"/>
            <a:ext cx="8686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所以上天将要下达重要使命给这样的人，一定先使他的内心痛苦，使他的筋骨劳累，使他经受饥饿之苦，使他受到贫困之苦，使他做事不顺。用（这样的途径）使他内心惊动，使他性格坚韧起来，增加他过去所不具有的才能。</a:t>
            </a:r>
            <a:r>
              <a:rPr b="1" lang="zh-CN" sz="40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2286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　③人恒过，然后能改；困于心，衡于虑，而后作；征于色，发于声，而后喻。入则无法家拂士，出则无敌国外患者，国恒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228600" y="2057400"/>
            <a:ext cx="876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个人常常犯错误，这样以后才能改正；内心困惑，思虑阻塞，然后才能奋起，有所作为；憔悴枯槁表现在脸色上，吟咏叹息表现在声音上，然后才能被人们了解。（一个国家）在国内如果没有坚守法度的大臣和能辅佐君主的贤士，在国外如果没有势力、地位相等的国家和外来的忧患，这个国家常常会导致灭亡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304920" y="1752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④然后知生于忧患，而死于安乐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304920" y="2971800"/>
            <a:ext cx="861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这样以后，人们才会知道因忧患而得以生存，因沉迷安乐而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79280" y="1125360"/>
            <a:ext cx="6121440" cy="7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形容词、动词使动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苦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痛苦      劳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劳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饿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饥饿       空乏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财贫乏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动        忍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坚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1258920" y="4437000"/>
            <a:ext cx="662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611280" y="33336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结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词类活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539640" y="400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名词作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1258920" y="49417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：犯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2615040" y="475920"/>
            <a:ext cx="99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．通假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曾益其所不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曾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增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增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衡于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衡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横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梗塞，指不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入则无法家佛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拂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弼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辅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WordArt 2"/>
          <p:cNvSpPr txBox="1"/>
          <p:nvPr/>
        </p:nvSpPr>
        <p:spPr>
          <a:xfrm rot="5400000">
            <a:off x="-2071440" y="3049560"/>
            <a:ext cx="60879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生于忧患，死于安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133200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1979640" y="836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六个人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1403280" y="16995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共同的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2700360" y="2204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出身都卑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1763640" y="30852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种田、筑墙的、贩卖鱼盐的、犯人、隐居者、奴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1476360" y="4237560"/>
            <a:ext cx="64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经过艰苦的磨练，显露出不同凡人的才干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1476360" y="5461560"/>
            <a:ext cx="71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后来都被统治者委以重任，干出了一番出色的事业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36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WordArt 2"/>
          <p:cNvSpPr txBox="1"/>
          <p:nvPr/>
        </p:nvSpPr>
        <p:spPr>
          <a:xfrm rot="5400000">
            <a:off x="-2216160" y="2905200"/>
            <a:ext cx="60883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生于忧患，死于安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133200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2556000" y="105192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常常处在困境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才能不断奋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3274200" y="371556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常常没有忧患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往往遭至灭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38280" y="10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538280" y="37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国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WordArt 8"/>
          <p:cNvSpPr txBox="1"/>
          <p:nvPr/>
        </p:nvSpPr>
        <p:spPr>
          <a:xfrm>
            <a:off x="5940360" y="1341360"/>
            <a:ext cx="1008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正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9" name="WordArt 9"/>
          <p:cNvSpPr txBox="1"/>
          <p:nvPr/>
        </p:nvSpPr>
        <p:spPr>
          <a:xfrm>
            <a:off x="5867280" y="4076640"/>
            <a:ext cx="1079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反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0" name="WordArt 10"/>
          <p:cNvSpPr txBox="1"/>
          <p:nvPr/>
        </p:nvSpPr>
        <p:spPr>
          <a:xfrm>
            <a:off x="1403280" y="1773360"/>
            <a:ext cx="11527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1" name="WordArt 11"/>
          <p:cNvSpPr txBox="1"/>
          <p:nvPr/>
        </p:nvSpPr>
        <p:spPr>
          <a:xfrm>
            <a:off x="1403280" y="4365720"/>
            <a:ext cx="11527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大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2" name="Text Box 12"/>
          <p:cNvSpPr/>
          <p:nvPr/>
        </p:nvSpPr>
        <p:spPr>
          <a:xfrm>
            <a:off x="1410480" y="537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论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3"/>
          <p:cNvSpPr/>
          <p:nvPr/>
        </p:nvSpPr>
        <p:spPr>
          <a:xfrm>
            <a:off x="3791880" y="53737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生于忧患，死于安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4"/>
          <p:cNvSpPr/>
          <p:nvPr/>
        </p:nvSpPr>
        <p:spPr>
          <a:xfrm>
            <a:off x="5776560" y="836640"/>
            <a:ext cx="27547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经受磨炼的益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274840" y="515880"/>
            <a:ext cx="59436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列 举 六 位 名 人 事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539640" y="378612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三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2286000" y="1989000"/>
            <a:ext cx="59436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66cc"/>
                </a:solidFill>
                <a:latin typeface="华文新魏"/>
                <a:ea typeface="华文新魏"/>
              </a:rPr>
              <a:t>担当重任必先经过一番磨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2286000" y="3616200"/>
            <a:ext cx="1981080" cy="1068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处逆境须努力奋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6"/>
          <p:cNvSpPr/>
          <p:nvPr/>
        </p:nvSpPr>
        <p:spPr>
          <a:xfrm>
            <a:off x="6400800" y="3616200"/>
            <a:ext cx="1752480" cy="1068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无忧患易灭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2286000" y="5583240"/>
            <a:ext cx="5791320" cy="7034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生于忧患，死于安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531720" y="833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539640" y="20606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0"/>
          <p:cNvSpPr/>
          <p:nvPr/>
        </p:nvSpPr>
        <p:spPr>
          <a:xfrm>
            <a:off x="579600" y="5657760"/>
            <a:ext cx="14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四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1"/>
          <p:cNvSpPr/>
          <p:nvPr/>
        </p:nvSpPr>
        <p:spPr>
          <a:xfrm>
            <a:off x="4952880" y="1125360"/>
            <a:ext cx="304920" cy="854280"/>
          </a:xfrm>
          <a:prstGeom prst="downArrow">
            <a:avLst>
              <a:gd name="adj1" fmla="val 50000"/>
              <a:gd name="adj2" fmla="val 7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5064120" y="1052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个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3"/>
          <p:cNvSpPr/>
          <p:nvPr/>
        </p:nvSpPr>
        <p:spPr>
          <a:xfrm>
            <a:off x="5029200" y="155736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一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4"/>
          <p:cNvSpPr/>
          <p:nvPr/>
        </p:nvSpPr>
        <p:spPr>
          <a:xfrm rot="19173000">
            <a:off x="3261960" y="4505400"/>
            <a:ext cx="304920" cy="121752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5"/>
          <p:cNvSpPr/>
          <p:nvPr/>
        </p:nvSpPr>
        <p:spPr>
          <a:xfrm rot="2197200">
            <a:off x="6705360" y="44956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6"/>
          <p:cNvSpPr/>
          <p:nvPr/>
        </p:nvSpPr>
        <p:spPr>
          <a:xfrm>
            <a:off x="4267080" y="403848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17"/>
          <p:cNvSpPr/>
          <p:nvPr/>
        </p:nvSpPr>
        <p:spPr>
          <a:xfrm rot="3534000">
            <a:off x="4168440" y="2224080"/>
            <a:ext cx="304560" cy="1704960"/>
          </a:xfrm>
          <a:prstGeom prst="downArrow">
            <a:avLst>
              <a:gd name="adj1" fmla="val 50000"/>
              <a:gd name="adj2" fmla="val 13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5219640" y="2565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客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9"/>
          <p:cNvSpPr/>
          <p:nvPr/>
        </p:nvSpPr>
        <p:spPr>
          <a:xfrm>
            <a:off x="2411280" y="3200400"/>
            <a:ext cx="19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主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0"/>
          <p:cNvSpPr/>
          <p:nvPr/>
        </p:nvSpPr>
        <p:spPr>
          <a:xfrm>
            <a:off x="4191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个人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1"/>
          <p:cNvSpPr/>
          <p:nvPr/>
        </p:nvSpPr>
        <p:spPr>
          <a:xfrm>
            <a:off x="5508720" y="364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国家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2"/>
          <p:cNvSpPr/>
          <p:nvPr/>
        </p:nvSpPr>
        <p:spPr>
          <a:xfrm>
            <a:off x="3851280" y="50133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中心论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3"/>
          <p:cNvSpPr/>
          <p:nvPr/>
        </p:nvSpPr>
        <p:spPr>
          <a:xfrm>
            <a:off x="41911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正面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4"/>
          <p:cNvSpPr/>
          <p:nvPr/>
        </p:nvSpPr>
        <p:spPr>
          <a:xfrm>
            <a:off x="5486400" y="4191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反面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文本框 1"/>
          <p:cNvSpPr/>
          <p:nvPr/>
        </p:nvSpPr>
        <p:spPr>
          <a:xfrm>
            <a:off x="639000" y="60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1295280" y="1143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学习了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生于忧患，死于安乐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你有哪些启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Picture 3" descr="PE03254_"/>
          <p:cNvPicPr/>
          <p:nvPr/>
        </p:nvPicPr>
        <p:blipFill>
          <a:blip r:embed="rId1"/>
          <a:stretch/>
        </p:blipFill>
        <p:spPr>
          <a:xfrm>
            <a:off x="6553080" y="3200400"/>
            <a:ext cx="22273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时不如地利，地利不如人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684360" y="1368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天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地利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979640" y="13413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利于作战的天气、时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979640" y="191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利于作战的地理形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908000" y="242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指作战中的人心所向，内部团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324000" y="350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有利于作战的天气、时令，比不上有利于作战的地理形势，有利于作战的地理形势，比不上作战中的人心所向、内部团结。 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1066680" y="36504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总结：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优越的条件容易消磨人的意志，腐蚀人的健康肌体，使人丧失成功的上进心；而艰苦的环境，坎坷的道路，却能磨练人的意志，增长人的上进心。美国剧作家帕特里克说的“痛苦使人思索，思索使人明智，智慧使人生命持久”，足以说明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逆境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的优越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里之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七里之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环而攻之而不胜。夫环而攻之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必有得天时者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然而不胜者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天时不如地利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27080" y="4780080"/>
            <a:ext cx="90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里的小城，七里的外城，包围着攻打它却不能取胜。包围着攻打它，必定是得到天气时令的有利条件了，这样却不能取胜，这是因为有利于作战的天气时令比不上有利于作战的地理形势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14200" y="1258560"/>
            <a:ext cx="9360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三里</a:t>
            </a:r>
            <a:r>
              <a:rPr b="1" lang="zh-CN" sz="3800" spc="-1" strike="noStrike">
                <a:solidFill>
                  <a:srgbClr val="660066"/>
                </a:solidFill>
                <a:latin typeface="隶书"/>
                <a:ea typeface="隶书"/>
              </a:rPr>
              <a:t>之</a:t>
            </a: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城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郭：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环而攻之而不胜：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夫环而攻之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是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2700360" y="12891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圆三里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内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332000" y="18842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义：外城。  今义：姓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855960" y="25146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环，围。  而，表转折，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3419640" y="31352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句首发语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1476360" y="37180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古义：这   今义：判断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71640" y="188640"/>
            <a:ext cx="7416720" cy="86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城非不高也，池非不深也，兵革非不坚利也，米粟非不多也；委而去之，是地利不如人和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50920" y="52801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城墙不是不高，护城河不是不深，武器装备不是不精良，粮食不是不多，但守城者弃城而逃走，这是因为对作战有利的地理形势比不上作战中的人心所向、内部团结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557280" y="12517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城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池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兵革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坚利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米粟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之：</a:t>
            </a:r>
            <a:r>
              <a:rPr b="1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1353960" y="1312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城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780000" y="130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护城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1784520" y="19890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泛指武器装备。兵，兵器。革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甲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1835280" y="24940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坚固锋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2897280" y="30081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指粮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5892840" y="29527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充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2879640" y="35244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弃城而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22360" y="41688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委，古义：放弃。 今义：委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，古义：离开 。今义：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56908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域民不以封疆之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域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: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古义：         今义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以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本句话的意思是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固国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威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987640" y="10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限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5869080" y="10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地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332000" y="177336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凭，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95280" y="292428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人民定居下来（不迁移到别的地方去），不能靠划定的边疆的界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2411280" y="4005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巩固国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908000" y="4653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震摄。兵革之利，武器的强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179280" y="-603360"/>
            <a:ext cx="878544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寡助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至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亲戚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：亲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畔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: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天下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君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有不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50920" y="501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深入论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得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得人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战必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4111560" y="1754280"/>
            <a:ext cx="432000" cy="718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5042520" y="1341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古义：内外亲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5205600" y="1917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今义：因婚姻联成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2987640" y="260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，动词，到。至，极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403280" y="242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“叛”，背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5435640" y="2349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，代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2987640" y="3141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顺，归顺，服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24000" y="4437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，所以。       有不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战则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5:54:59Z</dcterms:created>
  <dc:creator>teacher</dc:creator>
  <dc:description/>
  <dc:language>en-US</dc:language>
  <cp:lastModifiedBy>Administrator</cp:lastModifiedBy>
  <dcterms:modified xsi:type="dcterms:W3CDTF">2019-11-14T02:35:34Z</dcterms:modified>
  <cp:revision>177</cp:revision>
  <dc:subject/>
  <dc:title>PowerPoint 演示文稿</dc:title>
</cp:coreProperties>
</file>