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5AB-27AA-41C0-8DD0-EA6E0028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6499-85A6-4A04-B6D4-435C1E3F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DD76-E737-4CBB-AF2F-3EF6E844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6EC5-2519-4BD5-98A4-CA8CBADE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8430-2F41-47FC-8CCC-12C98A4A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5EFC-6916-472C-ACA6-4EF5B2BD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A9A0-9476-43FC-87DC-6719EBF9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D57A-DB35-4755-9AFB-0A8A495E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85C3-7785-4EAE-A35E-5B5C64A7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6085-C6AF-4139-B833-4FB4BC25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D5B2-6210-46A7-BD92-6895C6CD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1F07-B301-47D6-B2DD-ED7C14E1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1105-3620-481D-AF88-869A67DD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DF11-1759-4F02-A741-F9D95ADA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56A5-FDF9-4BBF-88FC-A27C36F3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DC10-3389-4A5F-89A8-AF37970A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7407-C12A-4ED3-A323-807FDA4C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A6C39-67EC-447B-9D38-39C7B2D8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D5CEC-B7A8-4E40-B7D7-CD755433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AF9EC-3ED1-48FA-AD0D-1A481F8C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87F3B-93B5-4023-8483-58C78B57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82795-2824-422B-8DC3-47ADB008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AE26-E3CD-49E4-923E-3FFD03BD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BF697-4EEC-4E00-9747-C82F5C63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3A8E0-A110-44DA-A89B-D0139ACF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4E1A7-4FD5-4000-91FF-80F8196A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11FF3-E111-442C-84BF-D833B257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9CB8C-FC58-49DA-B1C7-36BA987F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349AD-8914-466D-8CBD-93EF3E2D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9E3A4-2945-4964-BFE6-6A1046DE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3A3FB-986B-4DE8-A163-0C3D7C5B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20DE5-3DE3-4814-B559-738F477C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347DA-5782-4424-8D55-71FB6C68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D8F7-368C-429E-869D-6EE00198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20640-D0DA-4EE3-ABF5-95DCDDC9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9C534-0C0D-49AE-8225-47EA3FB7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776BE-3021-4097-B19B-32F2DF5C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7A85E-3E6A-438D-9F52-4ADB2550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A9E2B-9BAA-40F6-8E4F-A600D0CC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74C2C-37E1-4D5C-A34F-DF30653C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1AA7F-362E-45E1-8024-66219360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B289D-8579-4292-BFFD-AA874AA0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074BF-09BF-4F45-8A22-A7B7805D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7A99-82DE-46E6-9C3D-DE414A83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4A87-FEF2-4DDF-8EB4-34B56011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1434-0612-4B58-B65B-6535F82E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5A5B-CE1F-4BF9-A943-B428F9DF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13A4-AC64-4551-B355-051AE60C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DBD6-A1DC-45FC-9683-677D819D60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1A2E-9E12-41AB-A596-66A8D15B106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4AA3-4E05-4365-BE54-C4F33BE53A1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3F15-45CE-4420-868E-BA2900361BC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15361" descr="图片1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矩形 2" descr=""/>
          <p:cNvPicPr/>
          <p:nvPr/>
        </p:nvPicPr>
        <p:blipFill>
          <a:blip r:embed="rId2"/>
          <a:stretch/>
        </p:blipFill>
        <p:spPr>
          <a:xfrm>
            <a:off x="149400" y="1362240"/>
            <a:ext cx="7794360" cy="1322280"/>
          </a:xfrm>
          <a:prstGeom prst="rect">
            <a:avLst/>
          </a:prstGeom>
          <a:ln w="0">
            <a:noFill/>
          </a:ln>
        </p:spPr>
      </p:pic>
      <p:pic>
        <p:nvPicPr>
          <p:cNvPr id="168" name="文本框 3" descr=""/>
          <p:cNvPicPr/>
          <p:nvPr/>
        </p:nvPicPr>
        <p:blipFill>
          <a:blip r:embed="rId3"/>
          <a:stretch/>
        </p:blipFill>
        <p:spPr>
          <a:xfrm>
            <a:off x="415800" y="3363840"/>
            <a:ext cx="698040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15361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15361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文本框 1" descr=""/>
          <p:cNvPicPr/>
          <p:nvPr/>
        </p:nvPicPr>
        <p:blipFill>
          <a:blip r:embed="rId2"/>
          <a:stretch/>
        </p:blipFill>
        <p:spPr>
          <a:xfrm>
            <a:off x="609480" y="2130480"/>
            <a:ext cx="835848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15361" descr="图片1"/>
          <p:cNvPicPr/>
          <p:nvPr/>
        </p:nvPicPr>
        <p:blipFill>
          <a:blip r:embed="rId1"/>
          <a:stretch/>
        </p:blipFill>
        <p:spPr>
          <a:xfrm>
            <a:off x="0" y="77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1"/>
          <p:cNvSpPr/>
          <p:nvPr/>
        </p:nvSpPr>
        <p:spPr>
          <a:xfrm>
            <a:off x="1136160" y="10875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最终目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2"/>
          <p:cNvSpPr/>
          <p:nvPr/>
        </p:nvSpPr>
        <p:spPr>
          <a:xfrm>
            <a:off x="834480" y="24861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战略方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4"/>
          <p:cNvSpPr/>
          <p:nvPr/>
        </p:nvSpPr>
        <p:spPr>
          <a:xfrm>
            <a:off x="708120" y="457200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提出战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方针的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5"/>
          <p:cNvSpPr/>
          <p:nvPr/>
        </p:nvSpPr>
        <p:spPr>
          <a:xfrm>
            <a:off x="3253680" y="11476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霸业成，汉室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6"/>
          <p:cNvSpPr/>
          <p:nvPr/>
        </p:nvSpPr>
        <p:spPr>
          <a:xfrm>
            <a:off x="2473200" y="2160720"/>
            <a:ext cx="598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跨有荆、益，保其岩阻，西和诸戎，南抚彝、越，外结孙权，内修政理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待天下有变，则命一上将将荆州之兵以向宛、洛，将军身率益州之众以出秦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7"/>
          <p:cNvSpPr/>
          <p:nvPr/>
        </p:nvSpPr>
        <p:spPr>
          <a:xfrm>
            <a:off x="4860000" y="4405320"/>
            <a:ext cx="3546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对曹操，诚不可与争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对孙权，可以为援而不可图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对荆州，可争，作为根据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对益州，可图，作为根据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1" descr=""/>
          <p:cNvPicPr/>
          <p:nvPr/>
        </p:nvPicPr>
        <p:blipFill>
          <a:blip r:embed="rId1"/>
          <a:srcRect l="12068" t="0" r="0" b="8034"/>
          <a:stretch/>
        </p:blipFill>
        <p:spPr>
          <a:xfrm>
            <a:off x="490680" y="1235160"/>
            <a:ext cx="8162640" cy="41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15361" descr="图片1"/>
          <p:cNvPicPr/>
          <p:nvPr/>
        </p:nvPicPr>
        <p:blipFill>
          <a:blip r:embed="rId1"/>
          <a:stretch/>
        </p:blipFill>
        <p:spPr>
          <a:xfrm>
            <a:off x="381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文本框 1" descr=""/>
          <p:cNvPicPr/>
          <p:nvPr/>
        </p:nvPicPr>
        <p:blipFill>
          <a:blip r:embed="rId2"/>
          <a:stretch/>
        </p:blipFill>
        <p:spPr>
          <a:xfrm>
            <a:off x="380880" y="2130480"/>
            <a:ext cx="77425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15361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文本框 1" descr=""/>
          <p:cNvPicPr/>
          <p:nvPr/>
        </p:nvPicPr>
        <p:blipFill>
          <a:blip r:embed="rId2"/>
          <a:stretch/>
        </p:blipFill>
        <p:spPr>
          <a:xfrm>
            <a:off x="1584360" y="2305080"/>
            <a:ext cx="663588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15361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文本框 1"/>
          <p:cNvSpPr/>
          <p:nvPr/>
        </p:nvSpPr>
        <p:spPr>
          <a:xfrm>
            <a:off x="3777120" y="415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"/>
                <a:ea typeface="楷体"/>
              </a:rPr>
              <a:t>杨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3"/>
          <p:cNvSpPr/>
          <p:nvPr/>
        </p:nvSpPr>
        <p:spPr>
          <a:xfrm>
            <a:off x="625320" y="1441440"/>
            <a:ext cx="6365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杨志绰号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青面兽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杨家将后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武举出身，他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指望把一身本事，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庭上一刀一枪，博个封妻荫子，也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祖宗争口气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不想命运多舛，先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失陷了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花石纲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又在盛怒之下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了泼皮牛二，吃了官司，被发配充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后得梁中书抬举，收在门下，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早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晚勤听候使唤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并把押运生辰纲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任务交托给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15361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矩形 1"/>
          <p:cNvSpPr/>
          <p:nvPr/>
        </p:nvSpPr>
        <p:spPr>
          <a:xfrm>
            <a:off x="1707480" y="103176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写作小练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文本框 2" descr=""/>
          <p:cNvPicPr/>
          <p:nvPr/>
        </p:nvPicPr>
        <p:blipFill>
          <a:blip r:embed="rId2"/>
          <a:stretch/>
        </p:blipFill>
        <p:spPr>
          <a:xfrm>
            <a:off x="1025640" y="3230640"/>
            <a:ext cx="720396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图片 15361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矩形 2"/>
          <p:cNvSpPr/>
          <p:nvPr/>
        </p:nvSpPr>
        <p:spPr>
          <a:xfrm>
            <a:off x="3110040" y="28288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楷体"/>
                <a:ea typeface="楷体"/>
              </a:rPr>
              <a:t>谢谢大家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9T06:48:00Z</dcterms:created>
  <dc:creator>bcyc</dc:creator>
  <dc:description/>
  <dc:language>en-US</dc:language>
  <cp:lastModifiedBy>Sorry,your integrity has collapse</cp:lastModifiedBy>
  <dcterms:modified xsi:type="dcterms:W3CDTF">2019-10-21T10:24:25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145</vt:lpwstr>
  </property>
</Properties>
</file>