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19A-08F7-495C-9762-D7294307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9D6-DDF7-4A5E-8C24-8BABB8B9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651-35EB-432E-BDD4-34F9EA85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AA2-BBC8-4E16-B7B5-838F1D85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DB13-D739-49C1-87A3-88C696B7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0938-193A-4FE3-AD70-69DFB85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BC4F-7B7C-4F21-AB44-1FFF9D5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E1D0-0BF7-4C79-AACB-4CC482F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979B-B7D5-476C-8DAF-0A776BB7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54CB-7CB8-4AB9-AB63-6EEF617D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EB99-9BF6-456D-97BF-9F1D4A2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B53-A28B-4494-BC41-F8DA68C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126B-F214-4993-8518-C26213A6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9702-E7F1-4E5F-AEB0-F28EA220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AFE-EAA3-469E-9B8A-9278340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600B-39FC-4A6E-872B-E96C2A32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35D-07EC-4C9A-B415-D759B699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85F2-928C-42CB-BC02-698B8574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68CE-12EC-45B6-BEA9-095F2867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532D-B1E9-408C-B1F8-1A424290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75BF-F1E5-4A47-B95F-80DE4EDD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606D-A608-4C81-9B96-7334F37F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3BB-682A-4DA2-898D-4018925C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02F2-CAA8-450D-9EE4-78462D48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DBD8-B1E3-41E8-8684-E1B6B3A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F2D1-7AFF-4A57-9482-D8C6765A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34C7-1F18-4B71-9B80-129D43C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45E7-1A6C-4AA1-8B94-F43E1FBB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A28D-1D8D-4051-B3FC-C5DC0038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A0CD-D070-4756-8396-225D69B8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125F-99C0-408C-A2FA-E77A24D9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ED48-AE34-4859-91AF-1035D30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D2992-5543-4C09-8521-B644D1CB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2BD-4B3A-4A11-A17F-F0F1820C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E018-509D-446F-91CE-4748A7D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DA20-E1E3-4CDF-9D63-37E0A2A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C3F9-0981-4D8E-A964-1A1D286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32C4-EF04-447D-9AB9-DB64D4E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F70E-4C29-4C19-A16F-954531C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9929-CDAC-4A85-B2F2-71ADF6B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75B2-0594-4660-B16E-83089C56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32DA-930F-4B80-AF73-8C5412A7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C39D-B1AA-4F2E-8717-DC705D10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945-FCAB-4039-A42E-58E6DE5F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C0A-27B6-4974-9E1F-C8B7DB52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AA4-C930-4E63-9429-212C760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63E-9173-4DB2-A56C-702FD05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254-B612-4E0A-9D70-AD70CC4F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A6D0-E8C5-4AFA-8752-8F466F420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7239-A6F1-4CB3-BDA8-4C5A738ADE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C45-7608-4B38-AB19-743FCA30ED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DDC6-F354-4C0C-BC5F-161F44BA6E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5361" descr="图片1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矩形 2" descr=""/>
          <p:cNvPicPr/>
          <p:nvPr/>
        </p:nvPicPr>
        <p:blipFill>
          <a:blip r:embed="rId2"/>
          <a:stretch/>
        </p:blipFill>
        <p:spPr>
          <a:xfrm>
            <a:off x="149400" y="1362240"/>
            <a:ext cx="7794360" cy="1322280"/>
          </a:xfrm>
          <a:prstGeom prst="rect">
            <a:avLst/>
          </a:prstGeom>
          <a:ln w="0">
            <a:noFill/>
          </a:ln>
        </p:spPr>
      </p:pic>
      <p:pic>
        <p:nvPicPr>
          <p:cNvPr id="168" name="文本框 3" descr=""/>
          <p:cNvPicPr/>
          <p:nvPr/>
        </p:nvPicPr>
        <p:blipFill>
          <a:blip r:embed="rId3"/>
          <a:stretch/>
        </p:blipFill>
        <p:spPr>
          <a:xfrm>
            <a:off x="415800" y="3363840"/>
            <a:ext cx="698040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文本框 1" descr=""/>
          <p:cNvPicPr/>
          <p:nvPr/>
        </p:nvPicPr>
        <p:blipFill>
          <a:blip r:embed="rId2"/>
          <a:stretch/>
        </p:blipFill>
        <p:spPr>
          <a:xfrm>
            <a:off x="609480" y="2130480"/>
            <a:ext cx="83584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5361" descr="图片1"/>
          <p:cNvPicPr/>
          <p:nvPr/>
        </p:nvPicPr>
        <p:blipFill>
          <a:blip r:embed="rId1"/>
          <a:stretch/>
        </p:blipFill>
        <p:spPr>
          <a:xfrm>
            <a:off x="0" y="77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"/>
          <p:cNvSpPr/>
          <p:nvPr/>
        </p:nvSpPr>
        <p:spPr>
          <a:xfrm>
            <a:off x="1136160" y="1087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终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"/>
          <p:cNvSpPr/>
          <p:nvPr/>
        </p:nvSpPr>
        <p:spPr>
          <a:xfrm>
            <a:off x="834480" y="2486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战略方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"/>
          <p:cNvSpPr/>
          <p:nvPr/>
        </p:nvSpPr>
        <p:spPr>
          <a:xfrm>
            <a:off x="708120" y="457200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提出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方针的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"/>
          <p:cNvSpPr/>
          <p:nvPr/>
        </p:nvSpPr>
        <p:spPr>
          <a:xfrm>
            <a:off x="3253680" y="11476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霸业成，汉室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6"/>
          <p:cNvSpPr/>
          <p:nvPr/>
        </p:nvSpPr>
        <p:spPr>
          <a:xfrm>
            <a:off x="2473200" y="2160720"/>
            <a:ext cx="59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跨有荆、益，保其岩阻，西和诸戎，南抚彝、越，外结孙权，内修政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待天下有变，则命一上将将荆州之兵以向宛、洛，将军身率益州之众以出秦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"/>
          <p:cNvSpPr/>
          <p:nvPr/>
        </p:nvSpPr>
        <p:spPr>
          <a:xfrm>
            <a:off x="4860000" y="4405320"/>
            <a:ext cx="3546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曹操，诚不可与争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孙权，可以为援而不可图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荆州，可争，作为根据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益州，可图，作为根据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rcRect l="12068" t="0" r="0" b="8034"/>
          <a:stretch/>
        </p:blipFill>
        <p:spPr>
          <a:xfrm>
            <a:off x="490680" y="1235160"/>
            <a:ext cx="816264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5361" descr="图片1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文本框 1" descr=""/>
          <p:cNvPicPr/>
          <p:nvPr/>
        </p:nvPicPr>
        <p:blipFill>
          <a:blip r:embed="rId2"/>
          <a:stretch/>
        </p:blipFill>
        <p:spPr>
          <a:xfrm>
            <a:off x="380880" y="2130480"/>
            <a:ext cx="7742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文本框 1" descr=""/>
          <p:cNvPicPr/>
          <p:nvPr/>
        </p:nvPicPr>
        <p:blipFill>
          <a:blip r:embed="rId2"/>
          <a:stretch/>
        </p:blipFill>
        <p:spPr>
          <a:xfrm>
            <a:off x="1584360" y="2305080"/>
            <a:ext cx="66358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"/>
          <p:cNvSpPr/>
          <p:nvPr/>
        </p:nvSpPr>
        <p:spPr>
          <a:xfrm>
            <a:off x="3777120" y="41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杨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625320" y="1441440"/>
            <a:ext cx="636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杨志绰号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青面兽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杨家将后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武举出身，他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指望把一身本事，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庭上一刀一枪，博个封妻荫子，也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祖宗争口气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不想命运多舛，先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失陷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花石纲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又在盛怒之下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了泼皮牛二，吃了官司，被发配充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后得梁中书抬举，收在门下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早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晚勤听候使唤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并把押运生辰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任务交托给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1"/>
          <p:cNvSpPr/>
          <p:nvPr/>
        </p:nvSpPr>
        <p:spPr>
          <a:xfrm>
            <a:off x="1707480" y="10317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写作小练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文本框 2" descr=""/>
          <p:cNvPicPr/>
          <p:nvPr/>
        </p:nvPicPr>
        <p:blipFill>
          <a:blip r:embed="rId2"/>
          <a:stretch/>
        </p:blipFill>
        <p:spPr>
          <a:xfrm>
            <a:off x="1025640" y="3230640"/>
            <a:ext cx="72039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1536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矩形 2"/>
          <p:cNvSpPr/>
          <p:nvPr/>
        </p:nvSpPr>
        <p:spPr>
          <a:xfrm>
            <a:off x="3110040" y="28288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楷体"/>
                <a:ea typeface="楷体"/>
              </a:rPr>
              <a:t>谢谢大家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9T06:48:00Z</dcterms:created>
  <dc:creator>bcyc</dc:creator>
  <dc:description/>
  <dc:language>en-US</dc:language>
  <cp:lastModifiedBy>Sorry,your integrity has collapse</cp:lastModifiedBy>
  <dcterms:modified xsi:type="dcterms:W3CDTF">2019-10-21T10:24:25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