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725-55F7-4112-BC8D-28A432C0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E27-86BD-4134-88BF-4739F89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CB3-278E-48D6-B3BA-8FDB3998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D45-A428-4C94-86BA-A58922AD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86C-1B9D-4FF7-9D14-D0203EFE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29D-1905-4B27-B616-D15E34D0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665-8F83-40C4-886D-CB9CD8D2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466-69AD-48B8-B7A7-E043494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40F-5ED0-43A4-B041-317B6C0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0C-EEBB-4398-A382-2BBF00D1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EE9-87EB-4500-9A9D-4D85E0A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AC6-192D-448C-A5DC-76B5CDDD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F38-6FB1-4C81-B93B-DFECC59B6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-96372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1628640"/>
            <a:ext cx="838836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低头也是一种成长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作文互改指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整理总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写出两三点做得好的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列出做得不够好的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71680" y="414324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汇总得分，</a:t>
            </a:r>
            <a:br>
              <a:rPr sz="4400"/>
            </a:b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黑体"/>
              </a:rPr>
              <a:t>签上评改人姓名和日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"/>
          <p:cNvSpPr/>
          <p:nvPr/>
        </p:nvSpPr>
        <p:spPr>
          <a:xfrm>
            <a:off x="357120" y="142920"/>
            <a:ext cx="8572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214200" y="142920"/>
            <a:ext cx="87868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自改作文，按下列得分点打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一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文面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字数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60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字以上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卷面整洁（书写不涂改、不冒格、不满格）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二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立意 选材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  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头怎样。开头要简洁，开门见山，点明中心。</a:t>
            </a:r>
            <a:r>
              <a:rPr b="0" i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中心积极向上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情感真挚自然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选的材料能突出中心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三）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题目完整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段落六段以上，衔接自然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四）描写方法（ 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 ）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要求：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用波浪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标画出代表性的句子进行一两处旁批，要指出写得好或者不好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五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语言文采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找出好词好句，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用波浪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标出。简单说说好在哪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Times New Roman"/>
                <a:ea typeface="黑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会点评习作的优、缺点，会写批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能运用学过的技法修改完善习作的开头和结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[4]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8[4]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539640" y="836640"/>
            <a:ext cx="835344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作文互改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阅读手中的习作，对照以下评改内容逐项进行旁批，打上各项得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整理总批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汇总得分，签上评改人姓名和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评改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197000"/>
            <a:ext cx="9468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一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文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二）选材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立意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  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情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三）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四）描写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五）语言文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字数  卷面  书写  错别字 格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数是否达标？卷面是否工整？书写是否认真？有无错别字？行文格式是否规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直接在习作中对写得不够规范的字词、标点、格式等进行圈点并修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8000" y="407664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一）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文面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字数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600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字以上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卷面整洁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规范格式和书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无错别字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一）文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二）选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立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 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情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什么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人物的什么形象？这一中心是否积极向上？写出了哪种情感？选的材料是否能突出中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要求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在习作的主体段落旁，用一两句话进行旁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如：写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事，表现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，表达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情感。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85960" y="38577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二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立意 选材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  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情感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写完整的一件事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记叙六要素。</a:t>
            </a:r>
            <a:r>
              <a:rPr b="0" i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心积极向上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情感真挚自然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选的材料能突出中心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7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三） 结构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28760"/>
            <a:ext cx="903600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是否完整 ？ 段落是否四段以上，衔接是否自然？开头和结尾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头怎样（开门见山，点明中心；用题记法；写景入情法；用修辞手法；用名人名言、歌词、诗句、俗语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尾怎样（篇末点题，总结全文；情景再现；首尾呼应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否写出对这一两件事的感受或启发或反思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在习作的开头、结尾段，分别用一两句话进行旁批（如：写得怎样，好在哪里？或不好在哪里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再用上你学过的技法帮其修改完善开头结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2920" y="392904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三）结构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题目完整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段落四段以上，衔接自然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开头。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结尾，结尾能够写出对这一件事的感受或启发  或反思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（四）描写方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无人物描写和环境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用哪种人物描写方法，写出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景物描写，交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、季节或烘托人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标画出代表性的句子进行一两处旁批，要指出写得好或者不好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4437000"/>
            <a:ext cx="784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四）描写方法（ 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 ）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有细致的人物描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有景物描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五） 语言文采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词是否准确？能否用上优美词语和适当的修辞手法写人写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找出好词好句，用赞美符号标出。或用得不够好的，请指出，并改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11280" y="393372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五）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语言文采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用上积累的优美词语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用上修辞方法的句子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4:43:19Z</dcterms:created>
  <dc:creator>lcm</dc:creator>
  <dc:description/>
  <cp:keywords/>
  <dc:language>en-US</dc:language>
  <cp:lastModifiedBy>Li</cp:lastModifiedBy>
  <cp:lastPrinted>1899-12-30T00:00:00Z</cp:lastPrinted>
  <dcterms:modified xsi:type="dcterms:W3CDTF">2020-02-25T12:03:09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81</vt:lpwstr>
  </property>
</Properties>
</file>