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0D9F-A20F-4C93-BC0D-A00AF573B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FC42-0D92-4CA4-A06E-37912113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7309-5368-4A61-B668-7FB258660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575B-5E76-4906-8995-53D6BD255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839D-3CB9-427A-9DAB-0D9EFFF8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6728-B1E1-4587-B0D1-8C38E953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82BF-F511-4FDE-A531-F4EB47AE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179F-F240-4A4B-8A1E-93A3EFA8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4B7D-17C5-4BD0-973F-DD23DB3F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8B4F-0B0A-4910-8FC5-BCCED879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C854-31A4-4302-987B-7991901E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376E-A983-4F55-95AD-CC53F1FB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8C33-3A55-419B-9AAA-40E5FB4B25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-96372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468360" y="1628640"/>
            <a:ext cx="8388360" cy="17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66"/>
                </a:solidFill>
                <a:latin typeface="Times New Roman"/>
                <a:ea typeface="隶书"/>
              </a:rPr>
              <a:t> 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《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黑体"/>
              </a:rPr>
              <a:t>低头也是一种成长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  <a:ea typeface="黑体"/>
              </a:rPr>
              <a:t>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黑体"/>
              </a:rPr>
              <a:t>作文互改指导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二、整理总评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8820000" cy="38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  </a:t>
            </a:r>
            <a:r>
              <a:rPr b="0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要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黑体"/>
                <a:ea typeface="黑体"/>
              </a:rPr>
              <a:t>     </a:t>
            </a: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写出两三点做得好的方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   </a:t>
            </a: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列出做得不够好的方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571680" y="4143240"/>
            <a:ext cx="748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Times New Roman"/>
                <a:ea typeface="黑体"/>
              </a:rPr>
              <a:t>三、汇总得分，</a:t>
            </a:r>
            <a:br>
              <a:rPr sz="4400"/>
            </a:br>
            <a:r>
              <a:rPr b="1" lang="zh-CN" sz="4400" spc="-1" strike="noStrike">
                <a:solidFill>
                  <a:srgbClr val="c00000"/>
                </a:solidFill>
                <a:latin typeface="Times New Roman"/>
                <a:ea typeface="黑体"/>
              </a:rPr>
              <a:t>签上评改人姓名和日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3"/>
          <p:cNvSpPr/>
          <p:nvPr/>
        </p:nvSpPr>
        <p:spPr>
          <a:xfrm>
            <a:off x="357120" y="142920"/>
            <a:ext cx="85726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矩形 4"/>
          <p:cNvSpPr/>
          <p:nvPr/>
        </p:nvSpPr>
        <p:spPr>
          <a:xfrm>
            <a:off x="214200" y="142920"/>
            <a:ext cx="878688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一、自改作文，按下列得分点打分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（一）</a:t>
            </a:r>
            <a:r>
              <a:rPr b="1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文面（</a:t>
            </a:r>
            <a:r>
              <a:rPr b="1" lang="en-US" sz="2400" spc="-1" strike="noStrike">
                <a:solidFill>
                  <a:srgbClr val="800000"/>
                </a:solidFill>
                <a:latin typeface="黑体"/>
                <a:ea typeface="黑体"/>
              </a:rPr>
              <a:t>10</a:t>
            </a:r>
            <a:r>
              <a:rPr b="1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字数</a:t>
            </a:r>
            <a:r>
              <a:rPr b="0" lang="en-US" sz="2400" spc="-1" strike="noStrike">
                <a:solidFill>
                  <a:srgbClr val="800000"/>
                </a:solidFill>
                <a:latin typeface="黑体"/>
                <a:ea typeface="黑体"/>
              </a:rPr>
              <a:t>600</a:t>
            </a:r>
            <a:r>
              <a:rPr b="0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字以上（</a:t>
            </a:r>
            <a:r>
              <a:rPr b="0" lang="en-US" sz="2400" spc="-1" strike="noStrike">
                <a:solidFill>
                  <a:srgbClr val="8000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分）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卷面整洁（书写不涂改、不冒格、不满格）（</a:t>
            </a:r>
            <a:r>
              <a:rPr b="0" lang="en-US" sz="2400" spc="-1" strike="noStrike">
                <a:solidFill>
                  <a:srgbClr val="8000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分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（二）</a:t>
            </a:r>
            <a:r>
              <a:rPr b="1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立意 选材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黑体"/>
              </a:rPr>
              <a:t>  </a:t>
            </a:r>
            <a:r>
              <a:rPr b="1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情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开头怎样。开头要简洁，开门见山，点明中心。</a:t>
            </a:r>
            <a:r>
              <a:rPr b="0" i="1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（</a:t>
            </a:r>
            <a:r>
              <a:rPr b="0" i="1" lang="en-US" sz="2400" spc="-1" strike="noStrike">
                <a:solidFill>
                  <a:srgbClr val="80000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分）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中心积极向上（</a:t>
            </a:r>
            <a:r>
              <a:rPr b="0" lang="en-US" sz="2400" spc="-1" strike="noStrike">
                <a:solidFill>
                  <a:srgbClr val="8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分）</a:t>
            </a:r>
            <a:br>
              <a:rPr sz="2400"/>
            </a:br>
            <a:r>
              <a:rPr b="0" lang="en-US" sz="2400" spc="-1" strike="noStrike">
                <a:solidFill>
                  <a:srgbClr val="800000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情感真挚自然（</a:t>
            </a:r>
            <a:r>
              <a:rPr b="0" lang="en-US" sz="2400" spc="-1" strike="noStrike">
                <a:solidFill>
                  <a:srgbClr val="8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分）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选的材料能突出中心（</a:t>
            </a:r>
            <a:r>
              <a:rPr b="0" lang="en-US" sz="2400" spc="-1" strike="noStrike">
                <a:solidFill>
                  <a:srgbClr val="80000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（三）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题目完整（</a:t>
            </a:r>
            <a:r>
              <a:rPr b="1" lang="en-US" sz="2400" spc="-1" strike="noStrike">
                <a:solidFill>
                  <a:srgbClr val="8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分）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段落六段以上，衔接自然（</a:t>
            </a:r>
            <a:r>
              <a:rPr b="1" lang="en-US" sz="2400" spc="-1" strike="noStrike">
                <a:solidFill>
                  <a:srgbClr val="8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（四）描写方法（ </a:t>
            </a:r>
            <a:r>
              <a:rPr b="1" lang="en-US" sz="2400" spc="-1" strike="noStrike">
                <a:solidFill>
                  <a:srgbClr val="800000"/>
                </a:solidFill>
                <a:latin typeface="黑体"/>
                <a:ea typeface="黑体"/>
              </a:rPr>
              <a:t>15</a:t>
            </a:r>
            <a:r>
              <a:rPr b="1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分 ）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要求：</a:t>
            </a:r>
            <a:r>
              <a:rPr b="1" i="1" lang="zh-CN" sz="2400" spc="-1" strike="noStrike">
                <a:solidFill>
                  <a:srgbClr val="800000"/>
                </a:solidFill>
                <a:latin typeface="Times New Roman"/>
                <a:ea typeface="黑体"/>
              </a:rPr>
              <a:t>用波浪线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标画出代表性的句子进行一两处旁批，要指出写得好或者不好的地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（五）</a:t>
            </a:r>
            <a:r>
              <a:rPr b="1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语言文采（</a:t>
            </a:r>
            <a:r>
              <a:rPr b="1" lang="en-US" sz="2400" spc="-1" strike="noStrike">
                <a:solidFill>
                  <a:srgbClr val="800000"/>
                </a:solidFill>
                <a:latin typeface="黑体"/>
                <a:ea typeface="黑体"/>
              </a:rPr>
              <a:t>15</a:t>
            </a:r>
            <a:r>
              <a:rPr b="1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分）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  <a:ea typeface="黑体"/>
              </a:rPr>
              <a:t>要求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找出好词好句，</a:t>
            </a:r>
            <a:r>
              <a:rPr b="1" i="1" lang="zh-CN" sz="2400" spc="-1" strike="noStrike">
                <a:solidFill>
                  <a:srgbClr val="800000"/>
                </a:solidFill>
                <a:latin typeface="Times New Roman"/>
                <a:ea typeface="黑体"/>
              </a:rPr>
              <a:t>用波浪线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标出。简单说说好在哪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ff"/>
                </a:solidFill>
                <a:latin typeface="Times New Roman"/>
                <a:ea typeface="黑体"/>
              </a:rPr>
              <a:t>学习目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0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会点评习作的优、缺点，会写批语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0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能运用学过的技法修改完善习作的开头和结尾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8[4]"/>
          <p:cNvPicPr/>
          <p:nvPr/>
        </p:nvPicPr>
        <p:blipFill>
          <a:blip r:embed="rId1"/>
          <a:stretch/>
        </p:blipFill>
        <p:spPr>
          <a:xfrm>
            <a:off x="0" y="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8[4]"/>
          <p:cNvPicPr/>
          <p:nvPr/>
        </p:nvPicPr>
        <p:blipFill>
          <a:blip r:embed="rId2"/>
          <a:stretch/>
        </p:blipFill>
        <p:spPr>
          <a:xfrm>
            <a:off x="0" y="6381720"/>
            <a:ext cx="914400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539640" y="836640"/>
            <a:ext cx="8353440" cy="37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作文互改步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、阅读手中的习作，对照以下评改内容逐项进行旁批，打上各项得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、整理总批语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汇总得分，签上评改人姓名和日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0"/>
            <a:ext cx="9144000" cy="36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一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评改内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0" y="1197000"/>
            <a:ext cx="94680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（一</a:t>
            </a:r>
            <a:r>
              <a:rPr b="1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）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文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（二）选材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 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 立意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  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 情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（三）结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（四）描写方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（五）语言文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8200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     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字数  卷面  书写  错别字 格式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看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字数是否达标？卷面是否工整？书写是否认真？有无错别字？行文格式是否规范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要求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直接在习作中对写得不够规范的字词、标点、格式等进行圈点并修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908000" y="4076640"/>
            <a:ext cx="547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（一）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文面（</a:t>
            </a: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字数</a:t>
            </a:r>
            <a:r>
              <a:rPr b="0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600</a:t>
            </a: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字以上（</a:t>
            </a:r>
            <a:r>
              <a:rPr b="0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分）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卷面整洁（</a:t>
            </a:r>
            <a:r>
              <a:rPr b="0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分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规范格式和书写（</a:t>
            </a:r>
            <a:r>
              <a:rPr b="0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分）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4.</a:t>
            </a: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无错别字（</a:t>
            </a:r>
            <a:r>
              <a:rPr b="0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0" y="0"/>
            <a:ext cx="29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（一）文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（二）选材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 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立意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  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情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黑体"/>
              </a:rPr>
              <a:t>看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写什么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现人物的什么形象？这一中心是否积极向上？写出了哪种情感？选的材料是否能突出中心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黑体"/>
              </a:rPr>
              <a:t>要求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在习作的主体段落旁，用一两句话进行旁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imes New Roman"/>
                <a:ea typeface="黑体"/>
              </a:rPr>
              <a:t>（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如：写了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事，表现了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，表达了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情感。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785960" y="3857760"/>
            <a:ext cx="6191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（二）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立意 选材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黑体"/>
              </a:rPr>
              <a:t>  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情感（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15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写完整的一件事</a:t>
            </a:r>
            <a:r>
              <a:rPr b="0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.</a:t>
            </a:r>
            <a:r>
              <a:rPr b="0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有记叙六要素。</a:t>
            </a:r>
            <a:r>
              <a:rPr b="0" i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分）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中心积极向上（</a:t>
            </a:r>
            <a:r>
              <a:rPr b="0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分）</a:t>
            </a:r>
            <a:br>
              <a:rPr sz="2800"/>
            </a:br>
            <a:r>
              <a:rPr b="0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情感真挚自然（</a:t>
            </a:r>
            <a:r>
              <a:rPr b="0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分）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选的材料能突出中心（</a:t>
            </a:r>
            <a:r>
              <a:rPr b="0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777708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（三） 结构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428760"/>
            <a:ext cx="9036000" cy="35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看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题目是否完整 ？ 段落是否四段以上，衔接是否自然？开头和结尾怎样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开头怎样（开门见山，点明中心；用题记法；写景入情法；用修辞手法；用名人名言、歌词、诗句、俗语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尾怎样（篇末点题，总结全文；情景再现；首尾呼应法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能否写出对这一两件事的感受或启发或反思？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要求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在习作的开头、结尾段，分别用一两句话进行旁批（如：写得怎样，好在哪里？或不好在哪里？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再用上你学过的技法帮其修改完善开头结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142920" y="3929040"/>
            <a:ext cx="8642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（三）结构（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题目完整（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分）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段落四段以上，衔接自然（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有开头。（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分）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有结尾，结尾能够写出对这一件事的感受或启发  或反思（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分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4582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（四）描写方法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看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有无人物描写和环境描写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使用哪种人物描写方法，写出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景物描写，交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时间、季节或烘托人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心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要求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标画出代表性的句子进行一两处旁批，要指出写得好或者不好的地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68360" y="4437000"/>
            <a:ext cx="7848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（四）描写方法（ </a:t>
            </a: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9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分 ）</a:t>
            </a:r>
            <a:r>
              <a:rPr b="0" lang="zh-CN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有细致的人物描写（</a:t>
            </a:r>
            <a:r>
              <a:rPr b="0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7</a:t>
            </a: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分）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有景物描写（</a:t>
            </a:r>
            <a:r>
              <a:rPr b="0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（五） 语言文采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看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用词是否准确？能否用上优美词语和适当的修辞手法写人写事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要求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找出好词好句，用赞美符号标出。或用得不够好的，请指出，并改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611280" y="3933720"/>
            <a:ext cx="853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（五）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语言文采（</a:t>
            </a: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用上积累的优美词语（</a:t>
            </a:r>
            <a:r>
              <a:rPr b="0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分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用上修辞方法的句子（</a:t>
            </a:r>
            <a:r>
              <a:rPr b="0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14:43:19Z</dcterms:created>
  <dc:creator>lcm</dc:creator>
  <dc:description/>
  <cp:keywords/>
  <dc:language>en-US</dc:language>
  <cp:lastModifiedBy>Li</cp:lastModifiedBy>
  <cp:lastPrinted>1899-12-30T00:00:00Z</cp:lastPrinted>
  <dcterms:modified xsi:type="dcterms:W3CDTF">2020-02-25T12:03:09Z</dcterms:modified>
  <cp:revision>1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381</vt:lpwstr>
  </property>
</Properties>
</file>