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DC8-3BF9-4F8C-AD7D-63A24B38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4DC-D235-4775-8734-F4E5654B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5568F-EC42-4CDF-AE59-6EEC8A04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0F94E-A548-4A7D-96ED-608F333E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17E7-829E-4237-B574-5869BC8E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59C23-D27D-4BDD-86C9-95B3F257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A4C1C-C5F5-40C1-A41B-7C4AFDE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10E5C-7250-460F-A5F5-1D7509B7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C3F5E-C226-4564-9828-8194BD05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8BABF-4964-4C0D-B6AD-96A9126C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A81C9-174D-47F7-969E-47B99B8F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0027A-EC5B-421D-8E22-456ADFA4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80A-CE79-463E-9B07-B869CB1F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49A8F-B107-4D6E-964F-FE923BD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18183-5FC1-4158-ADB1-9D3FB65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FE651-7A44-4447-AD0E-1B04184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63EF4-6729-4CD8-999F-E54383B0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55FA9-9AF8-475B-9776-31F1A2A6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7FDDF-A363-4554-BA7D-C40BFD04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F7DFE-F3E9-4A64-8AB3-9E53F9F9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B63BB-4C01-4F66-B57B-E3B5B6BA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5FAF6-F89E-46A3-A356-45D1AA4E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DEBAB-755F-451C-A1C3-EEC5607F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92B-0275-47A5-8BD5-5A362820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F722D-AEC3-480E-9BAA-7A5A63BE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DE401-929F-4270-915B-E1AB9FAA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52BB8-3B3E-4A18-AD65-7A102A50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345CA-ED7A-4DBB-9E08-63C06A84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F5EE-0D91-4374-9D87-75D0EB6E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DD2AC-46D6-4A61-9B04-CE6EFF22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0A028-23D3-4DE4-8365-E62A7E8A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F130F-4305-45D6-9585-71BF9CE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49CCB-6E6A-41D9-B36F-81A3651E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036F2-1C62-4AAF-B27F-714B1DD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F6A-B87D-4598-9A75-2241A498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76F34-3C6F-4CD5-BB81-F70D4D7D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1A16F-9103-4A42-A623-36341F28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1B05D-C528-4F91-B68F-6EE0E724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03BB8-E472-47D6-BB1A-B3800EF0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32BFE-08A7-446C-84FE-FAE86F9D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826EC-F977-4DF3-B0CE-2E75B8D5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20DF3-7F26-47F2-A3EF-0808788C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B5929-16C0-4372-ABBB-A653D36B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C4B12-BB7D-43C4-A384-4086A8B7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424D9-8334-4C82-9C9D-4B6905B1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3C21-F6F5-4188-ADB6-9C70D468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7EA2D-D52D-4B94-AE57-DA52F88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19854-EF65-409B-8833-7D99A12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34570-5A62-491A-8DD7-E02C56CD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2462A-0B3F-41C5-8DEF-739EAA0B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13DF9-9BB2-4577-8E0A-BC88CFFF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F6E80-65F9-4529-A7D9-07B0176D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6E0A5-6DB2-4539-B813-0C039170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96E36-5FB9-40EB-9C06-528CE1A3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1E9D4-A7E8-44BD-9E6D-8EA546E6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C2945-E253-4B89-BCA4-AC2750CD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EC3E-6884-4632-9615-ACB736A0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17296-D8AA-473F-B78B-E36057F3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E2EA3-9414-4CA3-8322-8338151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9EA93-1687-4463-A0C6-E8549A1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0845E-6C71-4179-975B-F1FD2C4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2C0F6-1826-42FD-83D3-34E3E704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C3384-23D7-484A-980B-48A916B8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92134-E6F4-49E8-ACED-77299AAA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238AD-586E-4059-BCCE-DFA6FC3A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2E949-FDE3-4131-B215-F867FD0B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21969-9BDB-4448-823D-5F865AD7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AD2-2CA0-410C-9DDB-F3DA6E56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B72E58-6C02-404C-A0F7-C8BF3F3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FFC8A-D39E-45E2-B0DA-10AACEA3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A53A5-7395-424F-92BC-79ED216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02C67D-4B73-49CA-AB8D-7095A0A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FDBCF-28C8-4932-8A1A-1C7E27D4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14809-FC90-4586-981B-4FE66C9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F4650-B760-432B-9E2F-065827EC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2DA81-62B1-45AE-A01C-3A348551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4E5D7-8288-4E2B-BA46-72E9BE46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A23B5-7445-45DA-9067-E4995330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015-5F92-4479-BE3C-0FD945AE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2D8FE-ECCB-4319-BA5E-C4871323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01A54-6B5A-4745-91DE-9E70FD3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B5515-018B-4F0D-85E2-8977FBB8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1388B-C369-442E-B92E-17CA7D32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52513-E349-4458-9811-CC3B9885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2B786-424E-4209-8CAE-DF3EE4C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C9D5E-B8FB-4BA6-B466-F1984DD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6D370-CFFE-4080-94D1-75B656C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5164D5-3A56-43DB-842B-B7A29A9E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D8728-2C08-4DAF-9F49-BF5B3611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9554-7BBA-4530-8CB0-F63D0B32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BF165-CC7D-40D4-B21D-FADDFE92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E5821-B913-4C64-BCA0-F4AD2AD8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7D976-EA1E-43EE-805E-8E3516E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63FC4-2B7D-4901-BD40-B0AC92A5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A08E2-D90C-42EB-8B4C-A9FF5851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E803DD-BE3F-44EF-8C3A-EB940504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FDA685-00A2-4507-8695-B9C51B97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4B960-54E5-4426-A988-5D1150A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A8EEE-F0CF-4B12-9A68-5A4CE6C0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64579-2A2E-47E2-8DE6-95F697A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36D3-B7BB-42A1-BB2B-FAFC543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9F934-4D2D-4C1D-BFAF-CE2506F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EA24B-F2F6-43CE-BB0E-3A3C26AE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724DA-F1B3-4885-B963-D7593A1E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36D19-7830-499F-92A1-232C1434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FAF63-7A93-4976-80FA-6695081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24301-A167-4F91-8EED-13139980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AF9CC-AAC9-4591-87F4-B75D2B7B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B26248-6BE6-47BF-B7A8-D3E15707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A116C-D660-44B8-B01E-2E624F43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EBEF3-B9C0-42AF-AFDB-C579750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4B4-57ED-4235-9BC9-233E3081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74EA-031E-423D-81B1-CD4D91DE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A4F50-98AD-4618-BF8B-11E0F1F5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3DC38-5340-49D6-8434-C8393C2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BB919-E9EC-44FC-BE45-EE4BCEC4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10A0E-4898-4733-BD56-691DAC19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0757C2-5189-4B8F-BF66-B96D082E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5E6D1-36EB-4DF6-A6FF-ADF3EF84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2F8AF-ADD4-480E-B890-C5C74653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DAE67-C127-4FE3-A789-169C3119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FB425B-C5D7-4EC5-9BF4-7F240B17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C92DA-0766-4084-9F5C-4452025B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EDD0-21B3-430A-9BCD-86D4500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580EEE-4E6B-4EE8-A3BA-008610FF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64754-9600-4C59-BCDD-9CE2240F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45ED7-7610-4690-9DCC-5746F549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9C726E-354D-4D91-90F1-3468D555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41E55-81A5-4EF5-B47C-2D470F4E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3D569-A35E-42D6-85EE-B8898E65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DB01E-D719-45D1-849F-BEBFE212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6FE89-0519-44D9-B1A6-51F5D2AD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190E21-D6CB-458C-8111-1C231923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8FAEC-F9C0-4E71-94A2-1BC2892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5606-991E-4F88-B548-AD3A633C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E8DC9-5F28-4343-A65D-C8A9776A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06A4B-1194-40E4-8EF5-5295D44E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370B7-1477-4CCA-8219-8996B6A3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BE6B5-A64E-47BF-BB7C-F2D3B9C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58D16-6E62-436D-A92C-A2A79AAE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C988D-3555-479D-B915-1F4DD633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B6E2D1-6EDC-4F57-A85F-82109FB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0795F-2CBB-46A7-929D-93BA60C5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71ECE5-98E9-4AC7-A0BB-60F67698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5B218-A809-4B5A-852D-65DDD03D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6F80-C0B0-4F8B-9FC7-D30DABD0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58564-36C9-4294-A353-25E73D05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DEE4A-3567-4474-A03D-71472E93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A4AB9-5BCA-4532-8329-E5CDD02D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DE5D89-C6BE-4B20-BF89-F21563F7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478EF-342A-4EF3-9033-28D8883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AEC00-D0D6-4F60-B87A-1DAF73E1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7858E-379E-4E5F-95BD-651F7A2D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5C021-A1EC-4C1F-BFEF-3A692BDC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56DC9-8DBF-48BA-9261-3066A3DB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59B63-B340-48D0-8E69-A50BA23F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C6F0-0F6A-4BEE-BBFF-3C5672CD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D6398F-6A07-43C4-ACC8-B5F67BAE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E39832-459E-41C7-B312-713C7D1F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8C432E-5550-4E22-A3A5-8C93ECE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B805A-C3DF-4F1D-95ED-ACC01379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5EC0C-E6D6-4279-8E19-4C0C2FA5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EAE32-8F87-484F-BCD2-6F12CC56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A8DB08-700A-4EA3-84EC-C0212447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A3A34D-9FAD-4E82-83F9-ABDCB531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B2AD70-7DAA-4A69-9D55-86DE3F0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02BCA-03AA-44F1-99E9-EFBE7080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C367-D8AB-4501-9639-5CFC9A29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66AB0-CE97-4203-822E-5DCBF483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55361E-52EB-4D80-AA4B-259302F0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0FD8E-68AE-47A6-BB27-7C7745DE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86CAE-2A59-442D-AD15-4FDCE8E7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A44750-7366-4933-B2D7-D8C8FCC0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957C06-9023-429A-A595-209EEE1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0C983C-28CE-46B2-89FF-FF3B037A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D9CB6B-AD28-470B-92D9-4E0D37D5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EE7CF-6745-4A3E-8DF6-75A18205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0B4620-E9D2-4ED9-BDA8-0C2A386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9BE7-DF4C-4C18-A497-66E0F8FB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614979-B9C8-4C98-90C9-0266472F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24D7A-CCB7-4A8C-9CBC-67FB6F6B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DF3C5A-5DA8-4DAE-90F3-CDB55E0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1E322-7279-45BF-BD27-021A8FDD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348BA-322B-44E0-9DA8-D52B6DA1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3FBE3B-6350-4002-A9D7-A85DF8DC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9D6C6-D53A-4D33-8C5E-A9664D91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DFBEFF-1CA1-45AA-A7F8-DED5383D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BBBE0A-C746-4FE4-B6CE-A43C7D09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6F033-678C-483B-9BA5-4598FC35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3854-B06A-4338-A38D-D76248BD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3C7168-707E-44DA-B1F5-7A78D19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D1513-037E-47D6-885C-96F71E0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02327B-170B-4159-9141-42D4EC84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27A55-A343-4FE9-A6D3-A7DD0D5A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669726-2DC9-459C-A50B-F81AA661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0E9CB1-F883-4F02-BB2C-318FF4E4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90D055-1D8C-45E8-94CA-2E941D84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284CDE-9AAF-403C-B8F4-36C0BBB5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74A702-6F19-4CEE-9CCF-D26A8DC5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C7CECF-DF01-466F-AFB0-5C2C85D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AC96-1338-462B-B938-E111CF39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435A7C-AE36-426A-AE5A-1F3A56E5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F99300-737C-41D5-9B37-0AD6B3EA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386D07-05F3-40EE-BB81-B9BFC637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949AB-70D3-4D1A-9803-6C0347C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A3A624-BFAF-43B9-B004-DC5C1F9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FC231F-6385-4BEF-9008-D419822D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9F4E93-370C-48CD-8B49-E25F7B35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9EC622-987C-4CF5-BB5F-B07837E4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0D17FD-5DC4-4DBA-B4A6-65CABF18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568A-793A-4217-8E55-B5D99443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9D4-8D0D-4D0F-81EB-CBFA443C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FD04-6AD8-4833-BB4C-18E9EC2C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7ECE-8763-47FC-B134-0200178B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2566-8C77-4E43-997D-E6B105F4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C93D6-5DE9-42F1-839E-E336CCD4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4E6B-0665-4102-8E46-5D44B91B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1A25-8E7A-4419-B38A-A785FE7E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96AA-B714-4D5B-9977-B7A0ABF0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1157-F046-45A8-B795-E81964DB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9CAF-067E-4950-B96A-B7AE9F3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BDAF-9278-4A28-A8BB-25979644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4B1-94D1-4FBF-A982-30F77314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E2DB-ABB3-4E03-BFDF-E962F3C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CDC4-AB0C-4CC2-92F9-5E0898C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F716B-86DF-45C2-BB17-63D2A6A0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3C5D-EECF-4432-AA66-5988B0B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CA59-DE23-46B1-AD42-0B3D502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BE58-A707-4817-A461-1EEA89F6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6420-C32F-416C-A600-9AE9558D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C62F-355E-497B-B02E-C44A1D74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472F-D2B6-4CD5-AF80-20EB1355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3FA3-7C04-4B82-BA78-8AF93F4F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14E-29FC-4E14-B570-60D625A6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05C9-81C3-422E-908B-088D1D6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018C-DC20-47A9-918A-26BB46D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F1E54-1793-488C-9178-E8F7E655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EE8DE-4E83-4F82-A7E2-FF18D1E3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EDA6-201F-4A92-8A89-BB3BA2CF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77DB-95C9-4CDD-AD0E-0B6681BB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46C09-B084-4D0C-ACD5-6EA93C6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5CC12-721D-4825-B8C5-A3C4135C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CCF5C-B4A4-4D48-92EE-5152A769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0E2C5-D8BA-4C55-8452-CEEE571F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6C4-D1B1-4CA3-AFB6-E5330FF0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50DE0-CE24-42AB-BE3C-60988E3D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1C83-15E5-4646-B8A2-BB60CCBF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C853-737E-4AA0-AACD-109EB3A5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8BEC7-8571-47CC-BDA3-D02B66BF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E54B9-C522-4D86-9CED-B1682E6B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F0BB-4250-4C6E-AA95-7D8FBCCA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0C18-D3C7-4BB1-8705-40415D5C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B8DA3-0898-478B-BA31-3D43F51B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D2095-E17B-4D7F-A02C-D835658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7A0F-517D-44B6-9A4F-3EEFCE14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C13-C367-4B7A-B141-A169D459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F523-7CCD-4E3D-9F40-85C8BF5F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A4A57-BA59-44B7-BD8F-1D94EF5A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1D81A-9521-46D1-B23A-3622EA96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2293-C100-4C2D-B98C-74830E64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C7C0-363D-47AC-8104-02F4B423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6D45C-4722-4D0A-A3FC-5925CDFD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BCD6-E513-4A88-82A6-7A00445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493A7-1F3F-481B-A9D9-0F9C8C9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91C12-2642-4E05-B443-12540380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C0422-208E-438B-99D6-4FB7197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BE0-F867-49F7-B93F-E5CF055B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1850A-BB2D-402D-B139-C0726E0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0E1E0-7A3F-4A46-B18A-B77C92C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B087-78F0-4627-8105-6DD27210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76B2-480E-4958-B827-BFCDAA9B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B7744-6FF9-4215-8366-DC7FA41C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F5A66-DDE7-4422-B6A0-B9E0031C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F410-7F34-432B-BA38-5B3E1F7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DA9AE-D585-4296-885D-61EF9E69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36103-690A-4988-A88A-168D3352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BB8A6-4462-4CE4-A549-53A8769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221-BAD1-4A65-8DEC-20502D7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BFAB3-1915-4B96-809E-55AAC666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1BAB0-0504-4A33-96FC-F60DADB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9DC8-988F-4B06-900B-D36E0195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C0551-A486-41BC-9DD6-29E5FC5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9874E-73F4-4DF1-869E-585757BC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3EBD-DDC3-4C14-8D51-554C1C44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D3E90-92E5-4AC1-8EE5-6D539D2B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7559F-47C8-4FF1-BF9A-32FA179A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59ABB-7E71-4FE8-96EE-62605B6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7E7FA-E6D6-4C5D-BD00-F1D44C19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49F3-C9E8-4FF0-A768-45930634AD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C72-2DE3-46EB-B5C7-450E7EC36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C509-26C5-4D02-86DB-359E967B4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DA54-6049-4C2F-812D-5B8D6A5C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381-2F01-447C-B754-7F5C27BC3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9185-EAF0-4966-AFC2-EB0A6BA8A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19457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3CF4-96D8-46E2-B4AA-2935BCCE7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0DFC-7176-4C6D-8CF4-EAE866A9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4C37-92B1-4D4F-AC8C-509849107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21CF-D7D9-4019-B50F-48210A9DA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DA0C-4275-42E6-B518-42E3A944F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6CD1-9B28-4603-B5F7-467195A8A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AF4-C214-42EC-87E2-1ACDBE6C4EC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0E9-777C-4DF4-9976-ED6D26F6C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3F96-6865-4A34-A307-AD776F6AE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F94-DF88-4CC1-856E-11D4C1BF3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8102-2405-431B-8E3E-088A95341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1602-E62A-40F2-B1D1-FAC4BCAF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3330-6F0F-40F1-BB90-DF25F0594E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457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8D05-C0AB-4749-944B-55332BFC4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4AF-45A3-4DAA-AB3A-0FCDBC182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84D6-ACFB-4D57-8704-C9CF857E3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1E9B-5865-4A5B-A663-9C632C5E1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0779-B158-4BA9-920D-F356B3280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DEDE-4421-45E6-8976-0374867E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402120" indent="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80460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206720" indent="-40212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609200" indent="-80460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0865-A525-406B-9FA5-085CFDA15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48130" descr="画框"/>
          <p:cNvPicPr/>
          <p:nvPr/>
        </p:nvPicPr>
        <p:blipFill>
          <a:blip r:embed="rId1"/>
          <a:stretch/>
        </p:blipFill>
        <p:spPr>
          <a:xfrm>
            <a:off x="3124080" y="1095480"/>
            <a:ext cx="5257800" cy="454320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48131" descr="yd2"/>
          <p:cNvPicPr/>
          <p:nvPr/>
        </p:nvPicPr>
        <p:blipFill>
          <a:blip r:embed="rId2"/>
          <a:stretch/>
        </p:blipFill>
        <p:spPr>
          <a:xfrm>
            <a:off x="3200400" y="1295280"/>
            <a:ext cx="5029200" cy="4118040"/>
          </a:xfrm>
          <a:prstGeom prst="rect">
            <a:avLst/>
          </a:prstGeom>
          <a:ln w="0">
            <a:noFill/>
          </a:ln>
        </p:spPr>
      </p:pic>
      <p:sp>
        <p:nvSpPr>
          <p:cNvPr id="988" name="文本框 48132"/>
          <p:cNvSpPr/>
          <p:nvPr/>
        </p:nvSpPr>
        <p:spPr>
          <a:xfrm>
            <a:off x="1709280" y="4191120"/>
            <a:ext cx="72900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贺敬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文本框 48133"/>
          <p:cNvSpPr/>
          <p:nvPr/>
        </p:nvSpPr>
        <p:spPr>
          <a:xfrm>
            <a:off x="302760" y="92772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回  延  安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文本框 34817"/>
          <p:cNvSpPr/>
          <p:nvPr/>
        </p:nvSpPr>
        <p:spPr>
          <a:xfrm>
            <a:off x="0" y="228600"/>
            <a:ext cx="51814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东山的糜子西山的谷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肩膀上的红旗手中的书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文本框 34818"/>
          <p:cNvSpPr/>
          <p:nvPr/>
        </p:nvSpPr>
        <p:spPr>
          <a:xfrm>
            <a:off x="547560" y="5823000"/>
            <a:ext cx="8074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羊肚子手巾三道道蓝，见个面面容易拉话话难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文本框 34820"/>
          <p:cNvSpPr/>
          <p:nvPr/>
        </p:nvSpPr>
        <p:spPr>
          <a:xfrm>
            <a:off x="547560" y="1727280"/>
            <a:ext cx="7871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关关雎鸠，在河之洲。窈窕淑女，君子好逑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文本框 34821"/>
          <p:cNvSpPr/>
          <p:nvPr/>
        </p:nvSpPr>
        <p:spPr>
          <a:xfrm>
            <a:off x="547560" y="4522680"/>
            <a:ext cx="8074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山不在高，有仙则名；水不在深，有龙则灵；斯是陋室，惟吾德馨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文本框 1"/>
          <p:cNvSpPr/>
          <p:nvPr/>
        </p:nvSpPr>
        <p:spPr>
          <a:xfrm>
            <a:off x="547560" y="2603520"/>
            <a:ext cx="78710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蒹葭苍苍，白露为霜。所谓伊人，在水一方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文本框 2"/>
          <p:cNvSpPr/>
          <p:nvPr/>
        </p:nvSpPr>
        <p:spPr>
          <a:xfrm>
            <a:off x="455760" y="3398760"/>
            <a:ext cx="78706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樱桃好吃树难栽，不下苦功花不开。幸福不会从天降，社会主义等不来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文本框 37890"/>
          <p:cNvSpPr/>
          <p:nvPr/>
        </p:nvSpPr>
        <p:spPr>
          <a:xfrm>
            <a:off x="0" y="152280"/>
            <a:ext cx="6858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米酒油馍木炭火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团团围定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炕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上坐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满窑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里围得不透风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脑畔上还响着脚步声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36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老爷爷进门气喘得紧：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“我梦见鸡毛信来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36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可真见亲人……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亲人见了亲人面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欢喜的眼泪眶眶里转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保卫延安你们费了心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白头发添了几根根。”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文本框 37892"/>
          <p:cNvSpPr/>
          <p:nvPr/>
        </p:nvSpPr>
        <p:spPr>
          <a:xfrm>
            <a:off x="4800600" y="1219320"/>
            <a:ext cx="4114800" cy="855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选择有陕北地方特色的事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渲染气氛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文本框 37893"/>
          <p:cNvSpPr/>
          <p:nvPr/>
        </p:nvSpPr>
        <p:spPr>
          <a:xfrm>
            <a:off x="4876920" y="4114800"/>
            <a:ext cx="32004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亲人欢聚的热烈场面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7169" descr="yd2"/>
          <p:cNvPicPr/>
          <p:nvPr/>
        </p:nvPicPr>
        <p:blipFill>
          <a:blip r:embed="rId1"/>
          <a:stretch/>
        </p:blipFill>
        <p:spPr>
          <a:xfrm>
            <a:off x="4876920" y="3395520"/>
            <a:ext cx="4267080" cy="346248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7170" descr="yd1"/>
          <p:cNvPicPr/>
          <p:nvPr/>
        </p:nvPicPr>
        <p:blipFill>
          <a:blip r:embed="rId2"/>
          <a:stretch/>
        </p:blipFill>
        <p:spPr>
          <a:xfrm>
            <a:off x="0" y="0"/>
            <a:ext cx="4343400" cy="313704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1" descr=""/>
          <p:cNvPicPr/>
          <p:nvPr/>
        </p:nvPicPr>
        <p:blipFill>
          <a:blip r:embed="rId3"/>
          <a:stretch/>
        </p:blipFill>
        <p:spPr>
          <a:xfrm>
            <a:off x="5372280" y="260280"/>
            <a:ext cx="3276360" cy="28767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43010" descr="jzh"/>
          <p:cNvPicPr/>
          <p:nvPr/>
        </p:nvPicPr>
        <p:blipFill>
          <a:blip r:embed="rId4"/>
          <a:stretch/>
        </p:blipFill>
        <p:spPr>
          <a:xfrm>
            <a:off x="977760" y="3832200"/>
            <a:ext cx="2667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鲜明的地方色彩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3600" y="99360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　　　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中的枣园、窑洞、宝塔山、糜子、米酒、窗花、白羊肚手巾等富有地域色彩；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诗中所采用的信天游形式，是陕北特有的民歌形式，豪迈、热烈、淳朴、直白；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诗中“登时”‘莫要”“几根根”等，取自陕北方言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歌表达的是对延安的深厚感情，所以诗中景物的描写、形式的采用以及全诗的遣词造句，都带有鲜明的地方色彩，使诗的内容与形式达到了和谐统一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8" name="联机映像占位符 53251" descr="白羊肚手巾红腰带"/>
          <p:cNvPicPr/>
          <p:nvPr/>
        </p:nvPicPr>
        <p:blipFill>
          <a:blip r:embed="rId1"/>
          <a:stretch/>
        </p:blipFill>
        <p:spPr>
          <a:xfrm>
            <a:off x="5961240" y="109224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9217" descr="gl2"/>
          <p:cNvPicPr/>
          <p:nvPr/>
        </p:nvPicPr>
        <p:blipFill>
          <a:blip r:embed="rId1"/>
          <a:stretch/>
        </p:blipFill>
        <p:spPr>
          <a:xfrm>
            <a:off x="1143000" y="122400"/>
            <a:ext cx="6858000" cy="2087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9218" descr="whsz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9219" descr="dlbg"/>
          <p:cNvPicPr/>
          <p:nvPr/>
        </p:nvPicPr>
        <p:blipFill>
          <a:blip r:embed="rId3"/>
          <a:stretch/>
        </p:blipFill>
        <p:spPr>
          <a:xfrm>
            <a:off x="5715000" y="441972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1032" name="文本框 9220"/>
          <p:cNvSpPr/>
          <p:nvPr/>
        </p:nvSpPr>
        <p:spPr>
          <a:xfrm>
            <a:off x="2590920" y="2940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延安旧貌换新颜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0241" descr="yjl"/>
          <p:cNvPicPr/>
          <p:nvPr/>
        </p:nvPicPr>
        <p:blipFill>
          <a:blip r:embed="rId1"/>
          <a:stretch/>
        </p:blipFill>
        <p:spPr>
          <a:xfrm>
            <a:off x="304920" y="457200"/>
            <a:ext cx="4572000" cy="4280040"/>
          </a:xfrm>
          <a:prstGeom prst="rect">
            <a:avLst/>
          </a:prstGeom>
          <a:ln w="0">
            <a:noFill/>
          </a:ln>
        </p:spPr>
      </p:pic>
      <p:sp>
        <p:nvSpPr>
          <p:cNvPr id="1034" name="文本框 10243"/>
          <p:cNvSpPr/>
          <p:nvPr/>
        </p:nvSpPr>
        <p:spPr>
          <a:xfrm>
            <a:off x="685800" y="5257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杨家岭革命旧址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文本框 10246"/>
          <p:cNvSpPr/>
          <p:nvPr/>
        </p:nvSpPr>
        <p:spPr>
          <a:xfrm>
            <a:off x="5334120" y="7621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杨家岭的红旗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高高的飘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革命万里起高潮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文本框 10247"/>
          <p:cNvSpPr/>
          <p:nvPr/>
        </p:nvSpPr>
        <p:spPr>
          <a:xfrm>
            <a:off x="5715000" y="4114800"/>
            <a:ext cx="304812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延安向全国扩展的大好的革命形势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作品中的思想感情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　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诗人自始至终把握住了对母亲延安的感情，通过回延安、爱延安、会亲人、逛延安、颂延安五部分内容来倾吐自己的激情。抒情方式上既有直接倾吐，又有间接抒情．或用动词，或描写，便感情抒发既酣畅淋漓，又生动形象，具有很强的感染力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作品中思想感情一步步升华。诗人踏上延安的土地、见到延安的亲人，从“手抓黄土教不放，紧紧地贴在心窝上”“一头扑在亲人怀”等诗句看出，诗人产生的是激动、喜悦的感情；诗人回忆延安对自己的养育，描写和延安亲人欢聚畅谈的情景及看到延安的新面貌之后，爱延安、爱革命、爱人民的感情达到了高潮；当诗人又要离别延安时，从结尾两句诗可以领会到，诗人难舍难分的惜别之情上升到了巅峰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文本框 47105"/>
          <p:cNvSpPr/>
          <p:nvPr/>
        </p:nvSpPr>
        <p:spPr>
          <a:xfrm>
            <a:off x="838080" y="320760"/>
            <a:ext cx="43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采用多种修辞手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文本框 47106"/>
          <p:cNvSpPr/>
          <p:nvPr/>
        </p:nvSpPr>
        <p:spPr>
          <a:xfrm>
            <a:off x="1371600" y="1519200"/>
            <a:ext cx="544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喻、拟人、夸张、排比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对偶、借代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文本框 47107"/>
          <p:cNvSpPr/>
          <p:nvPr/>
        </p:nvSpPr>
        <p:spPr>
          <a:xfrm>
            <a:off x="2728440" y="3652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把诗歌的内容表现得形象、生动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而且把作者的感情表现得亲切、热烈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文本框 4097"/>
          <p:cNvSpPr/>
          <p:nvPr/>
        </p:nvSpPr>
        <p:spPr>
          <a:xfrm>
            <a:off x="3809880" y="45720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当代诗人、剧作家。山东峄县（今枣庄市）人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940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年到延安，进入鲁迅艺术文学院学习。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1945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年，鲁艺集体创作了歌剧《白毛女》，文学剧本由贺敬之、丁毅执笔。主要诗歌集有《朝阳花开》、《乡村的夜》、《放歌集》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雷锋之歌》、《贺敬之诗选》等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1" name="图片 4098" descr="賀敬之"/>
          <p:cNvPicPr/>
          <p:nvPr/>
        </p:nvPicPr>
        <p:blipFill>
          <a:blip r:embed="rId1"/>
          <a:stretch/>
        </p:blipFill>
        <p:spPr>
          <a:xfrm>
            <a:off x="304920" y="609480"/>
            <a:ext cx="2781360" cy="3962520"/>
          </a:xfrm>
          <a:prstGeom prst="rect">
            <a:avLst/>
          </a:prstGeom>
          <a:ln w="0">
            <a:noFill/>
          </a:ln>
        </p:spPr>
      </p:pic>
      <p:sp>
        <p:nvSpPr>
          <p:cNvPr id="992" name="文本框 4104"/>
          <p:cNvSpPr/>
          <p:nvPr/>
        </p:nvSpPr>
        <p:spPr>
          <a:xfrm>
            <a:off x="685800" y="5089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贺敬之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文本框 5122"/>
          <p:cNvSpPr/>
          <p:nvPr/>
        </p:nvSpPr>
        <p:spPr>
          <a:xfrm>
            <a:off x="762120" y="449280"/>
            <a:ext cx="79246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_x005F_x000B__x005F_x000C_"/>
              </a:rPr>
              <a:t>写作背景：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“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1956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年，</a:t>
            </a: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我跟随当时团中央的一位领导回延安，参加西北五省青年工人造林大会。这时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我已经离开延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11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年了</a:t>
            </a: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，回去以后感觉很不一样。我本打算写几篇报告文学和一点新闻报道，青年大会要举行一个联欢晚会，说要我出个节目，我说我用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信天游的方式</a:t>
            </a:r>
            <a:r>
              <a:rPr b="0" lang="zh-CN" sz="3200" spc="-1" strike="noStrike">
                <a:solidFill>
                  <a:srgbClr val="ffffff"/>
                </a:solidFill>
                <a:latin typeface="_x005F_x000B__x005F_x000C_"/>
              </a:rPr>
              <a:t>写几句诗，抒发一下感情。夜里我就一边唱，一边写，写了一夜，……当时我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5F_x000B__x005F_x000C_"/>
              </a:rPr>
              <a:t>在窑洞里面走着唱着，还流着眼泪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文本框 22529"/>
          <p:cNvSpPr/>
          <p:nvPr/>
        </p:nvSpPr>
        <p:spPr>
          <a:xfrm>
            <a:off x="609480" y="1600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是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陕北民歌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的一种形式，它的曲调纯朴、高亢、悠长，节奏自由。歌词通常为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两句一段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，长度由一段至几十段不等。每句字数不定，但基本上以七字句为主。句中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多用叠字句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。修辞上多用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比兴、夸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等手法。歌手用同一曲调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宋体"/>
              </a:rPr>
              <a:t>反复演唱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，有时旋律上稍加变化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文本框 22531"/>
          <p:cNvSpPr/>
          <p:nvPr/>
        </p:nvSpPr>
        <p:spPr>
          <a:xfrm>
            <a:off x="533520" y="380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宋体"/>
              </a:rPr>
              <a:t>信天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6" name="王二妮 - 山丹丹开花红艳艳" descr=""/>
          <p:cNvPicPr/>
          <p:nvPr/>
        </p:nvPicPr>
        <p:blipFill>
          <a:blip r:embed="rId1"/>
          <a:stretch/>
        </p:blipFill>
        <p:spPr>
          <a:xfrm>
            <a:off x="7691400" y="59166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33560" fill="hold"/>
                                        <p:tgtEl>
                                          <p:spTgt spid="9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思路结构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449568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重回延安，心情激动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再忆延安，满怀感恩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亲人团聚，激动喜悦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漫步新城，高声赞美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展望明天，豪情无限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9" name="联机映像占位符 55299" descr="毛主席在延安著作（辛莽）"/>
          <p:cNvPicPr/>
          <p:nvPr/>
        </p:nvPicPr>
        <p:blipFill>
          <a:blip r:embed="rId1"/>
          <a:stretch/>
        </p:blipFill>
        <p:spPr>
          <a:xfrm>
            <a:off x="5364000" y="1557360"/>
            <a:ext cx="35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文本框 30722"/>
          <p:cNvSpPr/>
          <p:nvPr/>
        </p:nvSpPr>
        <p:spPr>
          <a:xfrm>
            <a:off x="351000" y="13644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几回回梦里回延安，双手搂定宝塔山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文本框 30723"/>
          <p:cNvSpPr/>
          <p:nvPr/>
        </p:nvSpPr>
        <p:spPr>
          <a:xfrm>
            <a:off x="4294080" y="4510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宝塔山是革命圣地延安的重要标志和象征。登山凭眺，可纵观圣地全貌。 “只有登上宝塔山，才算真正到了延安”。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1673280" y="1185840"/>
            <a:ext cx="54864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矩形 32769"/>
          <p:cNvSpPr/>
          <p:nvPr/>
        </p:nvSpPr>
        <p:spPr>
          <a:xfrm>
            <a:off x="342900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文本框 32771"/>
          <p:cNvSpPr/>
          <p:nvPr/>
        </p:nvSpPr>
        <p:spPr>
          <a:xfrm>
            <a:off x="1763640" y="465300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白羊肚手巾红腰带，亲人们迎过延河来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5" name="图片 32774" descr="腰鼓"/>
          <p:cNvPicPr/>
          <p:nvPr/>
        </p:nvPicPr>
        <p:blipFill>
          <a:blip r:embed="rId1"/>
          <a:stretch/>
        </p:blipFill>
        <p:spPr>
          <a:xfrm>
            <a:off x="1676520" y="533520"/>
            <a:ext cx="5943600" cy="388620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文本框 33794"/>
          <p:cNvSpPr/>
          <p:nvPr/>
        </p:nvSpPr>
        <p:spPr>
          <a:xfrm>
            <a:off x="1785960" y="3603600"/>
            <a:ext cx="69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兴——“兴”者，起也；起兴，即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先言他物引起所咏之物，以为寄托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委婉含蓄，寓意深远，文已尽而意有余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文本框 33795"/>
          <p:cNvSpPr/>
          <p:nvPr/>
        </p:nvSpPr>
        <p:spPr>
          <a:xfrm>
            <a:off x="1420920" y="19447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——譬喻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以彼物比此物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文本框 28673"/>
          <p:cNvSpPr/>
          <p:nvPr/>
        </p:nvSpPr>
        <p:spPr>
          <a:xfrm>
            <a:off x="380880" y="685800"/>
            <a:ext cx="51818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二十里铺送过柳林铺迎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分别十年又回家中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树梢树枝树根根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亲山亲水有亲人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羊羔羔吃奶眼望着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小米饭养活我长大。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" name="文本框 28674"/>
          <p:cNvSpPr/>
          <p:nvPr/>
        </p:nvSpPr>
        <p:spPr>
          <a:xfrm>
            <a:off x="5638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文本框 28675"/>
          <p:cNvSpPr/>
          <p:nvPr/>
        </p:nvSpPr>
        <p:spPr>
          <a:xfrm>
            <a:off x="6095880" y="2743200"/>
            <a:ext cx="23623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比兴手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文本框 28678"/>
          <p:cNvSpPr/>
          <p:nvPr/>
        </p:nvSpPr>
        <p:spPr>
          <a:xfrm>
            <a:off x="5867280" y="4952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2" name="文本框 28680"/>
          <p:cNvSpPr/>
          <p:nvPr/>
        </p:nvSpPr>
        <p:spPr>
          <a:xfrm>
            <a:off x="6324480" y="4572000"/>
            <a:ext cx="18288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养育之恩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3T14:05:55Z</dcterms:created>
  <dc:creator/>
  <dc:description/>
  <dc:language>en-US</dc:language>
  <cp:lastModifiedBy>xiahui</cp:lastModifiedBy>
  <dcterms:modified xsi:type="dcterms:W3CDTF">2020-02-17T04:28:3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440</vt:lpwstr>
  </property>
</Properties>
</file>