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6141-86F7-45E0-B540-737AE2634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81AA-3165-4F08-A4C0-FC532A5E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EAE5B5-FB36-45EF-AA47-E9790ED8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BD2B2-C814-403A-BA07-49CF8783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73E83-AD99-4E0C-A3DC-4DB443C0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3ED46-4810-41CF-860A-20627539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8D7DC-5355-4EF6-A1E3-95EF51D7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98182-4F65-4279-9B88-4BE457EA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E4EDF-30D9-4431-85A7-A7B368A7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5543A-46C7-4832-82AA-024C17FFA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BF7C5-67CE-4560-9CD4-48A6D2979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0AC96-3E80-4B77-ACB3-519BE34C7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52ED-176E-410F-BBEB-2DB7AADA6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E81527-F5B5-482B-B5C2-5F0F3595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05685C-9CE7-43A8-8032-D6CCAB63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78B7B-3CBF-4568-A836-9026FC47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8C9BF-DFBD-45F5-9225-3F883165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8F9A1E-6D87-496D-B6D3-2FAE8CF7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BD1224-C182-4660-98A0-E8975998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FF08C-1945-4DC1-BD0E-542CA972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FF238-2C72-4170-8A38-03C3C7B7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913BC-CD5C-45FD-8DEC-F7449FB8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BD28C-A215-4961-93B9-75DAA34F2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AD63-E237-46F7-A804-8BC75AA2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2BCCF2-1308-4FF9-AE8C-70AEA34C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A2865-ACFD-4013-95E3-49664F17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E8CD6-AD1E-467B-AE5C-7FABB0FE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F3BF0-8428-4E51-BF5C-7F3AF6A0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0DA54-B925-47E5-BFAB-A76E0231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DAD71-543B-4CFF-8E0E-8ABD6A00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09821-EA4D-451E-8030-1ADEB67C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E631F-1597-4019-869D-4596C76B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2008F-F518-4CCE-95A2-0469613A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90550-D391-40AF-9F17-FF302EA0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8DE2-5DE8-4FAA-BEFA-26582F08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E010A-DBF6-47C1-90A0-2F5D6C34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9DEAB-9A8D-4D41-A078-97A06E65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D7BCC-3FEA-4C82-8000-0558A7CD6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D68709-E255-4C79-B27E-050C61DEA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A7C483-A505-44E9-BF45-E89A1806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ABB16-9EBB-47FD-BA60-ADDFD3AA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F97C1-91B2-42E4-A383-26E90BF6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F1B7DF-B835-47EC-AB57-2A8221A5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4E542-0157-4A2B-A64B-EC577E2F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6146C5-B126-4F75-ACA2-8423EEFC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C2B4-D540-4EAE-9541-0A2C3465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C93789-D78F-4FAA-9041-31AD406E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D8E66-D82F-460C-9E1F-F82C94AD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02DF6-FCEF-485E-ADD0-3752572D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E9B75-57DD-47A7-A68D-D0777DEE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CCBF19-58F3-4C12-AD69-4AC0BD22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59A96B-BD8E-4670-86F9-6E1BFF3B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0945D2-2A62-4C88-9D8D-FA6D9661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85D684-815B-4D7D-BE6E-2D83DC01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84C534-0D04-4225-A7CD-E344E18B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AD69DB-DC8E-42D7-8879-76267A50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78CE-5876-4F02-8BB1-3FC054D8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EF000F-3D1D-41BF-84CE-3D0462FD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267F90-AB78-445A-9382-77A707C2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2030A7-CB7D-4B8E-AB6E-BD6325AB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372AC4-1AAC-4972-AD2E-A3888672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AB94BB-A0FD-46C4-B072-9476DEDF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A2FE5F-3BAA-4EE3-98D4-4DB2D6B73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0D600F-13C0-494C-8EB5-05C79F591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C8087A-D245-4928-A85D-8AE76EC3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F0BA92-B40B-47AF-9809-B6D92C1E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62D8EB-0BBA-47C1-9283-7D308CD4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29EA-E3A8-466B-94BD-FA9FF3B6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B61106-BE5D-41A3-B757-CB4BCCB6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7DB0F0-4919-47CA-96A1-1EB2096B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456302-FCDC-4E4C-8C43-3F833596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475234-A1F0-466C-83A8-67A24007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0AE294-139B-4D47-816B-AD7BFBAD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F42852-6352-4812-8715-808D9650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125667-5EF3-4E40-A5E3-64B6E061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EA2E08-A757-4166-AD52-D03ABFFF7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E2ED4F-089B-4B12-9B3B-86B16A561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859181-6D60-4EC3-AC7F-37B3907B3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F723-A719-4FD5-BB40-1394D0EB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00343D-D504-4C31-8C83-793D939E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A126C3-6E0F-4E30-8CEA-CE6E0AAA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0F5564-565B-4AE1-B90B-A9755B20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9987E0-4319-4245-91A2-020761C0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02E807-CF7F-4EB1-A6F1-987DB5A4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00F1F3-859B-48F1-B0AD-6BBC9DA1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2F2EF1-4E00-45F1-8DE8-099B95E3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A8A227-BC10-4809-BFE9-24E9EF13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669E95-2373-4D1A-87B3-9EEF77BB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14EEE4-F5DA-466A-8B03-9665353B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5E33-2B3D-41DE-A983-F8774F4E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97B5DC-71F6-4D27-A635-3F0AB18D6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E13CB5-550F-4A95-82A0-6D65926FF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E0C37E-134D-4A19-B972-2EEEE412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1FEE5F-2695-4479-B2EE-C8637919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406300-22E0-4387-A57E-A50F298C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A58F1E-B3E3-4A56-BA82-204F102D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BDC7F0-997C-4E98-BB1E-1910B368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08E6C1-268F-4C17-B976-28770F2F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C10B79-9905-471B-B2DF-A3AB40B9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2B2111-C2C2-4128-B8C7-EA28AB89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4E2E-39A4-4F44-A11C-65A37507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144735-8A76-4E7E-A4E9-A72BEF30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EA693F-AFC0-4D88-8467-F0F3C8B8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198472-8073-4BE5-BC83-267D40B1C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83A67E-6225-4A0E-B267-BA6F11D23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B43D9F-07B9-4C99-8CD7-3DEFF315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BD76DD-4742-4ABD-822F-BED9B5A8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4040F3-1664-4A57-A4FE-BB68FEE0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DB9172-71C2-426E-A5E3-5D569F57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116681-7CCC-47F4-902D-F192C9BD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147EEE-7180-4F7F-B369-113D038E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9DD2-A197-49F9-B55F-3957B51D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D316-A4B3-4DAA-BD2A-FC91283E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D1C6BC-22FF-4C72-A52A-A6A930D2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5C0A6D-B8F7-46C8-B24E-627B1617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32C52A-2270-406C-9B2E-6096A0E2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3D0603-9FFE-4FC9-A870-F94BF04AC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3B3CAF-20AF-4A32-9DC0-4870F61E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46505E-C99F-43C1-A536-4B93687A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AD0A83-6319-4A43-A61A-AE7F39F3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A9933B-1459-4B9C-8E80-26EC1C10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DBCCB2-BE98-477E-B878-B19D5E2D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6BB995-0528-4D61-84DE-2AB937DF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5A27-F991-4AEF-8CB0-17894A1E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340B57-9457-4E68-99AC-F0CA67FE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5B54A0-531F-4D44-879B-282EF763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03485F-9B9B-4E6A-BC56-9EC42ED0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17BF92-5F32-49E5-A4CF-9FD373F4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763228-E765-4A99-B367-6C04656D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07EFF3-B851-4BE4-A4A0-2C25D05DE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1E3058-E9C8-441A-A34D-CCBB23607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D08AC6-83CD-4678-8E78-85BAC6EAC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CD8B59-00F8-453B-BEEC-D39ABD8D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1213A3-0425-4722-8AB3-4A886E14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B13F-8901-4AB4-ADAE-0180B2DF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5E48D5-F6E8-4B0E-B659-3DBA01C6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F5FEE7-9E7D-441A-9FC4-28738BA0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99795F-2EA1-441C-A4EE-9A9E8A2A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2F63C6-53D5-49E6-A882-95464EC7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168929-A73B-4690-B40B-4A5D832B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C2B40F-CB3C-4122-9CF1-D62FD23A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785F8D-5EE6-4F79-94EC-6AEEE2DD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95905B-DB23-4A3C-A344-208D73C21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7C0BA8-BBDC-4631-85F9-FC19096A1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8B2A41-7946-4E2E-8671-490425FE3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99C9-70F7-4926-95F8-CAE624C0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C8EEB5-53C5-4752-A9CA-0E15FF4C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74A8B5-048D-4E84-AB90-5F1F69DD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85007C-7906-4063-A6F1-BC8C4C04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26FDCB-646D-43C7-9278-45E34BCF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190F6C-9FF6-4CDA-90E1-9AC162D6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EB12C0-ED37-4E3C-9E2B-3B9C656E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1426A5-3B2B-47F0-99E5-92F71A56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C3C605-7F7B-4223-85F6-BF115BE5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93E310-75C5-4911-8456-C4CD85CB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ADB311-8050-4FD9-A2BB-0135B0579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44AF-E359-4D56-8470-59998347F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A0ACA4-C539-4DBB-BA74-F58591A02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8017D0-6EAD-4951-A202-081E84E0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24DA16-B098-4EF3-B430-4F999B2C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778CB0-005C-48DC-A845-1B80505F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39D7BB-C46A-49CF-B720-4206CFAE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301EC5-329D-4B67-B31B-3F6B7980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F15AE5-EC1F-4D37-84F0-BB8B848B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8B5278-F7C5-44DA-89B1-65E7C0A9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9D934C-C163-424D-8BBA-CAFBE52F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295B23-CA3B-41D4-B14A-7B4D8391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E2324-60F3-49C0-B0EA-9568ECE4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02EA6B-E181-43FC-8EE0-F262E9E9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D90AB0-B51A-4BB4-804D-24CC20AB7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89223E-157C-43FD-9471-B5A92767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78CF2D-1832-4697-87FF-497586917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C5DB2E-3342-46F2-8992-143E5697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48A17F-71AD-4790-B404-99D1E3CE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F766E6-62C3-44CB-A0A0-24EF681D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5534FC-F593-43D5-A294-CBA06A74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912EBD-52F8-495A-AC71-5E2B8932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45CDF4-4B77-4BFE-B6C9-F20C9AE7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87B01-ECA3-40BA-955E-C163AB0D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54722F-67DA-451F-9698-62EDBA07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4AF439-AB83-4C88-8AC4-1C7BCB8E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843B23-FC5B-4F07-A1CD-192A1122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984143-18AF-45B5-A97B-8473E98E2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7BD586-CA64-4282-AA0B-0A2F0B92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95124D-B794-477A-BC21-F92C9CBB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73057B-E88F-4A5C-8394-20FE84C3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8073EE-0439-40CC-AD14-5774093F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EB223C-C176-43EC-B96F-B4C969DB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AF723E-D59C-483D-9BA3-DC0FE696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B6D83-9121-431F-A2E1-28948DD9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B58AB3-270B-476A-9A2F-CEBA5483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02E0A1-0E92-48B3-AE60-5B5F54BB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48E887-2732-4EAD-921E-A03B07F0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79564F-1D94-4280-9A5F-CF2D3BB0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8A41B9-D8C8-43F0-B007-36D27BC2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012F71-B4F6-48FE-9E68-0064F4FD9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34114F-1E8F-43D1-BF9D-D411731BA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C70711-C040-4557-9527-910CE2B9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E9F85C-9E1F-4457-96EA-7E74297F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48D5A6-9A72-4D31-B8CD-B60BDD9E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4D706-A7B0-4A86-98BC-E43EF953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7C61BD-B316-4006-818D-6FDBACB1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4C119B-6ACB-4B30-8B3F-10CD63A6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D19EFE-AEE0-44B1-AB51-E654C74D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74916E-3047-447C-8D50-3B12A9D7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7E5980-6A64-4134-9A5B-9FB92EC2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C169F4-C62E-4611-B305-2A83D88F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53912F-6C82-4A89-92BD-B7EF7E52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99BFC6-2ACA-46A0-92FE-D9B70839C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E08D39-B395-424A-9DE9-73DA06A6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7F435-2642-4E56-AC84-C2717BD2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EEB1-782F-46B5-B147-3F2D98D7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B7743-655F-4B7E-895B-0E7DBDC6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17923-C0F1-40E5-B356-257B88EC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1137B-40E4-487D-BE3C-7F8E9652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9DDC6-47A9-4656-A97E-6CE2598F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8B26A-EEB7-4763-AC9F-E799E669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FA79F-90BE-4A08-8E33-191AD9C3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81A10-7E16-49B3-A73A-068C287E1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79C1C-706A-40D2-AA29-ACCE4674B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F7E8B-A4F3-4351-866D-31744A2A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C44D6-9FCC-445F-8CF3-49FE7ADD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3451-653F-44BE-9BB2-FFF06166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30E1A-F76B-44C9-BEBC-D92034B4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624C8-CEEC-4EE4-8DEF-25B1BA44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CC385-AF49-4CA7-A0CA-8769C43E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83486-2B0A-466F-B232-1C85DD3A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7CD2E-E647-49A5-9876-FB38F5B2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DB494-1474-4816-8313-1CE59C1A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366E1-9211-45C1-9EAB-7FB0FDB7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772E9-F0DF-4871-9416-9720DDBA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EEB69-9419-4DDF-BC9C-545FD74D1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BC020-52E8-42E2-B8EF-1A4499FA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F316-3D33-46FD-B3A7-DF2D2F99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54739-2B26-4A19-A711-2059AC74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6C852-EC9D-432D-ACC8-E1C529A9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278AC-998F-47D6-8025-BBDC46DB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95D33-3DE4-499C-A78E-64E01665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BEC53-15A1-454E-B0CE-4C9E0F8C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2A072-0BEC-4B26-BBA9-788903A1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228EE-2C13-4322-BEA0-6C6E3994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CACB8-6464-45CD-AC9B-AF404D1C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03A18-05AE-440F-9231-EDEAEF91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2B0D1-316B-4C01-8C40-0DAAFE370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4822-7E9D-4ECF-B229-A5E1FF74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0CFA2-5C2F-4216-A5EA-46BC2490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D524A-7A9F-4981-B727-E65A94E04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14982-6358-42FC-BDA7-CF9485BB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084C0-5F56-4E6F-B320-28817A32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36499-45B6-43DB-8F45-0DEB921F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9E2D7-B563-4C89-89E1-F32DF4E7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EA7B7-5DA7-40A3-8EB6-70973FCF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9AE3F-7365-48F6-B48C-41E9DC97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1A1CF-1043-4BF2-99BC-D2E1555C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B885D-8351-4154-8F5A-09A7DE54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433B-B96E-4C4E-9649-0B97E06A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D2DCE-9530-48CE-B488-8B3AA347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E0D93-DC67-4703-AEE6-ABB70C553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F69C2-3BD7-4179-80A0-52CE540EA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296AE-5391-445C-8DA9-B9DDF3AD0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DCDF5-26B6-4DCD-9500-39475F5C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FAFBF-392C-4B26-B30C-2557CF14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DC13C-45CE-47F2-AE06-02A58F22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CC10B-765E-421D-991B-665633D9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C0D94-A38E-4E5C-8C48-1D3628C6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A3A44-8928-48DC-A780-775D055C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F477-78A6-489E-8B6F-E4704166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09DDC-BBFA-4D23-9CF1-C51088DA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D0AE9-068A-49B2-B0D8-8899FDA2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7C5C4-7728-4D42-952C-688DCE56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DAB52-37BC-4078-9D41-B15AEF567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41495-121F-44A2-990A-FEB0B94B1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441CC-402A-4D71-B79F-072143E2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D0926-AFF8-49F6-8C74-CE6AFF3D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A297A-BC2E-475D-A996-78072A0B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CD66E-6873-4451-AB3D-B89C92ED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04DD7-9E2D-4C1C-83F7-AA93967F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B979-F71A-4F65-838E-59126FA5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537BA-1207-4DD8-831A-A4D3A6F5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5D304-4AC0-4996-8061-B14D87F4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0CA32-FD26-4BF3-B5F1-BB4B5A7E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55688-9E4B-42B7-A6D0-1997DD6B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3CDC3-6A72-4627-ADF7-2E10D836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E3A98-953F-42AC-B836-32B1DA89F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A1C38-6EB0-4FF0-9019-B5A37BA87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6E093-6396-47FB-AA3F-6E27A776C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69532-FD43-4519-A64B-F48F43D9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52608-00A7-4C87-83D2-BC5FE10D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4E8F-FFA5-4249-8CE9-0C1634A6FA4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CEAC-5560-45EE-A142-CB10FF779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C2A1-ABB6-4F62-B3C9-F290C58CE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FC88-F859-4D45-B704-22D6C1BFB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B177-B0FE-4321-8DFE-A61BC5DEC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5B54-9CF5-4B8E-891A-B1D4DCEC8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矩形 19457"/>
          <p:cNvSpPr/>
          <p:nvPr/>
        </p:nvSpPr>
        <p:spPr>
          <a:xfrm>
            <a:off x="0" y="2438280"/>
            <a:ext cx="9144000" cy="33530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D89B-4F6F-4E9B-8DBD-5129CBAE9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E330-B877-4045-A99A-A75520130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D85B-C574-4BB1-87E6-20C611460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ECC8-849E-4103-9CB7-BA4770BFC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7D12-0F0A-4E18-85A5-74D695FB2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8B67-1F25-441E-9618-737220E5C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A5DF-AA54-45D9-90C5-08F4AB59772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45AC-8642-43E4-8F7F-7FD4D323D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A168-416E-4463-91F0-9635028E7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962E-6FD2-4AB9-818D-FC4A78969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BDB2-8B97-450B-8340-2A9CEBCFE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3944-B22B-4FEF-B3AE-0995C2E51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8264-853F-49D8-8EB4-B6644F696E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9457"/>
          <p:cNvSpPr/>
          <p:nvPr/>
        </p:nvSpPr>
        <p:spPr>
          <a:xfrm>
            <a:off x="0" y="2438280"/>
            <a:ext cx="9144000" cy="33530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6BBB-D5E8-4F2D-900B-4FAF922C9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2923-A3F5-4262-92C7-2B199183D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00B2-6CBC-4127-B5A2-114133827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A5EB-6197-4D15-8E0D-B772FB33B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CB05-C5EE-417D-B517-3BE696173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094A-6372-421D-864D-D25FFC7C2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F525-2964-45B4-9289-2BBA42434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图片 48130" descr="画框"/>
          <p:cNvPicPr/>
          <p:nvPr/>
        </p:nvPicPr>
        <p:blipFill>
          <a:blip r:embed="rId1"/>
          <a:stretch/>
        </p:blipFill>
        <p:spPr>
          <a:xfrm>
            <a:off x="3124080" y="1095480"/>
            <a:ext cx="5257800" cy="4543200"/>
          </a:xfrm>
          <a:prstGeom prst="rect">
            <a:avLst/>
          </a:prstGeom>
          <a:ln w="0">
            <a:noFill/>
          </a:ln>
        </p:spPr>
      </p:pic>
      <p:pic>
        <p:nvPicPr>
          <p:cNvPr id="987" name="图片 48131" descr="yd2"/>
          <p:cNvPicPr/>
          <p:nvPr/>
        </p:nvPicPr>
        <p:blipFill>
          <a:blip r:embed="rId2"/>
          <a:stretch/>
        </p:blipFill>
        <p:spPr>
          <a:xfrm>
            <a:off x="3200400" y="1295280"/>
            <a:ext cx="5029200" cy="4118040"/>
          </a:xfrm>
          <a:prstGeom prst="rect">
            <a:avLst/>
          </a:prstGeom>
          <a:ln w="0">
            <a:noFill/>
          </a:ln>
        </p:spPr>
      </p:pic>
      <p:sp>
        <p:nvSpPr>
          <p:cNvPr id="988" name="文本框 48132"/>
          <p:cNvSpPr/>
          <p:nvPr/>
        </p:nvSpPr>
        <p:spPr>
          <a:xfrm>
            <a:off x="1709280" y="4191120"/>
            <a:ext cx="729000" cy="35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贺敬之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9" name="文本框 48133"/>
          <p:cNvSpPr/>
          <p:nvPr/>
        </p:nvSpPr>
        <p:spPr>
          <a:xfrm>
            <a:off x="302760" y="927720"/>
            <a:ext cx="911520" cy="32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回  延  安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文本框 34817"/>
          <p:cNvSpPr/>
          <p:nvPr/>
        </p:nvSpPr>
        <p:spPr>
          <a:xfrm>
            <a:off x="0" y="228600"/>
            <a:ext cx="518148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东山的糜子西山的谷，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　　　　　　　　　　肩膀上的红旗手中的书。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　　　　　　　　　　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4" name="文本框 34818"/>
          <p:cNvSpPr/>
          <p:nvPr/>
        </p:nvSpPr>
        <p:spPr>
          <a:xfrm>
            <a:off x="547560" y="5823000"/>
            <a:ext cx="807408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羊肚子手巾三道道蓝，见个面面容易拉话话难。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5" name="文本框 34820"/>
          <p:cNvSpPr/>
          <p:nvPr/>
        </p:nvSpPr>
        <p:spPr>
          <a:xfrm>
            <a:off x="547560" y="1727280"/>
            <a:ext cx="787104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关关雎鸠，在河之洲。窈窕淑女，君子好逑。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6" name="文本框 34821"/>
          <p:cNvSpPr/>
          <p:nvPr/>
        </p:nvSpPr>
        <p:spPr>
          <a:xfrm>
            <a:off x="547560" y="4522680"/>
            <a:ext cx="807408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山不在高，有仙则名；水不在深，有龙则灵；斯是陋室，惟吾德馨。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7" name="文本框 1"/>
          <p:cNvSpPr/>
          <p:nvPr/>
        </p:nvSpPr>
        <p:spPr>
          <a:xfrm>
            <a:off x="547560" y="2603520"/>
            <a:ext cx="787104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蒹葭苍苍，白露为霜。所谓伊人，在水一方。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8" name="文本框 2"/>
          <p:cNvSpPr/>
          <p:nvPr/>
        </p:nvSpPr>
        <p:spPr>
          <a:xfrm>
            <a:off x="455760" y="3398760"/>
            <a:ext cx="787068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樱桃好吃树难栽，不下苦功花不开。幸福不会从天降，社会主义等不来。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文本框 37890"/>
          <p:cNvSpPr/>
          <p:nvPr/>
        </p:nvSpPr>
        <p:spPr>
          <a:xfrm>
            <a:off x="0" y="152280"/>
            <a:ext cx="6858000" cy="66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米酒油馍木炭火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，</a:t>
            </a:r>
            <a:br>
              <a:rPr sz="3200"/>
            </a:b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团团围定</a:t>
            </a:r>
            <a:r>
              <a:rPr b="0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炕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上坐。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满窑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里围得不透风，</a:t>
            </a:r>
            <a:br>
              <a:rPr sz="3200"/>
            </a:b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脑畔上还响着脚步声。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ts val="36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老爷爷进门气喘得紧：</a:t>
            </a:r>
            <a:br>
              <a:rPr sz="3200"/>
            </a:b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“我梦见鸡毛信来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ts val="36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——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可真见亲人……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亲人见了亲人面，</a:t>
            </a:r>
            <a:br>
              <a:rPr sz="3200"/>
            </a:b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欢喜的眼泪眶眶里转。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保卫延安你们费了心，</a:t>
            </a:r>
            <a:br>
              <a:rPr sz="3200"/>
            </a:b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白头发添了几根根。”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0" name="文本框 37892"/>
          <p:cNvSpPr/>
          <p:nvPr/>
        </p:nvSpPr>
        <p:spPr>
          <a:xfrm>
            <a:off x="4800600" y="1219320"/>
            <a:ext cx="4114800" cy="855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选择有陕北地方特色的事物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渲染气氛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1" name="文本框 37893"/>
          <p:cNvSpPr/>
          <p:nvPr/>
        </p:nvSpPr>
        <p:spPr>
          <a:xfrm>
            <a:off x="4876920" y="4114800"/>
            <a:ext cx="3200400" cy="581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亲人欢聚的热烈场面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7169" descr="yd2"/>
          <p:cNvPicPr/>
          <p:nvPr/>
        </p:nvPicPr>
        <p:blipFill>
          <a:blip r:embed="rId1"/>
          <a:stretch/>
        </p:blipFill>
        <p:spPr>
          <a:xfrm>
            <a:off x="4876920" y="3395520"/>
            <a:ext cx="4267080" cy="3462480"/>
          </a:xfrm>
          <a:prstGeom prst="rect">
            <a:avLst/>
          </a:prstGeom>
          <a:ln w="0">
            <a:noFill/>
          </a:ln>
        </p:spPr>
      </p:pic>
      <p:pic>
        <p:nvPicPr>
          <p:cNvPr id="1023" name="图片 7170" descr="yd1"/>
          <p:cNvPicPr/>
          <p:nvPr/>
        </p:nvPicPr>
        <p:blipFill>
          <a:blip r:embed="rId2"/>
          <a:stretch/>
        </p:blipFill>
        <p:spPr>
          <a:xfrm>
            <a:off x="0" y="0"/>
            <a:ext cx="4343400" cy="3137040"/>
          </a:xfrm>
          <a:prstGeom prst="rect">
            <a:avLst/>
          </a:prstGeom>
          <a:ln w="0">
            <a:noFill/>
          </a:ln>
        </p:spPr>
      </p:pic>
      <p:pic>
        <p:nvPicPr>
          <p:cNvPr id="1024" name="图片 1" descr=""/>
          <p:cNvPicPr/>
          <p:nvPr/>
        </p:nvPicPr>
        <p:blipFill>
          <a:blip r:embed="rId3"/>
          <a:stretch/>
        </p:blipFill>
        <p:spPr>
          <a:xfrm>
            <a:off x="5372280" y="260280"/>
            <a:ext cx="3276360" cy="287676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43010" descr="jzh"/>
          <p:cNvPicPr/>
          <p:nvPr/>
        </p:nvPicPr>
        <p:blipFill>
          <a:blip r:embed="rId4"/>
          <a:stretch/>
        </p:blipFill>
        <p:spPr>
          <a:xfrm>
            <a:off x="977760" y="3832200"/>
            <a:ext cx="26672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7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鲜明的地方色彩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93600" y="993600"/>
            <a:ext cx="568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　　　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诗中的枣园、窑洞、宝塔山、糜子、米酒、窗花、白羊肚手巾等富有地域色彩；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诗中所采用的信天游形式，是陕北特有的民歌形式，豪迈、热烈、淳朴、直白；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诗中“登时”‘莫要”“几根根”等，取自陕北方言。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诗歌表达的是对延安的深厚感情，所以诗中景物的描写、形式的采用以及全诗的遣词造句，都带有鲜明的地方色彩，使诗的内容与形式达到了和谐统一。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8" name="联机映像占位符 53251" descr="白羊肚手巾红腰带"/>
          <p:cNvPicPr/>
          <p:nvPr/>
        </p:nvPicPr>
        <p:blipFill>
          <a:blip r:embed="rId1"/>
          <a:stretch/>
        </p:blipFill>
        <p:spPr>
          <a:xfrm>
            <a:off x="5961240" y="1092240"/>
            <a:ext cx="2911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9217" descr="gl2"/>
          <p:cNvPicPr/>
          <p:nvPr/>
        </p:nvPicPr>
        <p:blipFill>
          <a:blip r:embed="rId1"/>
          <a:stretch/>
        </p:blipFill>
        <p:spPr>
          <a:xfrm>
            <a:off x="1143000" y="122400"/>
            <a:ext cx="6858000" cy="208728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9218" descr="whsz"/>
          <p:cNvPicPr/>
          <p:nvPr/>
        </p:nvPicPr>
        <p:blipFill>
          <a:blip r:embed="rId2"/>
          <a:stretch/>
        </p:blipFill>
        <p:spPr>
          <a:xfrm>
            <a:off x="457200" y="4343400"/>
            <a:ext cx="3429000" cy="211464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9219" descr="dlbg"/>
          <p:cNvPicPr/>
          <p:nvPr/>
        </p:nvPicPr>
        <p:blipFill>
          <a:blip r:embed="rId3"/>
          <a:stretch/>
        </p:blipFill>
        <p:spPr>
          <a:xfrm>
            <a:off x="5715000" y="4419720"/>
            <a:ext cx="3124080" cy="2057400"/>
          </a:xfrm>
          <a:prstGeom prst="rect">
            <a:avLst/>
          </a:prstGeom>
          <a:ln w="0">
            <a:noFill/>
          </a:ln>
        </p:spPr>
      </p:pic>
      <p:sp>
        <p:nvSpPr>
          <p:cNvPr id="1032" name="文本框 9220"/>
          <p:cNvSpPr/>
          <p:nvPr/>
        </p:nvSpPr>
        <p:spPr>
          <a:xfrm>
            <a:off x="2590920" y="29401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延安旧貌换新颜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10241" descr="yjl"/>
          <p:cNvPicPr/>
          <p:nvPr/>
        </p:nvPicPr>
        <p:blipFill>
          <a:blip r:embed="rId1"/>
          <a:stretch/>
        </p:blipFill>
        <p:spPr>
          <a:xfrm>
            <a:off x="304920" y="457200"/>
            <a:ext cx="4572000" cy="4280040"/>
          </a:xfrm>
          <a:prstGeom prst="rect">
            <a:avLst/>
          </a:prstGeom>
          <a:ln w="0">
            <a:noFill/>
          </a:ln>
        </p:spPr>
      </p:pic>
      <p:sp>
        <p:nvSpPr>
          <p:cNvPr id="1034" name="文本框 10243"/>
          <p:cNvSpPr/>
          <p:nvPr/>
        </p:nvSpPr>
        <p:spPr>
          <a:xfrm>
            <a:off x="685800" y="52578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杨家岭革命旧址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5" name="文本框 10246"/>
          <p:cNvSpPr/>
          <p:nvPr/>
        </p:nvSpPr>
        <p:spPr>
          <a:xfrm>
            <a:off x="5334120" y="762120"/>
            <a:ext cx="3429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杨家岭的红旗啊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高高的飘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革命万里起高潮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6" name="文本框 10247"/>
          <p:cNvSpPr/>
          <p:nvPr/>
        </p:nvSpPr>
        <p:spPr>
          <a:xfrm>
            <a:off x="5715000" y="4114800"/>
            <a:ext cx="3048120" cy="1068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从延安向全国扩展的大好的革命形势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作品中的思想感情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　　　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诗人自始至终把握住了对母亲延安的感情，通过回延安、爱延安、会亲人、逛延安、颂延安五部分内容来倾吐自己的激情。抒情方式上既有直接倾吐，又有间接抒情．或用动词，或描写，便感情抒发既酣畅淋漓，又生动形象，具有很强的感染力。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　作品中思想感情一步步升华。诗人踏上延安的土地、见到延安的亲人，从“手抓黄土教不放，紧紧地贴在心窝上”“一头扑在亲人怀”等诗句看出，诗人产生的是激动、喜悦的感情；诗人回忆延安对自己的养育，描写和延安亲人欢聚畅谈的情景及看到延安的新面貌之后，爱延安、爱革命、爱人民的感情达到了高潮；当诗人又要离别延安时，从结尾两句诗可以领会到，诗人难舍难分的惜别之情上升到了巅峰。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文本框 47105"/>
          <p:cNvSpPr/>
          <p:nvPr/>
        </p:nvSpPr>
        <p:spPr>
          <a:xfrm>
            <a:off x="838080" y="320760"/>
            <a:ext cx="430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采用多种修辞手法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0" name="文本框 47106"/>
          <p:cNvSpPr/>
          <p:nvPr/>
        </p:nvSpPr>
        <p:spPr>
          <a:xfrm>
            <a:off x="1371600" y="1519200"/>
            <a:ext cx="544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比喻、拟人、夸张、排比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对偶、借代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1" name="文本框 47107"/>
          <p:cNvSpPr/>
          <p:nvPr/>
        </p:nvSpPr>
        <p:spPr>
          <a:xfrm>
            <a:off x="2728440" y="36529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把诗歌的内容表现得形象、生动，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而且把作者的感情表现得亲切、热烈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文本框 4097"/>
          <p:cNvSpPr/>
          <p:nvPr/>
        </p:nvSpPr>
        <p:spPr>
          <a:xfrm>
            <a:off x="3809880" y="457200"/>
            <a:ext cx="4800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当代诗人、剧作家。山东峄县（今枣庄市）人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940</a:t>
            </a:r>
            <a:r>
              <a:rPr b="0" lang="zh-CN" sz="3200" spc="-1" strike="noStrike">
                <a:solidFill>
                  <a:srgbClr val="ffffff"/>
                </a:solidFill>
                <a:latin typeface="_x000b__x000c_"/>
              </a:rPr>
              <a:t>年到延安，进入鲁迅艺术文学院学习。</a:t>
            </a:r>
            <a:r>
              <a:rPr b="0" lang="zh-CN" sz="3200" spc="-1" strike="noStrike">
                <a:solidFill>
                  <a:srgbClr val="ffffff"/>
                </a:solidFill>
                <a:latin typeface="_x000b__x000c_"/>
              </a:rPr>
              <a:t>1945</a:t>
            </a:r>
            <a:r>
              <a:rPr b="0" lang="zh-CN" sz="3200" spc="-1" strike="noStrike">
                <a:solidFill>
                  <a:srgbClr val="ffffff"/>
                </a:solidFill>
                <a:latin typeface="_x000b__x000c_"/>
              </a:rPr>
              <a:t>年，鲁艺集体创作了歌剧《白毛女》，文学剧本由贺敬之、丁毅执笔。主要诗歌集有《朝阳花开》、《乡村的夜》、《放歌集》、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_x000b__x000c_"/>
              </a:rPr>
              <a:t>雷锋之歌》、《贺敬之诗选》等。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91" name="图片 4098" descr="賀敬之"/>
          <p:cNvPicPr/>
          <p:nvPr/>
        </p:nvPicPr>
        <p:blipFill>
          <a:blip r:embed="rId1"/>
          <a:stretch/>
        </p:blipFill>
        <p:spPr>
          <a:xfrm>
            <a:off x="304920" y="609480"/>
            <a:ext cx="2781360" cy="3962520"/>
          </a:xfrm>
          <a:prstGeom prst="rect">
            <a:avLst/>
          </a:prstGeom>
          <a:ln w="0">
            <a:noFill/>
          </a:ln>
        </p:spPr>
      </p:pic>
      <p:sp>
        <p:nvSpPr>
          <p:cNvPr id="992" name="文本框 4104"/>
          <p:cNvSpPr/>
          <p:nvPr/>
        </p:nvSpPr>
        <p:spPr>
          <a:xfrm>
            <a:off x="685800" y="50896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贺敬之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文本框 5122"/>
          <p:cNvSpPr/>
          <p:nvPr/>
        </p:nvSpPr>
        <p:spPr>
          <a:xfrm>
            <a:off x="762120" y="449280"/>
            <a:ext cx="7924680" cy="19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_x005F_x000B__x005F_x000C_"/>
              </a:rPr>
              <a:t>写作背景：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_x005F_x000B__x005F_x000C_"/>
              </a:rPr>
              <a:t>“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_x005F_x000B__x005F_x000C_"/>
              </a:rPr>
              <a:t>1956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_x005F_x000B__x005F_x000C_"/>
              </a:rPr>
              <a:t>年，</a:t>
            </a:r>
            <a:r>
              <a:rPr b="0" lang="zh-CN" sz="3200" spc="-1" strike="noStrike">
                <a:solidFill>
                  <a:srgbClr val="ffffff"/>
                </a:solidFill>
                <a:latin typeface="_x005F_x000B__x005F_x000C_"/>
              </a:rPr>
              <a:t>我跟随当时团中央的一位领导回延安，参加西北五省青年工人造林大会。这时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_x005F_x000B__x005F_x000C_"/>
              </a:rPr>
              <a:t>我已经离开延安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_x005F_x000B__x005F_x000C_"/>
              </a:rPr>
              <a:t>11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_x005F_x000B__x005F_x000C_"/>
              </a:rPr>
              <a:t>年了</a:t>
            </a:r>
            <a:r>
              <a:rPr b="0" lang="zh-CN" sz="3200" spc="-1" strike="noStrike">
                <a:solidFill>
                  <a:srgbClr val="ffffff"/>
                </a:solidFill>
                <a:latin typeface="_x005F_x000B__x005F_x000C_"/>
              </a:rPr>
              <a:t>，回去以后感觉很不一样。我本打算写几篇报告文学和一点新闻报道，青年大会要举行一个联欢晚会，说要我出个节目，我说我用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_x005F_x000B__x005F_x000C_"/>
              </a:rPr>
              <a:t>信天游的方式</a:t>
            </a:r>
            <a:r>
              <a:rPr b="0" lang="zh-CN" sz="3200" spc="-1" strike="noStrike">
                <a:solidFill>
                  <a:srgbClr val="ffffff"/>
                </a:solidFill>
                <a:latin typeface="_x005F_x000B__x005F_x000C_"/>
              </a:rPr>
              <a:t>写几句诗，抒发一下感情。夜里我就一边唱，一边写，写了一夜，……当时我是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_x005F_x000B__x005F_x000C_"/>
              </a:rPr>
              <a:t>在窑洞里面走着唱着，还流着眼泪。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文本框 22529"/>
          <p:cNvSpPr/>
          <p:nvPr/>
        </p:nvSpPr>
        <p:spPr>
          <a:xfrm>
            <a:off x="609480" y="16002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是</a:t>
            </a:r>
            <a:r>
              <a:rPr b="0" lang="zh-CN" sz="3600" spc="-1" strike="noStrike" u="sng">
                <a:solidFill>
                  <a:srgbClr val="ffff00"/>
                </a:solidFill>
                <a:uFillTx/>
                <a:latin typeface="Times New Roman"/>
                <a:ea typeface="宋体"/>
              </a:rPr>
              <a:t>陕北民歌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的一种形式，它的曲调纯朴、高亢、悠长，节奏自由。歌词通常为</a:t>
            </a:r>
            <a:r>
              <a:rPr b="0" lang="zh-CN" sz="3600" spc="-1" strike="noStrike" u="sng">
                <a:solidFill>
                  <a:srgbClr val="ffff00"/>
                </a:solidFill>
                <a:uFillTx/>
                <a:latin typeface="Times New Roman"/>
                <a:ea typeface="宋体"/>
              </a:rPr>
              <a:t>两句一段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，长度由一段至几十段不等。每句字数不定，但基本上以七字句为主。句中</a:t>
            </a:r>
            <a:r>
              <a:rPr b="0" lang="zh-CN" sz="3600" spc="-1" strike="noStrike" u="sng">
                <a:solidFill>
                  <a:srgbClr val="ffff00"/>
                </a:solidFill>
                <a:uFillTx/>
                <a:latin typeface="Times New Roman"/>
                <a:ea typeface="宋体"/>
              </a:rPr>
              <a:t>多用叠字句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。修辞上多用</a:t>
            </a:r>
            <a:r>
              <a:rPr b="0" lang="zh-CN" sz="3600" spc="-1" strike="noStrike" u="sng">
                <a:solidFill>
                  <a:srgbClr val="ffff00"/>
                </a:solidFill>
                <a:uFillTx/>
                <a:latin typeface="Times New Roman"/>
                <a:ea typeface="宋体"/>
              </a:rPr>
              <a:t>比兴、夸张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等手法。歌手用同一曲调</a:t>
            </a:r>
            <a:r>
              <a:rPr b="0" lang="zh-CN" sz="3600" spc="-1" strike="noStrike" u="sng">
                <a:solidFill>
                  <a:srgbClr val="ffff00"/>
                </a:solidFill>
                <a:uFillTx/>
                <a:latin typeface="Times New Roman"/>
                <a:ea typeface="宋体"/>
              </a:rPr>
              <a:t>反复演唱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，有时旋律上稍加变化。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5" name="文本框 22531"/>
          <p:cNvSpPr/>
          <p:nvPr/>
        </p:nvSpPr>
        <p:spPr>
          <a:xfrm>
            <a:off x="533520" y="38088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宋体"/>
              </a:rPr>
              <a:t>信天游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96" name="王二妮 - 山丹丹开花红艳艳" descr=""/>
          <p:cNvPicPr/>
          <p:nvPr/>
        </p:nvPicPr>
        <p:blipFill>
          <a:blip r:embed="rId1"/>
          <a:stretch/>
        </p:blipFill>
        <p:spPr>
          <a:xfrm>
            <a:off x="7691400" y="5916600"/>
            <a:ext cx="61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33560" fill="hold"/>
                                        <p:tgtEl>
                                          <p:spTgt spid="9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思路结构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4495680" cy="28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）重回延安，心情激动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）再忆延安，满怀感恩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）亲人团聚，激动喜悦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）漫步新城，高声赞美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）展望明天，豪情无限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99" name="联机映像占位符 55299" descr="毛主席在延安著作（辛莽）"/>
          <p:cNvPicPr/>
          <p:nvPr/>
        </p:nvPicPr>
        <p:blipFill>
          <a:blip r:embed="rId1"/>
          <a:stretch/>
        </p:blipFill>
        <p:spPr>
          <a:xfrm>
            <a:off x="5364000" y="1557360"/>
            <a:ext cx="3508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文本框 30722"/>
          <p:cNvSpPr/>
          <p:nvPr/>
        </p:nvSpPr>
        <p:spPr>
          <a:xfrm>
            <a:off x="351000" y="136440"/>
            <a:ext cx="41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几回回梦里回延安，双手搂定宝塔山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1" name="文本框 30723"/>
          <p:cNvSpPr/>
          <p:nvPr/>
        </p:nvSpPr>
        <p:spPr>
          <a:xfrm>
            <a:off x="4294080" y="45100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宝塔山是革命圣地延安的重要标志和象征。登山凭眺，可纵观圣地全貌。 “只有登上宝塔山，才算真正到了延安”。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2" name="图片 1" descr=""/>
          <p:cNvPicPr/>
          <p:nvPr/>
        </p:nvPicPr>
        <p:blipFill>
          <a:blip r:embed="rId1"/>
          <a:stretch/>
        </p:blipFill>
        <p:spPr>
          <a:xfrm>
            <a:off x="1673280" y="1185840"/>
            <a:ext cx="548640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矩形 32769"/>
          <p:cNvSpPr/>
          <p:nvPr/>
        </p:nvSpPr>
        <p:spPr>
          <a:xfrm>
            <a:off x="342900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4" name="文本框 32771"/>
          <p:cNvSpPr/>
          <p:nvPr/>
        </p:nvSpPr>
        <p:spPr>
          <a:xfrm>
            <a:off x="1763640" y="4653000"/>
            <a:ext cx="61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白羊肚手巾红腰带，亲人们迎过延河来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5" name="图片 32774" descr="腰鼓"/>
          <p:cNvPicPr/>
          <p:nvPr/>
        </p:nvPicPr>
        <p:blipFill>
          <a:blip r:embed="rId1"/>
          <a:stretch/>
        </p:blipFill>
        <p:spPr>
          <a:xfrm>
            <a:off x="1676520" y="533520"/>
            <a:ext cx="5943600" cy="3886200"/>
          </a:xfrm>
          <a:prstGeom prst="rect">
            <a:avLst/>
          </a:prstGeom>
          <a:ln w="936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文本框 33794"/>
          <p:cNvSpPr/>
          <p:nvPr/>
        </p:nvSpPr>
        <p:spPr>
          <a:xfrm>
            <a:off x="1785960" y="3603600"/>
            <a:ext cx="694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兴——“兴”者，起也；起兴，即</a:t>
            </a:r>
            <a:r>
              <a:rPr b="0" lang="zh-CN" sz="3600" spc="-1" strike="noStrike" u="sng">
                <a:solidFill>
                  <a:srgbClr val="ffff00"/>
                </a:solidFill>
                <a:uFillTx/>
                <a:latin typeface="Times New Roman"/>
              </a:rPr>
              <a:t>先言他物引起所咏之物，以为寄托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。委婉含蓄，寓意深远，文已尽而意有余。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7" name="文本框 33795"/>
          <p:cNvSpPr/>
          <p:nvPr/>
        </p:nvSpPr>
        <p:spPr>
          <a:xfrm>
            <a:off x="1420920" y="19447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比——譬喻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以彼物比此物也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文本框 28673"/>
          <p:cNvSpPr/>
          <p:nvPr/>
        </p:nvSpPr>
        <p:spPr>
          <a:xfrm>
            <a:off x="380880" y="685800"/>
            <a:ext cx="5181840" cy="40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二十里铺送过柳林铺迎，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　　　　　　　　　　分别十年又回家中。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　　　　　　　　　　</a:t>
            </a:r>
            <a:r>
              <a:rPr b="0" lang="zh-CN" sz="3600" spc="-1" strike="noStrike" u="sng">
                <a:solidFill>
                  <a:srgbClr val="ffff00"/>
                </a:solidFill>
                <a:uFillTx/>
                <a:latin typeface="Times New Roman"/>
              </a:rPr>
              <a:t>树梢树枝树根根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，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　　　　　　　　　　亲山亲水有亲人。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　　　　　　　　　　</a:t>
            </a:r>
            <a:r>
              <a:rPr b="0" lang="zh-CN" sz="3600" spc="-1" strike="noStrike" u="sng">
                <a:solidFill>
                  <a:srgbClr val="ffff00"/>
                </a:solidFill>
                <a:uFillTx/>
                <a:latin typeface="Times New Roman"/>
              </a:rPr>
              <a:t>羊羔羔吃奶眼望着妈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,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　　　　　　　　　　小米饭养活我长大。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9" name="文本框 28674"/>
          <p:cNvSpPr/>
          <p:nvPr/>
        </p:nvSpPr>
        <p:spPr>
          <a:xfrm>
            <a:off x="5638680" y="23623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0" name="文本框 28675"/>
          <p:cNvSpPr/>
          <p:nvPr/>
        </p:nvSpPr>
        <p:spPr>
          <a:xfrm>
            <a:off x="6095880" y="2743200"/>
            <a:ext cx="2362320" cy="64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比兴手法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1" name="文本框 28678"/>
          <p:cNvSpPr/>
          <p:nvPr/>
        </p:nvSpPr>
        <p:spPr>
          <a:xfrm>
            <a:off x="5867280" y="49528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2" name="文本框 28680"/>
          <p:cNvSpPr/>
          <p:nvPr/>
        </p:nvSpPr>
        <p:spPr>
          <a:xfrm>
            <a:off x="6324480" y="4572000"/>
            <a:ext cx="1828800" cy="581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养育之恩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13T14:05:55Z</dcterms:created>
  <dc:creator/>
  <dc:description/>
  <dc:language>en-US</dc:language>
  <cp:lastModifiedBy>xiahui</cp:lastModifiedBy>
  <dcterms:modified xsi:type="dcterms:W3CDTF">2020-02-17T04:28:39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440</vt:lpwstr>
  </property>
</Properties>
</file>