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gif" ContentType="image/gif"/>
  <Override PartName="/ppt/media/image17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4.jpeg" ContentType="image/jpeg"/>
  <Override PartName="/ppt/media/image10.wmf" ContentType="image/x-wmf"/>
  <Override PartName="/ppt/media/image34.jpeg" ContentType="image/jpe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6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33.jpeg" ContentType="image/jpe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jpeg" ContentType="image/jpeg"/>
  <Override PartName="/ppt/media/image20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85A-2679-477A-A758-5C9400282A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4C3-D8E5-4D26-A0DD-14CFA7E1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739-8361-4954-B837-3E3FCD08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454-9BF3-4C34-A5BE-254680EB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727-0D48-4BF6-839C-630CC234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7BE-B339-4B47-A1F2-CBC7431A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EBD-A675-4889-AA1F-9C7B842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BD8-ABB3-4240-A2E0-DB796D5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B84-2DA0-44CB-95A8-C1B001D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2CB-4C6C-4CAF-82E3-28A7DE5C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F6D-B516-45C9-860F-D73069E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3C4-79CC-4EFF-BC91-F9CCABA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238-A62E-4D15-BCE8-7330FE5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C42-327A-4323-A5ED-EFF2FF194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jxyz.net/yuwen/ywzy/ywzy.htm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黄河上游景观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6959520" cy="574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70880" y="1413000"/>
            <a:ext cx="10033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中宋"/>
              </a:rPr>
              <a:t>黄河景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490800">
            <a:off x="1044360" y="549360"/>
            <a:ext cx="633708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黄河颂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3978360" y="3933720"/>
            <a:ext cx="109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4508640"/>
            <a:ext cx="446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华文新魏"/>
              </a:rPr>
              <a:t>光未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学 习 目 标：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56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正确、流利、有感情地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朗读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理清诗歌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结构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把握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内容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感受作者浓烈的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爱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情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35280" y="1486080"/>
            <a:ext cx="489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预习检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120" y="4648320"/>
            <a:ext cx="32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 </a:t>
            </a:r>
            <a:r>
              <a:rPr b="1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光未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4038480" cy="4721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02360" y="4581360"/>
            <a:ext cx="109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7320" y="3645000"/>
            <a:ext cx="23749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冼星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31370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11280" y="1197000"/>
            <a:ext cx="79930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光未然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913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，本名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张光年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湖北光化（今老河口西北）人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诗人、文学评论家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3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在延安创作了歌颂中华民族精神的组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代表作有歌词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五月的鲜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组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长篇叙事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屈原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00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"/>
          <p:cNvSpPr/>
          <p:nvPr/>
        </p:nvSpPr>
        <p:spPr>
          <a:xfrm>
            <a:off x="971640" y="404640"/>
            <a:ext cx="172224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Franklin Gothic Medium"/>
                <a:ea typeface="黑体"/>
              </a:rPr>
              <a:t>作者简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51280" y="1413000"/>
            <a:ext cx="46958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冼星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5-19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中国近现代著名的音乐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积极参加抗日救亡运动，创作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救国军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游击军歌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茫茫的西伯利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在太行山上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各种类型的声乐作品。由于他对发展我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革命音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作的巨大贡献，赢得了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“人民音乐家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光荣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80000" y="404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词的作曲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02053_xinghai"/>
          <p:cNvPicPr/>
          <p:nvPr/>
        </p:nvPicPr>
        <p:blipFill>
          <a:blip r:embed="rId1"/>
          <a:stretch/>
        </p:blipFill>
        <p:spPr>
          <a:xfrm>
            <a:off x="250920" y="907920"/>
            <a:ext cx="341604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260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背 景 介 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，当抗战的烽火燃遍中国大地时，诗人光未然带领抗敌演出队来到了黄河边，滔滔的黄河水，在诗人心中掀起了万丈狂澜，他挥笔写下了不朽的诗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人民音乐家冼星海读到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，心情也是异常激动，当即触发了他的创作灵感。他和光未然合作，连续写作六天，完成了一部史诗性的音乐作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选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第二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314360" y="1574640"/>
            <a:ext cx="686916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山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巅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澎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湃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狂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浊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流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发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源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哺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育（      ）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泻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万丈（      ）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劈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九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曲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连环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516720" y="2421000"/>
            <a:ext cx="108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2771640" y="2421000"/>
            <a:ext cx="8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2681280" y="1700280"/>
            <a:ext cx="10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diā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595920" y="1670040"/>
            <a:ext cx="83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659640" y="306864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b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556000" y="3068640"/>
            <a:ext cx="1106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yu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348000" y="378936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"/>
          <p:cNvSpPr/>
          <p:nvPr/>
        </p:nvSpPr>
        <p:spPr>
          <a:xfrm>
            <a:off x="1329480" y="690480"/>
            <a:ext cx="109512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Franklin Gothic Medium"/>
                <a:ea typeface="黑体"/>
              </a:rPr>
              <a:t>字词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300720" y="378936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p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564000" y="4437000"/>
            <a:ext cx="622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q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60360" y="1487520"/>
            <a:ext cx="590400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朗读诗歌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39_hhlk" descr="039_hhlk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06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63640" y="333360"/>
            <a:ext cx="590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有关黄河的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你知道多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3280" y="40464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朗读指导</a:t>
            </a:r>
            <a:r>
              <a:rPr b="1" i="1" lang="zh-CN" sz="5400" spc="-1" strike="noStrike">
                <a:solidFill>
                  <a:srgbClr val="cc0000"/>
                </a:solidFill>
                <a:latin typeface="Arial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773360"/>
            <a:ext cx="69850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注意朗读停顿、轻重、语气、语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把握诗歌的感情基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读好关键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92360" y="0"/>
            <a:ext cx="565128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（朗 诵 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啊，朋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黄河以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英雄的气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出现在亚洲的原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表现出我们民族的精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伟大而又坚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向着黄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出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0"/>
            <a:ext cx="468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0"/>
            <a:ext cx="612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歌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站在高山之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望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黄河滚滚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向东南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惊涛澎湃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掀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万丈狂澜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7628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浊流宛转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结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九曲连环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从昆仑山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向黄海之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把中原大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劈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成南北两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52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5076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！黄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中华民族的摇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千年的古国文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你这儿发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少英雄的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你的身边扮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89000"/>
            <a:ext cx="4859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啊！黄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伟大坚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像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出现在亚洲平原之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你那英雄的体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筑成我们民族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屏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3336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啊！黄河！你一泻万丈，浩浩荡荡，向南北两岸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伸出千万条铁的臂膀。我们民族的伟大精神，将要在你的哺育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扬滋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189000"/>
            <a:ext cx="6703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祖国的英雄儿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将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的榜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像你一样的伟大坚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像你一样的伟大坚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2340000" y="333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整 体 感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4360" y="155736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读课文，用文中的词语或句子说说黄河有怎样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诗主要是颂黄河，是否一开始就歌颂黄河？哪一个字统领蓄势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诗人从哪些方面赞美黄河的英雄气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130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序曲     主体    尾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0"/>
            <a:ext cx="511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诗 歌 层 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97360"/>
            <a:ext cx="3124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黄河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伟大坚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268280"/>
            <a:ext cx="7993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（朗诵词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隶书"/>
              </a:rPr>
              <a:t>)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（歌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708280"/>
            <a:ext cx="3505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黄河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3141720"/>
            <a:ext cx="2514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望黄河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颂黄河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1280" y="260280"/>
            <a:ext cx="1512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187280" y="620640"/>
            <a:ext cx="7632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作者从哪几个方面赞美了黄河的英雄气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187280" y="1989000"/>
            <a:ext cx="757404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自然特点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气势磅礴、惊涛澎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地理特征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九曲连环、绵延万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对中华民族的贡献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中华民族的摇篮、民族的屏障、激励着中华民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"/>
              </a:rPr>
              <a:t>依次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历史贡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了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养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地理特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保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自然特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激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0"/>
            <a:ext cx="81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河是中国第二长河，世界第五长河，世界上含沙量最多的河流。被誉为中国的“母亲河”。黄河长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从高空俯瞰，它非常像一个巨大的“几”字。上、中游分界点是内蒙古自治区的河口镇，中、下游分界点是河南省的旧孟津。黄河源于青藏高原巴颜喀拉山，在山东省东营市垦利县注入渤海。干流贯穿九个省、自治区，分别为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青海、四川、甘肃、宁夏、内蒙古、陕西、山西、河南、山东，注入渤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年径流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7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亿立方米，平均径流深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06200" y="4869000"/>
            <a:ext cx="91422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结合时代背景，你认为诗人借歌颂黄河表达了什么感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8560" y="278136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激励中华儿女像黄河一样伟大坚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英勇、坚强的气概和决心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保卫黄河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保卫华北，保卫全中国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333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549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在朗读中体会作品的情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6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是“摇篮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“屏障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“向南北两岸伸出千万条铁的臂膀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68360" y="40464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探究</a:t>
            </a:r>
            <a:r>
              <a:rPr b="1" lang="en-US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: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476360" y="54936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是“摇篮”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"/>
          <p:cNvPicPr/>
          <p:nvPr/>
        </p:nvPicPr>
        <p:blipFill>
          <a:blip r:embed="rId1"/>
          <a:stretch/>
        </p:blipFill>
        <p:spPr>
          <a:xfrm>
            <a:off x="1001880" y="2820960"/>
            <a:ext cx="178092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4"/>
          <p:cNvGrpSpPr/>
          <p:nvPr/>
        </p:nvGrpSpPr>
        <p:grpSpPr>
          <a:xfrm>
            <a:off x="3022560" y="2109960"/>
            <a:ext cx="5041800" cy="3716280"/>
            <a:chOff x="3022560" y="2109960"/>
            <a:chExt cx="5041800" cy="3716280"/>
          </a:xfrm>
        </p:grpSpPr>
        <p:sp>
          <p:nvSpPr>
            <p:cNvPr id="156" name="圆角矩形标注 5"/>
            <p:cNvSpPr/>
            <p:nvPr/>
          </p:nvSpPr>
          <p:spPr>
            <a:xfrm>
              <a:off x="3022560" y="2113920"/>
              <a:ext cx="4938840" cy="3712320"/>
            </a:xfrm>
            <a:prstGeom prst="wedgeRoundRectCallout">
              <a:avLst>
                <a:gd name="adj1" fmla="val -61064"/>
                <a:gd name="adj2" fmla="val -9120"/>
                <a:gd name="adj3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6"/>
            <p:cNvSpPr/>
            <p:nvPr/>
          </p:nvSpPr>
          <p:spPr>
            <a:xfrm>
              <a:off x="3081240" y="2109960"/>
              <a:ext cx="4983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黄河比作“中华民族的摇篮”，表明黄河是中华民族的发祥地，中华文化在黄河流域产生、发展、壮大，黄河滋养了世代中华儿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2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" descr=""/>
          <p:cNvPicPr/>
          <p:nvPr/>
        </p:nvPicPr>
        <p:blipFill>
          <a:blip r:embed="rId1"/>
          <a:stretch/>
        </p:blipFill>
        <p:spPr>
          <a:xfrm>
            <a:off x="6662880" y="1600200"/>
            <a:ext cx="1684080" cy="358920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"/>
          <p:cNvGrpSpPr/>
          <p:nvPr/>
        </p:nvGrpSpPr>
        <p:grpSpPr>
          <a:xfrm>
            <a:off x="684360" y="1628640"/>
            <a:ext cx="5713200" cy="4265640"/>
            <a:chOff x="684360" y="1628640"/>
            <a:chExt cx="5713200" cy="4265640"/>
          </a:xfrm>
        </p:grpSpPr>
        <p:sp>
          <p:nvSpPr>
            <p:cNvPr id="161" name="圆角矩形标注 3"/>
            <p:cNvSpPr/>
            <p:nvPr/>
          </p:nvSpPr>
          <p:spPr>
            <a:xfrm>
              <a:off x="684360" y="1628640"/>
              <a:ext cx="5713200" cy="4265640"/>
            </a:xfrm>
            <a:prstGeom prst="wedgeRoundRectCallout">
              <a:avLst>
                <a:gd name="adj1" fmla="val 61500"/>
                <a:gd name="adj2" fmla="val -6972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4"/>
            <p:cNvSpPr/>
            <p:nvPr/>
          </p:nvSpPr>
          <p:spPr>
            <a:xfrm>
              <a:off x="792000" y="1706400"/>
              <a:ext cx="560556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黄河比作“我们民族的屏障”，强调了黄河对中华民族的保卫作用。黄河在地理上作为军事屏障，其伟大坚强的精神，是民族精神上的城防，这是中华民族抵御外侵的制胜法宝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67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03280" y="476280"/>
            <a:ext cx="64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何理解黄河是“屏障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619280" y="260280"/>
            <a:ext cx="68403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“向南北两岸伸出千万条铁的臂膀”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1"/>
          <a:stretch/>
        </p:blipFill>
        <p:spPr>
          <a:xfrm>
            <a:off x="1001880" y="2820960"/>
            <a:ext cx="178092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4"/>
          <p:cNvGrpSpPr/>
          <p:nvPr/>
        </p:nvGrpSpPr>
        <p:grpSpPr>
          <a:xfrm>
            <a:off x="3022560" y="2109960"/>
            <a:ext cx="5041800" cy="3716280"/>
            <a:chOff x="3022560" y="2109960"/>
            <a:chExt cx="5041800" cy="3716280"/>
          </a:xfrm>
        </p:grpSpPr>
        <p:sp>
          <p:nvSpPr>
            <p:cNvPr id="172" name="圆角矩形标注 5"/>
            <p:cNvSpPr/>
            <p:nvPr/>
          </p:nvSpPr>
          <p:spPr>
            <a:xfrm>
              <a:off x="3022560" y="2113920"/>
              <a:ext cx="4938840" cy="3712320"/>
            </a:xfrm>
            <a:prstGeom prst="wedgeRoundRectCallout">
              <a:avLst>
                <a:gd name="adj1" fmla="val -61064"/>
                <a:gd name="adj2" fmla="val -9120"/>
                <a:gd name="adj3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6"/>
            <p:cNvSpPr/>
            <p:nvPr/>
          </p:nvSpPr>
          <p:spPr>
            <a:xfrm>
              <a:off x="3081240" y="2109960"/>
              <a:ext cx="49831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用比喻的修辞手法，把无数支流比作黄河主流这一巨人躯干的“千万条铁的臂膀”，表明黄河流域的宽广，体现了黄河的气势磅礴，势不可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100680" y="836640"/>
            <a:ext cx="286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再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体会情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1640" y="692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、诗的最后一段是尾声，主要写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997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号召我们学习黄河精神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book3" descr=""/>
          <p:cNvPicPr/>
          <p:nvPr/>
        </p:nvPicPr>
        <p:blipFill>
          <a:blip r:embed="rId1"/>
          <a:stretch/>
        </p:blipFill>
        <p:spPr>
          <a:xfrm>
            <a:off x="7451640" y="4724280"/>
            <a:ext cx="1187640" cy="8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97360"/>
            <a:ext cx="91440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7"/>
          <p:cNvSpPr/>
          <p:nvPr/>
        </p:nvSpPr>
        <p:spPr>
          <a:xfrm>
            <a:off x="1221480" y="2851200"/>
            <a:ext cx="6678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黄河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左大括号 21"/>
          <p:cNvSpPr/>
          <p:nvPr/>
        </p:nvSpPr>
        <p:spPr>
          <a:xfrm>
            <a:off x="1798560" y="1600200"/>
            <a:ext cx="266760" cy="4710240"/>
          </a:xfrm>
          <a:custGeom>
            <a:avLst/>
            <a:gdLst>
              <a:gd name="textAreaLeft" fmla="*/ 170640 w 266760"/>
              <a:gd name="textAreaRight" fmla="*/ 266760 w 266760"/>
              <a:gd name="textAreaTop" fmla="*/ 9000 h 4710240"/>
              <a:gd name="textAreaBottom" fmla="*/ 4701240 h 47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"/>
                  <a:pt x="10800" y="135"/>
                </a:cubicBezTo>
                <a:lnTo>
                  <a:pt x="10800" y="10665"/>
                </a:lnTo>
                <a:cubicBezTo>
                  <a:pt x="10800" y="10733"/>
                  <a:pt x="5400" y="10800"/>
                  <a:pt x="0" y="10800"/>
                </a:cubicBezTo>
                <a:cubicBezTo>
                  <a:pt x="5400" y="10800"/>
                  <a:pt x="10800" y="10868"/>
                  <a:pt x="10800" y="10935"/>
                </a:cubicBezTo>
                <a:lnTo>
                  <a:pt x="10800" y="21465"/>
                </a:lnTo>
                <a:cubicBezTo>
                  <a:pt x="10800" y="2153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996920" y="1473120"/>
            <a:ext cx="46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朗诵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黄河伟大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996920" y="580536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尾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学习黄河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24"/>
          <p:cNvSpPr/>
          <p:nvPr/>
        </p:nvSpPr>
        <p:spPr>
          <a:xfrm>
            <a:off x="6676920" y="1560600"/>
            <a:ext cx="254160" cy="4749840"/>
          </a:xfrm>
          <a:custGeom>
            <a:avLst/>
            <a:gdLst>
              <a:gd name="textAreaLeft" fmla="*/ 0 w 254160"/>
              <a:gd name="textAreaRight" fmla="*/ 91800 w 254160"/>
              <a:gd name="textAreaTop" fmla="*/ 8640 h 4749840"/>
              <a:gd name="textAreaBottom" fmla="*/ 4741200 h 474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"/>
                  <a:pt x="10800" y="128"/>
                </a:cubicBezTo>
                <a:lnTo>
                  <a:pt x="10800" y="10672"/>
                </a:lnTo>
                <a:cubicBezTo>
                  <a:pt x="10800" y="10736"/>
                  <a:pt x="16200" y="10800"/>
                  <a:pt x="21600" y="10800"/>
                </a:cubicBezTo>
                <a:cubicBezTo>
                  <a:pt x="16200" y="10800"/>
                  <a:pt x="10800" y="10864"/>
                  <a:pt x="10800" y="10928"/>
                </a:cubicBezTo>
                <a:lnTo>
                  <a:pt x="10800" y="21472"/>
                </a:lnTo>
                <a:cubicBezTo>
                  <a:pt x="10800" y="2153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831360" y="1727280"/>
            <a:ext cx="7347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坚强不屈  奋斗不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左大括号 26"/>
          <p:cNvSpPr/>
          <p:nvPr/>
        </p:nvSpPr>
        <p:spPr>
          <a:xfrm>
            <a:off x="3244680" y="2747880"/>
            <a:ext cx="225720" cy="1971720"/>
          </a:xfrm>
          <a:custGeom>
            <a:avLst/>
            <a:gdLst>
              <a:gd name="textAreaLeft" fmla="*/ 144360 w 225720"/>
              <a:gd name="textAreaRight" fmla="*/ 226080 w 225720"/>
              <a:gd name="textAreaTop" fmla="*/ 7560 h 1971720"/>
              <a:gd name="textAreaBottom" fmla="*/ 1964160 h 19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3398760" y="4151160"/>
            <a:ext cx="5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3394080" y="2449440"/>
            <a:ext cx="474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3851280" y="2492280"/>
            <a:ext cx="2814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势不可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左大括号 31"/>
          <p:cNvSpPr/>
          <p:nvPr/>
        </p:nvSpPr>
        <p:spPr>
          <a:xfrm>
            <a:off x="3895560" y="3570120"/>
            <a:ext cx="225720" cy="1935360"/>
          </a:xfrm>
          <a:custGeom>
            <a:avLst/>
            <a:gdLst>
              <a:gd name="textAreaLeft" fmla="*/ 144360 w 225720"/>
              <a:gd name="textAreaRight" fmla="*/ 226080 w 225720"/>
              <a:gd name="textAreaTop" fmla="*/ 7560 h 1935360"/>
              <a:gd name="textAreaBottom" fmla="*/ 192780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79"/>
                </a:cubicBezTo>
                <a:lnTo>
                  <a:pt x="10800" y="10521"/>
                </a:lnTo>
                <a:cubicBezTo>
                  <a:pt x="10800" y="10661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79"/>
                </a:cubicBezTo>
                <a:lnTo>
                  <a:pt x="10800" y="21321"/>
                </a:lnTo>
                <a:cubicBezTo>
                  <a:pt x="10800" y="2146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03640" y="3359160"/>
            <a:ext cx="2986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化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民族屏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神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08000" y="3246480"/>
            <a:ext cx="14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歌词（主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18"/>
          <p:cNvSpPr/>
          <p:nvPr/>
        </p:nvSpPr>
        <p:spPr>
          <a:xfrm>
            <a:off x="1281240" y="633240"/>
            <a:ext cx="109512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黑体"/>
                <a:ea typeface="黑体"/>
              </a:rPr>
              <a:t>板书设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" descr=""/>
          <p:cNvPicPr/>
          <p:nvPr/>
        </p:nvPicPr>
        <p:blipFill>
          <a:blip r:embed="rId2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"/>
          <p:cNvPicPr/>
          <p:nvPr/>
        </p:nvPicPr>
        <p:blipFill>
          <a:blip r:embed="rId3"/>
          <a:stretch/>
        </p:blipFill>
        <p:spPr>
          <a:xfrm>
            <a:off x="0" y="755640"/>
            <a:ext cx="9144000" cy="512640"/>
          </a:xfrm>
          <a:prstGeom prst="rect">
            <a:avLst/>
          </a:prstGeom>
          <a:ln w="0">
            <a:noFill/>
          </a:ln>
        </p:spPr>
      </p:pic>
      <p:sp>
        <p:nvSpPr>
          <p:cNvPr id="203" name="矩形 1"/>
          <p:cNvSpPr/>
          <p:nvPr/>
        </p:nvSpPr>
        <p:spPr>
          <a:xfrm>
            <a:off x="1403280" y="1413000"/>
            <a:ext cx="5523120" cy="727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借赞美黄河歌颂我们的民族，激发广大中华儿女的民族自豪感与自信心，激励中华儿女像黄河一样伟大坚强，以英勇的气概和坚定的决心保卫黄河，保卫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" descr=""/>
          <p:cNvPicPr/>
          <p:nvPr/>
        </p:nvPicPr>
        <p:blipFill>
          <a:blip r:embed="rId4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6"/>
          <p:cNvSpPr/>
          <p:nvPr/>
        </p:nvSpPr>
        <p:spPr>
          <a:xfrm>
            <a:off x="3367440" y="476280"/>
            <a:ext cx="1797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主 旨 概 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0" descr=""/>
          <p:cNvPicPr/>
          <p:nvPr/>
        </p:nvPicPr>
        <p:blipFill>
          <a:blip r:embed="rId5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4" descr=""/>
          <p:cNvPicPr/>
          <p:nvPr/>
        </p:nvPicPr>
        <p:blipFill>
          <a:blip r:embed="rId6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4" descr=""/>
          <p:cNvPicPr/>
          <p:nvPr/>
        </p:nvPicPr>
        <p:blipFill>
          <a:blip r:embed="rId7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0" descr=""/>
          <p:cNvPicPr/>
          <p:nvPr/>
        </p:nvPicPr>
        <p:blipFill>
          <a:blip r:embed="rId8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由地图看黄河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1280" cy="5560920"/>
          </a:xfrm>
          <a:prstGeom prst="rect">
            <a:avLst/>
          </a:prstGeom>
          <a:ln w="0">
            <a:noFill/>
          </a:ln>
        </p:spPr>
      </p:pic>
      <p:sp>
        <p:nvSpPr>
          <p:cNvPr id="55" name="未知"/>
          <p:cNvSpPr/>
          <p:nvPr/>
        </p:nvSpPr>
        <p:spPr>
          <a:xfrm>
            <a:off x="3379680" y="3184560"/>
            <a:ext cx="2916360" cy="1068480"/>
          </a:xfrm>
          <a:custGeom>
            <a:avLst/>
            <a:gdLst/>
            <a:ahLst/>
            <a:rect l="l" t="t" r="r" b="b"/>
            <a:pathLst>
              <a:path w="2101" h="709">
                <a:moveTo>
                  <a:pt x="2101" y="213"/>
                </a:moveTo>
                <a:cubicBezTo>
                  <a:pt x="2069" y="234"/>
                  <a:pt x="2031" y="254"/>
                  <a:pt x="1994" y="266"/>
                </a:cubicBezTo>
                <a:cubicBezTo>
                  <a:pt x="1991" y="275"/>
                  <a:pt x="1992" y="286"/>
                  <a:pt x="1985" y="293"/>
                </a:cubicBezTo>
                <a:cubicBezTo>
                  <a:pt x="1979" y="299"/>
                  <a:pt x="1967" y="297"/>
                  <a:pt x="1959" y="301"/>
                </a:cubicBezTo>
                <a:cubicBezTo>
                  <a:pt x="1866" y="340"/>
                  <a:pt x="1969" y="303"/>
                  <a:pt x="1897" y="328"/>
                </a:cubicBezTo>
                <a:cubicBezTo>
                  <a:pt x="1872" y="401"/>
                  <a:pt x="1811" y="462"/>
                  <a:pt x="1746" y="505"/>
                </a:cubicBezTo>
                <a:cubicBezTo>
                  <a:pt x="1704" y="532"/>
                  <a:pt x="1602" y="528"/>
                  <a:pt x="1560" y="532"/>
                </a:cubicBezTo>
                <a:cubicBezTo>
                  <a:pt x="1495" y="575"/>
                  <a:pt x="1565" y="535"/>
                  <a:pt x="1418" y="558"/>
                </a:cubicBezTo>
                <a:cubicBezTo>
                  <a:pt x="1400" y="561"/>
                  <a:pt x="1365" y="576"/>
                  <a:pt x="1365" y="576"/>
                </a:cubicBezTo>
                <a:cubicBezTo>
                  <a:pt x="1350" y="573"/>
                  <a:pt x="1327" y="581"/>
                  <a:pt x="1321" y="567"/>
                </a:cubicBezTo>
                <a:cubicBezTo>
                  <a:pt x="1314" y="550"/>
                  <a:pt x="1339" y="514"/>
                  <a:pt x="1339" y="514"/>
                </a:cubicBezTo>
                <a:cubicBezTo>
                  <a:pt x="1333" y="455"/>
                  <a:pt x="1327" y="403"/>
                  <a:pt x="1312" y="346"/>
                </a:cubicBezTo>
                <a:cubicBezTo>
                  <a:pt x="1374" y="325"/>
                  <a:pt x="1359" y="346"/>
                  <a:pt x="1374" y="301"/>
                </a:cubicBezTo>
                <a:cubicBezTo>
                  <a:pt x="1362" y="283"/>
                  <a:pt x="1334" y="269"/>
                  <a:pt x="1339" y="248"/>
                </a:cubicBezTo>
                <a:cubicBezTo>
                  <a:pt x="1347" y="212"/>
                  <a:pt x="1353" y="190"/>
                  <a:pt x="1374" y="160"/>
                </a:cubicBezTo>
                <a:cubicBezTo>
                  <a:pt x="1377" y="151"/>
                  <a:pt x="1379" y="141"/>
                  <a:pt x="1383" y="133"/>
                </a:cubicBezTo>
                <a:cubicBezTo>
                  <a:pt x="1388" y="124"/>
                  <a:pt x="1403" y="117"/>
                  <a:pt x="1401" y="107"/>
                </a:cubicBezTo>
                <a:cubicBezTo>
                  <a:pt x="1399" y="96"/>
                  <a:pt x="1383" y="95"/>
                  <a:pt x="1374" y="89"/>
                </a:cubicBezTo>
                <a:cubicBezTo>
                  <a:pt x="1368" y="71"/>
                  <a:pt x="1374" y="42"/>
                  <a:pt x="1356" y="36"/>
                </a:cubicBezTo>
                <a:cubicBezTo>
                  <a:pt x="1286" y="12"/>
                  <a:pt x="1135" y="9"/>
                  <a:pt x="1135" y="9"/>
                </a:cubicBezTo>
                <a:cubicBezTo>
                  <a:pt x="1047" y="16"/>
                  <a:pt x="1027" y="0"/>
                  <a:pt x="984" y="62"/>
                </a:cubicBezTo>
                <a:cubicBezTo>
                  <a:pt x="978" y="80"/>
                  <a:pt x="965" y="117"/>
                  <a:pt x="966" y="133"/>
                </a:cubicBezTo>
                <a:cubicBezTo>
                  <a:pt x="968" y="152"/>
                  <a:pt x="984" y="186"/>
                  <a:pt x="984" y="186"/>
                </a:cubicBezTo>
                <a:cubicBezTo>
                  <a:pt x="965" y="215"/>
                  <a:pt x="942" y="229"/>
                  <a:pt x="922" y="257"/>
                </a:cubicBezTo>
                <a:cubicBezTo>
                  <a:pt x="896" y="334"/>
                  <a:pt x="905" y="324"/>
                  <a:pt x="816" y="337"/>
                </a:cubicBezTo>
                <a:cubicBezTo>
                  <a:pt x="803" y="341"/>
                  <a:pt x="763" y="350"/>
                  <a:pt x="763" y="372"/>
                </a:cubicBezTo>
                <a:cubicBezTo>
                  <a:pt x="763" y="383"/>
                  <a:pt x="780" y="384"/>
                  <a:pt x="789" y="390"/>
                </a:cubicBezTo>
                <a:cubicBezTo>
                  <a:pt x="786" y="402"/>
                  <a:pt x="789" y="418"/>
                  <a:pt x="780" y="426"/>
                </a:cubicBezTo>
                <a:cubicBezTo>
                  <a:pt x="766" y="438"/>
                  <a:pt x="745" y="437"/>
                  <a:pt x="727" y="443"/>
                </a:cubicBezTo>
                <a:cubicBezTo>
                  <a:pt x="686" y="456"/>
                  <a:pt x="644" y="465"/>
                  <a:pt x="603" y="479"/>
                </a:cubicBezTo>
                <a:cubicBezTo>
                  <a:pt x="585" y="476"/>
                  <a:pt x="567" y="474"/>
                  <a:pt x="550" y="470"/>
                </a:cubicBezTo>
                <a:cubicBezTo>
                  <a:pt x="532" y="465"/>
                  <a:pt x="497" y="452"/>
                  <a:pt x="497" y="452"/>
                </a:cubicBezTo>
                <a:cubicBezTo>
                  <a:pt x="467" y="455"/>
                  <a:pt x="436" y="451"/>
                  <a:pt x="408" y="461"/>
                </a:cubicBezTo>
                <a:cubicBezTo>
                  <a:pt x="374" y="472"/>
                  <a:pt x="380" y="537"/>
                  <a:pt x="399" y="567"/>
                </a:cubicBezTo>
                <a:cubicBezTo>
                  <a:pt x="407" y="580"/>
                  <a:pt x="429" y="573"/>
                  <a:pt x="444" y="576"/>
                </a:cubicBezTo>
                <a:cubicBezTo>
                  <a:pt x="462" y="637"/>
                  <a:pt x="502" y="642"/>
                  <a:pt x="550" y="674"/>
                </a:cubicBezTo>
                <a:cubicBezTo>
                  <a:pt x="558" y="697"/>
                  <a:pt x="572" y="709"/>
                  <a:pt x="532" y="709"/>
                </a:cubicBezTo>
                <a:cubicBezTo>
                  <a:pt x="518" y="709"/>
                  <a:pt x="437" y="669"/>
                  <a:pt x="426" y="665"/>
                </a:cubicBezTo>
                <a:cubicBezTo>
                  <a:pt x="361" y="643"/>
                  <a:pt x="404" y="656"/>
                  <a:pt x="275" y="647"/>
                </a:cubicBezTo>
                <a:cubicBezTo>
                  <a:pt x="215" y="626"/>
                  <a:pt x="284" y="658"/>
                  <a:pt x="240" y="594"/>
                </a:cubicBezTo>
                <a:cubicBezTo>
                  <a:pt x="235" y="586"/>
                  <a:pt x="222" y="588"/>
                  <a:pt x="213" y="585"/>
                </a:cubicBezTo>
                <a:cubicBezTo>
                  <a:pt x="210" y="576"/>
                  <a:pt x="212" y="563"/>
                  <a:pt x="204" y="558"/>
                </a:cubicBezTo>
                <a:cubicBezTo>
                  <a:pt x="189" y="547"/>
                  <a:pt x="151" y="541"/>
                  <a:pt x="151" y="541"/>
                </a:cubicBezTo>
                <a:cubicBezTo>
                  <a:pt x="114" y="551"/>
                  <a:pt x="112" y="556"/>
                  <a:pt x="71" y="541"/>
                </a:cubicBezTo>
                <a:cubicBezTo>
                  <a:pt x="61" y="537"/>
                  <a:pt x="55" y="526"/>
                  <a:pt x="45" y="523"/>
                </a:cubicBezTo>
                <a:cubicBezTo>
                  <a:pt x="30" y="519"/>
                  <a:pt x="15" y="523"/>
                  <a:pt x="0" y="5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黄河的基本走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1773360"/>
            <a:ext cx="7559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仿照‘‘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节中比喻、拟人的写法，以‘‘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”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母亲、父亲、朋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开头，写一两节诗，表达热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73408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411280" y="620640"/>
            <a:ext cx="424836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体验运用：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851280" y="5084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26112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1600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完名校册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仿照‘‘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头，运用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拟人的修辞手法写一两节赞美父母或老师的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一则公益广告或是广告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呼吁人们保护母亲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欣赏歌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学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卫黄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注明：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项写完拍照上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276720" y="0"/>
            <a:ext cx="353520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布置作业： 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56000" y="0"/>
            <a:ext cx="55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有关黄河的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78732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君不见，黄河之水天上来，奔流到海不复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进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落尽走东海，万里写入襟怀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赠裴十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远上白云间，一片孤城万仞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之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凉州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大漠孤烟直，长河落日圆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至塞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白日依山尽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入海流。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之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登鹳雀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欲渡黄河冰塞川，将登太行雪满山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路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1844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黄河今天的生态环境遭到严重破坏，现状堪忧。请针对这一严重的生态危机，设计一则公益广告或是广告词，呼吁人们保护母亲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9140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拓展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hk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52720" y="100080"/>
            <a:ext cx="25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母亲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黄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u177-1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8380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断流的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xin_49060306112004632667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4360" y="549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干涸的河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200612795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2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4800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被污染的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hk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58560" y="189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母亲河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黄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2" descr="a4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2433240" y="98100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保卫黃河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647440" y="2852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保卫祖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773520" y="4508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维护祖国统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黄河上游景观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959520" cy="488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96400" y="1628640"/>
            <a:ext cx="1277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黄河上游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黄河中游景观" descr=""/>
          <p:cNvPicPr/>
          <p:nvPr/>
        </p:nvPicPr>
        <p:blipFill>
          <a:blip r:embed="rId1"/>
          <a:srcRect l="0" t="0" r="0" b="8325"/>
          <a:stretch/>
        </p:blipFill>
        <p:spPr>
          <a:xfrm>
            <a:off x="971640" y="1197000"/>
            <a:ext cx="7488000" cy="4816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40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河中游景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0920" y="907920"/>
            <a:ext cx="8315280" cy="5040360"/>
            <a:chOff x="250920" y="907920"/>
            <a:chExt cx="8315280" cy="5040360"/>
          </a:xfrm>
        </p:grpSpPr>
        <p:pic>
          <p:nvPicPr>
            <p:cNvPr id="62" name="黄河入海口(山东东营)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38131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黄河入海口的苇塘" descr=""/>
            <p:cNvPicPr/>
            <p:nvPr/>
          </p:nvPicPr>
          <p:blipFill>
            <a:blip r:embed="rId2"/>
            <a:stretch/>
          </p:blipFill>
          <p:spPr>
            <a:xfrm>
              <a:off x="4354560" y="2781000"/>
              <a:ext cx="4211640" cy="31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 rot="7330800">
            <a:off x="4545720" y="1394280"/>
            <a:ext cx="343836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黄河入海口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落日                            芦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47_hshtq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987640" y="57340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黄水黄土奇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33_hkpb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348000" y="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黑体"/>
              </a:rPr>
              <a:t>壶口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49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壶口瀑布，是黄河上唯一的黄色大瀑布，也是中国的第二大瀑布，号称“黄河奇观”，其奔腾汹涌的气势是中华民族精神的象征。壶口瀑布东临山西省临汾市吉县壶口镇，西临陕西省延安市宜川县壶口乡。距太原大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小时车程；距西安大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多小时车程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被确定为中国国家重点风景名胜区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被评为“中国旅游胜地四十佳”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晋升为国家地质公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20-03-09T08:54:51Z</dcterms:modified>
  <cp:revision>43</cp:revision>
  <dc:subject/>
  <dc:title>幻灯片 1</dc:title>
</cp:coreProperties>
</file>