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AADC-C61B-4FCC-AAA6-68600986D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8227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400" y="3989880"/>
            <a:ext cx="8227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21DF-F838-4DBA-A336-08AF0CCA2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172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400" y="398988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1720" y="398988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A579-4B06-47E2-8E63-E2849EACB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151560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9560" y="151560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400" y="398988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98988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9560" y="398988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AA04-0FC5-4BA2-B7BC-EBE6442CE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A71D4-A911-4923-B87D-FA50E8691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5400" y="1515600"/>
            <a:ext cx="82278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96C1-62DE-4500-8A16-EE16B512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82278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09942-72CF-442B-BAB3-DC1C27536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40150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1720" y="1515600"/>
            <a:ext cx="40150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5857-E5FC-4E60-AC37-6A45EAAA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7E86-808B-4E25-B24D-2CBEA1309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5400" y="607680"/>
            <a:ext cx="8227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575FD-4714-4FB3-91A2-818347C0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1720" y="1515600"/>
            <a:ext cx="40150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5400" y="398988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D6FF-723E-449C-99D5-872C5BB6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400" y="1515600"/>
            <a:ext cx="8227800" cy="47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660C-431B-43A3-959F-D532965D3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40150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172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1720" y="398988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23D0-A654-428D-8098-C6182791F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172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5400" y="3989880"/>
            <a:ext cx="8227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8F38-DDB0-4ECF-B6D4-CD401235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8227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400" y="3989880"/>
            <a:ext cx="8227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C54B-F569-406A-9727-0A5B29D0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172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5400" y="398988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1720" y="398988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6174-F18B-42EC-9EF2-662476145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7480" y="151560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19560" y="151560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400" y="398988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7480" y="398988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19560" y="3989880"/>
            <a:ext cx="264924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F05C-BE66-4302-A678-032772E30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82278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6216-CF1D-46DC-8B87-B862E30EF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40150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1720" y="1515600"/>
            <a:ext cx="40150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442D-1EF8-4D8F-AA7D-40515B6A9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8FC0-900D-47CA-8F16-BFBE4B34B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07680"/>
            <a:ext cx="8227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0DA8-D206-43DF-9FDC-DF34C639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1720" y="1515600"/>
            <a:ext cx="40150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400" y="398988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482F-FA9A-45F9-A9FD-97FBBA8C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401508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172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1720" y="398988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FAF6-5F57-458C-89EF-54089352C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40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515600"/>
            <a:ext cx="401508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400" y="3989880"/>
            <a:ext cx="8227800" cy="225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6F62-21D8-440A-A07B-1E283BDF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400" y="1515600"/>
            <a:ext cx="82278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8280" y="631476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87720" y="631476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657480" y="631476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192C-A8AE-40AA-A04F-CEFE835B41C0}" type="slidenum">
              <a:rPr b="0" lang="zh-CN" sz="7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6096e6"/>
          </a:solidFill>
          <a:ln w="1260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6096e6"/>
          </a:solidFill>
          <a:ln w="12600">
            <a:solidFill>
              <a:srgbClr val="446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607680"/>
            <a:ext cx="8227800" cy="64764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5400" y="1515600"/>
            <a:ext cx="822780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595959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8280" y="631476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9F41-77C8-4B67-8121-9A15F63C5B45}" type="datetime">
              <a:rPr b="0" lang="zh-CN" sz="7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087720" y="631476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57480" y="631476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7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77D2-CDDC-4E2C-9613-D96B12395FC0}" type="slidenum">
              <a:rPr b="0" lang="zh-CN" sz="7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七上七下八上统编无文言文语段对比阅读</a:t>
            </a:r>
            <a:br>
              <a:rPr sz="2400"/>
            </a:b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论语十二章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陋室铭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爱莲说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河中石兽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5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三峡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答谢中书书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记承天寺夜游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8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富贵不能淫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9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生于忧患，死于安乐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</a:rPr>
              <a:t>10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伯牙善鼓琴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700" spc="-1" strike="noStrike">
                <a:solidFill>
                  <a:srgbClr val="ff0000"/>
                </a:solidFill>
                <a:latin typeface="Arial"/>
              </a:rPr>
              <a:t>三峡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【乙】登山里许，飞流汩然下泻。俯瞰其下，亦有危壁，泉从壁半突出，疏竹掩映，殊有佳致。然业已上登，不及返顾，遂从三姑又上半里，抵换骨岩，岩即幔亭峰后崖也。岩前有庵。从岩后悬梯两层，更登一岩。岩不甚深，而环绕山巅如叠嶂。土人新以木板循岩为室曲直高下随岩宛转。（节选自《徐霞客游记》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解释下列加点词在文中的意思。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沿溯阻绝  溯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__________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属引凄异          引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不及返顾  顾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__________ 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岩即幔亭峰后崖也  即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__________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下列对文中画波浪线部分的断句，正确的一项是（    ）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土人新以木板循岩为室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曲直高下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随岩宛转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土人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以木板循岩为室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曲直高下随岩宛转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土人新以木板循岩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为室曲直高下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随岩宛转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土人新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以木板循岩为室曲直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高下随岩宛转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把文中画横线的句子翻译成现代汉语。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其间千二百里，虽乘奔御风，不以疾也。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登山里许，飞流汩然下泻。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甲文写“水”，各写了三峡“四时之水”的什么特点？乙文写“山”，作者前往“换骨岩”途中俯瞰到什么“佳致”？请简要概括。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6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分）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）逆流而上  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）延长  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）看，回头看  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）就是                             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7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分）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8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分）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）这（白帝和江陵）中间相距一千二百多里，即使骑上飞奔的马，驾驭着长风，也不觉得（比它）快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）登上山走了一里多路，就看见山泉汩汩地往下流泻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9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5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分）第一问：夏水大而湍急；春冬水清而透明；秋水小而清冷。第二问：危壁出泉；疏竹掩映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登山山有一里多路，就见飞流汩汩地往下倾泻。俯身鸟瞰下面，也有高耸的岩壁，清泉水从岩壁的半腰处奔突流出，附近有稀疏的竹林相映，令人有非常好的兴致。然而业已登上三姑峰，来不及返回光顾，于是从三姑峰又再上行半里路，抵达换骨岩，换骨岩就是幔亭峰的后崖，换骨岩前面有座庵。从换骨岩后面架设的两层悬梯，又登上另外一悬岩。悬岩不很深邃，环绕着山巅有如叠嶂。当地人用木板沿岩壁修筑房屋，有的弯曲，有的笔直，有的高，有的低矮，都是顺着宛转的岩壁修筑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zh-CN" sz="2700" spc="-1" strike="noStrike">
                <a:solidFill>
                  <a:srgbClr val="ff0000"/>
                </a:solidFill>
                <a:latin typeface="Arial"/>
              </a:rPr>
              <a:t>答谢中书书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【乙】天镜园浴凫堂①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高槐深竹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樾②暗千层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坐对兰荡③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一泓漾之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水木明瑟④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鱼鸟藻荇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类若乘空。余读书其中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扑面临头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受用一绿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幽窗开卷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字俱碧鲜。每岁春老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破塘⑤笋必道此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轻舠⑥飞出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牙人⑦择顶大笋一株掷水面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呼园人曰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:“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捞笋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!”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鼓枻⑧飞去。园丁划小舟拾之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形如象牙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白如雪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嫩如花藕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甜如蔗霜。煮食之，无可名言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但有惭愧。 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(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选自张岱《天镜园》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9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解释下列句中加点的词。（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分）①晓雾将歇                   ②类若乘空         ③无可名言          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10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下列各组中加点字的意义和用法都不相同的一项是（   ）（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A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杂然而前陈着           蹴尔而与之                                  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B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徒以有先生也           以中有足乐者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C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山川之美               园丁划小舟拾之                               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D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未复有能与其奇者       余读书其中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11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选出下列对甲乙两文的理解或分析有误的一项是（      ）（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A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【甲】【乙】两文分别用“清流见底”“水木明瑟”。突出水的清澈明净。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B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【甲】【乙】两文都选择代表性的景物入文，都从远近、高低、动静、色彩搭配入手，调动视觉、听觉、触觉、味觉等器官进行描绘。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C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【甲】【乙】两文写景，不仅仅停留在景物本身，而是抓住景物特征，营造优美的意境，表达作者独特的情感。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D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【甲】文在写景的基础上进行议论，表达情感。【乙】则先写景，再描写商人卖笋、仆人捞笋的场面，富有生活情趣。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12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将下面的句子翻译成现代汉语。（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分）形如象牙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白如雪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嫩如花藕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甜如蔗霜。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13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古诗文很讲究炼字。“沉鳞竞跃”一句中的“竞”字用得好，请说说好在哪里。（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9.①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消散  ②好像  ③说出（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分。每个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分）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0.C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分）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1.B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2.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形状犹如象牙一样，像雪一样白，像花藕一样嫩，像蔗糖一样甜。（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3.“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竞”字写出了“跃”的状态，鱼儿争相跳出水面，静中有动，渲染了热闹的气氛，表达了作者沉醉山水的愉悦之情。（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天镜园浴凫堂，高耸的槐树，幽深的竹篁，林荫层层叠叠，坐落面对着兰荡湖，一泓湖水荡漾，湖水林木明净新鲜，瑟瑟多姿，游鱼、飞鸟、水藻、荇菜，大致类似像大乘空灵境界一样。我坐在浴凫堂里读书，扑面而来，满眼的全是绿色，推开窗子，打开书卷，所有的文字，全是青碧鲜绿的颜色。每年春末，破塘笋必定经过这里。轻舟飞出，商人就选择最大一株笋抛掷到水面上，呼唤园中人说：“捞笋！”然后划桨飞逝而离。园丁划小舟拾起大笋，形状犹如象牙一样，像雪一样白，像花藕一样嫩，像蔗糖一样甜。煮着吃着，妙不可言，只有惭愧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1" lang="zh-CN" sz="2700" spc="-1" strike="noStrike">
                <a:solidFill>
                  <a:srgbClr val="ff0000"/>
                </a:solidFill>
                <a:latin typeface="Arial"/>
              </a:rPr>
              <a:t>记承天寺夜游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【乙】绍圣元年十月十二日，与幼子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[2]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游白水佛迹院，浴于汤池，热甚，其源殆可熟物。循山而东，少北，有悬水百仞，山八九折，折处辄为潭，深者磓石五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[3]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，不得其所止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;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雪溅雷怒，可喜可畏。水际有巨人迹数十，所谓佛迹也。暮归倒行，观山烧，火甚，俯仰度数谷。至江上月出，击汰中流，掬弄珠璧。到家二鼓，复与过饮酒，食馀甘煮菜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[4]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，顾影颓然，不复甚寐，书以付过。东坡翁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6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用“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/”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给下面的句子划分节奏。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划一处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)(2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分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)                   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与幼子过游白水佛迹院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7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解释句中加点字的意义。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(2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分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)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顾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影颓然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                            但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少闲人如吾两人者耳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8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下面各项句子中加点字意义相同的一项是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( )(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分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A.①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浴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汤池 ②三顾臣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于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草庐之中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B. ①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引喻失义，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塞忠谏之路也 ②投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骨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C. ①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循山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东 ②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戍死者故十六七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D. ①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不得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所止 ②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如土石何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9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用现代汉语翻译下面句子。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(2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分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)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庭下如积水空明，水中藻荇交横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10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甲、乙两文都是苏轼的写景文，但表达感情却不同，请你说说甲乙分别表达了作者怎样的思想感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?(4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分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6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与幼子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游白水佛迹院  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7. 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顾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: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回头看 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</a:rPr>
              <a:t>但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;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只 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</a:rPr>
              <a:t>8  A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9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月光照在院中，如水一般清明澄澈，水中藻荇交错纵横，原来是竹子和松柏的影子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10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甲、有贬谪的悲凉，人生的感慨，赏月的欢喜，漫步的悠闲                 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    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乙寄情山水，随遇而安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绍圣元年十月十二日，我与小儿子苏过游白水佛迹院，在汤泉中沐浴，水很热，其源头估计能把东西煮熟。沿着山向东走，有稍稍偏北的地方，又一百丈瀑布。山上有八九个弯道，每个弯道就有谭。潭水深的地方，用绳子系石坠入五丈，还到不了底。潭水像雪花般飞溅，声音如雷鸣般轰响，令人既喜又惊。水边有几十个巨大的脚印，大概就是所谓佛的痕迹把。傍晚时我们顺来路返回，在夕阳映照下山仿佛在燃烧，十分的壮观。或弯腰或抬头看这些山谷。到了江边，此时月亮出来，江水击打着，用双手捧着象碧玉般的水。回到家已是二股时分，我与苏过再次饮酒。吃着橄榄菜，有中萧索感，再也睡不着了。写下这些文字交给过儿，东坡记  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1" lang="zh-CN" sz="2700" spc="-1" strike="noStrike">
                <a:solidFill>
                  <a:srgbClr val="ff0000"/>
                </a:solidFill>
                <a:latin typeface="Arial"/>
              </a:rPr>
              <a:t>富贵不能淫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(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乙）    天祥将出狱，即为绝笔自赞①，系之衣带间。其词曰：“孔曰成仁，孟云取义；惟其义尽，所以仁至。读圣贤书，所学何事！而今而后，庶几②无愧！”过市，意气扬扬自若，观者如堵③。临刑，从容谓吏曰：“吾事毕矣。”问市人孰为南北，南面再拜就死。俄有使使止之，至则死矣。见闻者无不流涕。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10.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下列句子中“其”字的用法，不同于其他三项的是（      ）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(2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分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)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   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A.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独行</a:t>
            </a:r>
            <a:r>
              <a:rPr b="1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其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道    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B.</a:t>
            </a:r>
            <a:r>
              <a:rPr b="1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其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真无马邪？   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C.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河伯始旋</a:t>
            </a:r>
            <a:r>
              <a:rPr b="1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其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面目        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D.</a:t>
            </a:r>
            <a:r>
              <a:rPr b="1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其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词曰：“孔曰成仁，孟云取义。”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11.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下列加点词解释的有误一项是   （     ）（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2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分）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   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A.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贫贱不能</a:t>
            </a:r>
            <a:r>
              <a:rPr b="1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移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(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移动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)  B.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见闻者无不流</a:t>
            </a:r>
            <a:r>
              <a:rPr b="1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涕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(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眼泪）   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C.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此之</a:t>
            </a:r>
            <a:r>
              <a:rPr b="1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谓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大丈夫（称作）       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D.</a:t>
            </a:r>
            <a:r>
              <a:rPr b="1" lang="zh-CN" sz="1200" spc="-1" strike="noStrike">
                <a:solidFill>
                  <a:srgbClr val="ff0000"/>
                </a:solidFill>
                <a:latin typeface="宋体"/>
                <a:ea typeface="宋体"/>
              </a:rPr>
              <a:t>俄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有使使止之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(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不久）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12.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以甲、乙两文为据，下列表述有误的一项是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(       )(2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分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)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   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A.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甲文运用了排比的修辞手法，行文流畅，富有气势。   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B.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文天祥临刑之际自作绝笔，系之衣带间，这表明他早有赴死之心。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   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C.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孟子认为大丈夫应该具有坚定的信念和崇高的精神追求。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D.“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见闻者无不流涕”一句，描绘“观者”的反应，是为了表现他们的痛惜之情。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13.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请将“问市人孰为南北，南面再拜就死”一句翻译成现代汉语。（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2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分）                                         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14. 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孟子关于“大丈夫”的著名论断，在文天祥身上，是如何体现的？（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3</a:t>
            </a:r>
            <a:r>
              <a:rPr b="1" lang="zh-CN" sz="1200" spc="-1" strike="noStrike">
                <a:solidFill>
                  <a:srgbClr val="595959"/>
                </a:solidFill>
                <a:latin typeface="宋体"/>
                <a:ea typeface="宋体"/>
              </a:rPr>
              <a:t>分）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595959"/>
                </a:solidFill>
                <a:latin typeface="宋体"/>
                <a:ea typeface="宋体"/>
              </a:rPr>
              <a:t>                                   </a:t>
            </a:r>
            <a:endParaRPr b="0" lang="en-US" sz="9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900" spc="-1" strike="noStrike">
                <a:solidFill>
                  <a:srgbClr val="595959"/>
                </a:solidFill>
                <a:latin typeface="宋体"/>
                <a:ea typeface="宋体"/>
              </a:rPr>
              <a:t> </a:t>
            </a:r>
            <a:endParaRPr b="0" lang="en-US" sz="9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0.B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【解析】本题考查考生对文言虚词意思的辨析能力。 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A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C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D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三项中的“其”均为第三人称代词，译为“他（她， 它）的”或“他（她，它）们的”；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B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项，“其”是副词。表示反诘。译为“岂，难道”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1.A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【解析】本题考查考生对重点文言词语意思的把握：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A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项，“移”在这里是“动摇”的意思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2.D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【解析】本题考查考生对文意的理解和把握：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D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项，“是为了表现他们的痛惜之情”表述有误，应是：为了表现文天祥从容就义的气节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3.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问集市上（围观）的人何处是南，何处是北，面向南方拜了又拜，然后受刑而死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4.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文天祥被俘后面对死亡，面对威逼利诱，一身浩然正气，从容就义，正是孟子“大丈夫”论断中“威武不能屈”的体现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    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【乙】文天祥将被押出监狱前，就写下遗书自我总结，桂在衣带间。那文词写着：“孔子说杀身成仁，孟子说舍生取义，（因为）已经尽了人臣的责任，所以达成了仁德。读古代圣贤的书，所学的（不是成仁取义的事又）是什么事呢？从今以后，我差不多就没有愧疚了！”（他被）押过集市时，精神得意，如往常一样。围观的人多得像一道墙。即将受刑时，他不慌不忙地向执刑的官吏说：“我的事都已经做完了。”问集市上（围观）的人何处是南，何处是北，面向南方拜了又拜，然后受刑而死。不久，有使者（前来传令）让行刑停止，到达时（文天祥）已经死了。看到、听到的人， 没有不伤心流泪的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1" lang="zh-CN" sz="2700" spc="-1" strike="noStrike">
                <a:solidFill>
                  <a:srgbClr val="ff0000"/>
                </a:solidFill>
                <a:latin typeface="Arial"/>
              </a:rPr>
              <a:t>生于忧患，死于安乐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【乙】上①谓侍臣曰：“治国如治病，病虽愈，尤宜将护，傥②遽自放纵，病复作，则不可救矣。今中国幸安，四夷俱服，诚自古所希，然朕日慎一日，唯惧不终，故欲数闻卿辈谏争也。”魏征曰：“内外治安，臣不以为喜，唯喜陛下居安思危耳。”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1.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解释下列加点的词。（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管夷吾举于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士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（ 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) (2)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困于心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衡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于虑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(   )(3)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病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虽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愈（ ）（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〉四夷俱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服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(      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2.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翻译文中画线的句子。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(4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所以动心忍性，曾益其所不能。     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故欲数闻卿辈谏争也。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3.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甲文开头连用六个排比的作用是什么？乙文开头运用比喻的作有又是什么？ （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分）   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4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．结合甲文的观点，说说魏征、“唯喜陛下居安思危”的原因。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(4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分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11. (1)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狱官。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2)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通“横”，梗塞，堵塞，不顺，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3)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即使。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4)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臣服，服从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12. (1)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通过这些来使他的心惊动，使他的性格坚强起来，增加他的才干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(2)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所以（我）很希望多次听到你们的进谏争辩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1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甲文连用六个排比，举出事实说明这些人虽出身贫贱，但他们在经受了艰苦磨炼之后，终于成就了不平凡的事业。乙文运用比喻，用治病来比喻治国，说明国家虽然强大了，但仍然要小心谨慎，居安思危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14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甲文告诉我们忧愁祸患能使人生存发展，安逸享乐会导致颓废衰亡。唐太宗虽身处太平盛世，但有强烈的忧患意识，即能居安思危，也就尤为可贵、可喜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唐太宗对亲近的大臣们说：“治国就像治病—样，即使病好了，也应当休养护理，倘若马上就自我放开纵欲，一旦旧病复发，就没有办法解救了。现在国家很幸运地得到和平安宁，四方的少数民族都服从，这真是自古以来所罕有的，但是我一天比一天小心，只害怕这种情况不能维护久远，所以我很希望多次听到你们的进谏争辩啊。”魏征回答说：“国内国外得到治理安宁，臣不认为这是值得喜庆的，只对陛下居安思危感到喜悦。”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00" spc="-1" strike="noStrike">
                <a:solidFill>
                  <a:srgbClr val="595959"/>
                </a:solidFill>
                <a:latin typeface="Arial"/>
              </a:rPr>
              <a:t>　</a:t>
            </a:r>
            <a:r>
              <a:rPr b="0" lang="zh-CN" sz="300" spc="-1" strike="noStrike">
                <a:solidFill>
                  <a:srgbClr val="595959"/>
                </a:solidFill>
                <a:latin typeface="Arial"/>
              </a:rPr>
              <a:t>	</a:t>
            </a:r>
            <a:r>
              <a:rPr b="0" lang="zh-CN" sz="3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3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250920" y="2649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论语十二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1"/>
          <p:cNvSpPr/>
          <p:nvPr/>
        </p:nvSpPr>
        <p:spPr>
          <a:xfrm>
            <a:off x="0" y="-7134120"/>
            <a:ext cx="9144000" cy="11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论语十二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2014·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陕西改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阅读下面文言文，回答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【乙】太史公曰：《诗》有之：“高山仰止，景行行止。”虽不能至，然心乡往之。余读孔氏书，想见其为人。适鲁，观仲尼庙堂、车服、礼器，诸生以时习礼其家，余低回①留之，不能去云。天下君王至于贤人众矣，当时则荣，没则已焉。孔子布衣，传十余世，学者宗之。自天子王侯，中国言六艺②者，折中于夫子，可谓至圣矣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【参考译文】　太史公说：《诗经》上有句话：“巍峨的高山可以仰望，宽广的大道可以依循前进。”我虽然不能到达那里，但是心中一直向往它。我读孔子的书，由推理可以知道他的为人。到了鲁国，看到孔子的祠堂、他车子、衣服和礼器，众多的儒生在他家按时操演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礼仪，我徘徊留恋，舍不得离开。天下的君王以及贤人是很多的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他们大多是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时的荣耀，死后就终止了。孔子是一个平民，传到十几代，读书的人都尊崇他。从天子王侯，到全国研究六经的人，都以孔子的学说作为准则，孔子可以说是道德学问最高尚的人了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解释下列句子中加点的词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不知而不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愠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能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云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700" spc="-1" strike="noStrike">
                <a:solidFill>
                  <a:srgbClr val="ff0000"/>
                </a:solidFill>
                <a:latin typeface="Arial"/>
              </a:rPr>
              <a:t>伯牙善鼓琴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【乙】凡音①，生于人心者也。乐②者，通于伦理者也。乐者音之所由生也其本在人心之惑于物也。是故知声③而不知音者，禽兽是也。知音而不知乐者，众庶是也。唯君子能知乐，是故审④声以知音，审音以知乐，审乐以知政，而治道备矣。 是故不知声者，不可与言音。不知音者，不可 与言乐。知乐，则几于礼矣。 礼乐皆得，谓之有德。是故乐之隆，非极音也。食飨之礼⑤，非致⑥味也。是故先王之制礼乐也，非以极口腹耳目之欲也，将以教民知好恶，而返人道之正也。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7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下面句子中加点词意思和用法相同的一组是（   ）（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3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分）  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A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．知音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不知乐者         溪深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鱼肥）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B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．唯君子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能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知乐            虽有千里之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能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C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．而治道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备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矣              右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备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容臭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D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．是故先王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制礼乐也      客</a:t>
            </a:r>
            <a:r>
              <a:rPr b="0" lang="zh-CN" sz="12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美我者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8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请用现代汉语翻译下面句子。（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）是故不知声者，不可与言音。  （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）礼乐皆得，谓之有德。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        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9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请用“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/”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给下面的句子断句。（断两处）（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分）  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乐 者 音 之 所 由 生 也 其 本 在 人心 之 惑 于 物 也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10.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【甲】文中伯牙和子期共同的兴趣是什么？请用自己的语言概括。             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【乙】文告诉我们制定礼乐最终要达到的目的是什么？请用【乙】文中的原句回答。（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                                 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7.D8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）所以不懂的声音的人，不可以和他谈论音乐。（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）礼仪和理乐都通晓，叫做有德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9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乐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/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音 之 所 由 生也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/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其 本 在 人 心 之 惑 于 物也。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10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【甲】爱好音乐。【乙】将以教民知好恶，而返人道之正也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</a:rPr>
              <a:t>音，是由人心产生的。乐，是与事物伦理相通的。乐是由声音生成的，它产生的本源在于人心受到外物的感动。所以只懂得声音不懂的音乐的是禽兽，只懂得音乐而不懂的乐理的是普通百姓。只有君子才是能够懂得乐理的人。所以能由辨别声而知到音乐，由辨别音乐而知乐理，由辨别乐理而知道政治的好坏，就具备了治理天下的方法。所以不懂的声音的人，不可以和他谈论音乐。不懂得音乐的人，不可以和他谈论乐理。懂得乐理就接近于知晓礼仪了。礼仪和理乐都通晓，叫做有德！  所以乐的隆盛，并不是使声音极尽华美。在宗庙中合祭祖先的礼仪，并不是使食物滋味极其丰富。在宗庙中弹奏的瑟，安装这音色沉浊的朱红色熟丝所做的弦，底部的孔眼很疏朗，弹奏时发出沉浊而舒缓的声音，一个人唱歌，三个人应和，这声音并未达到丰富多彩的完美境地。合祭的礼仪，崇尚玄酒，并以爼盘载着生鱼，肉汁不用盐菜来和味，食物的味道并不丰富。因此此先王之所以制定礼乐，并不是它来满足人们口腹耳目的欲望，而是用它来教导民众节制自己的好恶之情，从而归于正确的人生正途。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8640" y="1426680"/>
            <a:ext cx="822672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595959"/>
                </a:solidFill>
                <a:latin typeface="Arial"/>
              </a:rPr>
              <a:t>2.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下面各组句子中，加点词的意义和用法全都相同的一组是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(                         )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　　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A.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及郡下，诣太守，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如此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不亦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说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乎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)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　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B.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虽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不能察，必以情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虽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不能至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　　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C.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入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则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无法家拂士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学而不思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则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罔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) D. 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此之谓失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本心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想见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其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为人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　　【解析】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A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项中的“说”后者读“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yuè”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，通“悦”，意思为“愉快”前者意思为“讲，谈论，叙述”。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B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项中两个“虽”后者是“虽然”的意思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;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前者是“即使”的意思。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C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项中两个“则”后者是连词，可译为“就”或不译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;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前者表示假设，是“如果”的意思。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D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项中两个“其”都是代词，代指“他的”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　　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3.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将下面的句子翻译成现代汉语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　　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(1)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择其善者而从之，其不善者而改之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　　我要选择他们的长处来学习，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看到自己也有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)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他们那些短处就要改正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　　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(2)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诸生以时习礼其家。　　众多的儒生在他家按时操演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练习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)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礼仪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　　　　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4.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请结合【甲】【乙】两段选文，说说学者敬仰孔子的原因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　　因为孔子讲求良好的学习方法，有谦虚的学习态度和大度宽厚的待人胸怀，所以，学者都很敬仰他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595959"/>
                </a:solidFill>
                <a:latin typeface="Arial"/>
              </a:rPr>
              <a:t>　　</a:t>
            </a:r>
            <a:endParaRPr b="0" lang="en-US" sz="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250920" y="26496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陋室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1"/>
          <p:cNvSpPr/>
          <p:nvPr/>
        </p:nvSpPr>
        <p:spPr>
          <a:xfrm>
            <a:off x="0" y="-10328400"/>
            <a:ext cx="8729640" cy="160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陋室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【乙】项脊轩，旧南阁子也。室仅方丈，可容一人居。百年老屋，尘泥渗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hè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漉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l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雨泽下注；每移案，顾视无可置者。又北向，不能得日，日过午已昏。余稍为修葺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q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使不上漏。前辟四窗，垣墙周庭，以当南日，日影反照，室始洞然。又杂植兰桂竹木于庭，旧时栏楯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shǔn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，亦遂增胜。借书满架，偃仰啸歌，冥然兀坐，万籁有声；而庭阶寂寂，小鸟时来啄食，人至不去。三五之夜，明月半墙，桂影斑驳，风移影动，珊珊可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解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惟吾德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馨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无案牍之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每移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稍为修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翻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孔子云：“何陋之有？（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余稍为修葺，使不上漏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内容上，甲乙两文同样描写居室环境，甲文以“                    ”绘陋室幽雅，乙文用“                        ”写居室清静；写法上，两文都采用                 手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对甲乙两文作者表现出的人生态度，你有什么看法？请简要谈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答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桌子  我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稍作修理，让它不能从上面漏土漏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苔痕上阶绿，草色入帘青。 庭阶寂寂或万籁有声。托物言志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很欣赏文中作者安贫乐道的人生态度。生活中人们往往面临种种诱惑，只要能像作者那样保持淡泊的心境，就一定提高自身的修养，完善自己的人格。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译文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项脊轩，是过去的南阁楼。屋里只有一丈见方，可以容纳一个人居住。百年老屋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屋顶墙上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泥土从上边漏下来，积聚的流水一直往下流淌；我每次动书桌，环视四周没有可以安置桌案的地方。屋子又朝北，不能照到阳光，太阳过了中午就已经昏暗。我稍稍修理了一下，使它不从上面漏土漏雨。在前面开了四扇窗子，在院子四周砌上围墙，用来挡住南面射来的日光，日光反射照耀，室内才明亮起来。我在庭院里随意地种上兰花、桂树、竹子等，往日的栏杆，也增加了新的光彩。借来的书摆满了书架，我安居室内，吟诵诗文，有时又静静地独自端坐，听到自然界各种各样的声音；庭院、台阶前静悄悄的，小鸟不时飞下来啄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走到它跟前也不离开。十五的夜晚，明月高悬，照亮半截墙壁，桂树的影子交杂错落，微风吹过影子摇动，可爱极了。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Text Box 2"/>
          <p:cNvSpPr/>
          <p:nvPr/>
        </p:nvSpPr>
        <p:spPr>
          <a:xfrm>
            <a:off x="250920" y="26496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爱莲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395280" y="2982960"/>
            <a:ext cx="831708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"/>
          <p:cNvSpPr/>
          <p:nvPr/>
        </p:nvSpPr>
        <p:spPr>
          <a:xfrm>
            <a:off x="231840" y="-1444680"/>
            <a:ext cx="8480520" cy="820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爱莲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乙】周敦颐，字茂叔，道州营道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以舅龙图阁学士郑向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为分宁主簿。有狱久不决，敦颐至，一讯立辩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邑人惊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老吏不如也。”部使者荐之，调南安军司理参军。有囚法不当死，转运使王逵欲深治之。逵，酷悍吏也，众莫敢争，敦颐独与之辩，不听，乃委手版‚归，将弃官去，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: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此尚可仕③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杀人以媚人，吾不为也。”逵悟，囚得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下列句中加点词解释错误的一项是（   ）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亭亭净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植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植：立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有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久不决        狱：案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囚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法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当死        法：法律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将弃官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去：离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下列句中加点词语的意义和用法相同的一项是（  ）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莲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出淤泥而不染     敦颐独与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可远观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可亵玩焉   人不知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舅龙图阁学士郑向任  杀人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媚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委手版归         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乃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不知有汉，无论魏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将下列句子翻译成现代汉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莲之爱，同予者何人？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逵，酷悍吏也，众莫敢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．【甲】文            ，借莲表述自己的志向和情操；【乙】文叙事写人，通过“速决一狱”和            两件事分别表现了周敦颐            、            的特点。（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2. C   13. B  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4.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）对于莲花的喜爱，像我一样的还有什么人呢？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）王逵是个残酷凶悍的官吏，大家没有人敢和他争。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15.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托物言志 和王逵争辩 富有才能为官正直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</a:rPr>
              <a:t>周敦颐，字茂叔，道州营道县人。由于舅舅龙图阁学士郑向的推荐，做了分宁县的主簿。有一件案子拖了好久不能判决，周敦颐到任后，只审讯一次就立即弄清楚了。县里的人吃惊地说：“老狱吏也比不上啊！”部使者推荐他，调任他到南安担任军司理曹参军。有个囚犯根据法律不应当判处死刑，转运使王逵想重判他。王逵是个残酷凶悍的官僚，大家没人敢和他争，敦颐一个人和他争辩，王逵不听，敦颐就扔下笏板回了家，打算辞官而去，说：“像这样还能做官吗，用杀人的做法来取悦于上级，我不做。”王逵明白过来了，这个囚犯才免于一死。 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700" spc="-1" strike="noStrike">
                <a:solidFill>
                  <a:srgbClr val="ff0000"/>
                </a:solidFill>
                <a:latin typeface="Arial"/>
              </a:rPr>
              <a:t>河中石兽</a:t>
            </a:r>
            <a:endParaRPr b="1" lang="en-US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【乙】杜处士好画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蜀中有杜处士①，好书画，所宝以百数。有戴嵩②牛一轴，尤所爱，锦囊玉轴，常以自随。一日曝书画，有牧童见之，拊③掌大笑曰：“此画斗牛也。牛斗力在角，尾搐④入两股间，今乃掉⑤尾而斗，谬矣！”处士笑而然之。古语云：“耕当问奴，织当问婢。”不可改也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【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0.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解释下面句中加点词语。（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）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阅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十余岁，僧募金重修           阅          （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）一日曝书画                     </a:t>
            </a:r>
            <a:r>
              <a:rPr b="0" lang="zh-CN" sz="1400" spc="-1" strike="noStrike">
                <a:solidFill>
                  <a:srgbClr val="ff0000"/>
                </a:solidFill>
                <a:latin typeface="Arial"/>
              </a:rPr>
              <a:t>曝 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         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1.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用现代汉语翻译下列语句。（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）其反激之力，必于石下迎水处啮沙为坎穴。      （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）蜀中有杜处士，好书画，所宝以百数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   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2.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结合语境，用自已的话说说下列句中“笑”的具体原因。（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）一讲学家设帐寺中，闻之笑曰             原因：                                  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）有牧童见之，拊掌大笑曰                  原因：                                   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13.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结合文本，谈谈你读了甲乙两文后分别得到的启示。（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分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甲文：                                           乙文：                                           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250920" y="264960"/>
            <a:ext cx="48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河中石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"/>
          <p:cNvPicPr/>
          <p:nvPr/>
        </p:nvPicPr>
        <p:blipFill>
          <a:blip r:embed="rId1"/>
          <a:stretch/>
        </p:blipFill>
        <p:spPr>
          <a:xfrm>
            <a:off x="8440560" y="85680"/>
            <a:ext cx="632160" cy="6192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4"/>
          <p:cNvSpPr/>
          <p:nvPr/>
        </p:nvSpPr>
        <p:spPr>
          <a:xfrm>
            <a:off x="395280" y="3332160"/>
            <a:ext cx="8317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5400" y="608040"/>
            <a:ext cx="8227800" cy="706320"/>
          </a:xfrm>
          <a:prstGeom prst="rect">
            <a:avLst/>
          </a:prstGeom>
          <a:noFill/>
          <a:ln w="0">
            <a:noFill/>
          </a:ln>
        </p:spPr>
        <p:txBody>
          <a:bodyPr lIns="101520" rIns="76320" tIns="38160" bIns="38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2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5400" y="1490760"/>
            <a:ext cx="8227800" cy="475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解释下面句中加点的词语。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经历  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晒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它的反冲击力，一定会在石头下方迎水面冲刷沙子形成坑穴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蜀地有个姓杜的读书人，喜欢书画，（他）珍藏的书画要用百来计算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讲学家笑找石头的人弄不清沙轻石重的性质，不在原地找，而是顺水而下去寻找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牧童笑杜处士珍藏的斗牛画把尾巴画错了。斗牛时牛的尾巴应当夹在两条大腿之间，而画家画的牛的尾巴却是翘起（摆动）的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意思对即可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．甲文示例：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我们考虑问题要全面，不能片面地理解，更不能主观臆断。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计学家知其一，不知其二，所以作出了错误的判断。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乙文示例：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做什么事都应该尊重事实，不能想当然。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戴嵩画画，没有仔细观察斗牛，而是想当然认为斗牛时牛的尾巴是翘起（摆动）的，所以画错了。（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分）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  <a:p>
            <a:pPr>
              <a:lnSpc>
                <a:spcPct val="130000"/>
              </a:lnSpc>
              <a:spcAft>
                <a:spcPts val="1001"/>
              </a:spcAft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四川境内有姓杜的读书人，爱好书画，他珍藏的书画有成百件，有戴嵩画的一幅斗牛画，他特别喜爱，用锦囊装起来，用玉石作画轴，经常随身携带着。有一天晾晒书画，一个牧童看到了这幅画，拍手大笑说：“这画上画的是角斗的牛呀，牛在角斗时力量集中在角上，尾巴夹在两条后腿中间，但这幅画却画成牛翘着尾巴斗角，画错了啊！”隐士笑了，认为牧童说得对。有句古话说：“耕地应当去问男奴，织布应当去问婢女。”这句话是不可改变的。</a:t>
            </a:r>
            <a:endParaRPr b="0" lang="en-US" sz="14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3-14T14:37:33Z</dcterms:created>
  <dc:creator>Administrator</dc:creator>
  <dc:description/>
  <dc:language>en-US</dc:language>
  <cp:lastModifiedBy>caohuaihong</cp:lastModifiedBy>
  <dcterms:modified xsi:type="dcterms:W3CDTF">2020-03-16T14:53:39Z</dcterms:modified>
  <cp:revision>1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513</vt:lpwstr>
  </property>
</Properties>
</file>