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444-2C45-44FC-AABE-9EB1CAC0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3F8-0D99-432F-B144-984DBC02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888-2AD7-4DED-94FB-1D5709B9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32D4-F1CA-4CF3-9D77-D5DA5F98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4085-A66C-4A5F-9832-2EF09619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4B1-C253-4200-96DE-F05ADB8F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8108-DA3D-4C26-BF94-F77AAB42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FDE-1836-4989-9678-2716D43B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4F2D-64F7-4951-A222-7089D840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01C-7DC7-47E6-A502-04A8DED1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F013-5997-4F08-8EC2-9C89C4E0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AF1-94C4-4B18-9740-E5AEDFAF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9E8D-98BD-4DD8-8F02-3C8957E440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6967080"/>
            <a:ext cx="84582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ae1f02"/>
              </a:solidFill>
              <a:latin typeface="Arial"/>
            </a:endParaRPr>
          </a:p>
        </p:txBody>
      </p:sp>
      <p:sp>
        <p:nvSpPr>
          <p:cNvPr id="42" name="矩形 5122"/>
          <p:cNvSpPr/>
          <p:nvPr/>
        </p:nvSpPr>
        <p:spPr>
          <a:xfrm>
            <a:off x="685800" y="175248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济南的冬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3649320" y="54705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秦州区大门中学  孙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课后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5564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后练习第一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题，第二大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找出自己最喜欢的语句或段，摘抄到日记本上，最好能对自己喜欢的语句做点点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口头作文：你到没到过一个与众不同的地方，是否有一些特别的感受？说出来让大家与你共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习本文抓住济南的冬天“温晴”的特点来写景的方法，领会文章融情于景，情景交融的写作特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通过朗读，揣摩，体会文章准确生动、清新朴实的写景语言，体会作者对济南冬天对大自然的赞美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背景知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济南市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济南市是山东省省会，位于中国东部沿海，属于暖温带大陆性季风气候区，四季分明，日照充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老舍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99-196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现代著名作家，人民艺术家。原名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舒庆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字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舍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满族人。生于北京一个城市贫民家庭。代表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骆驼祥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话剧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茶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，他的作品收集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老舍文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。本文约写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30—193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间，是作者在济南齐鲁大学任教时写的。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77940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．注音</a:t>
            </a:r>
            <a:br>
              <a:rPr sz="3600"/>
            </a:br>
            <a:r>
              <a:rPr b="1" lang="zh-CN" sz="36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济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南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j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     </a:t>
            </a:r>
            <a:r>
              <a:rPr b="1" lang="zh-CN" sz="36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xiā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   </a:t>
            </a:r>
            <a:br>
              <a:rPr sz="3600"/>
            </a:br>
            <a:r>
              <a:rPr b="1" lang="zh-CN" sz="36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藻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zǎo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　</a:t>
            </a:r>
            <a:r>
              <a:rPr b="1" lang="zh-CN" sz="36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贮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zhù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        </a:t>
            </a:r>
            <a:br>
              <a:rPr sz="3600"/>
            </a:br>
            <a:r>
              <a:rPr b="1" lang="zh-CN" sz="36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落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zhuó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     </a:t>
            </a:r>
            <a:r>
              <a:rPr b="1" lang="zh-CN" sz="36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护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kān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)</a:t>
            </a:r>
            <a:br>
              <a:rPr sz="3600"/>
            </a:br>
            <a:r>
              <a:rPr b="1" lang="zh-CN" sz="36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清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ché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    </a:t>
            </a:r>
            <a:r>
              <a:rPr b="1" lang="zh-CN" sz="36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lún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)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．释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响晴：（天空）晴朗无云。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设若：假若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贮蓄：存放，储藏。　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空灵：灵活不可捉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2462040" y="487440"/>
            <a:ext cx="42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课文预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课文诵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560" y="170028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听朗读录音，取其精华，去其糟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有感情地朗读课文，思考下列问题：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济南的冬天总的特点是什么？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文中具体描写了哪些景物？可以概括成哪几幅图画？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作者是怎样展开对景物描写的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整体感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文分为两大部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部分（第一自然段）通过对比突出济南的冬天的特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部分（第二至第五自然段）具体描绘济南冬天的美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阳光下的小山（或阳光下济南全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雪后的小山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外远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济南冬天的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课文研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阅读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你对冬天的景色进行过观察吗？冬天的气候特点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济南冬天的气候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写济南的冬天为什么要讲到北平、伦敦的冬天和热带地方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对比来自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7107"/>
          <p:cNvSpPr/>
          <p:nvPr/>
        </p:nvSpPr>
        <p:spPr>
          <a:xfrm>
            <a:off x="6781680" y="37339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47108"/>
          <p:cNvSpPr/>
          <p:nvPr/>
        </p:nvSpPr>
        <p:spPr>
          <a:xfrm>
            <a:off x="6705720" y="3370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温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47109"/>
          <p:cNvSpPr/>
          <p:nvPr/>
        </p:nvSpPr>
        <p:spPr>
          <a:xfrm>
            <a:off x="5219640" y="4549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7110"/>
          <p:cNvSpPr/>
          <p:nvPr/>
        </p:nvSpPr>
        <p:spPr>
          <a:xfrm>
            <a:off x="4038480" y="5005440"/>
            <a:ext cx="2895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者的亲身感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知识点：对比手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者运用了三组对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济南的冬天与北平的冬天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济南的冬天与伦敦的冬天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济南的冬天与热带地方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比较的结果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48131"/>
          <p:cNvSpPr/>
          <p:nvPr/>
        </p:nvSpPr>
        <p:spPr>
          <a:xfrm>
            <a:off x="838080" y="21337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北平的冬天刮风与济南的冬天没有风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48132"/>
          <p:cNvSpPr/>
          <p:nvPr/>
        </p:nvSpPr>
        <p:spPr>
          <a:xfrm>
            <a:off x="990720" y="388620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8133"/>
          <p:cNvSpPr/>
          <p:nvPr/>
        </p:nvSpPr>
        <p:spPr>
          <a:xfrm>
            <a:off x="914400" y="3200400"/>
            <a:ext cx="7651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伦敦的冬天云遮雾笼与济南的冬天温暖响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8134"/>
          <p:cNvSpPr/>
          <p:nvPr/>
        </p:nvSpPr>
        <p:spPr>
          <a:xfrm>
            <a:off x="990720" y="4038480"/>
            <a:ext cx="6705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热带地方的冬天日光永远火毒响亮与济南的冬天温晴舒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48135"/>
          <p:cNvSpPr/>
          <p:nvPr/>
        </p:nvSpPr>
        <p:spPr>
          <a:xfrm>
            <a:off x="3200400" y="4952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91411"/>
                </a:solidFill>
                <a:latin typeface="Arial"/>
                <a:ea typeface="楷体_GB2312"/>
              </a:rPr>
              <a:t>经过一番比较，令人信服地得出“在北中国的冬天，而能有温晴的天气，济南真得算个宝地”这个结论。点出“气候温晴”这一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本课小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3250"/>
          <p:cNvSpPr/>
          <p:nvPr/>
        </p:nvSpPr>
        <p:spPr>
          <a:xfrm>
            <a:off x="270000" y="1785240"/>
            <a:ext cx="8716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济南冬天的天气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组对比 主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通过不同层次的朗读感知。我 们明确了作者抓住了济南冬天“响晴”的特点，描绘了一幅幅济南特有的冬景图，抒发了作者对济南深深的喜爱和赞美之情；导游活动，加深了我们对文章主要内容的把握与理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5T13:43:05Z</dcterms:created>
  <dc:creator/>
  <dc:description/>
  <dc:language>en-US</dc:language>
  <cp:lastModifiedBy>Administrator</cp:lastModifiedBy>
  <dcterms:modified xsi:type="dcterms:W3CDTF">2017-05-25T04:09:4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60</vt:lpwstr>
  </property>
  <property fmtid="{D5CDD505-2E9C-101B-9397-08002B2CF9AE}" pid="3" name="Version">
    <vt:r8>1</vt:r8>
  </property>
</Properties>
</file>