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BD3-DBE5-4C11-99F6-D94DBD9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6F3-B303-4ED0-873A-F86142B4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5B8-E5C9-410E-820E-569F2F80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FBD-D630-4527-92CE-88328C2B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81E-4958-44C5-8954-2D8A6D00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296-8918-4391-A982-FCACD04C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0E2-A0FF-445D-89F0-09CFBBBD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6ED-137F-4CF8-85F3-12AA893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463-2187-47E1-8F21-5A19CE8F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482-6E61-40D0-85E6-927C639C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838-4B35-458C-87CD-14D55C4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322-85F7-46CB-B3A1-6253A07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58CA-56DF-450C-AB07-59776A1985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967080"/>
            <a:ext cx="84582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ae1f02"/>
              </a:solidFill>
              <a:latin typeface="Arial"/>
            </a:endParaRPr>
          </a:p>
        </p:txBody>
      </p:sp>
      <p:sp>
        <p:nvSpPr>
          <p:cNvPr id="42" name="矩形 5122"/>
          <p:cNvSpPr/>
          <p:nvPr/>
        </p:nvSpPr>
        <p:spPr>
          <a:xfrm>
            <a:off x="685800" y="17524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济南的冬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649320" y="5470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秦州区大门中学  孙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5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后练习第一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题，第二大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出自己最喜欢的语句或段，摘抄到日记本上，最好能对自己喜欢的语句做点点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头作文：你到没到过一个与众不同的地方，是否有一些特别的感受？说出来让大家与你共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习本文抓住济南的冬天“温晴”的特点来写景的方法，领会文章融情于景，情景交融的写作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过朗读，揣摩，体会文章准确生动、清新朴实的写景语言，体会作者对济南冬天对大自然的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背景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济南市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济南市是山东省省会，位于中国东部沿海，属于暖温带大陆性季风气候区，四季分明，日照充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舍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99-196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现代著名作家，人民艺术家。原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舒庆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舍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满族人。生于北京一个城市贫民家庭。代表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话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茶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，他的作品收集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老舍文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。本文约写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0—19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间，是作者在济南齐鲁大学任教时写的。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77940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．注音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j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 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xiā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   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zǎo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zh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       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zhu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kān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ché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lún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．释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响晴：（天空）晴朗无云。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设若：假若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贮蓄：存放，储藏。　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灵：灵活不可捉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462040" y="487440"/>
            <a:ext cx="42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诵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7002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听朗读录音，取其精华，去其糟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有感情地朗读课文，思考下列问题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济南的冬天总的特点是什么？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文中具体描写了哪些景物？可以概括成哪几幅图画？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是怎样展开对景物描写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文分为两大部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第一自然段）通过对比突出济南的冬天的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第二至第五自然段）具体描绘济南冬天的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阳光下的小山（或阳光下济南全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雪后的小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外远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济南冬天的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课文研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你对冬天的景色进行过观察吗？冬天的气候特点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济南冬天的气候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写济南的冬天为什么要讲到北平、伦敦的冬天和热带地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比来自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7107"/>
          <p:cNvSpPr/>
          <p:nvPr/>
        </p:nvSpPr>
        <p:spPr>
          <a:xfrm>
            <a:off x="6781680" y="37339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7108"/>
          <p:cNvSpPr/>
          <p:nvPr/>
        </p:nvSpPr>
        <p:spPr>
          <a:xfrm>
            <a:off x="6705720" y="3370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7109"/>
          <p:cNvSpPr/>
          <p:nvPr/>
        </p:nvSpPr>
        <p:spPr>
          <a:xfrm>
            <a:off x="5219640" y="4549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7110"/>
          <p:cNvSpPr/>
          <p:nvPr/>
        </p:nvSpPr>
        <p:spPr>
          <a:xfrm>
            <a:off x="4038480" y="500544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的亲身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知识点：对比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者运用了三组对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济南的冬天与北平的冬天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济南的冬天与伦敦的冬天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济南的冬天与热带地方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比较的结果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8131"/>
          <p:cNvSpPr/>
          <p:nvPr/>
        </p:nvSpPr>
        <p:spPr>
          <a:xfrm>
            <a:off x="838080" y="21337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北平的冬天刮风与济南的冬天没有风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8132"/>
          <p:cNvSpPr/>
          <p:nvPr/>
        </p:nvSpPr>
        <p:spPr>
          <a:xfrm>
            <a:off x="990720" y="38862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8133"/>
          <p:cNvSpPr/>
          <p:nvPr/>
        </p:nvSpPr>
        <p:spPr>
          <a:xfrm>
            <a:off x="914400" y="3200400"/>
            <a:ext cx="765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伦敦的冬天云遮雾笼与济南的冬天温暖响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8134"/>
          <p:cNvSpPr/>
          <p:nvPr/>
        </p:nvSpPr>
        <p:spPr>
          <a:xfrm>
            <a:off x="990720" y="40384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热带地方的冬天日光永远火毒响亮与济南的冬天温晴舒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8135"/>
          <p:cNvSpPr/>
          <p:nvPr/>
        </p:nvSpPr>
        <p:spPr>
          <a:xfrm>
            <a:off x="3200400" y="4952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1411"/>
                </a:solidFill>
                <a:latin typeface="Arial"/>
                <a:ea typeface="楷体_GB2312"/>
              </a:rPr>
              <a:t>经过一番比较，令人信服地得出“在北中国的冬天，而能有温晴的天气，济南真得算个宝地”这个结论。点出“气候温晴”这一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本课小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3250"/>
          <p:cNvSpPr/>
          <p:nvPr/>
        </p:nvSpPr>
        <p:spPr>
          <a:xfrm>
            <a:off x="270000" y="1785240"/>
            <a:ext cx="871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济南冬天的天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组对比 主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过不同层次的朗读感知。我 们明确了作者抓住了济南冬天“响晴”的特点，描绘了一幅幅济南特有的冬景图，抒发了作者对济南深深的喜爱和赞美之情；导游活动，加深了我们对文章主要内容的把握与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3:43:05Z</dcterms:created>
  <dc:creator/>
  <dc:description/>
  <dc:language>en-US</dc:language>
  <cp:lastModifiedBy>Administrator</cp:lastModifiedBy>
  <dcterms:modified xsi:type="dcterms:W3CDTF">2017-05-25T04:09:4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