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629-20D4-4723-B9CD-6544A620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C32-6C81-4213-8BF1-FDD896E5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5615-991F-417C-808B-3F1007CE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5A3E1-3606-4543-B5DF-B610EC6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38690-607B-4010-85AC-A36889B0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B038D-ADD3-4FBB-9573-D5383545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9DC33-7E0B-499B-9CC1-23AA909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62D9-D210-4F86-B06A-647EF93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BF14-7990-4965-B8D6-F644F15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3FCEB-C2AD-4693-8D9B-D994DA68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1D81-312D-4692-8BB6-4CA6D181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BC026-B11C-4677-8B12-21DB95E3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AF5-764B-4E0B-BE3F-FF369810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3791D-C2DE-41BD-B0AE-44C6FBC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03F91-98DB-4E69-9C71-EED8F07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581CC-2866-41C6-9D9D-D27A83C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2AA0-5E00-4342-A649-FDB16131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371E-44EE-4F89-80B9-5AD79D49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14B80-A498-437E-ABA1-F2A9A1E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D5544-1354-421C-8571-B9D0B1C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9E124-D0B7-4699-8E7D-2286916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45D16-E4FA-4E7F-B713-7698C63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C5653-4AA8-4CA0-BB75-BDF386E6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C8D-399E-4077-B638-10410847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9106D-F9C7-4126-8859-559E3144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63A2-8B3E-440C-98BB-CAFFF220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793A-2002-47B0-8AC5-26D5AC8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C2D06-539A-4ABA-ADF0-E84620A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6182-F924-44B4-B908-B60D994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FA650-F1DC-4320-BFF0-B4F3F4BF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0961F-CB33-4196-8070-4BCC827C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C73D0-480A-4AA4-BE0F-68A369C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FAA04-C515-4253-8FDC-EBD21D7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96E6D-F5C7-4F91-8C4F-AA68FDF0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897C-16C5-4CF0-BBE3-735186B2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F7B69-AF2B-487B-952F-F76E68B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5BF88-4BF2-437F-85D5-FDB6880F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9D4D-4063-4E89-9A32-C42EE03D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4E5D-B69D-43DC-8557-D0D79A2A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B16-386E-46C2-B6BF-5B0878D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44E9-A63D-40DB-A47A-D52F88CD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D1C7-8D82-4D1F-813C-81856E51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106E-CB1B-4DFC-8214-88896F66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D4D0-AA72-4CA1-81DD-F103008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632-4A4E-4B9D-9DBB-73A5B9FA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15C-1D0D-44CC-915A-47737D9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829-8F2F-41F4-B4E3-73596AF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8495-F66A-4AAA-ABF5-C200230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9D3E-F5E1-4984-9C30-2B5BE761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F808-DC7D-4EAC-BFC8-6B6135A1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E6EA-ECE2-4811-8CB3-93D2C40A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61B9-1034-464B-97EA-01C7E57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7E8E-D4E1-4415-A379-AFE4FFC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F514-138C-4076-B066-A6C93E44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441D-6353-48CC-AD42-C8F2F218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259-10B1-492B-A33D-AE6A497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2289-F812-4769-9414-21C8649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44F9-1606-423A-87B7-CB0D3A53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A92F-2DB2-4445-9F05-C0D9F0C8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D851-B04B-4254-8939-D9D5EAC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CEFE-3F4B-4AB7-9F46-8DC89EEB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7B16-EE6D-40E0-9D60-C62F243C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7D5C-D6B1-4B2F-96A2-B4FB976C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B74D-22F9-4D53-A01C-1DFDFDB9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C4B9-A805-4FF0-AE38-E1497E8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F547-818A-4A9F-BA4F-30A0EEB8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5FC-CD87-46FC-B958-43EF184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A5AD-059C-4973-ADE6-BE85B2B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2D19-5222-4E27-8448-EF71F1A2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02C4-8D34-4EDF-90F8-B624845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3CDE-50B2-4940-B76A-5576E1A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50B9-A08C-48B6-A3DC-5667F19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4BE0-93F6-4756-B3A1-716B28E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1208-9D06-4CC8-9289-F3E97AC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31B5-50AB-4C72-B1A8-4225145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BF36-9BD9-4903-96E9-BE922F00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74E7-1470-4ACE-8F8D-5A117A99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918-F37A-4B0C-806B-8D6549F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20C5-3F27-470C-B684-186F41B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C230-3BDC-4344-B48D-9A23036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B0D2-C020-4D9C-9733-3D328D7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F795-8A81-46D0-B443-34CF194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1B71-44E0-476A-AA9C-84411432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EF39-D200-4DB5-BCEF-03B9733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C682-2E75-4A43-93BE-25AE26C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8548-7874-4FE2-98A8-F99AFF4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E7DE-E097-4826-ADDA-876B153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BBE3-2A44-4DED-8EC0-F87F506B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176-525F-401E-AAE3-6350274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677B-0B4C-4C69-A4F3-67444D69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4101-26D3-4193-A142-BD2168EE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D0DD2-29AA-4BD8-90D0-745CA4EE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6107-D6D7-41D7-BF8C-4A1867F4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8C3A-9F04-4EDD-8416-9DF6CDA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999E-C0E7-4751-A3E9-2C4A2974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FCAD-98A9-4E3B-AEAC-B9E87E1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EF38E-512E-43D4-B5E6-8561CA4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4757-8757-424F-B462-3DE03AB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C083-C75C-45E0-9246-5D3AA4C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263-F4D1-45D3-AAE6-33FBCA1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A7B7-9A43-4867-B68A-7AB8E17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A549-4200-4AD3-AFAE-C6A6189D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0797-9268-462F-8098-757A565A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AF93-3012-4FBE-82DE-12314541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9508-9885-45A6-8C9E-15F7672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183D-2024-4920-B52B-2DC6161F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DD5F-247F-44E3-BFD5-BD4087B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2148-3334-43C2-8FE4-2442032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2F7F-3A8A-4F4E-9DDB-F6FCBD00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48E1-715C-47ED-9E0A-4B687D4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52E-5D54-4207-9BD2-863E9197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C8E4-8D18-42B4-AD20-030E4D0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8AF2-68E7-4385-9EAF-14736C4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E6AD-D53B-4399-B6CB-A49C048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FAE5-8CB5-43ED-833B-40FC5AE1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AB5E-C9AD-4220-9922-74995076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19DC-4489-4E09-8382-CD721C7A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08D8-AC66-4C4C-8394-53ECDED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C6C2-25C8-44B0-B31E-89701422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B45F5-A659-4265-B374-BEBE0871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A3EC-F001-4092-AA29-1B333A3C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F19-6B7C-4509-BFE4-8CB91BE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ED9FC-4495-4DE3-9804-B6FBDFA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A320-B31B-4088-A1A1-E37F91C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E9750-0702-40D6-A974-983A42E0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6B0D-EA5E-4E48-8C5D-2884148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0261-E8A0-419B-BC93-3160F65D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A65B-86F6-4D9F-8041-196B3799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DE51-EB55-4EDD-9475-6CE9F0C4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CC99E-F5FB-4626-B159-34F8BFF9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F652-C0C3-405B-8A5A-62ADA89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FD4C4-4241-4D1B-8119-4BACA86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D87C-EE4C-401B-AA1D-56B2DD411A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719-C5E5-4DAC-A4B9-71501E18D066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C7B4-E45B-48AF-8F8B-DA5218C9AB38}" type="datetime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8D96-E528-473A-827C-2A8DC674BDA0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FDB6-75FC-4C02-A11D-A2492CB08814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073-7D55-4C9E-824A-BAED2AB0342B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364-859C-4E7F-BEEB-68A56B59ACD9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74B-8A39-474B-88C0-070F15C1C5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B62A-1ED9-45B4-99D7-1990126B138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2E18-E64C-41E4-BC7C-B54583C83B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1116-9FEB-468F-B0BA-25D544335A8D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A82-D835-49BF-9CCD-9CFBA8B24C78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F4E-D69E-48A8-A160-60B5C9AD4C28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676-C7EF-4BF1-AB09-DE4ACDC1C438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3" name="图片 3" descr="微信图片_20200306165655"/>
          <p:cNvPicPr/>
          <p:nvPr/>
        </p:nvPicPr>
        <p:blipFill>
          <a:blip r:embed="rId2"/>
          <a:stretch/>
        </p:blipFill>
        <p:spPr>
          <a:xfrm>
            <a:off x="-14400" y="-9360"/>
            <a:ext cx="9151920" cy="5148000"/>
          </a:xfrm>
          <a:prstGeom prst="rect">
            <a:avLst/>
          </a:prstGeom>
          <a:ln w="0">
            <a:noFill/>
          </a:ln>
        </p:spPr>
      </p:pic>
      <p:pic>
        <p:nvPicPr>
          <p:cNvPr id="454" name="文本框 4" descr=""/>
          <p:cNvPicPr/>
          <p:nvPr/>
        </p:nvPicPr>
        <p:blipFill>
          <a:blip r:embed="rId3"/>
          <a:stretch/>
        </p:blipFill>
        <p:spPr>
          <a:xfrm>
            <a:off x="2320920" y="2771640"/>
            <a:ext cx="3753000" cy="644760"/>
          </a:xfrm>
          <a:prstGeom prst="rect">
            <a:avLst/>
          </a:prstGeom>
          <a:ln w="0">
            <a:noFill/>
          </a:ln>
        </p:spPr>
      </p:pic>
      <p:pic>
        <p:nvPicPr>
          <p:cNvPr id="455" name="文本框 5" descr=""/>
          <p:cNvPicPr/>
          <p:nvPr/>
        </p:nvPicPr>
        <p:blipFill>
          <a:blip r:embed="rId4"/>
          <a:stretch/>
        </p:blipFill>
        <p:spPr>
          <a:xfrm>
            <a:off x="5803920" y="4095720"/>
            <a:ext cx="3159000" cy="830160"/>
          </a:xfrm>
          <a:prstGeom prst="rect">
            <a:avLst/>
          </a:prstGeom>
          <a:ln w="0">
            <a:noFill/>
          </a:ln>
        </p:spPr>
      </p:pic>
      <p:sp>
        <p:nvSpPr>
          <p:cNvPr id="456" name="直接连接符 6"/>
          <p:cNvSpPr/>
          <p:nvPr/>
        </p:nvSpPr>
        <p:spPr>
          <a:xfrm>
            <a:off x="2055960" y="3355920"/>
            <a:ext cx="3305160" cy="7920"/>
          </a:xfrm>
          <a:prstGeom prst="line">
            <a:avLst/>
          </a:prstGeom>
          <a:ln w="12600">
            <a:solidFill>
              <a:srgbClr val="0000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7" name="文本框 8" descr=""/>
          <p:cNvPicPr/>
          <p:nvPr/>
        </p:nvPicPr>
        <p:blipFill>
          <a:blip r:embed="rId5"/>
          <a:stretch/>
        </p:blipFill>
        <p:spPr>
          <a:xfrm>
            <a:off x="2303640" y="3400560"/>
            <a:ext cx="3078000" cy="46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7"/>
          <p:cNvSpPr/>
          <p:nvPr/>
        </p:nvSpPr>
        <p:spPr>
          <a:xfrm>
            <a:off x="258840" y="165240"/>
            <a:ext cx="2495520" cy="533160"/>
          </a:xfrm>
          <a:custGeom>
            <a:avLst/>
            <a:gdLst>
              <a:gd name="textAreaLeft" fmla="*/ 34560 w 2495520"/>
              <a:gd name="textAreaRight" fmla="*/ 2460960 w 2495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01048" h="21600">
                <a:moveTo>
                  <a:pt x="0" y="0"/>
                </a:moveTo>
                <a:lnTo>
                  <a:pt x="101048" y="0"/>
                </a:lnTo>
                <a:lnTo>
                  <a:pt x="101048" y="21600"/>
                </a:lnTo>
                <a:lnTo>
                  <a:pt x="0" y="21600"/>
                </a:lnTo>
                <a:close/>
              </a:path>
              <a:path fill="lightenLess" w="101048" h="21600">
                <a:moveTo>
                  <a:pt x="0" y="0"/>
                </a:moveTo>
                <a:lnTo>
                  <a:pt x="101048" y="0"/>
                </a:lnTo>
                <a:lnTo>
                  <a:pt x="99648" y="1400"/>
                </a:lnTo>
                <a:lnTo>
                  <a:pt x="1400" y="1400"/>
                </a:lnTo>
                <a:close/>
              </a:path>
              <a:path fill="darken" w="101048" h="21600">
                <a:moveTo>
                  <a:pt x="101048" y="0"/>
                </a:moveTo>
                <a:lnTo>
                  <a:pt x="101048" y="21600"/>
                </a:lnTo>
                <a:lnTo>
                  <a:pt x="99648" y="20200"/>
                </a:lnTo>
                <a:lnTo>
                  <a:pt x="99648" y="1400"/>
                </a:lnTo>
                <a:close/>
              </a:path>
              <a:path fill="darkenLess" w="101048" h="21600">
                <a:moveTo>
                  <a:pt x="10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648" y="20200"/>
                </a:lnTo>
                <a:close/>
              </a:path>
              <a:path fill="lighten" w="10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00" name="图片 1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7520" y="801720"/>
            <a:ext cx="3586320" cy="400536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1"/>
          <p:cNvSpPr/>
          <p:nvPr/>
        </p:nvSpPr>
        <p:spPr>
          <a:xfrm>
            <a:off x="3621240" y="1204920"/>
            <a:ext cx="5364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鲁肃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子敬，三国时吴王的得意谋臣，倍受赏识。从小 丧父，靠祖母抚养。他少有大志，轻财好施，喜欢习武骑射。他一生最大的功绩是倡导、促成并终身不易地竭力维护孙刘联盟，使三足鼎立之势能够形成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47640" y="-14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孙权劝学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-317520" y="977400"/>
            <a:ext cx="8918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初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谓吕蒙曰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:“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卿（    ）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今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当涂掌事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不可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不学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!”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辞以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军中多务。权曰：“孤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岂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)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欲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治经为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 )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博士邪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)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！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但当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涉猎，见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往事耳。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言多务，孰（   ）若孤？孤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常读书，自以为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大有所益。”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始就学。及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鲁肃过寻阳，与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论议，大惊曰：“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今者才略，非复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吴下阿蒙！”蒙曰：“士别三日，即更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  )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刮目相待，大兄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何见事之晚乎！”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遂（   ）拜蒙母，结友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而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文本框 32772"/>
          <p:cNvSpPr/>
          <p:nvPr/>
        </p:nvSpPr>
        <p:spPr>
          <a:xfrm>
            <a:off x="2752200" y="4368960"/>
            <a:ext cx="14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：读准字音、停顿、节奏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5" name="文本框 32773"/>
          <p:cNvSpPr/>
          <p:nvPr/>
        </p:nvSpPr>
        <p:spPr>
          <a:xfrm>
            <a:off x="4249800" y="958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īn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6" name="文本框 32774"/>
          <p:cNvSpPr/>
          <p:nvPr/>
        </p:nvSpPr>
        <p:spPr>
          <a:xfrm>
            <a:off x="6948360" y="1389240"/>
            <a:ext cx="9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ĭ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文本框 32775"/>
          <p:cNvSpPr/>
          <p:nvPr/>
        </p:nvSpPr>
        <p:spPr>
          <a:xfrm>
            <a:off x="2041560" y="2279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ú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文本框 32776"/>
          <p:cNvSpPr/>
          <p:nvPr/>
        </p:nvSpPr>
        <p:spPr>
          <a:xfrm>
            <a:off x="3143160" y="400680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ì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文本框 32777"/>
          <p:cNvSpPr/>
          <p:nvPr/>
        </p:nvSpPr>
        <p:spPr>
          <a:xfrm>
            <a:off x="1454040" y="18590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éi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0" name="文本框 32778"/>
          <p:cNvSpPr/>
          <p:nvPr/>
        </p:nvSpPr>
        <p:spPr>
          <a:xfrm>
            <a:off x="3552840" y="354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ēn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1" name="文本框 32779"/>
          <p:cNvSpPr/>
          <p:nvPr/>
        </p:nvSpPr>
        <p:spPr>
          <a:xfrm>
            <a:off x="3405240" y="1819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é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414440" y="703440"/>
            <a:ext cx="52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知识链接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文言翻译五字法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601640" y="133020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留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国号、年号、地名、人名、官名、书名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601640" y="186840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用现代汉语双音节词替换古代文言单音节词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601640" y="24638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调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调整语序，使其符合现代汉语的表达习惯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601640" y="3111480"/>
            <a:ext cx="700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补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补充出句中省略的内容，使意思完整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601640" y="37069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删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删去没有实在意义的词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不译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矩形 1"/>
          <p:cNvSpPr/>
          <p:nvPr/>
        </p:nvSpPr>
        <p:spPr>
          <a:xfrm>
            <a:off x="114480" y="33480"/>
            <a:ext cx="404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华文隶书"/>
                <a:ea typeface="华文隶书"/>
              </a:rPr>
              <a:t>二读 ：读懂文意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1"/>
          <p:cNvSpPr/>
          <p:nvPr/>
        </p:nvSpPr>
        <p:spPr>
          <a:xfrm>
            <a:off x="28440" y="390600"/>
            <a:ext cx="712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蒙辞以军中多务（调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吕蒙用军中事务繁多来推脱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孤岂欲卿治经为博士邪！（留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当时掌管经学传授的学官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结友而别。（补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  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00" y="-24120"/>
            <a:ext cx="3656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二读：读懂文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6000" y="661680"/>
            <a:ext cx="9144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隶书"/>
              </a:rPr>
              <a:t>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初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，权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谓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吕蒙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曰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：“卿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当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事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，不可不学！”蒙辞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军中多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权曰：“孤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欲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卿治经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博士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邪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但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当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涉猎，见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往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耳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。卿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言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多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孰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孤？孤常读书，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以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大有所益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文本框 34819"/>
          <p:cNvSpPr/>
          <p:nvPr/>
        </p:nvSpPr>
        <p:spPr>
          <a:xfrm>
            <a:off x="971640" y="9716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3" name="文本框 34820"/>
          <p:cNvSpPr/>
          <p:nvPr/>
        </p:nvSpPr>
        <p:spPr>
          <a:xfrm>
            <a:off x="2163600" y="898560"/>
            <a:ext cx="23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文本框 34821"/>
          <p:cNvSpPr/>
          <p:nvPr/>
        </p:nvSpPr>
        <p:spPr>
          <a:xfrm>
            <a:off x="4195800" y="94140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5" name="文本框 34822"/>
          <p:cNvSpPr/>
          <p:nvPr/>
        </p:nvSpPr>
        <p:spPr>
          <a:xfrm>
            <a:off x="5424480" y="9716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6" name="文本框 34823"/>
          <p:cNvSpPr/>
          <p:nvPr/>
        </p:nvSpPr>
        <p:spPr>
          <a:xfrm>
            <a:off x="0" y="195264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7" name="文本框 34824"/>
          <p:cNvSpPr/>
          <p:nvPr/>
        </p:nvSpPr>
        <p:spPr>
          <a:xfrm>
            <a:off x="971640" y="1892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军中事情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8" name="文本框 34825"/>
          <p:cNvSpPr/>
          <p:nvPr/>
        </p:nvSpPr>
        <p:spPr>
          <a:xfrm>
            <a:off x="3695760" y="1890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托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9" name="文本框 34826"/>
          <p:cNvSpPr/>
          <p:nvPr/>
        </p:nvSpPr>
        <p:spPr>
          <a:xfrm>
            <a:off x="6572160" y="1494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调）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0" name="文本框 34827"/>
          <p:cNvSpPr/>
          <p:nvPr/>
        </p:nvSpPr>
        <p:spPr>
          <a:xfrm>
            <a:off x="747720" y="2724120"/>
            <a:ext cx="19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表示反问，难道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1" name="文本框 34828"/>
          <p:cNvSpPr/>
          <p:nvPr/>
        </p:nvSpPr>
        <p:spPr>
          <a:xfrm>
            <a:off x="2982960" y="27241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2" name="文本框 34829"/>
          <p:cNvSpPr/>
          <p:nvPr/>
        </p:nvSpPr>
        <p:spPr>
          <a:xfrm>
            <a:off x="4340160" y="27241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为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3" name="文本框 34830"/>
          <p:cNvSpPr/>
          <p:nvPr/>
        </p:nvSpPr>
        <p:spPr>
          <a:xfrm>
            <a:off x="6391440" y="23414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“耶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4" name="文本框 34831"/>
          <p:cNvSpPr/>
          <p:nvPr/>
        </p:nvSpPr>
        <p:spPr>
          <a:xfrm>
            <a:off x="216000" y="36640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5" name="文本框 34832"/>
          <p:cNvSpPr/>
          <p:nvPr/>
        </p:nvSpPr>
        <p:spPr>
          <a:xfrm>
            <a:off x="971640" y="366408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6" name="文本框 34833"/>
          <p:cNvSpPr/>
          <p:nvPr/>
        </p:nvSpPr>
        <p:spPr>
          <a:xfrm>
            <a:off x="2557440" y="3633840"/>
            <a:ext cx="25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7" name="文本框 34834"/>
          <p:cNvSpPr/>
          <p:nvPr/>
        </p:nvSpPr>
        <p:spPr>
          <a:xfrm>
            <a:off x="4122720" y="36338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8" name="文本框 34835"/>
          <p:cNvSpPr/>
          <p:nvPr/>
        </p:nvSpPr>
        <p:spPr>
          <a:xfrm>
            <a:off x="5219640" y="366408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9" name="文本框 34836"/>
          <p:cNvSpPr/>
          <p:nvPr/>
        </p:nvSpPr>
        <p:spPr>
          <a:xfrm>
            <a:off x="222120" y="45943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0" name="文本框 1"/>
          <p:cNvSpPr/>
          <p:nvPr/>
        </p:nvSpPr>
        <p:spPr>
          <a:xfrm>
            <a:off x="5068800" y="19080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用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1920" y="6120"/>
            <a:ext cx="56372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重点字词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1680" y="641160"/>
            <a:ext cx="854064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书中：</a:t>
            </a:r>
            <a:r>
              <a:rPr b="0" lang="zh-CN" sz="2800" spc="-1" strike="noStrike">
                <a:solidFill>
                  <a:srgbClr val="001d32"/>
                </a:solidFill>
                <a:latin typeface="宋体"/>
              </a:rPr>
              <a:t>卿、当涂、辞、务、孤、治经、博士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邪、但、涉猎、见、往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补充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以：介词，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岂：副词，表是反问，译为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难道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耳：语气词，表示阻止，相当于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而已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罢了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孰若：何如。两者抉择，倾向肯定后一种。孰，谁；若，像，比得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-42840" y="185760"/>
            <a:ext cx="8337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就学。及鲁肃过寻阳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论 议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大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曰：“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才略，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复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吴下阿蒙！”蒙曰：“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士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三日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更刮目相待，大兄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何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见事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乎！”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母，结友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文本框 35842"/>
          <p:cNvSpPr/>
          <p:nvPr/>
        </p:nvSpPr>
        <p:spPr>
          <a:xfrm>
            <a:off x="1461960" y="482760"/>
            <a:ext cx="309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5" name="文本框 35843"/>
          <p:cNvSpPr/>
          <p:nvPr/>
        </p:nvSpPr>
        <p:spPr>
          <a:xfrm>
            <a:off x="1189080" y="698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6" name="文本框 35844"/>
          <p:cNvSpPr/>
          <p:nvPr/>
        </p:nvSpPr>
        <p:spPr>
          <a:xfrm>
            <a:off x="2406600" y="69840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文本框 35845"/>
          <p:cNvSpPr/>
          <p:nvPr/>
        </p:nvSpPr>
        <p:spPr>
          <a:xfrm>
            <a:off x="7250400" y="69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8" name="文本框 35846"/>
          <p:cNvSpPr/>
          <p:nvPr/>
        </p:nvSpPr>
        <p:spPr>
          <a:xfrm>
            <a:off x="1820880" y="17794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9" name="文本框 35847"/>
          <p:cNvSpPr/>
          <p:nvPr/>
        </p:nvSpPr>
        <p:spPr>
          <a:xfrm>
            <a:off x="4594680" y="177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0" name="文本框 35848"/>
          <p:cNvSpPr/>
          <p:nvPr/>
        </p:nvSpPr>
        <p:spPr>
          <a:xfrm>
            <a:off x="6899040" y="177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1" name="文本框 35849"/>
          <p:cNvSpPr/>
          <p:nvPr/>
        </p:nvSpPr>
        <p:spPr>
          <a:xfrm>
            <a:off x="1935000" y="3510000"/>
            <a:ext cx="30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2" name="文本框 35850"/>
          <p:cNvSpPr/>
          <p:nvPr/>
        </p:nvSpPr>
        <p:spPr>
          <a:xfrm>
            <a:off x="1568520" y="401004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3" name="文本框 35851"/>
          <p:cNvSpPr/>
          <p:nvPr/>
        </p:nvSpPr>
        <p:spPr>
          <a:xfrm>
            <a:off x="5514840" y="401004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4" name="文本框 35852"/>
          <p:cNvSpPr/>
          <p:nvPr/>
        </p:nvSpPr>
        <p:spPr>
          <a:xfrm>
            <a:off x="196920" y="4232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5" name="文本框 35853"/>
          <p:cNvSpPr/>
          <p:nvPr/>
        </p:nvSpPr>
        <p:spPr>
          <a:xfrm>
            <a:off x="2406600" y="430200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6" name="文本框 35854"/>
          <p:cNvSpPr/>
          <p:nvPr/>
        </p:nvSpPr>
        <p:spPr>
          <a:xfrm>
            <a:off x="3791520" y="4303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叩拜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7" name="文本框 35856"/>
          <p:cNvSpPr/>
          <p:nvPr/>
        </p:nvSpPr>
        <p:spPr>
          <a:xfrm>
            <a:off x="6659640" y="28591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8" name="文本框 35857"/>
          <p:cNvSpPr/>
          <p:nvPr/>
        </p:nvSpPr>
        <p:spPr>
          <a:xfrm>
            <a:off x="1620720" y="29322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9" name="文本框 1"/>
          <p:cNvSpPr/>
          <p:nvPr/>
        </p:nvSpPr>
        <p:spPr>
          <a:xfrm>
            <a:off x="7027920" y="428292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顺承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3399"/>
                </a:solidFill>
                <a:latin typeface="Arial"/>
              </a:rPr>
              <a:t>重点字词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680" y="114156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及：到、等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才略：才干和谋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非复：不再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更：重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刮目相待：试目相看，用新的眼光看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见事：知晓事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直接连接符 21509"/>
          <p:cNvSpPr/>
          <p:nvPr/>
        </p:nvSpPr>
        <p:spPr>
          <a:xfrm>
            <a:off x="5361120" y="3316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3" name="文本框 21511"/>
          <p:cNvSpPr/>
          <p:nvPr/>
        </p:nvSpPr>
        <p:spPr>
          <a:xfrm>
            <a:off x="7189920" y="230976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劝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4" name="标题 21505"/>
          <p:cNvSpPr/>
          <p:nvPr/>
        </p:nvSpPr>
        <p:spPr>
          <a:xfrm>
            <a:off x="4245120" y="474840"/>
            <a:ext cx="22129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孙权劝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4272120" y="2558880"/>
            <a:ext cx="202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吕蒙就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6" name="矩形 5"/>
          <p:cNvSpPr/>
          <p:nvPr/>
        </p:nvSpPr>
        <p:spPr>
          <a:xfrm>
            <a:off x="3913200" y="4383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鲁肃赞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右大括号 6"/>
          <p:cNvSpPr/>
          <p:nvPr/>
        </p:nvSpPr>
        <p:spPr>
          <a:xfrm>
            <a:off x="6942240" y="920880"/>
            <a:ext cx="304560" cy="3733560"/>
          </a:xfrm>
          <a:custGeom>
            <a:avLst/>
            <a:gdLst>
              <a:gd name="textAreaLeft" fmla="*/ 0 w 304560"/>
              <a:gd name="textAreaRight" fmla="*/ 109800 w 304560"/>
              <a:gd name="textAreaTop" fmla="*/ 96120 h 3733560"/>
              <a:gd name="textAreaBottom" fmla="*/ 363744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1"/>
                  <a:pt x="10800" y="1781"/>
                </a:cubicBezTo>
                <a:lnTo>
                  <a:pt x="10800" y="9019"/>
                </a:lnTo>
                <a:cubicBezTo>
                  <a:pt x="10800" y="9910"/>
                  <a:pt x="16200" y="10800"/>
                  <a:pt x="21600" y="10800"/>
                </a:cubicBezTo>
                <a:cubicBezTo>
                  <a:pt x="16200" y="10800"/>
                  <a:pt x="10800" y="11691"/>
                  <a:pt x="10800" y="12581"/>
                </a:cubicBezTo>
                <a:lnTo>
                  <a:pt x="10800" y="19819"/>
                </a:lnTo>
                <a:cubicBezTo>
                  <a:pt x="10800" y="2071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68" name="图片 2" descr="3479440"/>
          <p:cNvPicPr/>
          <p:nvPr/>
        </p:nvPicPr>
        <p:blipFill>
          <a:blip r:embed="rId2"/>
          <a:stretch/>
        </p:blipFill>
        <p:spPr>
          <a:xfrm>
            <a:off x="1330200" y="955800"/>
            <a:ext cx="2443320" cy="371448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"/>
          <p:cNvSpPr/>
          <p:nvPr/>
        </p:nvSpPr>
        <p:spPr>
          <a:xfrm>
            <a:off x="317520" y="30780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读   读懂情节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0" name="直接连接符 1"/>
          <p:cNvSpPr/>
          <p:nvPr/>
        </p:nvSpPr>
        <p:spPr>
          <a:xfrm>
            <a:off x="5427720" y="124308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1" name="文本框 7"/>
          <p:cNvSpPr/>
          <p:nvPr/>
        </p:nvSpPr>
        <p:spPr>
          <a:xfrm>
            <a:off x="6230880" y="6634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详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2" name="文本框 8"/>
          <p:cNvSpPr/>
          <p:nvPr/>
        </p:nvSpPr>
        <p:spPr>
          <a:xfrm>
            <a:off x="6229440" y="25858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略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3" name="文本框 9"/>
          <p:cNvSpPr/>
          <p:nvPr/>
        </p:nvSpPr>
        <p:spPr>
          <a:xfrm>
            <a:off x="6305400" y="4441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详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07600" y="1122480"/>
            <a:ext cx="4457880" cy="4572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卿今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当涂</a:t>
            </a: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掌事，不可不学！</a:t>
            </a:r>
            <a:r>
              <a:rPr b="0" lang="zh-CN" sz="2700" spc="-1" strike="noStrike">
                <a:solidFill>
                  <a:srgbClr val="007a77"/>
                </a:solidFill>
                <a:latin typeface="黑体"/>
                <a:ea typeface="黑体"/>
              </a:rPr>
              <a:t>       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文本框 145410"/>
          <p:cNvSpPr/>
          <p:nvPr/>
        </p:nvSpPr>
        <p:spPr>
          <a:xfrm>
            <a:off x="1068480" y="2085840"/>
            <a:ext cx="651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治经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为博士邪？但当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涉猎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往事耳。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     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6" name="文本框 145411"/>
          <p:cNvSpPr/>
          <p:nvPr/>
        </p:nvSpPr>
        <p:spPr>
          <a:xfrm>
            <a:off x="3361320" y="4354560"/>
            <a:ext cx="9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孤常读书，自以为大有所益。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7" name="矩形 145412"/>
          <p:cNvSpPr txBox="1"/>
          <p:nvPr/>
        </p:nvSpPr>
        <p:spPr>
          <a:xfrm>
            <a:off x="1143000" y="0"/>
            <a:ext cx="31370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孙权劝学</a:t>
            </a:r>
            <a:endParaRPr b="1" lang="en-US" sz="27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78" name="文本框 145413"/>
          <p:cNvSpPr/>
          <p:nvPr/>
        </p:nvSpPr>
        <p:spPr>
          <a:xfrm>
            <a:off x="1659600" y="3451320"/>
            <a:ext cx="27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卿言多务，孰若孤？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9" name="文本框 145414"/>
          <p:cNvSpPr/>
          <p:nvPr/>
        </p:nvSpPr>
        <p:spPr>
          <a:xfrm>
            <a:off x="1481760" y="636480"/>
            <a:ext cx="246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700" spc="-1" strike="noStrike">
                <a:solidFill>
                  <a:srgbClr val="007a77"/>
                </a:solidFill>
                <a:latin typeface="黑体"/>
                <a:ea typeface="黑体"/>
              </a:rPr>
              <a:t>揭示学习的必要性</a:t>
            </a:r>
            <a:r>
              <a:rPr b="1" lang="en-US" sz="27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0" name="文本框 145415"/>
          <p:cNvSpPr/>
          <p:nvPr/>
        </p:nvSpPr>
        <p:spPr>
          <a:xfrm>
            <a:off x="2280600" y="1579680"/>
            <a:ext cx="86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宋体"/>
              </a:rPr>
              <a:t>2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学习的目的、方法</a:t>
            </a:r>
            <a:r>
              <a:rPr b="1" lang="en-US" sz="2700" spc="-1" strike="noStrike">
                <a:solidFill>
                  <a:srgbClr val="005c59"/>
                </a:solidFill>
                <a:latin typeface="宋体"/>
              </a:rPr>
              <a:t>:</a:t>
            </a:r>
            <a:r>
              <a:rPr b="1" lang="en-US" sz="2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1" name="文本框 145416"/>
          <p:cNvSpPr/>
          <p:nvPr/>
        </p:nvSpPr>
        <p:spPr>
          <a:xfrm>
            <a:off x="1317960" y="3100320"/>
            <a:ext cx="175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Times New Roman"/>
              </a:rPr>
              <a:t>3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委婉的批评</a:t>
            </a:r>
            <a:r>
              <a:rPr b="1" lang="en-US" sz="2700" spc="-1" strike="noStrike">
                <a:solidFill>
                  <a:srgbClr val="005c59"/>
                </a:solidFill>
                <a:latin typeface="黑体"/>
                <a:ea typeface="黑体"/>
              </a:rPr>
              <a:t>: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2" name="文本框 145417"/>
          <p:cNvSpPr/>
          <p:nvPr/>
        </p:nvSpPr>
        <p:spPr>
          <a:xfrm>
            <a:off x="1665720" y="3846600"/>
            <a:ext cx="2780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现身说法，读书的益处</a:t>
            </a:r>
            <a:r>
              <a:rPr b="1" lang="en-US" sz="2700" spc="-1" strike="noStrike">
                <a:solidFill>
                  <a:srgbClr val="005c59"/>
                </a:solidFill>
                <a:latin typeface="黑体"/>
                <a:ea typeface="黑体"/>
              </a:rPr>
              <a:t>: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203880" cy="302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 anchorCtr="1" vert="eaVer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滚滚长江东逝水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浪花淘尽英雄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非成败转头空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青山依旧在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几度夕阳红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白发渔樵江楮上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惯看秋月春风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壶浊酒喜相逢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古今多少事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都付笑谈中</a:t>
            </a:r>
            <a:br>
              <a:rPr sz="3000"/>
            </a:b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9" name="组合 17"/>
          <p:cNvGrpSpPr/>
          <p:nvPr/>
        </p:nvGrpSpPr>
        <p:grpSpPr>
          <a:xfrm>
            <a:off x="1143000" y="3106800"/>
            <a:ext cx="10555200" cy="2359080"/>
            <a:chOff x="1143000" y="3106800"/>
            <a:chExt cx="10555200" cy="2359080"/>
          </a:xfrm>
        </p:grpSpPr>
        <p:pic>
          <p:nvPicPr>
            <p:cNvPr id="460" name="Picture 9" descr="u=539414622,1843106685&amp;gp=1"/>
            <p:cNvPicPr/>
            <p:nvPr/>
          </p:nvPicPr>
          <p:blipFill>
            <a:blip r:embed="rId2"/>
            <a:stretch/>
          </p:blipFill>
          <p:spPr>
            <a:xfrm>
              <a:off x="9930240" y="3106800"/>
              <a:ext cx="1767960" cy="23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1" name="组合 16"/>
            <p:cNvGrpSpPr/>
            <p:nvPr/>
          </p:nvGrpSpPr>
          <p:grpSpPr>
            <a:xfrm>
              <a:off x="1143000" y="3106800"/>
              <a:ext cx="9162360" cy="2359080"/>
              <a:chOff x="1143000" y="3106800"/>
              <a:chExt cx="9162360" cy="2359080"/>
            </a:xfrm>
          </p:grpSpPr>
          <p:pic>
            <p:nvPicPr>
              <p:cNvPr id="462" name="Picture 4" descr="sgyy_17_09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3106800"/>
                <a:ext cx="19825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" descr="caocao3_1"/>
              <p:cNvPicPr/>
              <p:nvPr/>
            </p:nvPicPr>
            <p:blipFill>
              <a:blip r:embed="rId4"/>
              <a:stretch/>
            </p:blipFill>
            <p:spPr>
              <a:xfrm>
                <a:off x="3125520" y="3106800"/>
                <a:ext cx="17143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5" descr="111"/>
              <p:cNvPicPr/>
              <p:nvPr/>
            </p:nvPicPr>
            <p:blipFill>
              <a:blip r:embed="rId5"/>
              <a:stretch/>
            </p:blipFill>
            <p:spPr>
              <a:xfrm>
                <a:off x="4840200" y="3106800"/>
                <a:ext cx="176796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7" descr="zhu"/>
              <p:cNvPicPr/>
              <p:nvPr/>
            </p:nvPicPr>
            <p:blipFill>
              <a:blip r:embed="rId6"/>
              <a:stretch/>
            </p:blipFill>
            <p:spPr>
              <a:xfrm>
                <a:off x="6515280" y="3106800"/>
                <a:ext cx="17539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8" descr="u=3200634051,3601340809&amp;gp=3"/>
              <p:cNvPicPr/>
              <p:nvPr/>
            </p:nvPicPr>
            <p:blipFill>
              <a:blip r:embed="rId7"/>
              <a:stretch/>
            </p:blipFill>
            <p:spPr>
              <a:xfrm>
                <a:off x="8269200" y="3106800"/>
                <a:ext cx="1661040" cy="23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TextBox 10"/>
              <p:cNvSpPr/>
              <p:nvPr/>
            </p:nvSpPr>
            <p:spPr>
              <a:xfrm>
                <a:off x="114300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袁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绍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68" name="TextBox 11"/>
              <p:cNvSpPr/>
              <p:nvPr/>
            </p:nvSpPr>
            <p:spPr>
              <a:xfrm>
                <a:off x="312552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曹操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69" name="TextBox 12"/>
              <p:cNvSpPr/>
              <p:nvPr/>
            </p:nvSpPr>
            <p:spPr>
              <a:xfrm>
                <a:off x="6501240" y="3106800"/>
                <a:ext cx="374760" cy="398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Arial"/>
                  </a:rPr>
                  <a:t>诸葛亮</a:t>
                </a:r>
                <a:endParaRPr b="1" lang="en-US" sz="1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0" name="TextBox 13"/>
              <p:cNvSpPr/>
              <p:nvPr/>
            </p:nvSpPr>
            <p:spPr>
              <a:xfrm flipH="1">
                <a:off x="4839480" y="3106800"/>
                <a:ext cx="32148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刘备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1" name="TextBox 14"/>
              <p:cNvSpPr/>
              <p:nvPr/>
            </p:nvSpPr>
            <p:spPr>
              <a:xfrm>
                <a:off x="826956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关羽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2" name="TextBox 15"/>
              <p:cNvSpPr/>
              <p:nvPr/>
            </p:nvSpPr>
            <p:spPr>
              <a:xfrm>
                <a:off x="993060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张飞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pic>
        <p:nvPicPr>
          <p:cNvPr id="473" name="杨洪基 - 滚滚长江东逝水 (原版伴奏)@裁剪" descr=""/>
          <p:cNvPicPr/>
          <p:nvPr/>
        </p:nvPicPr>
        <p:blipFill>
          <a:blip r:embed="rId8"/>
          <a:stretch/>
        </p:blipFill>
        <p:spPr>
          <a:xfrm>
            <a:off x="8148600" y="243036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44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365 -0.01342 L -1.28021 -0.01342 E">
                                      <p:cBhvr>
                                        <p:cTn id="12" dur="50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8560" y="323640"/>
            <a:ext cx="8312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权谓吕蒙曰：“卿今当涂掌事，不可不学！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语气坚决 、对吕蒙要求严格。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权曰：“孤岂欲卿治经为博士邪！但当涉猎，见往事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反问句，反问语气强烈，读出不悦、责备的语气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卿言多务，孰若孤？孤常读书，自以为大有所益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反问句，否定吕蒙辞以多务的理由。语重心长，言辞恳切 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文本框 18445"/>
          <p:cNvSpPr/>
          <p:nvPr/>
        </p:nvSpPr>
        <p:spPr>
          <a:xfrm>
            <a:off x="1838160" y="4589640"/>
            <a:ext cx="6336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5" name="文本框 5126"/>
          <p:cNvSpPr/>
          <p:nvPr/>
        </p:nvSpPr>
        <p:spPr>
          <a:xfrm>
            <a:off x="98280" y="-42840"/>
            <a:ext cx="2170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四读  读出语气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8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9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0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5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50920" y="2589120"/>
            <a:ext cx="74073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蒙曰：“士别三日，即更刮目相待，大兄何见事之晚乎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文本框 19461"/>
          <p:cNvSpPr/>
          <p:nvPr/>
        </p:nvSpPr>
        <p:spPr>
          <a:xfrm>
            <a:off x="479520" y="1906560"/>
            <a:ext cx="7215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叹句，要读出惊讶赞叹的语气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8" name="文本框 5126"/>
          <p:cNvSpPr/>
          <p:nvPr/>
        </p:nvSpPr>
        <p:spPr>
          <a:xfrm>
            <a:off x="184320" y="174600"/>
            <a:ext cx="2171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四读  读出语气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9" name="文本框 1"/>
          <p:cNvSpPr/>
          <p:nvPr/>
        </p:nvSpPr>
        <p:spPr>
          <a:xfrm>
            <a:off x="144360" y="76500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及鲁肃过寻阳，与蒙论议，大惊曰：“卿今者才略，非复吴下阿蒙！”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0" name="文本框 20487"/>
          <p:cNvSpPr/>
          <p:nvPr/>
        </p:nvSpPr>
        <p:spPr>
          <a:xfrm>
            <a:off x="446040" y="355608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问句，指责中带有自豪的语气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"/>
          <p:cNvSpPr/>
          <p:nvPr/>
        </p:nvSpPr>
        <p:spPr>
          <a:xfrm>
            <a:off x="328680" y="617400"/>
            <a:ext cx="86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孤岂欲卿治经为博士邪！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邪，语气词，同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耶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见往事耳。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          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耳，语气词，表示阻止，相当于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而已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”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罢了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大兄何见事之晚乎！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乎，反问语气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10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文本框 1"/>
          <p:cNvSpPr/>
          <p:nvPr/>
        </p:nvSpPr>
        <p:spPr>
          <a:xfrm>
            <a:off x="617400" y="1343160"/>
            <a:ext cx="27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一、通假字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3" name="文本框 2"/>
          <p:cNvSpPr/>
          <p:nvPr/>
        </p:nvSpPr>
        <p:spPr>
          <a:xfrm>
            <a:off x="1289160" y="2697120"/>
            <a:ext cx="50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孤岂欲卿治经为博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邪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4" name="文本框 3"/>
          <p:cNvSpPr/>
          <p:nvPr/>
        </p:nvSpPr>
        <p:spPr>
          <a:xfrm>
            <a:off x="2411280" y="3768840"/>
            <a:ext cx="42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耶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语气词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5" name="文本框 4"/>
          <p:cNvSpPr/>
          <p:nvPr/>
        </p:nvSpPr>
        <p:spPr>
          <a:xfrm>
            <a:off x="758160" y="420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方正姚体"/>
              </a:rPr>
              <a:t>小结检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8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左大括号 6"/>
          <p:cNvSpPr/>
          <p:nvPr/>
        </p:nvSpPr>
        <p:spPr>
          <a:xfrm>
            <a:off x="1012680" y="1608120"/>
            <a:ext cx="333360" cy="104616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1046160"/>
              <a:gd name="textAreaBottom" fmla="*/ 1037520 h 10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7" name="文本框 8"/>
          <p:cNvSpPr/>
          <p:nvPr/>
        </p:nvSpPr>
        <p:spPr>
          <a:xfrm>
            <a:off x="1346040" y="1311120"/>
            <a:ext cx="6181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但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涉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涂掌事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8" name="文本框 12"/>
          <p:cNvSpPr/>
          <p:nvPr/>
        </p:nvSpPr>
        <p:spPr>
          <a:xfrm>
            <a:off x="4836960" y="1508040"/>
            <a:ext cx="34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助动词，应当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9" name="文本框 14"/>
          <p:cNvSpPr/>
          <p:nvPr/>
        </p:nvSpPr>
        <p:spPr>
          <a:xfrm>
            <a:off x="4836960" y="2198520"/>
            <a:ext cx="35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担当，掌管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425520" y="355680"/>
            <a:ext cx="27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二、一词多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1" name="左大括号 1"/>
          <p:cNvSpPr/>
          <p:nvPr/>
        </p:nvSpPr>
        <p:spPr>
          <a:xfrm>
            <a:off x="1008000" y="3484440"/>
            <a:ext cx="333360" cy="104796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1047960"/>
              <a:gd name="textAreaBottom" fmla="*/ 1039320 h 10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6"/>
                  <a:pt x="10800" y="572"/>
                </a:cubicBezTo>
                <a:lnTo>
                  <a:pt x="10800" y="10228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6"/>
                  <a:pt x="10800" y="11372"/>
                </a:cubicBezTo>
                <a:lnTo>
                  <a:pt x="10800" y="21028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2" name="文本框 4"/>
          <p:cNvSpPr/>
          <p:nvPr/>
        </p:nvSpPr>
        <p:spPr>
          <a:xfrm>
            <a:off x="1341360" y="3187800"/>
            <a:ext cx="6181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往事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大兄何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事之晚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3" name="文本框 5"/>
          <p:cNvSpPr/>
          <p:nvPr/>
        </p:nvSpPr>
        <p:spPr>
          <a:xfrm>
            <a:off x="5334120" y="3386160"/>
            <a:ext cx="227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了解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4" name="文本框 7"/>
          <p:cNvSpPr/>
          <p:nvPr/>
        </p:nvSpPr>
        <p:spPr>
          <a:xfrm>
            <a:off x="5334120" y="4075200"/>
            <a:ext cx="27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知晓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4"/>
          <p:cNvSpPr/>
          <p:nvPr/>
        </p:nvSpPr>
        <p:spPr>
          <a:xfrm>
            <a:off x="533520" y="221760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治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经为博士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6" name="文本框 7"/>
          <p:cNvSpPr/>
          <p:nvPr/>
        </p:nvSpPr>
        <p:spPr>
          <a:xfrm>
            <a:off x="533520" y="2941560"/>
            <a:ext cx="74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研究         今：治理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7" name="文本框 1"/>
          <p:cNvSpPr/>
          <p:nvPr/>
        </p:nvSpPr>
        <p:spPr>
          <a:xfrm>
            <a:off x="360360" y="4428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三、古今异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文本框 2"/>
          <p:cNvSpPr/>
          <p:nvPr/>
        </p:nvSpPr>
        <p:spPr>
          <a:xfrm>
            <a:off x="533520" y="74772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蒙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辞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以军中多务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文本框 3"/>
          <p:cNvSpPr/>
          <p:nvPr/>
        </p:nvSpPr>
        <p:spPr>
          <a:xfrm>
            <a:off x="533520" y="1452600"/>
            <a:ext cx="789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推托         今：文辞，言辞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文本框 1"/>
          <p:cNvSpPr/>
          <p:nvPr/>
        </p:nvSpPr>
        <p:spPr>
          <a:xfrm>
            <a:off x="533520" y="366552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鲁肃过寻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1" name="文本框 5"/>
          <p:cNvSpPr/>
          <p:nvPr/>
        </p:nvSpPr>
        <p:spPr>
          <a:xfrm>
            <a:off x="533520" y="4281480"/>
            <a:ext cx="74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等到         今：以及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文本框 4"/>
          <p:cNvSpPr/>
          <p:nvPr/>
        </p:nvSpPr>
        <p:spPr>
          <a:xfrm>
            <a:off x="476280" y="186048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5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但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当涉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3" name="文本框 7"/>
          <p:cNvSpPr/>
          <p:nvPr/>
        </p:nvSpPr>
        <p:spPr>
          <a:xfrm>
            <a:off x="476280" y="2576520"/>
            <a:ext cx="74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只是    今：转折连接词，但是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4" name="文本框 2"/>
          <p:cNvSpPr/>
          <p:nvPr/>
        </p:nvSpPr>
        <p:spPr>
          <a:xfrm>
            <a:off x="476280" y="38880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即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更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刮目相待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5" name="文本框 3"/>
          <p:cNvSpPr/>
          <p:nvPr/>
        </p:nvSpPr>
        <p:spPr>
          <a:xfrm>
            <a:off x="476280" y="1028880"/>
            <a:ext cx="770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重新    今： 更加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6" name="文本框 1"/>
          <p:cNvSpPr/>
          <p:nvPr/>
        </p:nvSpPr>
        <p:spPr>
          <a:xfrm>
            <a:off x="476280" y="345132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6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治经为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博士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7" name="文本框 5"/>
          <p:cNvSpPr/>
          <p:nvPr/>
        </p:nvSpPr>
        <p:spPr>
          <a:xfrm>
            <a:off x="476280" y="4203720"/>
            <a:ext cx="856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当时掌管经学传授的学官   今：学位名称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文本框 4"/>
          <p:cNvSpPr/>
          <p:nvPr/>
        </p:nvSpPr>
        <p:spPr>
          <a:xfrm>
            <a:off x="620640" y="300528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8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孤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岂欲卿治经为博士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9" name="文本框 7"/>
          <p:cNvSpPr/>
          <p:nvPr/>
        </p:nvSpPr>
        <p:spPr>
          <a:xfrm>
            <a:off x="620640" y="3828960"/>
            <a:ext cx="778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古时王侯的自称   今：独自，孤独 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0" name="文本框 2"/>
          <p:cNvSpPr/>
          <p:nvPr/>
        </p:nvSpPr>
        <p:spPr>
          <a:xfrm>
            <a:off x="620640" y="110484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7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往事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620640" y="1892160"/>
            <a:ext cx="770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历史        今：过去的事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文本框 1"/>
          <p:cNvSpPr/>
          <p:nvPr/>
        </p:nvSpPr>
        <p:spPr>
          <a:xfrm>
            <a:off x="996840" y="958680"/>
            <a:ext cx="699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文言句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、蒙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辞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以军中多务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倒装句。介词结构后置，应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蒙以军中多务辞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肃遂拜蒙母，结友而别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省略句。应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肃遂拜蒙母，（与蒙）结友而别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4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1"/>
          <p:cNvSpPr/>
          <p:nvPr/>
        </p:nvSpPr>
        <p:spPr>
          <a:xfrm>
            <a:off x="393840" y="86832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文言文中的称谓语非常丰富，有自称，有他称（除一般他称，又有爱称、敬称等）。说说下列句中称谓语分别属于哪种情况。课外再搜集些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文本框 2"/>
          <p:cNvSpPr/>
          <p:nvPr/>
        </p:nvSpPr>
        <p:spPr>
          <a:xfrm>
            <a:off x="504720" y="28065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卿今者才略。  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5" name="文本框 2"/>
          <p:cNvSpPr/>
          <p:nvPr/>
        </p:nvSpPr>
        <p:spPr>
          <a:xfrm>
            <a:off x="393840" y="2379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拓展作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6" name="文本框 3"/>
          <p:cNvSpPr/>
          <p:nvPr/>
        </p:nvSpPr>
        <p:spPr>
          <a:xfrm>
            <a:off x="504720" y="217008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卿今当涂掌事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7" name="文本框 4"/>
          <p:cNvSpPr/>
          <p:nvPr/>
        </p:nvSpPr>
        <p:spPr>
          <a:xfrm>
            <a:off x="504720" y="33908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孤常读书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8" name="文本框 1"/>
          <p:cNvSpPr/>
          <p:nvPr/>
        </p:nvSpPr>
        <p:spPr>
          <a:xfrm>
            <a:off x="3776760" y="28065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朋友间的爱称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3776760" y="217008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古代君对臣的爱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0" name="文本框 5"/>
          <p:cNvSpPr/>
          <p:nvPr/>
        </p:nvSpPr>
        <p:spPr>
          <a:xfrm>
            <a:off x="3844800" y="3390840"/>
            <a:ext cx="36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古代王侯的自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1" name="文本框 6"/>
          <p:cNvSpPr/>
          <p:nvPr/>
        </p:nvSpPr>
        <p:spPr>
          <a:xfrm>
            <a:off x="504720" y="3994200"/>
            <a:ext cx="33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大兄何见事之往乎！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2" name="文本框 7"/>
          <p:cNvSpPr/>
          <p:nvPr/>
        </p:nvSpPr>
        <p:spPr>
          <a:xfrm>
            <a:off x="3873600" y="399420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对朋友辈的敬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28673" descr="图片1"/>
          <p:cNvPicPr/>
          <p:nvPr/>
        </p:nvPicPr>
        <p:blipFill>
          <a:blip r:embed="rId2"/>
          <a:stretch/>
        </p:blipFill>
        <p:spPr>
          <a:xfrm>
            <a:off x="7920" y="-34920"/>
            <a:ext cx="7985160" cy="520236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28674"/>
          <p:cNvSpPr/>
          <p:nvPr/>
        </p:nvSpPr>
        <p:spPr>
          <a:xfrm>
            <a:off x="5632560" y="4227480"/>
            <a:ext cx="67464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3"/>
          <p:cNvSpPr/>
          <p:nvPr/>
        </p:nvSpPr>
        <p:spPr>
          <a:xfrm>
            <a:off x="608040" y="119700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是读书改变了吕蒙的命运，是善于接受别人正确规劝的态度决定了吕蒙的成功，除此之外，你还知道哪些有关名人读书的故事？写在积累本上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393840" y="4539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拓展作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4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矩形 1" descr=""/>
          <p:cNvPicPr/>
          <p:nvPr/>
        </p:nvPicPr>
        <p:blipFill>
          <a:blip r:embed="rId2"/>
          <a:stretch/>
        </p:blipFill>
        <p:spPr>
          <a:xfrm>
            <a:off x="812880" y="1254240"/>
            <a:ext cx="71895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矩形 1" descr=""/>
          <p:cNvPicPr/>
          <p:nvPr/>
        </p:nvPicPr>
        <p:blipFill>
          <a:blip r:embed="rId2"/>
          <a:stretch/>
        </p:blipFill>
        <p:spPr>
          <a:xfrm>
            <a:off x="1879560" y="1911240"/>
            <a:ext cx="5040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1"/>
          <p:cNvSpPr/>
          <p:nvPr/>
        </p:nvSpPr>
        <p:spPr>
          <a:xfrm>
            <a:off x="306360" y="533520"/>
            <a:ext cx="777384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了解《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资治通鉴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》的有关知识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，结合工具书翻译、理解掌握文言实词的含义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正确流利朗读课文，注意朗读节奏，借助注解和工具书疏通文意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领悟读书有益于人的发展和完善的道理，树立正确的学习观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7" name="文本框 2"/>
          <p:cNvSpPr/>
          <p:nvPr/>
        </p:nvSpPr>
        <p:spPr>
          <a:xfrm>
            <a:off x="2651040" y="13176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d32"/>
                </a:solidFill>
                <a:latin typeface="Arial"/>
              </a:rPr>
              <a:t>学习目标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29697" descr="背景"/>
          <p:cNvPicPr/>
          <p:nvPr/>
        </p:nvPicPr>
        <p:blipFill>
          <a:blip r:embed="rId2"/>
          <a:stretch/>
        </p:blipFill>
        <p:spPr>
          <a:xfrm>
            <a:off x="0" y="-23652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79" name="矩形 29698"/>
          <p:cNvSpPr/>
          <p:nvPr/>
        </p:nvSpPr>
        <p:spPr>
          <a:xfrm>
            <a:off x="3348000" y="195120"/>
            <a:ext cx="5761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  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华文新魏"/>
              </a:rPr>
              <a:t>司马光，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字君实，北宋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家、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家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著有《司马文正公集》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追封温国公，世称司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马温公。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0" name="图片 29699" descr="司马光"/>
          <p:cNvPicPr/>
          <p:nvPr/>
        </p:nvPicPr>
        <p:blipFill>
          <a:blip r:embed="rId3"/>
          <a:stretch/>
        </p:blipFill>
        <p:spPr>
          <a:xfrm>
            <a:off x="0" y="50760"/>
            <a:ext cx="3348000" cy="561672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29700"/>
          <p:cNvSpPr/>
          <p:nvPr/>
        </p:nvSpPr>
        <p:spPr>
          <a:xfrm>
            <a:off x="4294080" y="507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作者情况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2" name="文本框 29701"/>
          <p:cNvSpPr/>
          <p:nvPr/>
        </p:nvSpPr>
        <p:spPr>
          <a:xfrm>
            <a:off x="4500720" y="21193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政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3" name="文本框 29702"/>
          <p:cNvSpPr/>
          <p:nvPr/>
        </p:nvSpPr>
        <p:spPr>
          <a:xfrm>
            <a:off x="6732720" y="2119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史学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标题 30722" descr="zizhitongjian"/>
          <p:cNvPicPr/>
          <p:nvPr/>
        </p:nvPicPr>
        <p:blipFill>
          <a:blip r:embed="rId2"/>
          <a:stretch/>
        </p:blipFill>
        <p:spPr>
          <a:xfrm>
            <a:off x="0" y="193680"/>
            <a:ext cx="3648240" cy="46083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30723"/>
          <p:cNvSpPr/>
          <p:nvPr/>
        </p:nvSpPr>
        <p:spPr>
          <a:xfrm>
            <a:off x="3648240" y="628560"/>
            <a:ext cx="45288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                                      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孙权劝学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选自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，               是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主持编纂的一部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体通史，记载了从战国到五代共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1362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年间的历史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6" name="文本框 30724"/>
          <p:cNvSpPr/>
          <p:nvPr/>
        </p:nvSpPr>
        <p:spPr>
          <a:xfrm>
            <a:off x="4141800" y="24256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司马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7" name="文本框 30725"/>
          <p:cNvSpPr/>
          <p:nvPr/>
        </p:nvSpPr>
        <p:spPr>
          <a:xfrm>
            <a:off x="4651200" y="3002040"/>
            <a:ext cx="12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年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8" name="矩形 30726"/>
          <p:cNvSpPr/>
          <p:nvPr/>
        </p:nvSpPr>
        <p:spPr>
          <a:xfrm>
            <a:off x="0" y="4803840"/>
            <a:ext cx="860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9" name="文本框 30727"/>
          <p:cNvSpPr/>
          <p:nvPr/>
        </p:nvSpPr>
        <p:spPr>
          <a:xfrm>
            <a:off x="4902120" y="18558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资治通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735080" y="-65160"/>
            <a:ext cx="12776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1eb6"/>
                </a:solidFill>
                <a:latin typeface="Times New Roman"/>
                <a:ea typeface="黑体"/>
              </a:rPr>
              <a:t>鉴于往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1eb6"/>
                </a:solidFill>
                <a:latin typeface="Times New Roman"/>
                <a:ea typeface="黑体"/>
              </a:rPr>
              <a:t>有资于治道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160200" y="1784520"/>
            <a:ext cx="880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司马光编纂此书的目的是为统治者治国提供历史经验和教训的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　  编年体：以年代为线索编排历史事件，比较容易反映出同一时期各个历史事件的联系。如孔子《春秋》、左丘明《左传》、《资治通鉴》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国别体：以诸侯国为单位记叙历史事件。如刘向《战国策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纪传体：以人物传记的方式记叙历史，皇帝的传记称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纪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，一般人的称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传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。如司马迁《史记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2" name="图片 6" descr=""/>
          <p:cNvPicPr/>
          <p:nvPr/>
        </p:nvPicPr>
        <p:blipFill>
          <a:blip r:embed="rId2"/>
          <a:stretch/>
        </p:blipFill>
        <p:spPr>
          <a:xfrm>
            <a:off x="2138400" y="146160"/>
            <a:ext cx="156852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78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78" fill="hold"/>
                                        <p:tgtEl>
                                          <p:spTgt spid="4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57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57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1042"/>
          <p:cNvSpPr/>
          <p:nvPr/>
        </p:nvSpPr>
        <p:spPr>
          <a:xfrm>
            <a:off x="5116680" y="50760"/>
            <a:ext cx="2058840" cy="747720"/>
          </a:xfrm>
          <a:custGeom>
            <a:avLst/>
            <a:gdLst>
              <a:gd name="textAreaLeft" fmla="*/ 48240 w 2058840"/>
              <a:gd name="textAreaRight" fmla="*/ 2010600 w 20588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59457" h="21600">
                <a:moveTo>
                  <a:pt x="0" y="0"/>
                </a:moveTo>
                <a:lnTo>
                  <a:pt x="59457" y="0"/>
                </a:lnTo>
                <a:lnTo>
                  <a:pt x="59457" y="21600"/>
                </a:lnTo>
                <a:lnTo>
                  <a:pt x="0" y="21600"/>
                </a:lnTo>
                <a:close/>
              </a:path>
              <a:path fill="lightenLess" w="59457" h="21600">
                <a:moveTo>
                  <a:pt x="0" y="0"/>
                </a:moveTo>
                <a:lnTo>
                  <a:pt x="59457" y="0"/>
                </a:lnTo>
                <a:lnTo>
                  <a:pt x="58057" y="1400"/>
                </a:lnTo>
                <a:lnTo>
                  <a:pt x="1400" y="1400"/>
                </a:lnTo>
                <a:close/>
              </a:path>
              <a:path fill="darken" w="59457" h="21600">
                <a:moveTo>
                  <a:pt x="59457" y="0"/>
                </a:moveTo>
                <a:lnTo>
                  <a:pt x="59457" y="21600"/>
                </a:lnTo>
                <a:lnTo>
                  <a:pt x="58057" y="20200"/>
                </a:lnTo>
                <a:lnTo>
                  <a:pt x="58057" y="1400"/>
                </a:lnTo>
                <a:close/>
              </a:path>
              <a:path fill="darkenLess" w="59457" h="21600">
                <a:moveTo>
                  <a:pt x="59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57" y="20200"/>
                </a:lnTo>
                <a:close/>
              </a:path>
              <a:path fill="lighten" w="59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4" name="图片 2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68120" y="444600"/>
            <a:ext cx="4238640" cy="4251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95" name="文本框 1"/>
          <p:cNvSpPr/>
          <p:nvPr/>
        </p:nvSpPr>
        <p:spPr>
          <a:xfrm>
            <a:off x="4510080" y="1469880"/>
            <a:ext cx="41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孙权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仲谋，吴郡富春（今浙江富阳）人，三国时代东吴的创建者。太元元年（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252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年）病逝，享年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71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岁，在位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年，谥号大皇帝，庙号太祖，葬于蒋陵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7"/>
          <p:cNvSpPr/>
          <p:nvPr/>
        </p:nvSpPr>
        <p:spPr>
          <a:xfrm>
            <a:off x="125280" y="209520"/>
            <a:ext cx="1716120" cy="533520"/>
          </a:xfrm>
          <a:custGeom>
            <a:avLst/>
            <a:gdLst>
              <a:gd name="textAreaLeft" fmla="*/ 34560 w 1716120"/>
              <a:gd name="textAreaRight" fmla="*/ 1681560 w 1716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9446" h="21600">
                <a:moveTo>
                  <a:pt x="0" y="0"/>
                </a:moveTo>
                <a:lnTo>
                  <a:pt x="69446" y="0"/>
                </a:lnTo>
                <a:lnTo>
                  <a:pt x="69446" y="21600"/>
                </a:lnTo>
                <a:lnTo>
                  <a:pt x="0" y="21600"/>
                </a:lnTo>
                <a:close/>
              </a:path>
              <a:path fill="lightenLess" w="69446" h="21600">
                <a:moveTo>
                  <a:pt x="0" y="0"/>
                </a:moveTo>
                <a:lnTo>
                  <a:pt x="69446" y="0"/>
                </a:lnTo>
                <a:lnTo>
                  <a:pt x="68046" y="1400"/>
                </a:lnTo>
                <a:lnTo>
                  <a:pt x="1400" y="1400"/>
                </a:lnTo>
                <a:close/>
              </a:path>
              <a:path fill="darken" w="69446" h="21600">
                <a:moveTo>
                  <a:pt x="69446" y="0"/>
                </a:moveTo>
                <a:lnTo>
                  <a:pt x="69446" y="21600"/>
                </a:lnTo>
                <a:lnTo>
                  <a:pt x="68046" y="20200"/>
                </a:lnTo>
                <a:lnTo>
                  <a:pt x="68046" y="1400"/>
                </a:lnTo>
                <a:close/>
              </a:path>
              <a:path fill="darkenLess" w="69446" h="21600">
                <a:moveTo>
                  <a:pt x="694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46" y="20200"/>
                </a:lnTo>
                <a:close/>
              </a:path>
              <a:path fill="lighten" w="694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7" name="图片 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25280" y="469800"/>
            <a:ext cx="4561200" cy="436104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"/>
          <p:cNvSpPr/>
          <p:nvPr/>
        </p:nvSpPr>
        <p:spPr>
          <a:xfrm>
            <a:off x="4632480" y="1327320"/>
            <a:ext cx="43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吕蒙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子明，东汉末年名将，汝南富陂人。少年时不读书，后接受孙权劝告，读了许多兵书、史书，智勇双全。跟随孙权打仗有功，官拜虎威将军，倍受孙权、鲁肃信赖。鲁肃去世后，代守陆口，设计袭取荆州，击败蜀汉名将关羽，名扬三国。后不久病死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5T14:01:00Z</dcterms:created>
  <dc:creator>User</dc:creator>
  <dc:description/>
  <dc:language>en-US</dc:language>
  <cp:lastModifiedBy>微软用户</cp:lastModifiedBy>
  <dcterms:modified xsi:type="dcterms:W3CDTF">2020-03-21T11:48:28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