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6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17.png" ContentType="image/png"/>
  <Override PartName="/ppt/media/type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D83-2A5C-470E-92BC-9A2B9C0D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4C5-97C7-48CD-95EE-5FE2C525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C603-0021-4F27-999D-E9533B00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66E07-DC5A-447F-A37B-6771B63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AB251-F066-49FA-97D1-197181A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5F8B-4B4F-4B1D-BB87-9315957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34261-A5F1-448C-8C87-17F055F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F169C-9071-4366-889F-8207A72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258AE-AAC6-44D8-B03A-68A8B67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FA0EF-8D9E-4E83-8548-F7D4CA51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1DF46-E4EA-4B4B-9499-8B2568F4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CD98C-6EDC-4EF1-A3BC-B2BAF271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048-8428-49CD-B3A9-E6CE938F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B5FF7-11F5-438E-8360-F0AA77AD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A7D9F-5459-473C-ADF4-10D19AB2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271B7-471F-4126-B0EA-761B59B0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5C52F-3450-4DE7-B385-AE4FF46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AA0B1-2C2F-41A8-A6B3-8141B9D9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D36E0-AADF-409A-A284-3A145FD6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7604A-FA61-49B4-B5AA-75B722B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7B874-0C3A-4E3B-BEFE-85E7B93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6422A-54DF-4DFA-8388-D2E436E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57140-659D-473A-8D03-ACE14E62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DD6-6BCE-45A5-ABB8-C3674A1A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AFF4-9886-4942-B490-04BD703A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87017-7891-4772-8FB3-936F368B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46D08-C0C6-457B-AFA0-79698D1F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D7952-68EB-4571-B702-3275D212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6E0B7-55CB-4EF8-A362-AD28AB3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600EB-3F8E-432B-AD42-FACEE21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C229-135C-4F97-B219-1B8B1985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B1AB1-EE4C-4279-9A74-9C71D2E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C2EE-8500-4EFC-867A-DE8F338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9C44B-A52D-417B-A17F-C9F9645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6650-3317-495A-AB67-0BF848FE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1E6F-E157-47E1-8B46-09DC03E8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BE538-6E94-4009-B217-24516CAF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9DFA3-F667-4718-9F63-CD32ADCB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CB224-B24F-4A9D-8FD3-62F830DD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65D09-B69C-4078-9B74-1916D939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34DD5-4DDF-4800-B402-C982F2E5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BD3BF-AE5B-4FCB-B1A2-6158694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5034D-3A3F-4DF9-B092-6ED11FA5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87D4-6D4C-4F33-8AC2-C941F885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170B5-AF78-4B8A-B920-F295274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7BDE-018E-4D0A-A46D-81CA966A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4474A-7BD9-46ED-96D7-93572CF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BDE13-F9EF-4779-B39C-C5E3337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D0CBF-286B-4239-B5F1-BBABF40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C23C-EA7E-45BB-87D6-4A107603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73FEC-BE0C-490E-8A52-48BEF132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6D17A-D9A7-4BB8-A87E-A53849D4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7F354-3EAC-4E8A-9EAE-619D2246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7A8B6-56A4-46B2-9378-F87B1F17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46166-2E8B-456B-9ED7-B5FCAB23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0AB03-01E5-47F5-9393-BCE1046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28B8-601D-4234-8059-CC87FDC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EC4E9-5156-4010-B0D8-DB49B68A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ABF50-0867-4E6E-8466-BB27ABE7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C7F52-479B-4110-8520-9420FD97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9304D-7755-4786-8CE2-4C7A207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5DCD9-9F6D-468D-8731-089C88C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8B39F-2ADF-42FC-A18A-7BD42479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975C2-73A2-432F-9514-DD9E670A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2CDC7-0668-468A-B0E8-6EAD0D92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A112E-9AA3-429A-81CA-5AA0F44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59B1B-5B3D-4219-B14D-2C45D91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4E87-EF0E-4736-81F3-83CE70E8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39E58-44BC-4FFF-8CBC-6256D4D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2802F-CF1F-4278-AFB4-1F06D96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61671-87BF-430F-8C05-D0F2112C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30A44-8BE8-4B32-A59F-378EBC6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8EAA4-0241-4FC6-B0F4-C9ED90CB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CF9E8-0BE6-499C-8844-DDAFA20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25C63-D381-4FA0-9D78-F056062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C6FB7-A81E-4EDA-AC8E-0822DF8D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99F17-A0D6-48DC-91D2-D73DBB09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E3B74-6752-41DE-B8E9-92883653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6BD7-562D-4DE0-8E5A-994C8D39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867A6-EF60-4CBD-A973-C7B585BE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0BBEA-F4DC-4D98-883E-321556AE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77371-CF41-46E7-84A9-64DC58D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47302-2777-407D-94BF-647DE778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862AF-1D5E-4C4D-A1BE-86A3677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F4FC6-DD15-4DBA-B363-604863B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DC5B4-82BB-46C7-9D62-811EE05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915B5-9DFE-4749-8DD7-F194E09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683E5-0A94-4C11-B08F-D0E75140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FAD73-1CFF-4C68-85F3-046AD719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5A26-C8CF-4DA1-9F49-D67C7C9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400A3-5782-44D1-AA03-090ED8B4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D0C73-3F52-43DA-8655-16DD793D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2BBFA-149F-4666-BE3C-4FE905CB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7E81F-A38A-4706-B90F-C9A71A9D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C7976-5238-43BE-8297-07ECB1D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193B9-7556-4FE1-BD0C-3EF1EE4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6F475-7F7E-451D-AD32-AF268DD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BA644-FA31-4FEE-8190-8022959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8C974-D68E-4294-B72C-1A11DA2E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BBA95-7E53-4AFA-9425-7813C94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E812-FF4F-4CD4-B261-F9FBED29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F2C14-4D2A-4761-8D75-EF396994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8B6A8-8AD6-448D-AAC2-BDD61C2F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6805D-CB75-4E51-A631-FBE890D4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5FF01-0CEA-47B9-B073-DC04D082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18DEC-D1EF-4303-95DB-C6D3CB82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8378C-D915-485C-9F95-3B3FEE42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0FF90-7B25-43A4-A00B-B5E7B3B3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54869-2046-4F16-A366-74405C02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C3C18-201F-4377-95FA-7FBAC6F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24D4D-DBDF-4AB2-89B5-A6FA68A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41A-99D9-4FB5-BAF6-5C56DB13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BE9-C3C6-4F63-A22A-41D0D95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B0654-0CDA-4662-88E9-DE87C12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50CB7-50C7-4B86-86BD-DCAA9D6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D412A-927D-43C1-945D-30281B0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1CC64-3EDA-46F1-A896-E3DCC8E3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0F573-42C7-431B-9FAE-C4AD66A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68259-910A-4AEC-BAE7-4CB43AEC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44FE1-E61D-4E5E-AAC5-763BACA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1EAE0-4342-461E-AFAE-330500C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4CA85-EFBF-46BF-87A5-A624D042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1B68E-7703-4555-A14A-D7F46A1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76FC-2873-4046-A930-8A440738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383B7-060C-433C-84AD-96D3992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86DFC-FD71-4B9F-96D1-F550349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EBA44-E76B-497A-9606-FD488F2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6E083-666F-48EA-B92B-E78EF432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65747-4353-4D63-A56E-DC5338DC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21D61-2589-42A3-9D91-C1EB0F5C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EC09A-5063-4656-B122-CEB7960C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ECB6D-9D14-479D-B327-3730B375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2CE3A-BBB8-44C8-9A17-F8370520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B97F0-722F-4048-A80A-0A11EF82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2918-3246-4A91-B841-6B6226F3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E0D6C-B08D-4801-AB53-6C5C105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807D4-6218-4393-9DF3-25A6308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08903-A451-42CD-9233-DBCD13ED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B1CA3-CB23-42A9-BBD1-61667A0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73D15-4F51-42AD-907B-D3ECAD1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BE9E0-E5CE-48C9-A0EF-138832C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7D5BD-2493-4089-86AC-73EA37B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61B7C-056B-4C7B-AD55-75B586AC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7CAFD5-D23B-4F8A-92BF-D85713DF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090EC-E45A-4E93-A622-237C4ED9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D64B-B77E-4F5E-90BA-B665C328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C93A5-B36A-4EAA-9319-2A608A8D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B80A4-FB22-4FB1-919D-D93A45CF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1728E-331C-49CF-902C-2103AFA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9678C2-95DA-41D5-A074-434666A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83D39-E882-4ABB-8B18-90DABAF3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BBA56-FDC1-412F-9FE1-1989EDB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04334-B1F1-40D2-8F15-0B5A78E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F1100-5FBB-4C86-AD27-00DAEB9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DC7CD-58F6-4E68-9CD4-7391C34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32FE9-DE81-47D1-B5E7-22530909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DB9F-18A5-43D3-B711-8DC54A68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BDD9AD-55B4-448F-89A4-E2693DE2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9E44B-DE5C-4292-85FA-B9309BB0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3BCA2-5C18-4A6E-A871-D216FE46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7EBBE-D9D3-4673-A091-5725790C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C08D1-0F39-481D-B088-83D9D668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1DBEE-C2EB-4C6C-A46D-5054B81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52580-3597-4C22-94F4-E6980082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CE5F23-F235-4B20-883A-CF929C5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82C0BF-46C9-4F94-AE49-52E4E44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94863C-6D8C-4476-9ABA-141F22F7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10C8-5295-4F75-8BD7-6C5DD2EB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D3A52-6411-4503-901A-EAC4E0C4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41C8F-7C96-4A2A-9DF6-5EEAC2DF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B16DF-CAD1-468D-BDF4-3B807B11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A41A8-073B-4AD6-A7A1-C6661F1B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6C817D-F874-4CF4-8447-B2A10D3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D7CE44-0C19-46DC-92E4-826E335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5AABD7-D036-4342-BF3D-A497248B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969D6-AB0C-4D3E-AF6A-F51DF72A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F4B47-2051-45AF-AD30-88FE653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A2E5B-CCCE-4E0B-B426-FB72EE1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F22A-5119-46D7-BDBC-F8E5194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FDB4FE-88B3-4857-BB5A-C56E9BD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CF9A31-9F75-4284-B6DA-2C54567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9D06F-8166-4A7A-B1BD-BB3B7B5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57C95A-C708-4F9A-AC1E-349F6AC0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2554B-186E-45BA-84EC-8E0047C8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E7099B-CAD0-4E4D-AC73-4686C6AE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4B08F0-9A4D-4C3C-AA22-D580C2B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721628-3189-428C-9589-68BA032F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36931F-1945-4FAD-8030-AA1723B6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8E930-8F19-4ACB-8847-F6F317F6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352E-AFCF-403F-BC12-F11CA8B7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0473E2-2FBD-4DB3-AB09-7EDE18D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3752D3-A3FB-4FDB-9C63-0CC07FB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F8FFA1-D9EC-4B0F-8F48-6E9F16A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66AC9-A44B-4EE1-8DDA-BC0E6DE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C6BFFC-FC2E-41C8-AF0D-868489C6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0B9E7A-F506-441D-9B42-6C3E8CB0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968D85-2460-4B4F-B8F8-44278D5F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E7CE93-D9CE-4FA6-AA78-5072EB6E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DB804C-DCB1-41B0-BD9D-2A82CB4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5610F7-DAC1-466B-8504-CE238A9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B174-4265-4538-85F1-890C50B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100D8A-5635-482D-BBB5-DEEFF883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DECFBC-0523-491F-B035-9891A5F8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783C3-7066-449A-BB4F-30AF6F81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618AA-DCAF-4CDF-9A79-2A127B8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773005-6BBB-45A4-AE9B-57C0FE3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60F673-7E0B-4FC6-BF64-AF30FC62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B51AD1-EF90-4D92-94B9-875CE5E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B167CA-1813-4255-94D1-314C913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D1AECE-9E57-4DA7-945F-86D56956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960983-2C37-43BB-86E1-958A670A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B5B7-B496-4730-822C-502AA6AE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EE724C-3A14-40A0-BEDF-A185FD9D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6ABE6F-C926-4807-B892-6D57BEA3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1C5F16-BDD6-417C-A2CC-C9C3C30E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656260-0D1E-4651-A7B0-D947AA2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690739-8C94-4897-A042-352D074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4FAB59-6FC1-4023-86E5-E36690E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4B034A-5C76-4776-9A0A-AD2BE1A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61BE6A-921B-41ED-8DD6-9024750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23A20F-64F4-4B0C-9E49-C9A8FEA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7C1357-186C-4EB5-BC86-0D5162F3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87C-9E8C-4ED8-88F3-9F592B3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141F-DFAD-4AC8-B0E2-CCD33C4C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4B3D17-247B-4F01-B581-594EE989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A33F87-E195-4DA4-9AFE-584F64A7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7B448D-06B2-4ED8-A705-9380AD7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5EFF11-5FDE-4356-B649-E1BB051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19CDF6-55E5-443C-BBC9-ABA1473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4A4545-457A-4E2C-865D-F07AD60A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FC01CB-AA8E-4068-8715-9B90D66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2EF03C-D8D8-4FC6-9F74-A22457D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A63317-3373-4119-84AE-904E039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682A3E-9E9D-446A-8D33-F8A0933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62BA-1E27-4116-BA93-C57C831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895D52-AD62-4797-A82C-4CB719E1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B5563D-E2ED-4AF8-BBB1-C8546EFD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5F61B8-7C1C-4AC8-8C71-0A347D84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5AD228-6C05-4CEF-A11E-56CE220D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54AB8-3200-4711-BB33-3BCEC49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AFE698-2F10-4733-A893-01C96921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008D5E-5E68-46C1-A0DC-6FEFCAC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89E952-891E-4EE3-93C8-B4165A3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A2E83D-2028-4902-9ED7-5422A05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F11305-B253-4F61-A1FC-B18468D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8A2C-9778-457C-AE38-70A3014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3B2542-DB3F-4191-A695-3A4894C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89BB8-DB66-4597-8D6F-2873CBD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EAD0AC-1B7B-4438-AB7A-93BE311D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0C3E68-655F-4AC5-85C6-0847BED6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ADB8F5-4FB3-46DF-8225-7AE5726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3E6BF7-DF87-4A07-B772-2E657463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242ABE-A4AD-41ED-AF38-829BFBA8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CF9A7F-1FFD-4BCE-B31A-169F907B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78A239-7ED8-4134-83D3-A0EF8751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53F804-D402-48B2-840B-F384A1E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5188D-17D2-4801-9AE3-8000B19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F1DAC2-9FCC-4E3A-8DAF-01AD911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9A4302-47D5-468F-8098-E3FA4C4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F5A95B-AD0D-4B95-9E52-F83A05E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06A4E8-210B-4D86-81E3-2ACD71E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330BB3-C071-4699-94C8-BFFDAE1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27C784-1348-4787-9FD0-E15890EF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69BA28-5630-4EDA-9200-26AF87B8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568D34-5584-44B7-86B1-091F0C20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2D1668-7EED-425A-9740-9DEDA7D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0A0086-97A4-4A79-81D6-129066F9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979A-0E4B-43A1-A800-4F6593B0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05F0CA-B98A-4DF4-81A3-13E0BFB1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8E77A8-5BE0-4886-B5BA-2139C8A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83FB27-5E8D-47F3-97B6-352C2E5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810F1F-C69A-4D67-91F4-06A9268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C61C8B-C2B5-4375-B1A3-4CAB9E5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01F5D2-628B-426B-A20B-C76E64E0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25585C-D037-4879-BC0B-8EA10A56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F329E7-C328-40AC-BA76-41165EC6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1C667-FC7A-4694-AFC4-ED668888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6AE923-0D80-45B4-B4B5-42C2C50C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24BF-1A24-4B94-944F-FAE8B92D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0AB035-3C33-41B0-9796-0BA64DD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35083A-B9A9-47BA-AABF-C00887F4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F7DDE7-EB6C-4BA1-AC1D-FD8281F2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6915F4-A59E-4807-9BF6-742BC36D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F7A3F8-1B90-4712-A3CD-5D611E1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A1A67A-4CA2-4486-8F6D-E0B08A78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A527C3-67B3-42B8-BE3F-AAA4FAB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A437E0-02A4-404B-94FF-0BF99896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EB0D6E-A3A9-448B-B6F5-C8AF1F68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91F768-EAD1-403C-868B-2E3C5E48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E7E5-A3AC-4684-8818-7B5BCE5B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730A31-CCAE-41B0-B6DB-C9A1BF2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CC223A-47AC-49C0-A1A4-482DBFF7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E75270-9C69-465F-944D-52F3C81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98C2CD-9E67-4DA8-8EAC-4AE3A04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0ECBBA-369E-4A34-B6FA-B1E2227E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4FE092-EA6E-4F37-BF1A-CE5FB68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930313-9504-4B27-BAD8-BEF8AD96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0BE75-1BB2-430A-A46F-E333233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F4B0F8-8513-4DD9-8778-77066D70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68671A-359B-4AA6-9C15-C416F48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0B11-8DF7-43BB-ACBE-B7A225D1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794D92-7A18-4FB7-8ECA-D3F6364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CD5DAA-A8D0-405E-B35E-A2847315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8C3B84-A0D8-4611-A2A3-3E65EA25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B3B588-56DB-444C-AD6C-96939B81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718C62-D732-4366-8424-893ACF56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820F76-B1EB-4E7C-9169-E2973B0B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88F779-1F83-45D3-B8BB-C97EB077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8C17A0-CC87-4E5E-8F34-BCEDFE9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23C673-FA65-4734-A4B6-9AFA8F3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5B8798-C204-4D40-9D1B-43087DA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66A6-BA84-4C5D-8930-3F4C852F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A1F967-72EE-42CD-BAF3-99CA5138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11F1A6-8531-41A5-9EC5-DADF7D7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61345F-C068-4C06-9832-3B8A3EF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24FE2B-0A53-41F2-A7F7-B58FB853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342EF3-4E2C-411E-9DDF-65623C1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2AFF1B-C44D-472C-8DBD-55AEA0C0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A5000B-8228-4AE4-A65E-C6BA4488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1C0881-AF65-4CDE-A29C-25DB5D4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41B022-DB9F-4A2C-A4FA-EBAAEC66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1F5FF2-01AE-4D3A-9C11-0DF7C3B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11A0-646E-4CE4-810D-3A5CF5B2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19AB91-CFB4-4D64-B919-13B01BF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BAD48B-39D9-4030-BB8E-ACCD5D2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8BA73E-B99E-450B-9128-BCC6843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C201B8-A260-4109-A9F9-BB6DB3F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F1A35F-11DF-43B0-858E-019A93B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6A62CF-1D6D-447F-B81C-AD8086A2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9E558D-8F97-4B8C-91A8-EA2E05D9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30DFB7-0575-492E-9E39-E8C26A7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8D95ED-E636-4FC3-BF9B-A87172FD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27831D-DFF5-4D8B-BE93-2366EBA5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D4E-0747-4F52-BBC5-7122D06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D45F5-F6A1-48AB-9B56-2F55252B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D3A15C-4DD0-4F73-A221-C4C30296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83E6CF-8BE5-4AC5-B5D9-84528084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E859B9-562E-4281-B079-452B2C96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A22E85-CCED-443F-A1AA-DB1F0DC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74EED2-7A8B-4E47-8A0A-1B49D81C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CB2551-A104-4763-B657-1AED5CEE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728D01-CBF5-4F4D-9BC7-91F779AA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4A59E8-5DA4-4A66-85CF-388CC320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FE0049-21AC-4D8A-820A-7F69C526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D339C2-9FAD-4240-95C2-C9CC7F2D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1BAB-F7FA-42C4-8DC4-DC1DDEA5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061F99-2F0C-460B-90B7-C7B66D73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A0681B-1F8A-4C42-8EB0-7D59F38E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50A5ED-553D-4BDC-BC1B-0A5D3BDE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281949-2A7E-428D-97F9-815EE96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DB0F18-0F2A-4A70-8BA8-8056768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51030A-EBCB-4781-AF23-AD4B106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544416-E490-4D16-B20A-164098AF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F21F69-DAA0-44E7-9582-8893035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501599-C9CA-4C1E-98F8-D570F3FF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777995-9D87-4CAA-A41B-6897AEDE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7E7B-CB57-46A3-B3F5-09DAEFF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670DD1-B10B-4B60-8D42-45CE6888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5EF388-A8B1-445E-A1A3-00FB0FD3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8BBEC1-A3AA-41B8-BC3C-A521FD9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F29E22-5DFF-4C51-9836-B84E8B2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2A384B-32EE-496F-B029-C0D2FA33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C43E14-7741-439A-AA3B-C58473B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A3FADD-C0BE-41E2-AF74-8653BEDD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BDF277-4ED9-4E5A-A2C7-52233A0B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5034CC-440F-415B-A164-92E46F9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075C92-A91D-41F6-88AF-1A22A5A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F2C8B-EB2E-4599-8259-2BA988B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2CA53C-F8A6-442C-9E67-2E88D18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068EDD-A72B-4415-AB1B-265FE138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0A3F12-0A3B-494B-AAEE-8909E015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E4E991-F918-40CB-92B5-30CA17DA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65C7CD-3F27-40B4-BD44-A2972B7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1EF904-B3B7-4B28-8AD4-1FF0927F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073165-37D6-4438-ABEE-C3B57B08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00AA31-B9FA-449E-825B-BF4652E9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35C92C-9046-4F9A-BD8B-204746DA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274924-32D3-4989-994C-50F8F59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5DD4-ACDB-471C-ADD8-8B5CA814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A3222B-FB5C-4BC2-94AE-3598FF5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D57354-4C14-4509-B6F4-B23692E5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8871CB-4AAC-48A6-909E-4491FD06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1C2DD1-E8B9-4BAF-A8C1-8E8AF253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CBFF61-A3E7-4817-8922-A0DD60A7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B53387-9EAB-4FC9-8C31-FF72D6B4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44A48D-FCED-4230-88BB-8E04649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5A9CE0-34E4-4AAF-8752-26245C1F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2B30C3-BB82-4255-B810-E02CE611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FD75F0-6D27-49C0-AEAD-920D0E0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50A6-F7B8-4CC2-BBAB-F4CF118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AB0138-1D52-49E6-9181-BE9E3E78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4C4F5D-583D-47AD-AC99-B30DDB6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5409E1-4FA3-4375-9EEB-32568B5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2C83C2-CCC6-4C22-859F-815E790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507EA4-B5F9-4424-963E-E11F019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C560C7-15C2-450D-97E3-F14A64A6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33F685-91A7-476B-B86F-0E24B6CD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2C97B0-D618-4443-AE3E-AC34134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11A201-47FD-404C-8946-774C456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36633E-A087-4C03-BB08-CEE924A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6FA4-C319-428D-B916-3F10170A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9BAF8D-A4CB-4C98-B1E3-BA4A1B2B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175BC4-4B2C-4727-BC41-0535D49E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582670-D971-40A3-8505-63698E8B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987938-E3DB-44E5-8A99-0F5243A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C07E45-2D54-4521-99D6-F3E433E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B1D36A-B05C-4C4A-8577-0734FF7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CEA7CB-69C3-42EF-BC2B-0F67E7ED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08214B-5173-457B-8453-139AFDC8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28877D-8A91-4876-B494-EA570258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199130-F124-45AF-9A10-83F44FEB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65A3-997F-4639-9FA3-4655B05D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DA4849-4E08-4C32-B655-46E0BC9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54F70A-D01C-4444-BEFD-F00AA47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4F70AE-74F2-44F3-968F-0FAC05A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CAE3B6-8619-493F-B534-35FFCBA5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32F3AA-53B3-47A3-8C91-01D41720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31C4A6-197C-4899-A820-32E3CA0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5AD745-9091-489C-BD5C-FACD83E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FF2D52-7ECD-45DE-AEB9-E35CBAD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0BD867-2C4F-489D-B38B-8D38C6CF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97A3CB-11BA-4652-8616-77866890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3B22-61B8-456D-B34C-276B21B0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8DC5F1-89D2-4301-8AE2-8914A875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A14294-6854-4615-A90C-CCC3404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D3D95F-6D2B-4631-8BEC-0A044337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79971E-9039-4782-9DAD-84DBFDFD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1E2853-42EC-4D1C-9C64-FB750CE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6D23AF-4073-458C-AC3F-F7E79972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FC726F-BFB5-4AC4-9ADF-CA08BED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466F28-2DED-44AD-A28B-9671D84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7BCF0C-DC27-4090-BF6F-E1578C8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DD7E38-50E4-4FC5-B2B1-00F5BB5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CE67-3ABB-4292-AAF8-5F4262E9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EDCAF2-8E4A-4E3A-B775-0EE95FC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875000-5C74-4475-AEEA-E6F62D0D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0489E7-2BF9-42E5-BAAD-A2898AFC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23C83B-10C2-45BE-BDF1-A35033F7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1213A3-7404-443A-A11F-9E258544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CD02D5-709B-46E8-8FCF-BD98741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D1C972-1D3B-4D61-899D-E15ACFE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D74580-B3AC-42FD-AF9F-7ECB098E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CB6C1C-8DB3-463F-841E-EFA61082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0EA49B-32D0-4669-A56B-55F048C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837-F24F-4E82-8564-AA6D56F3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84CA-7E18-459D-9B3A-E966749B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042D9B-BD50-40AA-93D0-219487C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7FF1F0-441B-4D1E-AA4F-EAEF57F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BC4D7A-DC77-4B35-A5BC-170FD6F6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9A7BCE-F166-4DFE-8EA4-719297A8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841946-C741-4CAC-81E5-BE978704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CEF5-EDD3-43E6-B99E-1EAAEDCF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9815-3E74-461F-B979-7D1FAAE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FDBD-57BB-417E-A220-2253F90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9ECE-F85E-4020-838A-28A2DCE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9BE0-838C-464D-90F5-C735618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7954-E381-41BB-9B19-49C2CD4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B653-797C-47BF-B0EA-1DF32E59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41AF-01FB-462D-9490-0945D406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49A3-F3A1-4F58-A1E5-9B368596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4A7-B770-45A2-A560-DA46F52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95FDB-64B6-4B0C-A0A2-65FFF1C8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BD65-AB79-4EF0-A8EF-90D08145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98D08-E9C8-4A74-A782-6D5F460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18714-386E-49C6-9A73-F2273731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A647C-E6EB-40FD-AC79-87DD303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C5B0-1B2B-4A78-B2EF-C3A24F26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3B503-58A2-4222-A914-EE9129D7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ADC5-9E90-4FB9-8297-3170C12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CBD9-95D2-40E0-B66B-4EE0C12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9F73-E765-4F75-B70C-A6205CB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359-3F72-45A5-9698-6317068E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BE52C-EE0F-45CF-8AC4-A3BA3105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202E-543D-4B8B-A733-0EC41CE2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DAB7-FA39-42A8-9D8C-BE39DA24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48AF-82DD-48F3-AC35-200DEA9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3548-8F24-429C-AE41-11791C27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55F91-2120-40AE-B337-548231F4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C689-8FF3-4761-A464-2A0AAC52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068D-0883-4493-88C2-AAF6C5B8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3E6D-C113-4AE8-9BC7-D42B32B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39DD-C1A1-4003-B8C8-DFCFC9A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4E9-5A61-443B-92D0-A4602B0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F59C-9BB2-410D-B24D-D8CA4BC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9245E-D83A-4993-84DA-8397D5F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C6FDD-8C7E-4296-9532-E482D3A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FDA6-35CA-41B5-8446-F75ED51D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6E370-FE7B-4A01-8322-E7384F44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2601A-6A56-4D26-B0D4-ADADB317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53170-5ADC-42B2-A30E-519869A9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9E1FE-9322-4572-9DE8-3F133475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F58C4-515A-44EB-86A6-11607CA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25778-6CFB-48EB-A244-4B6062B5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64C-2450-4E1C-93E5-4227DAA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28E0-E4F8-4398-81F7-FAB5E5CF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AE549-4479-44AC-BF42-69A4B79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7FD9-9697-4CFF-9ACB-8002E9ED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1E22F-A472-449C-8139-8AA26C2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D0AC1-5B51-4EA5-BA34-B81F4B6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01646-A2C9-4DDA-8378-8DD6564D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7DF0-1632-4042-AE6A-79CB2F13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974E5-5BB8-43A7-9738-538AAF78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4B034-E573-4ED9-B99B-4FEDD1B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3FCD-AF60-42E2-94D3-9F381D67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145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矩形 6146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矩形 6147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" name="矩形 6148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" name="矩形 6149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" name="矩形 6150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" name="矩形 6151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" name="矩形 6152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" name="矩形 6153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矩形 6154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矩形 6155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" name="矩形 6156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" name="矩形 6157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" name="矩形 6158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" name="矩形 6159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" name="矩形 6160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" name="矩形 6161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" name="矩形 6162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矩形 6163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" name="矩形 6164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" name="矩形 6165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" name="矩形 6166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" name="矩形 6167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" name="矩形 6168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" name="矩形 6169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" name="矩形 6170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" name="矩形 6171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" name="矩形 6172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" name="矩形 6173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" name="矩形 6174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" name="矩形 6175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" name="矩形 6176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" name="矩形 6177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" name="矩形 6178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" name="矩形 6179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" name="矩形 6180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" name="矩形 6181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" name="矩形 6182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" name="矩形 6183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" name="矩形 6184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" name="矩形 6185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" name="矩形 6186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" name="矩形 6187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" name="矩形 6188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" name="矩形 6189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" name="矩形 6190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" name="矩形 6191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" name="矩形 6192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" name="矩形 6193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矩形 6194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矩形 6195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" name="矩形 6196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矩形 6197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矩形 6198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矩形 6199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" name="矩形 6200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" name="矩形 6201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矩形 6202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矩形 6203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" name="矩形 6204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" name="矩形 6205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" name="矩形 6206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" name="矩形 6207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B30F-1E94-4791-A57A-08E8C28A2E3A}" type="slidenum">
              <a:rPr b="0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242-2FC5-4CC0-A4E5-7783B8D7E68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23CD-B354-4ED2-B9A9-5A88B3AB8D9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FFB4-BDB8-4935-A40E-28852114611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7FB-901F-481E-B5B1-DFC5A22934A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C111-C059-48B6-8630-6C9DF5F965D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FB65-00F9-48CE-907F-B49B628314C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8AD-5991-4789-901E-BD26183C9FE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6F90-BF0C-4B89-BA4D-504CE89ABBB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A1F-B136-421E-9A10-FE8D5F6F750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6EC8-348C-451D-9E6B-D71D68E3AE3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B53C-D3A3-4E10-8761-1CDE107B249B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62FC-4B79-455E-A65B-34C2CC0DCCB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3C0-32B2-40F2-877B-3E074E59CC24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C63-21F9-4EC4-9288-E81BFD5F357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E76-01FA-4279-BC77-F4A12DA78CE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6BFE-2337-4F9D-B69E-38F7B6D5135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45DB-AECF-4BD8-BB12-13DC0EE9CC5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14B-07D1-4E48-A63F-BF97D251FE0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A3F9-EE88-4A63-A072-94C214208DD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DFB-94D2-488C-A4BD-D39257C6A91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571-9E93-478F-8F13-04E8A673F6D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24C1-8A7E-4AEA-B573-E750BDF7D585}" type="slidenum">
              <a:rPr b="0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任意多边形 131078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直接连接符 131079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7D3-3F89-4856-83C2-00A23CDF982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A158-E18E-499D-B213-168D1E26222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2CD-A263-4738-8DA5-5B7A7E77FD5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0362-C503-4F1B-8DDD-8BBDB91805B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748-7C8B-4885-A307-EE252061A51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22B-CACB-4F09-9C92-2F6F164F07C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D7C4-5786-41F6-99C9-18E62B6BB5F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A0B-1DB1-486B-A73A-26E03275D30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EE29-03CC-484F-9FA8-F36C5819C44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F518-57D9-499B-B191-C53FAEAA6F44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8FBD-D260-4A6F-9F75-13F13F98F96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09DC-4072-4A9D-B526-7644ACC698EC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0D88-AC28-4AAC-8E64-9B1182208BF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2DB-CF31-43F6-9B39-D406E3DDB34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EDC-2721-4333-9C0D-B87F0847809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FFC3-79D0-4F62-91FE-50656641AF3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69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312" name="组合 7170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313" name="矩形 7171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4" name="矩形 7172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5" name="矩形 7173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6" name="矩形 7174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7" name="矩形 7175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8" name="矩形 7176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9" name="矩形 7177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0" name="矩形 7178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1" name="矩形 7179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2" name="矩形 7180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3" name="矩形 7181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4" name="矩形 7182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5" name="矩形 7183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6" name="矩形 7184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7" name="矩形 7185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8" name="矩形 7186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9" name="矩形 7187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0" name="矩形 7188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1" name="矩形 7189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2" name="矩形 7190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" name="矩形 7191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" name="矩形 7192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5" name="矩形 7193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6" name="矩形 7194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7" name="矩形 7195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8" name="矩形 7196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" name="矩形 7197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" name="矩形 7198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" name="矩形 7199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" name="矩形 7200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" name="矩形 7201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4" name="矩形 7202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5" name="矩形 7203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6" name="矩形 7204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7" name="矩形 7205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8" name="矩形 7206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9" name="矩形 7207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" name="矩形 7208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1" name="矩形 7209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2" name="矩形 7210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3" name="矩形 7211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" name="矩形 7212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" name="矩形 7213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6" name="矩形 7214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7" name="矩形 7215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8" name="矩形 7216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9" name="矩形 7217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0" name="矩形 7218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1" name="矩形 7219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2" name="矩形 7220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3" name="矩形 7221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4" name="矩形 7222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5" name="矩形 7223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6" name="矩形 7224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7" name="矩形 7225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8" name="矩形 7226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9" name="矩形 7227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0" name="矩形 7228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1" name="矩形 7229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2" name="矩形 7230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73" name="矩形 7231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" name="矩形 7232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75" name="矩形 7233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D562-5057-4E61-A1E0-E321D5C68622}" type="slidenum">
              <a:rPr b="0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B113-B652-4F6A-8CC4-04784F731E77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任意多边形 132102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9" name="直接连接符 132103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535-7FB2-4CD5-BFCE-EEEFF3F366B9}" type="slidenum">
              <a:rPr b="0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文本框 129025"/>
          <p:cNvSpPr/>
          <p:nvPr/>
        </p:nvSpPr>
        <p:spPr>
          <a:xfrm>
            <a:off x="8233200" y="-237600"/>
            <a:ext cx="667800" cy="73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孔子像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台湾故宫博物院藏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55" name="图片 129026" descr="孔子像"/>
          <p:cNvPicPr/>
          <p:nvPr/>
        </p:nvPicPr>
        <p:blipFill>
          <a:blip r:embed="rId1"/>
          <a:stretch/>
        </p:blipFill>
        <p:spPr>
          <a:xfrm>
            <a:off x="4419720" y="1219320"/>
            <a:ext cx="3674880" cy="4343400"/>
          </a:xfrm>
          <a:prstGeom prst="rect">
            <a:avLst/>
          </a:prstGeom>
          <a:ln w="0">
            <a:noFill/>
          </a:ln>
        </p:spPr>
      </p:pic>
      <p:sp>
        <p:nvSpPr>
          <p:cNvPr id="1856" name="文本框 129027"/>
          <p:cNvSpPr/>
          <p:nvPr/>
        </p:nvSpPr>
        <p:spPr>
          <a:xfrm>
            <a:off x="457200" y="1219320"/>
            <a:ext cx="373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　  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俗语说，半部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论语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治天下，今天这节课我们一起来学习选自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论语 先进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中的一篇文章。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1626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冉有（求）：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28600" y="23871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3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方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六七十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如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五六十，求也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为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，比及三年，可使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足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民。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如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其礼乐，以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俟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君子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文本框 102405"/>
          <p:cNvSpPr/>
          <p:nvPr/>
        </p:nvSpPr>
        <p:spPr>
          <a:xfrm>
            <a:off x="228600" y="3606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方圆、纵横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9" name="文本框 102406"/>
          <p:cNvSpPr/>
          <p:nvPr/>
        </p:nvSpPr>
        <p:spPr>
          <a:xfrm>
            <a:off x="2666880" y="3606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或者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0" name="文本框 102407"/>
          <p:cNvSpPr/>
          <p:nvPr/>
        </p:nvSpPr>
        <p:spPr>
          <a:xfrm>
            <a:off x="1600200" y="490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使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富足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1" name="文本框 102408"/>
          <p:cNvSpPr/>
          <p:nvPr/>
        </p:nvSpPr>
        <p:spPr>
          <a:xfrm>
            <a:off x="4267080" y="490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至于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2" name="文本框 102409"/>
          <p:cNvSpPr/>
          <p:nvPr/>
        </p:nvSpPr>
        <p:spPr>
          <a:xfrm>
            <a:off x="6934320" y="4902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等待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3" name="动作按钮: 后退或前一项 102412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4" name="动作按钮: 前进或下一项 102413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5" name="动作按钮: 上一张 102414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36" name="图片 102415" descr="图片3"/>
          <p:cNvPicPr/>
          <p:nvPr/>
        </p:nvPicPr>
        <p:blipFill>
          <a:blip r:embed="rId3"/>
          <a:stretch/>
        </p:blipFill>
        <p:spPr>
          <a:xfrm>
            <a:off x="3059280" y="549360"/>
            <a:ext cx="2876400" cy="828720"/>
          </a:xfrm>
          <a:prstGeom prst="rect">
            <a:avLst/>
          </a:prstGeom>
          <a:ln w="0">
            <a:noFill/>
          </a:ln>
        </p:spPr>
      </p:pic>
      <p:sp>
        <p:nvSpPr>
          <p:cNvPr id="1937" name="文本框 102416"/>
          <p:cNvSpPr/>
          <p:nvPr/>
        </p:nvSpPr>
        <p:spPr>
          <a:xfrm>
            <a:off x="6032880" y="35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治理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588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求，尔何如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    对曰：“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六七十，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五六十，求也为之，比及三年，可使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足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民。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如</a:t>
            </a:r>
            <a:r>
              <a:rPr b="1" lang="zh-CN" sz="28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礼乐，以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俟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君子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计算面积的单位，纵横各一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连词，或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足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形容词使动用法，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富足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连词，至于。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等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翻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冉求，你怎么样啊？”  冉求回答说：“一个纵横六七十里，或者五六十里的国家，如果让我去治理，等待三年，可以使人民富足起来。至于礼乐教化，（自己的能力是不够的）只好等待着修养更高的君子来推行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赤，尔何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?"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曰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曰能之，愿学焉。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宗庙之事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会同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端章甫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愿为小相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焉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23760" y="235908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宗庙之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诸侯的祭祀活动。祭祖必在宗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祖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故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宗庙之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泛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者，连词，表示选择关系。会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诸侯会盟。会，诸侯相见。同，诸侯共同朝见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端章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穿着礼服，戴着礼帽。端，礼服。章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礼帽。在这里都是名词活用作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愿为小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希望成为赞礼人。小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赞礼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4797360" y="2359080"/>
            <a:ext cx="4346640" cy="430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公西华，你怎么样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?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公西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回答说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不敢说能做到什么，只是愿意学习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宗庙祭祀的工作，或者是诸侯会盟，朝见天子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愿意穿着礼服，戴着礼帽，做一个小小的赞礼人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曾皙（点）：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Verdana"/>
              </a:rPr>
              <a:t>鼓瑟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希，铿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尔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，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舍瑟而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作，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对曰：”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异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乎三子者之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撰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Verdana"/>
              </a:rPr>
              <a:t>莫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春者，春服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既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成，冠者五六人，童子六七人，浴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乎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沂，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风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乎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舞雩，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咏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而归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文本框 104452"/>
          <p:cNvSpPr/>
          <p:nvPr/>
        </p:nvSpPr>
        <p:spPr>
          <a:xfrm>
            <a:off x="7020000" y="2708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不同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6" name="文本框 104453"/>
          <p:cNvSpPr/>
          <p:nvPr/>
        </p:nvSpPr>
        <p:spPr>
          <a:xfrm>
            <a:off x="684360" y="3789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说，陈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7" name="文本框 104454"/>
          <p:cNvSpPr/>
          <p:nvPr/>
        </p:nvSpPr>
        <p:spPr>
          <a:xfrm>
            <a:off x="468360" y="4941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同“暮”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8" name="文本框 104455"/>
          <p:cNvSpPr/>
          <p:nvPr/>
        </p:nvSpPr>
        <p:spPr>
          <a:xfrm>
            <a:off x="2987640" y="4941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已经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9" name="文本框 104456"/>
          <p:cNvSpPr/>
          <p:nvPr/>
        </p:nvSpPr>
        <p:spPr>
          <a:xfrm>
            <a:off x="1476360" y="595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于，在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0" name="文本框 104457"/>
          <p:cNvSpPr/>
          <p:nvPr/>
        </p:nvSpPr>
        <p:spPr>
          <a:xfrm>
            <a:off x="3059280" y="5950080"/>
            <a:ext cx="27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吹风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1" name="文本框 104458"/>
          <p:cNvSpPr/>
          <p:nvPr/>
        </p:nvSpPr>
        <p:spPr>
          <a:xfrm>
            <a:off x="5003640" y="595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唱歌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2" name="动作按钮: 后退或前一项 104460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3" name="动作按钮: 前进或下一项 104461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4" name="动作按钮: 上一张 104462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55" name="图片 104463" descr="图片3"/>
          <p:cNvPicPr/>
          <p:nvPr/>
        </p:nvPicPr>
        <p:blipFill>
          <a:blip r:embed="rId3"/>
          <a:stretch/>
        </p:blipFill>
        <p:spPr>
          <a:xfrm>
            <a:off x="3132000" y="549360"/>
            <a:ext cx="2803680" cy="807840"/>
          </a:xfrm>
          <a:prstGeom prst="rect">
            <a:avLst/>
          </a:prstGeom>
          <a:ln w="0">
            <a:noFill/>
          </a:ln>
        </p:spPr>
      </p:pic>
      <p:sp>
        <p:nvSpPr>
          <p:cNvPr id="1956" name="文本框 104464"/>
          <p:cNvSpPr/>
          <p:nvPr/>
        </p:nvSpPr>
        <p:spPr>
          <a:xfrm>
            <a:off x="2340000" y="1844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ēng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7" name="文本框 104465"/>
          <p:cNvSpPr/>
          <p:nvPr/>
        </p:nvSpPr>
        <p:spPr>
          <a:xfrm>
            <a:off x="395280" y="27082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通“稀”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稀疏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8" name="文本框 104466"/>
          <p:cNvSpPr/>
          <p:nvPr/>
        </p:nvSpPr>
        <p:spPr>
          <a:xfrm>
            <a:off x="4614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直起身子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17000" y="609120"/>
            <a:ext cx="898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，尔何如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"</a:t>
            </a:r>
            <a:br>
              <a:rPr sz="3600"/>
            </a:b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瑟</a:t>
            </a: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铿尔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舍瑟而作，对曰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乎三子者之</a:t>
            </a: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撰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曰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伤乎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亦各言其志也。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19440" y="2516040"/>
            <a:ext cx="444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稀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。指弹瑟的速度放慢，节奏逐渐稀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铿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(kēng)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尔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铿的一声，琴瑟声止住了。铿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象声词。指弹瑟完毕时最后一声高音。尔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铿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词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撰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才能，指为政的才能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4627080" y="2516040"/>
            <a:ext cx="447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曾晳，你怎么样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?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曾晳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弹瑟的声音渐渐稀疏下来，铿的一声，放下瑟直起身来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回答说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我和他们三人所说的志向不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!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孔子说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那有什么关系呢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过是各自谈谈自己的志向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!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23840" y="39960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曰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莫春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，春服既成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冠者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六人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童子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七人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浴乎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风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乎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舞雩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咏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归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0" y="1981080"/>
            <a:ext cx="50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mù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农历三月，天气已转暖的时节。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冠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代男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时要举行冠礼，束发、加帽，表示成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冠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成年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童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未加冠的少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浴：洗澡。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；沂，水名，在今山东。此水因有温泉流入，暮春时即可人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吹风，乘凉。名词作动词。舞雩。鲁国祭天求雨的地方，设有坛，在今山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馈，进食，送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5162400" y="1981080"/>
            <a:ext cx="385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曾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暮春时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气暖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春天的衣服已经穿着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六位成年人，六七个少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沂河里洗澡，在舞雩台上吹吹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唱着歌走回家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3" dur="2000"/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5" name="图片 125953" descr="002"/>
          <p:cNvPicPr/>
          <p:nvPr/>
        </p:nvPicPr>
        <p:blipFill>
          <a:blip r:embed="rId1"/>
          <a:stretch/>
        </p:blipFill>
        <p:spPr>
          <a:xfrm>
            <a:off x="5715000" y="0"/>
            <a:ext cx="3598920" cy="6858000"/>
          </a:xfrm>
          <a:prstGeom prst="rect">
            <a:avLst/>
          </a:prstGeom>
          <a:ln w="0">
            <a:noFill/>
          </a:ln>
        </p:spPr>
      </p:pic>
      <p:sp>
        <p:nvSpPr>
          <p:cNvPr id="1966" name="文本框 125955"/>
          <p:cNvSpPr/>
          <p:nvPr/>
        </p:nvSpPr>
        <p:spPr>
          <a:xfrm>
            <a:off x="838080" y="121932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暮春时节，脱下冬衣，穿上春衣，和五六个２０岁的成年人，带着六、七个少年，在沂水边洗洗澡，在舞雩台上吹吹风，一路唱着歌回来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7" name="文本框 125956"/>
          <p:cNvSpPr/>
          <p:nvPr/>
        </p:nvSpPr>
        <p:spPr>
          <a:xfrm>
            <a:off x="230256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曾皙（点）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8" name="文本框 125957"/>
          <p:cNvSpPr/>
          <p:nvPr/>
        </p:nvSpPr>
        <p:spPr>
          <a:xfrm>
            <a:off x="941040" y="4797360"/>
            <a:ext cx="1155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洒脱高雅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从容淡定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9" name="文本框 125958"/>
          <p:cNvSpPr/>
          <p:nvPr/>
        </p:nvSpPr>
        <p:spPr>
          <a:xfrm>
            <a:off x="1058040" y="11667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华文中宋"/>
                <a:ea typeface="华文中宋"/>
              </a:rPr>
              <a:t>志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0" name="文本框 125959"/>
          <p:cNvSpPr/>
          <p:nvPr/>
        </p:nvSpPr>
        <p:spPr>
          <a:xfrm>
            <a:off x="828720" y="465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性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1" name="矩形 125960"/>
          <p:cNvSpPr/>
          <p:nvPr/>
        </p:nvSpPr>
        <p:spPr>
          <a:xfrm>
            <a:off x="3893040" y="4437000"/>
            <a:ext cx="1253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5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华文彩云"/>
              </a:rPr>
              <a:t>春游图</a:t>
            </a:r>
            <a:endParaRPr b="1" lang="en-US" sz="3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357120" y="115920"/>
            <a:ext cx="842976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三子者出，曾皙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后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。曾皙曰：“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夫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三子者之言何如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子曰：“亦各言其志也</a:t>
            </a:r>
            <a:r>
              <a:rPr b="1" lang="zh-CN" sz="24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已矣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！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    曰：“夫子何哂由也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    曰：“为国以礼，其言不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让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，是故哂之。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唯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求则非</a:t>
            </a:r>
            <a:r>
              <a:rPr b="1" lang="zh-CN" sz="24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邦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也与？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安</a:t>
            </a:r>
            <a:r>
              <a:rPr b="1" lang="zh-CN" sz="24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方六七十，如五六十而非邦也者</a:t>
            </a:r>
            <a:r>
              <a:rPr b="1" lang="en-US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唯赤则非邦也与？宗庙会同，非诸侯而何？赤也为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小，孰能为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大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0" y="2403000"/>
            <a:ext cx="91440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走在后头。方位名词作动词。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示代词，那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罢了。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谦让。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邦</a:t>
            </a: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家 。此处指治理国家大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句首语气助词，无义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疑问代词，怎么。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</a:t>
            </a: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得。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诸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路、冉有、公西华三个人都出去了，曾皙走在后面。曾皙问孔子：“他们三个人的话怎么样？” 孔子说：“只不过自己谈谈自己的志向罢了。”曾皙说：“您为什么笑仲由呢？”孔子说：“治国要讲究礼让，可是他说话一点都不谦虚，因此我笑他。难道冉求所讲的就不是国家大事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见得纵横六七十里或者五六十里讲的就不是国家大事呢？公西赤所讲的不是国家大事吗？宗庙祭祀，诸侯会盟和朝见天子，讲的不是国家大事又是什么呢？如果公西赤只能给诸侯做一个小相，那么谁能做大事呢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/>
          </p:nvPr>
        </p:nvSpPr>
        <p:spPr>
          <a:xfrm>
            <a:off x="544320" y="1557000"/>
            <a:ext cx="84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子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000000"/>
                </a:solidFill>
                <a:uFillTx/>
                <a:latin typeface="Verdana"/>
              </a:rPr>
              <a:t>为国以礼，其言不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Verdana"/>
              </a:rPr>
              <a:t>让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，是故哂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唯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求则非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邦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也与？安见方六七十，如五六十而非邦也者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唯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赤则非邦也与？宗庙会同，非诸侯而何？赤也为之小，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孰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能为之大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喟然叹曰：吾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与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点也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文本框 105475"/>
          <p:cNvSpPr/>
          <p:nvPr/>
        </p:nvSpPr>
        <p:spPr>
          <a:xfrm>
            <a:off x="6372360" y="1989000"/>
            <a:ext cx="91440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谦让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6" name="文本框 105476"/>
          <p:cNvSpPr/>
          <p:nvPr/>
        </p:nvSpPr>
        <p:spPr>
          <a:xfrm>
            <a:off x="2068560" y="3462480"/>
            <a:ext cx="19810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句首语气词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7" name="文本框 105477"/>
          <p:cNvSpPr/>
          <p:nvPr/>
        </p:nvSpPr>
        <p:spPr>
          <a:xfrm>
            <a:off x="4583160" y="3462480"/>
            <a:ext cx="38098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国家，这里指国家政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8" name="文本框 105478"/>
          <p:cNvSpPr/>
          <p:nvPr/>
        </p:nvSpPr>
        <p:spPr>
          <a:xfrm>
            <a:off x="4202280" y="4757760"/>
            <a:ext cx="6094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9" name="文本框 105479"/>
          <p:cNvSpPr/>
          <p:nvPr/>
        </p:nvSpPr>
        <p:spPr>
          <a:xfrm>
            <a:off x="4506840" y="5595840"/>
            <a:ext cx="91440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赞成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0" name="动作按钮: 后退或前一项 105487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1" name="动作按钮: 前进或下一项 105488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2" name="动作按钮: 上一张 105489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83" name="图片 105491" descr="图片5"/>
          <p:cNvPicPr/>
          <p:nvPr/>
        </p:nvPicPr>
        <p:blipFill>
          <a:blip r:embed="rId2"/>
          <a:stretch/>
        </p:blipFill>
        <p:spPr>
          <a:xfrm>
            <a:off x="3132000" y="476280"/>
            <a:ext cx="2810160" cy="828720"/>
          </a:xfrm>
          <a:prstGeom prst="rect">
            <a:avLst/>
          </a:prstGeom>
          <a:ln w="0">
            <a:noFill/>
          </a:ln>
        </p:spPr>
      </p:pic>
      <p:sp>
        <p:nvSpPr>
          <p:cNvPr id="1984" name="动作按钮: 自定义 105492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5" name="动作按钮: 自定义 105493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6" name="动作按钮: 自定义 105494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7" name="动作按钮: 自定义 105495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8" name="动作按钮: 自定义 105496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9" name="动作按钮: 自定义 105498"/>
          <p:cNvSpPr/>
          <p:nvPr/>
        </p:nvSpPr>
        <p:spPr>
          <a:xfrm>
            <a:off x="6516720" y="6524640"/>
            <a:ext cx="1079640" cy="33336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9903" h="21600">
                <a:moveTo>
                  <a:pt x="0" y="0"/>
                </a:moveTo>
                <a:lnTo>
                  <a:pt x="69903" y="0"/>
                </a:lnTo>
                <a:lnTo>
                  <a:pt x="69903" y="21600"/>
                </a:lnTo>
                <a:lnTo>
                  <a:pt x="0" y="21600"/>
                </a:lnTo>
                <a:close/>
              </a:path>
              <a:path fill="lightenLess" w="69903" h="21600">
                <a:moveTo>
                  <a:pt x="0" y="0"/>
                </a:moveTo>
                <a:lnTo>
                  <a:pt x="69903" y="0"/>
                </a:lnTo>
                <a:lnTo>
                  <a:pt x="68503" y="1400"/>
                </a:lnTo>
                <a:lnTo>
                  <a:pt x="1400" y="1400"/>
                </a:lnTo>
                <a:close/>
              </a:path>
              <a:path fill="darken" w="69903" h="21600">
                <a:moveTo>
                  <a:pt x="69903" y="0"/>
                </a:moveTo>
                <a:lnTo>
                  <a:pt x="69903" y="21600"/>
                </a:lnTo>
                <a:lnTo>
                  <a:pt x="68503" y="20200"/>
                </a:lnTo>
                <a:lnTo>
                  <a:pt x="68503" y="1400"/>
                </a:lnTo>
                <a:close/>
              </a:path>
              <a:path fill="darkenLess" w="69903" h="21600">
                <a:moveTo>
                  <a:pt x="69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03" y="20200"/>
                </a:lnTo>
                <a:close/>
              </a:path>
              <a:path fill="lighten" w="69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4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5550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从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弟子述志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中可以看出他们的什么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志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文本框 106499"/>
          <p:cNvSpPr/>
          <p:nvPr/>
        </p:nvSpPr>
        <p:spPr>
          <a:xfrm>
            <a:off x="4500720" y="76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ī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8" name="文本框 106500"/>
          <p:cNvSpPr/>
          <p:nvPr/>
        </p:nvSpPr>
        <p:spPr>
          <a:xfrm>
            <a:off x="5867280" y="765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ǎ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9" name="文本框 106501"/>
          <p:cNvSpPr/>
          <p:nvPr/>
        </p:nvSpPr>
        <p:spPr>
          <a:xfrm>
            <a:off x="5148360" y="1989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shì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860" name="对象 106505"/>
          <p:cNvGraphicFramePr/>
          <p:nvPr/>
        </p:nvGraphicFramePr>
        <p:xfrm>
          <a:off x="2897280" y="5013360"/>
          <a:ext cx="361944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1" name="对象 10650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7280" y="5013360"/>
                    <a:ext cx="3619440" cy="129528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2" name="动作按钮: 自定义 106511">
            <a:hlinkClick r:id="rId4" action="ppaction://hlinksldjump"/>
          </p:cNvPr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3" name="动作按钮: 自定义 106513">
            <a:hlinkClick r:id="rId5" action="ppaction://hlinksldjump"/>
          </p:cNvPr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4" name="动作按钮: 自定义 106514">
            <a:hlinkClick r:id="rId6" action="ppaction://hlinksldjump"/>
          </p:cNvPr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5" name="动作按钮: 自定义 106515">
            <a:hlinkClick r:id="rId7" action="ppaction://hlinksldjump"/>
          </p:cNvPr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6" name="动作按钮: 自定义 106516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7" name="动作按钮: 自定义 106517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8" name="动作按钮: 自定义 106518">
            <a:hlinkClick r:id="rId8" action="ppaction://hlinksldjump"/>
          </p:cNvPr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Text Box 2"/>
          <p:cNvSpPr/>
          <p:nvPr/>
        </p:nvSpPr>
        <p:spPr>
          <a:xfrm>
            <a:off x="1116000" y="1052640"/>
            <a:ext cx="2158920" cy="44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子路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冉有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公西华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曾皙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2" name="Text Box 3"/>
          <p:cNvSpPr/>
          <p:nvPr/>
        </p:nvSpPr>
        <p:spPr>
          <a:xfrm>
            <a:off x="5219640" y="1052640"/>
            <a:ext cx="2737080" cy="43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个人志向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军事治国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礼乐治国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经济治国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3" name="矩形 7"/>
          <p:cNvSpPr/>
          <p:nvPr/>
        </p:nvSpPr>
        <p:spPr>
          <a:xfrm>
            <a:off x="417600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9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816264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《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礼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曲礼上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》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规定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4000" y="2565000"/>
            <a:ext cx="777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长者不及，勿谗言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这就是说在长者面前，如不问及，是非礼的，所以受到孔子的哂笑。这种形式的主动发言，并不被孔子所提倡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动作按钮: 后退或前一项 70659"/>
          <p:cNvSpPr/>
          <p:nvPr/>
        </p:nvSpPr>
        <p:spPr>
          <a:xfrm>
            <a:off x="8101080" y="5300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7" name="动作按钮: 后退或前一项 70660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8" name="动作按钮: 前进或下一项 70661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9" name="动作按钮: 上一张 70662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00" name="图片 70664" descr="图片1"/>
          <p:cNvPicPr/>
          <p:nvPr/>
        </p:nvPicPr>
        <p:blipFill>
          <a:blip r:embed="rId2"/>
          <a:stretch/>
        </p:blipFill>
        <p:spPr>
          <a:xfrm>
            <a:off x="3203640" y="620640"/>
            <a:ext cx="2619360" cy="819360"/>
          </a:xfrm>
          <a:prstGeom prst="rect">
            <a:avLst/>
          </a:prstGeom>
          <a:ln w="0">
            <a:noFill/>
          </a:ln>
        </p:spPr>
      </p:pic>
      <p:sp>
        <p:nvSpPr>
          <p:cNvPr id="2001" name="动作按钮: 自定义 70665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2" name="动作按钮: 自定义 70666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3" name="动作按钮: 自定义 70667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4" name="动作按钮: 自定义 70668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5" name="动作按钮: 自定义 70669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6" name="动作按钮: 自定义 70670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7" name="动作按钮: 自定义 70671"/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Verdana"/>
              </a:rPr>
              <a:t>从他们的言谈中可以看出弟子们各自什么性格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矩形 3"/>
          <p:cNvSpPr/>
          <p:nvPr/>
        </p:nvSpPr>
        <p:spPr>
          <a:xfrm>
            <a:off x="250920" y="1052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隶书"/>
                <a:ea typeface="隶书"/>
              </a:rPr>
              <a:t>子路、曾皙、冉有、公西华侍坐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1" name="TextBox 4"/>
          <p:cNvSpPr/>
          <p:nvPr/>
        </p:nvSpPr>
        <p:spPr>
          <a:xfrm>
            <a:off x="612720" y="1832040"/>
            <a:ext cx="8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2" name="TextBox 5"/>
          <p:cNvSpPr/>
          <p:nvPr/>
        </p:nvSpPr>
        <p:spPr>
          <a:xfrm>
            <a:off x="2484360" y="1773360"/>
            <a:ext cx="8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3" name="TextBox 6"/>
          <p:cNvSpPr/>
          <p:nvPr/>
        </p:nvSpPr>
        <p:spPr>
          <a:xfrm>
            <a:off x="4356000" y="1773360"/>
            <a:ext cx="8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4" name="TextBox 7"/>
          <p:cNvSpPr/>
          <p:nvPr/>
        </p:nvSpPr>
        <p:spPr>
          <a:xfrm>
            <a:off x="6454800" y="18194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015" name=""/>
          <p:cNvGraphicFramePr/>
          <p:nvPr/>
        </p:nvGraphicFramePr>
        <p:xfrm>
          <a:off x="250920" y="2276640"/>
          <a:ext cx="8893080" cy="4581360"/>
        </p:xfrm>
        <a:graphic>
          <a:graphicData uri="http://schemas.openxmlformats.org/drawingml/2006/table">
            <a:tbl>
              <a:tblPr/>
              <a:tblGrid>
                <a:gridCol w="2332080"/>
                <a:gridCol w="656100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人物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人物性格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子路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冉有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公西华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曾皙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16" name="TextBox 10"/>
          <p:cNvSpPr/>
          <p:nvPr/>
        </p:nvSpPr>
        <p:spPr>
          <a:xfrm>
            <a:off x="6031440" y="35002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魄力、自信；性格也较鲁莽、轻率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7" name="TextBox 11"/>
          <p:cNvSpPr/>
          <p:nvPr/>
        </p:nvSpPr>
        <p:spPr>
          <a:xfrm>
            <a:off x="5467680" y="41497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性格谨慎、谦虚、自知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8" name="TextBox 12"/>
          <p:cNvSpPr/>
          <p:nvPr/>
        </p:nvSpPr>
        <p:spPr>
          <a:xfrm>
            <a:off x="4205520" y="530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谦恭有礼，娴于辞令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9" name="TextBox 13"/>
          <p:cNvSpPr/>
          <p:nvPr/>
        </p:nvSpPr>
        <p:spPr>
          <a:xfrm>
            <a:off x="3851280" y="6165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温文尔雅，性格从容洒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矩形 133121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 </a:t>
            </a: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探究一：曾皙的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志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具体是什么？</a:t>
            </a:r>
            <a:endParaRPr b="1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1" name="文本框 133122"/>
          <p:cNvSpPr/>
          <p:nvPr/>
        </p:nvSpPr>
        <p:spPr>
          <a:xfrm>
            <a:off x="0" y="148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暮春咏归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实际上就是委婉展现了曾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出世为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理想，即所治理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国家安定自主、百姓自由幸福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2" name="文本框 133123"/>
          <p:cNvSpPr/>
          <p:nvPr/>
        </p:nvSpPr>
        <p:spPr>
          <a:xfrm>
            <a:off x="0" y="364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曾点描绘了一种超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外桃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无拘无束，自由快乐，即隐士的生活景象，表现了淡泊宁静的心态。 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矩形 124931"/>
          <p:cNvSpPr/>
          <p:nvPr/>
        </p:nvSpPr>
        <p:spPr>
          <a:xfrm>
            <a:off x="1116000" y="19144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二、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孔子为什么“与点”？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24" name="图片 124932" descr="图片4"/>
          <p:cNvPicPr/>
          <p:nvPr/>
        </p:nvPicPr>
        <p:blipFill>
          <a:blip r:embed="rId1"/>
          <a:stretch/>
        </p:blipFill>
        <p:spPr>
          <a:xfrm>
            <a:off x="2627280" y="549360"/>
            <a:ext cx="3600360" cy="828720"/>
          </a:xfrm>
          <a:prstGeom prst="rect">
            <a:avLst/>
          </a:prstGeom>
          <a:ln w="0">
            <a:noFill/>
          </a:ln>
        </p:spPr>
      </p:pic>
      <p:sp>
        <p:nvSpPr>
          <p:cNvPr id="2025" name="文本框 124933"/>
          <p:cNvSpPr/>
          <p:nvPr/>
        </p:nvSpPr>
        <p:spPr>
          <a:xfrm>
            <a:off x="1547640" y="2852640"/>
            <a:ext cx="58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8000"/>
                </a:solidFill>
                <a:latin typeface="隶书"/>
                <a:ea typeface="隶书"/>
              </a:rPr>
              <a:t>暮春咏归图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6" name="矩形 124934"/>
          <p:cNvSpPr/>
          <p:nvPr/>
        </p:nvSpPr>
        <p:spPr>
          <a:xfrm>
            <a:off x="241128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理想生活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和谐社会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精神家园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7" name="动作按钮: 自定义 124935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8" name="动作按钮: 自定义 124936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9" name="动作按钮: 自定义 124937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0" name="动作按钮: 自定义 124938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1" name="动作按钮: 自定义 124939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2" name="动作按钮: 自定义 124941"/>
          <p:cNvSpPr/>
          <p:nvPr/>
        </p:nvSpPr>
        <p:spPr>
          <a:xfrm>
            <a:off x="6732720" y="6524640"/>
            <a:ext cx="1079280" cy="33336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9880" h="21600">
                <a:moveTo>
                  <a:pt x="0" y="0"/>
                </a:moveTo>
                <a:lnTo>
                  <a:pt x="69880" y="0"/>
                </a:lnTo>
                <a:lnTo>
                  <a:pt x="69880" y="21600"/>
                </a:lnTo>
                <a:lnTo>
                  <a:pt x="0" y="21600"/>
                </a:lnTo>
                <a:close/>
              </a:path>
              <a:path fill="lightenLess" w="69880" h="21600">
                <a:moveTo>
                  <a:pt x="0" y="0"/>
                </a:moveTo>
                <a:lnTo>
                  <a:pt x="69880" y="0"/>
                </a:lnTo>
                <a:lnTo>
                  <a:pt x="68480" y="1400"/>
                </a:lnTo>
                <a:lnTo>
                  <a:pt x="1400" y="1400"/>
                </a:lnTo>
                <a:close/>
              </a:path>
              <a:path fill="darken" w="69880" h="21600">
                <a:moveTo>
                  <a:pt x="69880" y="0"/>
                </a:moveTo>
                <a:lnTo>
                  <a:pt x="69880" y="21600"/>
                </a:lnTo>
                <a:lnTo>
                  <a:pt x="68480" y="20200"/>
                </a:lnTo>
                <a:lnTo>
                  <a:pt x="68480" y="1400"/>
                </a:lnTo>
                <a:close/>
              </a:path>
              <a:path fill="darkenLess" w="69880" h="21600">
                <a:moveTo>
                  <a:pt x="6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80" y="20200"/>
                </a:lnTo>
                <a:close/>
              </a:path>
              <a:path fill="lighten" w="6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3" name="动作按钮: 后退或前一项 124942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4" name="动作按钮: 前进或下一项 124943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5" name="动作按钮: 上一张 124944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80640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探究二：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黑体"/>
              </a:rPr>
              <a:t>为什么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黑体"/>
              </a:rPr>
              <a:t>孔子喟然与点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黑体"/>
              </a:rPr>
              <a:t>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当时社会动乱，孔子称之为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礼崩乐坏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的时代，因而孔子政治上主张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礼治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为国以礼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曾点的志向突显孔子礼乐治国的最高境界，故孔子喟然叹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吾与点也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文本框 135171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曾皙的这段话，表达了隐士的生活景象，可能隐约触动了孔子周游列国屡遭失败、心力交瘁而想过平静无为的生活的想法。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因此曾皙的话不仅是显己志，也是对孔子心灵的折射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3"/>
          <p:cNvSpPr/>
          <p:nvPr/>
        </p:nvSpPr>
        <p:spPr>
          <a:xfrm>
            <a:off x="358920" y="97164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时代背景：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是一位有着强烈的政治理想和远大抱负的人。他在担任鲁国大司寇时，推行礼治，施以仁政，使鲁国大治。可惜的是鲁国国君受人离间，很快就疏远了孔子，他的政治主张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成了一颗划过天空的流星，转瞬即逝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文本框 73732"/>
          <p:cNvSpPr/>
          <p:nvPr/>
        </p:nvSpPr>
        <p:spPr>
          <a:xfrm>
            <a:off x="539640" y="1341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孔子思想：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41" name="组合 73739"/>
          <p:cNvGrpSpPr/>
          <p:nvPr/>
        </p:nvGrpSpPr>
        <p:grpSpPr>
          <a:xfrm>
            <a:off x="468360" y="2050920"/>
            <a:ext cx="8934480" cy="4163040"/>
            <a:chOff x="468360" y="2050920"/>
            <a:chExt cx="8934480" cy="4163040"/>
          </a:xfrm>
        </p:grpSpPr>
        <p:sp>
          <p:nvSpPr>
            <p:cNvPr id="2042" name="文本框 73734"/>
            <p:cNvSpPr/>
            <p:nvPr/>
          </p:nvSpPr>
          <p:spPr>
            <a:xfrm>
              <a:off x="468360" y="2050920"/>
              <a:ext cx="835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一、政治：反对暴政，主张仁政，“礼治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3" name="文本框 73735"/>
            <p:cNvSpPr/>
            <p:nvPr/>
          </p:nvSpPr>
          <p:spPr>
            <a:xfrm>
              <a:off x="468360" y="2584440"/>
              <a:ext cx="893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二、修身：“克己复礼” “非礼勿视、非礼勿听、  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非礼勿言、非礼勿动。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4" name="文本框 73736"/>
            <p:cNvSpPr/>
            <p:nvPr/>
          </p:nvSpPr>
          <p:spPr>
            <a:xfrm>
              <a:off x="468360" y="3575160"/>
              <a:ext cx="800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三、伦理思想：“仁”，“仁者爱人”                             “己所不欲，勿施与人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5" name="文本框 73737"/>
            <p:cNvSpPr/>
            <p:nvPr/>
          </p:nvSpPr>
          <p:spPr>
            <a:xfrm>
              <a:off x="468360" y="4565520"/>
              <a:ext cx="89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四、教育：主张“因材施教”，“学而不厌诲人不倦”，对学生喜欢“循循善诱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6" name="文本框 73738"/>
            <p:cNvSpPr/>
            <p:nvPr/>
          </p:nvSpPr>
          <p:spPr>
            <a:xfrm>
              <a:off x="468360" y="5632560"/>
              <a:ext cx="76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五、品德：“温、良、恭、俭、让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047" name="动作按钮: 后退或前一项 73748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8" name="动作按钮: 前进或下一项 73749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9" name="动作按钮: 上一张 73750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50" name="图片 73753" descr="图片2"/>
          <p:cNvPicPr/>
          <p:nvPr/>
        </p:nvPicPr>
        <p:blipFill>
          <a:blip r:embed="rId2"/>
          <a:stretch/>
        </p:blipFill>
        <p:spPr>
          <a:xfrm>
            <a:off x="3203640" y="549360"/>
            <a:ext cx="2619360" cy="819000"/>
          </a:xfrm>
          <a:prstGeom prst="rect">
            <a:avLst/>
          </a:prstGeom>
          <a:ln w="0">
            <a:noFill/>
          </a:ln>
        </p:spPr>
      </p:pic>
      <p:sp>
        <p:nvSpPr>
          <p:cNvPr id="2051" name="动作按钮: 自定义 73754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2" name="动作按钮: 自定义 73755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3" name="动作按钮: 自定义 73756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4" name="动作按钮: 自定义 73757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5" name="动作按钮: 自定义 73758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6" name="动作按钮: 自定义 73760"/>
          <p:cNvSpPr/>
          <p:nvPr/>
        </p:nvSpPr>
        <p:spPr>
          <a:xfrm>
            <a:off x="6732720" y="6524640"/>
            <a:ext cx="1079280" cy="33336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9880" h="21600">
                <a:moveTo>
                  <a:pt x="0" y="0"/>
                </a:moveTo>
                <a:lnTo>
                  <a:pt x="69880" y="0"/>
                </a:lnTo>
                <a:lnTo>
                  <a:pt x="69880" y="21600"/>
                </a:lnTo>
                <a:lnTo>
                  <a:pt x="0" y="21600"/>
                </a:lnTo>
                <a:close/>
              </a:path>
              <a:path fill="lightenLess" w="69880" h="21600">
                <a:moveTo>
                  <a:pt x="0" y="0"/>
                </a:moveTo>
                <a:lnTo>
                  <a:pt x="69880" y="0"/>
                </a:lnTo>
                <a:lnTo>
                  <a:pt x="68480" y="1400"/>
                </a:lnTo>
                <a:lnTo>
                  <a:pt x="1400" y="1400"/>
                </a:lnTo>
                <a:close/>
              </a:path>
              <a:path fill="darken" w="69880" h="21600">
                <a:moveTo>
                  <a:pt x="69880" y="0"/>
                </a:moveTo>
                <a:lnTo>
                  <a:pt x="69880" y="21600"/>
                </a:lnTo>
                <a:lnTo>
                  <a:pt x="68480" y="20200"/>
                </a:lnTo>
                <a:lnTo>
                  <a:pt x="68480" y="1400"/>
                </a:lnTo>
                <a:close/>
              </a:path>
              <a:path fill="darkenLess" w="69880" h="21600">
                <a:moveTo>
                  <a:pt x="6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80" y="20200"/>
                </a:lnTo>
                <a:close/>
              </a:path>
              <a:path fill="lighten" w="6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动作按钮: 后退或前一项 115715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8" name="动作按钮: 前进或下一项 115716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9" name="文本框 115719"/>
          <p:cNvSpPr/>
          <p:nvPr/>
        </p:nvSpPr>
        <p:spPr>
          <a:xfrm>
            <a:off x="1882440" y="153180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更多关于孔子及儒家思想的内容请访问以下网站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/>
          </p:nvPr>
        </p:nvSpPr>
        <p:spPr>
          <a:xfrm>
            <a:off x="755280" y="2420640"/>
            <a:ext cx="8110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国孔子网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chinakongzi.org/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孔子在线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confucian.ruc.edu.cn/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国孔子研究院网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confucius.gov.cn/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孔子纪念馆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china5000.org.cn/kongzi/index.htm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1" name="图片 115730" descr="图片2"/>
          <p:cNvPicPr/>
          <p:nvPr/>
        </p:nvPicPr>
        <p:blipFill>
          <a:blip r:embed="rId2"/>
          <a:stretch/>
        </p:blipFill>
        <p:spPr>
          <a:xfrm>
            <a:off x="3203640" y="549360"/>
            <a:ext cx="26193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图片 136193" descr="HOW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0" name="文本框 136194"/>
          <p:cNvSpPr/>
          <p:nvPr/>
        </p:nvSpPr>
        <p:spPr>
          <a:xfrm>
            <a:off x="3124080" y="1066680"/>
            <a:ext cx="4953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孔子，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学派创始人，思想核心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政治上主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体散文，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记录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言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参考答案：丘、仲尼、儒、仁、礼治。语录、孔子门人及再传弟子、孔子及其弟子。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71" name="图片 136195" descr="孔子像1"/>
          <p:cNvPicPr/>
          <p:nvPr/>
        </p:nvPicPr>
        <p:blipFill>
          <a:blip r:embed="rId2"/>
          <a:stretch/>
        </p:blipFill>
        <p:spPr>
          <a:xfrm>
            <a:off x="1143000" y="2057400"/>
            <a:ext cx="1733400" cy="35812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36196"/>
          <p:cNvSpPr/>
          <p:nvPr/>
        </p:nvSpPr>
        <p:spPr>
          <a:xfrm>
            <a:off x="914400" y="1219320"/>
            <a:ext cx="2057400" cy="642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文学常识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73" name="2635子路曾皙冉有公西华侍坐[2](1).wav" descr=""/>
          <p:cNvPicPr/>
          <p:nvPr/>
        </p:nvPicPr>
        <p:blipFill>
          <a:blip r:embed="rId3"/>
          <a:stretch/>
        </p:blipFill>
        <p:spPr>
          <a:xfrm>
            <a:off x="883908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图片 119815" descr="图片8"/>
          <p:cNvPicPr/>
          <p:nvPr/>
        </p:nvPicPr>
        <p:blipFill>
          <a:blip r:embed="rId1"/>
          <a:stretch/>
        </p:blipFill>
        <p:spPr>
          <a:xfrm>
            <a:off x="1547640" y="1773360"/>
            <a:ext cx="6048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/>
          </p:nvPr>
        </p:nvSpPr>
        <p:spPr>
          <a:xfrm>
            <a:off x="2556000" y="1341360"/>
            <a:ext cx="658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朗读课文并思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每位弟子的志向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孔子的评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动作按钮: 后退或前一项 75788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6" name="动作按钮: 前进或下一项 75790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7" name="动作按钮: 上一张 75791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78" name="图片 75808" descr="图片1"/>
          <p:cNvPicPr/>
          <p:nvPr/>
        </p:nvPicPr>
        <p:blipFill>
          <a:blip r:embed="rId3"/>
          <a:stretch/>
        </p:blipFill>
        <p:spPr>
          <a:xfrm>
            <a:off x="539640" y="2276640"/>
            <a:ext cx="790560" cy="2124000"/>
          </a:xfrm>
          <a:prstGeom prst="rect">
            <a:avLst/>
          </a:prstGeom>
          <a:ln w="0">
            <a:noFill/>
          </a:ln>
        </p:spPr>
      </p:pic>
      <p:sp>
        <p:nvSpPr>
          <p:cNvPr id="1879" name="动作按钮: 自定义 75809">
            <a:hlinkClick r:id="rId4" action="ppaction://hlinksldjump"/>
          </p:cNvPr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0" name="动作按钮: 自定义 75810">
            <a:hlinkClick r:id="rId5" action="ppaction://hlinksldjump"/>
          </p:cNvPr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1" name="动作按钮: 自定义 75811">
            <a:hlinkClick r:id="rId6" action="ppaction://hlinksldjump"/>
          </p:cNvPr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2" name="动作按钮: 自定义 75812">
            <a:hlinkClick r:id="rId7" action="ppaction://hlinksldjump"/>
          </p:cNvPr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3" name="动作按钮: 自定义 75813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4" name="动作按钮: 自定义 75814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5" name="动作按钮: 自定义 75815">
            <a:hlinkClick r:id="rId8" action="ppaction://hlinksldjump"/>
          </p:cNvPr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文本框 54277"/>
          <p:cNvSpPr/>
          <p:nvPr/>
        </p:nvSpPr>
        <p:spPr>
          <a:xfrm>
            <a:off x="684360" y="620640"/>
            <a:ext cx="403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路、曾皙、冉有、公西华侍坐。子曰：“以吾一日长乎尔，毋吾以也。居则曰：‘不吾知也。’如或知尔，则何以哉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路率尔而对曰：“千乘之国，摄乎大国之间，加之以师旅，因之以饥谨；由也为之，比及三年，可使有勇，且知方也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夫子哂之。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“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求，尔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对曰：“方六七十，如五六十，求也为之，比及三年，可使足民。如其礼乐，以俟君子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“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赤，尔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对曰：“非曰能之，愿学焉。宗庙之事，如会同，端章甫，愿为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小相焉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“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点，尔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鼓瑟希，铿尔，舍瑟而作，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7" name="文本框 54278"/>
          <p:cNvSpPr/>
          <p:nvPr/>
        </p:nvSpPr>
        <p:spPr>
          <a:xfrm>
            <a:off x="4788000" y="692280"/>
            <a:ext cx="40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对曰：“异乎三子者之撰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曰：“何伤乎？亦各言其志也！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曰：“莫春者，春服既成，冠者五六人，童子六七人，浴乎沂，风乎舞雩，咏而归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夫子喟然叹曰：“吾与点也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三子者出，曾皙后。曾皙曰：“夫三子者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曰：“亦各言其志也已矣！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曰：“夫子何哂由也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曰：“为国以礼，其言不让，    是故哂之。唯求则非邦也与？安见方六七十，如五六十而非邦也者？唯赤则非邦也与？宗庙会同，非诸侯而何？赤也为之小，孰能为之大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8" name="直接连接符 54279"/>
          <p:cNvSpPr/>
          <p:nvPr/>
        </p:nvSpPr>
        <p:spPr>
          <a:xfrm>
            <a:off x="4788000" y="620640"/>
            <a:ext cx="0" cy="57610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动作按钮: 后退或前一项 54281">
            <a:hlinkClick r:id="" action="ppaction://hlinkshowjump?jump=previousslide"/>
          </p:cNvPr>
          <p:cNvSpPr/>
          <p:nvPr/>
        </p:nvSpPr>
        <p:spPr>
          <a:xfrm>
            <a:off x="687708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0" name="动作按钮: 前进或下一项 54282">
            <a:hlinkClick r:id="" action="ppaction://hlinkshowjump?jump=nextslide"/>
          </p:cNvPr>
          <p:cNvSpPr/>
          <p:nvPr/>
        </p:nvSpPr>
        <p:spPr>
          <a:xfrm>
            <a:off x="730872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1" name="动作按钮: 上一张 54284">
            <a:hlinkClick r:id="rId2" action="ppaction://hlinksldjump"/>
          </p:cNvPr>
          <p:cNvSpPr/>
          <p:nvPr/>
        </p:nvSpPr>
        <p:spPr>
          <a:xfrm>
            <a:off x="774072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92" name="图片 54287" descr="图片1"/>
          <p:cNvPicPr/>
          <p:nvPr/>
        </p:nvPicPr>
        <p:blipFill>
          <a:blip r:embed="rId3"/>
          <a:stretch/>
        </p:blipFill>
        <p:spPr>
          <a:xfrm>
            <a:off x="0" y="2133720"/>
            <a:ext cx="7905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/>
          </p:nvPr>
        </p:nvSpPr>
        <p:spPr>
          <a:xfrm>
            <a:off x="2195280" y="1341000"/>
            <a:ext cx="5770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每位弟子的志向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孔子的评价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动作按钮: 后退或前一项 8704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5" name="动作按钮: 前进或下一项 87045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6" name="动作按钮: 上一张 87046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97" name="图片 87047" descr="图片1"/>
          <p:cNvPicPr/>
          <p:nvPr/>
        </p:nvPicPr>
        <p:blipFill>
          <a:blip r:embed="rId3"/>
          <a:stretch/>
        </p:blipFill>
        <p:spPr>
          <a:xfrm>
            <a:off x="539640" y="2276640"/>
            <a:ext cx="7905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77724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一日长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乎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毋吾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‘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吾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’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或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何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”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537840" y="1700280"/>
            <a:ext cx="80643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介词，因为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乎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相当于“于”，介词，放在形容词之后，可译为“比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尔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你们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动词，认为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居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在平时、闲居，指平时在家的时候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20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“辄”解，常常，总是，就</a:t>
            </a:r>
            <a:r>
              <a:rPr b="1" lang="zh-CN" sz="20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了解，知道。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连词，假如，如果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代词，在这里指人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用，做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何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以何，如何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翻译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孔子说：“因为我比你们年纪大一点，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不要</a:t>
            </a:r>
            <a:r>
              <a:rPr b="1" lang="zh-CN" sz="1800" spc="-1" strike="noStrike">
                <a:solidFill>
                  <a:srgbClr val="ff6600"/>
                </a:solidFill>
                <a:latin typeface="Verdana"/>
              </a:rPr>
              <a:t>因为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我年纪大一点（因此）（你们就不说了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。你们平时总在说：‘没有人知道我。’如果有人知道你们，那么你们打算怎么办呢？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毋吾以也：否定句中的宾语前置句，即“毋以吾也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不吾知也：否定句中的宾语前置句，即“不知吾也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则何以哉：疑问句中的宾语前置句，即“则以何哉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0" name="矩形 134147"/>
          <p:cNvSpPr/>
          <p:nvPr/>
        </p:nvSpPr>
        <p:spPr>
          <a:xfrm>
            <a:off x="691560" y="-2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解课文：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84000" y="1590480"/>
            <a:ext cx="7127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子路（由）：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率尔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而对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79280" y="2292120"/>
            <a:ext cx="8964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千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乘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国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摄乎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大国之间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加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以师旅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因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以饥谨；由也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为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比及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三年，可使有勇，且知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方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文本框 101381"/>
          <p:cNvSpPr/>
          <p:nvPr/>
        </p:nvSpPr>
        <p:spPr>
          <a:xfrm>
            <a:off x="3059280" y="3284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夹在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4" name="文本框 101382"/>
          <p:cNvSpPr/>
          <p:nvPr/>
        </p:nvSpPr>
        <p:spPr>
          <a:xfrm>
            <a:off x="6156360" y="33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攻打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5" name="文本框 101383"/>
          <p:cNvSpPr/>
          <p:nvPr/>
        </p:nvSpPr>
        <p:spPr>
          <a:xfrm>
            <a:off x="380880" y="442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接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6" name="文本框 101384"/>
          <p:cNvSpPr/>
          <p:nvPr/>
        </p:nvSpPr>
        <p:spPr>
          <a:xfrm>
            <a:off x="4191120" y="442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治理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7" name="文本框 101385"/>
          <p:cNvSpPr/>
          <p:nvPr/>
        </p:nvSpPr>
        <p:spPr>
          <a:xfrm>
            <a:off x="5638680" y="442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等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8" name="文本框 101386"/>
          <p:cNvSpPr/>
          <p:nvPr/>
        </p:nvSpPr>
        <p:spPr>
          <a:xfrm>
            <a:off x="1763640" y="5560920"/>
            <a:ext cx="33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正道，是非准则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9" name="文本框 101389"/>
          <p:cNvSpPr/>
          <p:nvPr/>
        </p:nvSpPr>
        <p:spPr>
          <a:xfrm>
            <a:off x="468360" y="1673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0" name="动作按钮: 后退或前一项 101398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1" name="动作按钮: 前进或下一项 101399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2" name="动作按钮: 上一张 101400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3" name="图片 101401" descr="图片3"/>
          <p:cNvPicPr/>
          <p:nvPr/>
        </p:nvPicPr>
        <p:blipFill>
          <a:blip r:embed="rId3"/>
          <a:stretch/>
        </p:blipFill>
        <p:spPr>
          <a:xfrm>
            <a:off x="3059280" y="549360"/>
            <a:ext cx="2876400" cy="828720"/>
          </a:xfrm>
          <a:prstGeom prst="rect">
            <a:avLst/>
          </a:prstGeom>
          <a:ln w="0">
            <a:noFill/>
          </a:ln>
        </p:spPr>
      </p:pic>
      <p:sp>
        <p:nvSpPr>
          <p:cNvPr id="1914" name="文本框 101402"/>
          <p:cNvSpPr/>
          <p:nvPr/>
        </p:nvSpPr>
        <p:spPr>
          <a:xfrm>
            <a:off x="3687840" y="217188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轻率匆忙的样子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5" name="动作按钮: 自定义 101403">
            <a:hlinkClick r:id="rId4" action="ppaction://hlinksldjump"/>
          </p:cNvPr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6" name="动作按钮: 自定义 101404">
            <a:hlinkClick r:id="rId5" action="ppaction://hlinksldjump"/>
          </p:cNvPr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7" name="动作按钮: 自定义 101405">
            <a:hlinkClick r:id="rId6" action="ppaction://hlinksldjump"/>
          </p:cNvPr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8" name="动作按钮: 自定义 101406">
            <a:hlinkClick r:id="rId7" action="ppaction://hlinksldjump"/>
          </p:cNvPr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9" name="动作按钮: 自定义 101407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0" name="动作按钮: 自定义 101408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1" name="动作按钮: 自定义 101409">
            <a:hlinkClick r:id="rId8" action="ppaction://hlinksldjump"/>
          </p:cNvPr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2" name="文本框 101411"/>
          <p:cNvSpPr/>
          <p:nvPr/>
        </p:nvSpPr>
        <p:spPr>
          <a:xfrm>
            <a:off x="972720" y="227664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èng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7480" y="837720"/>
            <a:ext cx="896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路率尔而对曰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乘之国，摄乎大国之间，加之以师旅，因之以饥馑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也为之，比及三年，可使有勇，且知方也。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夫子哂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360000" y="2388960"/>
            <a:ext cx="7002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1247400" y="2274840"/>
            <a:ext cx="77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子路急忙回答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"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拥有一千辆兵车的国家，夹在大国之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上外国军队的侵犯，接着又遇上饥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让我治理这个国家，等到三年功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可以使人人勇敢善战，而且还懂得做人的道理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孔子听了，微微一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eng dong</cp:lastModifiedBy>
  <dcterms:modified xsi:type="dcterms:W3CDTF">2020-04-14T03:21:04Z</dcterms:modified>
  <cp:revision>7</cp:revision>
  <dc:subject/>
  <dc:title>PowerPoint 演示文稿</dc:title>
</cp:coreProperties>
</file>