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30.xml" ContentType="application/vnd.openxmlformats-officedocument.theme+xml"/>
  <Override PartName="/ppt/theme/theme42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8.png" ContentType="image/png"/>
  <Override PartName="/ppt/media/image14.jpeg" ContentType="image/jpeg"/>
  <Override PartName="/ppt/media/image19.png" ContentType="image/png"/>
  <Override PartName="/ppt/media/image16.png" ContentType="image/png"/>
  <Override PartName="/ppt/media/image13.png" ContentType="image/png"/>
  <Override PartName="/ppt/media/image1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4.jpeg" ContentType="image/jpeg"/>
  <Override PartName="/ppt/media/image17.png" ContentType="image/png"/>
  <Override PartName="/ppt/media/type.wav" ContentType="audio/x-wav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389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</p:sldMasterIdLst>
  <p:sldIdLst>
    <p:sldId id="256" r:id="rId44"/>
    <p:sldId id="257" r:id="rId45"/>
    <p:sldId id="258" r:id="rId46"/>
    <p:sldId id="259" r:id="rId47"/>
    <p:sldId id="260" r:id="rId48"/>
    <p:sldId id="261" r:id="rId49"/>
    <p:sldId id="262" r:id="rId50"/>
    <p:sldId id="263" r:id="rId51"/>
    <p:sldId id="264" r:id="rId52"/>
    <p:sldId id="265" r:id="rId53"/>
    <p:sldId id="266" r:id="rId54"/>
    <p:sldId id="267" r:id="rId55"/>
    <p:sldId id="268" r:id="rId56"/>
    <p:sldId id="269" r:id="rId57"/>
    <p:sldId id="270" r:id="rId58"/>
    <p:sldId id="271" r:id="rId59"/>
    <p:sldId id="272" r:id="rId60"/>
    <p:sldId id="273" r:id="rId61"/>
    <p:sldId id="274" r:id="rId62"/>
    <p:sldId id="275" r:id="rId63"/>
    <p:sldId id="276" r:id="rId64"/>
    <p:sldId id="277" r:id="rId65"/>
    <p:sldId id="278" r:id="rId66"/>
    <p:sldId id="279" r:id="rId67"/>
    <p:sldId id="280" r:id="rId68"/>
    <p:sldId id="281" r:id="rId69"/>
    <p:sldId id="282" r:id="rId70"/>
    <p:sldId id="283" r:id="rId71"/>
    <p:sldId id="284" r:id="rId72"/>
    <p:sldId id="28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" Target="slides/slide1.xml"/><Relationship Id="rId45" Type="http://schemas.openxmlformats.org/officeDocument/2006/relationships/slide" Target="slides/slide2.xml"/><Relationship Id="rId46" Type="http://schemas.openxmlformats.org/officeDocument/2006/relationships/slide" Target="slides/slide3.xml"/><Relationship Id="rId47" Type="http://schemas.openxmlformats.org/officeDocument/2006/relationships/slide" Target="slides/slide4.xml"/><Relationship Id="rId48" Type="http://schemas.openxmlformats.org/officeDocument/2006/relationships/slide" Target="slides/slide5.xml"/><Relationship Id="rId49" Type="http://schemas.openxmlformats.org/officeDocument/2006/relationships/slide" Target="slides/slide6.xml"/><Relationship Id="rId50" Type="http://schemas.openxmlformats.org/officeDocument/2006/relationships/slide" Target="slides/slide7.xml"/><Relationship Id="rId51" Type="http://schemas.openxmlformats.org/officeDocument/2006/relationships/slide" Target="slides/slide8.xml"/><Relationship Id="rId52" Type="http://schemas.openxmlformats.org/officeDocument/2006/relationships/slide" Target="slides/slide9.xml"/><Relationship Id="rId53" Type="http://schemas.openxmlformats.org/officeDocument/2006/relationships/slide" Target="slides/slide10.xml"/><Relationship Id="rId54" Type="http://schemas.openxmlformats.org/officeDocument/2006/relationships/slide" Target="slides/slide11.xml"/><Relationship Id="rId55" Type="http://schemas.openxmlformats.org/officeDocument/2006/relationships/slide" Target="slides/slide12.xml"/><Relationship Id="rId56" Type="http://schemas.openxmlformats.org/officeDocument/2006/relationships/slide" Target="slides/slide13.xml"/><Relationship Id="rId57" Type="http://schemas.openxmlformats.org/officeDocument/2006/relationships/slide" Target="slides/slide14.xml"/><Relationship Id="rId58" Type="http://schemas.openxmlformats.org/officeDocument/2006/relationships/slide" Target="slides/slide15.xml"/><Relationship Id="rId59" Type="http://schemas.openxmlformats.org/officeDocument/2006/relationships/slide" Target="slides/slide16.xml"/><Relationship Id="rId60" Type="http://schemas.openxmlformats.org/officeDocument/2006/relationships/slide" Target="slides/slide17.xml"/><Relationship Id="rId61" Type="http://schemas.openxmlformats.org/officeDocument/2006/relationships/slide" Target="slides/slide18.xml"/><Relationship Id="rId62" Type="http://schemas.openxmlformats.org/officeDocument/2006/relationships/slide" Target="slides/slide19.xml"/><Relationship Id="rId63" Type="http://schemas.openxmlformats.org/officeDocument/2006/relationships/slide" Target="slides/slide20.xml"/><Relationship Id="rId64" Type="http://schemas.openxmlformats.org/officeDocument/2006/relationships/slide" Target="slides/slide21.xml"/><Relationship Id="rId65" Type="http://schemas.openxmlformats.org/officeDocument/2006/relationships/slide" Target="slides/slide22.xml"/><Relationship Id="rId66" Type="http://schemas.openxmlformats.org/officeDocument/2006/relationships/slide" Target="slides/slide23.xml"/><Relationship Id="rId67" Type="http://schemas.openxmlformats.org/officeDocument/2006/relationships/slide" Target="slides/slide24.xml"/><Relationship Id="rId68" Type="http://schemas.openxmlformats.org/officeDocument/2006/relationships/slide" Target="slides/slide25.xml"/><Relationship Id="rId69" Type="http://schemas.openxmlformats.org/officeDocument/2006/relationships/slide" Target="slides/slide26.xml"/><Relationship Id="rId70" Type="http://schemas.openxmlformats.org/officeDocument/2006/relationships/slide" Target="slides/slide27.xml"/><Relationship Id="rId71" Type="http://schemas.openxmlformats.org/officeDocument/2006/relationships/slide" Target="slides/slide28.xml"/><Relationship Id="rId72" Type="http://schemas.openxmlformats.org/officeDocument/2006/relationships/slide" Target="slides/slide29.xml"/><Relationship Id="rId73" Type="http://schemas.openxmlformats.org/officeDocument/2006/relationships/slide" Target="slides/slide3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519C-7A04-455F-92A1-3AEE4B664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7AE2-9B5A-45F8-A775-B74985E5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4F169-4A98-4B20-B87D-EAE22457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9F5B7-18E9-4125-A875-0B71AC85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A90912-BD4D-4587-933E-1D84CAC5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469D6B-A753-48D2-A0E8-5F1AAA1C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076E31-6C3D-4897-95A1-16CE585E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5B555B-57C6-4A98-960E-EC4C69F4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4D8A66-0D83-4661-A367-C08D795F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883761-5AA0-4DE0-9BC5-3E4BF8701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5DEE79-B17C-47B0-A7AD-3E27CC31A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07229F-1E27-4D95-BAD5-F3CA90BFB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6956-27F4-4544-8413-89D9C2A7E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AB0C3-A9F3-4631-8EE1-85719C50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2636E3-77BD-47C4-8DE5-F6416F46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736512-B0BF-4CAB-8A9F-682E35CF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F880E6-9EF2-4734-9FF1-16CD6137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575323-C36F-498F-A306-1F67CF26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429754-08C4-4A32-87BE-C3A17609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640135-A61B-49FF-8A9D-61C7B292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460326-09F1-443D-BC82-47D8A6D4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FD4AF0-8BA8-431B-ADD3-DD871680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5FCF62-F1A0-481B-B5EF-0C33F34A9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EBBE-D106-49CC-BAD0-9B18CC7BE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311D91-6CEF-435E-A56B-8506539E5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6F065F-CA5D-4741-9491-2E8EDE6C0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3E6B0D-5B1B-4E7B-9B4D-6A3B106C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5B900-3402-40B5-9B56-C29424C7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E68C9D-61B1-4EE4-BF10-55E7738B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C6DFD-572E-4DAC-88ED-A331D189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717D5-9E31-4A3B-8631-514A92AA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8C9B3-24FB-4EF2-A864-8D02AF75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74776B-6A53-408D-B805-0FFD1D43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31AA9-596E-43F3-BB1F-5D533A10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CDAE-BBB4-49CC-8785-7E907CD21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47264-C637-4D5B-B1F6-F458D35D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F2223-54E3-4AA6-9401-35B1F13F4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C5827E-C0B0-4462-8351-7BAA9A74D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712283-5ABE-45FC-A82C-9571C825D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A2D94B-E3D5-4D8A-B512-BA9EE34E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B77387-5C3C-4937-B26B-5AE3D542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BE3681-2B59-4BC1-9B97-A4E6B01B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E9008F-3B40-4C8F-9872-632A1EF7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758593-CD4F-4800-8888-64273617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E75432-627A-4B88-8003-E7C504DE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3093-15A2-4E76-9811-5C121FA5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41345F-A7B3-455F-BF09-E0885B1F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2EF3CB-0983-4676-9621-B9145998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F548FB-8928-4C87-A4A1-03CA754B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A1B50A-8A7D-470E-99B6-DC884DCE9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40FE80-7914-42FA-BDE2-A34AF5B01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4D61BE-C108-4F46-B95D-D117329D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01EAF9-0F4A-47B5-A566-E9A8B3B8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0B4007-D23C-4D8A-A3DF-60C04A70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8C4D66-A5F5-4942-8EAB-EEB66BDC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AD1D6B-A1B9-4ECD-9969-91AC7EBF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AB091-EABC-4E23-9418-7E154BC7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52CFB7-177D-4D2E-81D8-10221305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53823E-CC4F-49E0-8675-354F5062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A7742A-3529-4BB0-8976-60D178D9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7E4491-5917-4B55-A364-E946D090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87E926-3D8F-43A3-B927-2B18E253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54D838-4514-4853-9CA6-623A5A302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6D6D3F-E3F6-4B47-B900-09FD74B98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8A0C43-0FFA-4EA6-8B73-3B9557C71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36C58D-4CB8-428C-ABF7-C0542709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A4A348-263F-4C72-822C-D0C161F3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6145-46F7-4028-8053-B54AF86B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CB87D1-9914-4D24-9292-85D408D1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7F432A-CFB6-4805-933F-AC5C3910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F0C887-1BBC-4E6F-BDF8-BD885A90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2F5F87-15D7-4FE0-8B47-06952C44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A57ED5-93CF-4080-A6F5-84509480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0B6C51-3590-496D-9014-226972C5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A47746-8866-42C9-A9AA-79942B78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BC2F73-38F8-4315-816D-B7E2FE862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5DDF90-14F1-4461-B702-2BBDA5E66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476972-D8EC-4C10-A76F-9F9143614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B072-16FE-4723-8367-64F73CCB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42BAE7-A094-4001-9B05-4FF4BBCB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3AF114-9727-4B7B-B4A7-732495B1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08A299-ADCD-4783-87D7-246F1BDE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F713B0-02AE-4B95-8420-A266061F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22698E-7564-4101-A046-716F091B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69802D-10EC-4ECC-A97A-87988E7B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05E59A-9FAA-4533-A9C6-A9FF6C8E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324602-2301-4013-BB44-5FBF43FF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57255C-8E3F-45C1-8F17-36AA6A8C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5814E6-A5BC-40DB-A73A-13ED1918B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5E3B-997C-4CDE-9212-97D6D699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543EA7-6FA8-4240-B489-790CB6157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FB62D5-5AE0-4EFB-89B1-8A14C9EF8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2ACC33-DF0C-4D6B-9452-FE92F608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8FCEE7-EDFC-4B71-BCF4-44222F05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2592C9-B4CD-4FA4-8222-4BD01C01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18A621-960B-4C8A-AD02-64F92AD7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5618E7-0C9D-4D25-86DD-6DC0094D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8C3009-5D1C-4783-9A55-24DDDAA3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8C3C43-5A3C-4ED1-9C03-982CAAB7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420449-9649-4A00-B16B-276A1AEE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4996-9978-4712-86D2-572FC281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425CDD-964A-4692-9C76-09A6758A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6207DA-2B5F-4C15-97CE-82FCA62FD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2D9B4C-1B22-4E6F-B257-10886E5E0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394ADB-0D0E-4850-A925-47BBEED34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978DE0-5F06-45BE-A271-DC61C0F2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AF9F8F-0719-4A92-BF47-E032B0C9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502714-D500-41C7-8B6D-3E8812BB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5E60E5-9EF4-48C4-B1BD-9E798EC9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E3194C-1113-4D79-8270-47F9433B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36A90C-CDDE-454E-B943-7ADC3DCB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BDE9-72C8-48D7-B942-4252FA4E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6C14-CE4F-4FB1-B118-F2569B68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BB898C-638B-449C-BCC4-CD6DF8CE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F51624-C172-4829-8B1E-C5EDA860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C79546-2648-46DC-9A45-B96E8B80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F57493-6A62-41E2-A1AD-30F4020CC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21173C-F4B8-4992-9D5C-5DB50C7B1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FC78E4-B655-4BFE-8AE7-CDCDBE8DF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0600DF-4802-4FEF-849E-5FFD8EDA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8E66D5-72B6-4B29-AA0A-42836133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E2AB89-7053-4E44-A1C4-5725ED86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23C195-6215-4455-B340-320C4C5F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04032-A6D8-4E83-806C-1269255E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BFC8C4-64C6-4DEB-85D6-969A3E03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A93E26-4490-41EA-8EE0-66208F15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37D915-25C6-4FD1-9407-042A5919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90C475-DC44-4F12-9D16-F9EA75FA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38C65F-12AB-4A3F-885F-25B591C9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87E242-A87B-495F-BF87-8FB678372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FDE4D2-5153-4E24-B4A1-DAF4285FF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0C1143-D939-4F88-B2AB-C1C4F0DFF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273B37-CB8E-4B9B-AC6A-769C1366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70C5B7-3E84-4818-BDF4-E05E36C3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9A2E-642B-4509-A28A-2FE2BD38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FBB935-6ABC-43BD-A0E1-DB114056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94580B-3435-4961-A3C6-1ECFE537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B1C928-E261-44A2-96AF-3668180D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437F5E-2E36-4E11-A25E-8771B3F3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ED516D-BACE-487A-9FE0-B3D00C01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B214D0-6DD9-4354-8F89-7181780D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685CF8-FF98-4C3B-B800-614E1DEF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87412B-278A-40EE-A5A5-D9495DACA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7313E5-EAC7-4D5B-8EAA-3A2B595FC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96F237-286E-4BE7-B043-16E642961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5E99-B86A-4E34-B9BC-9767F803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BA3DDF-5F47-4CAE-B6E7-354B44CA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A6059A-5675-4B7A-9CF4-F0AF0B6A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F98301-F7FB-41FC-B64F-C323007C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1D970E-A05E-41B0-95DD-935CA296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E312D3-F1AE-4E84-84BD-D3DA1444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11EEE6-8FC0-47B0-B132-CDD7E4D8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3908F5-840B-415F-A89A-F2FB1825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BABE59-3886-44BD-92FB-730B8C4D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4FFFB4-9A72-4D79-BDD8-39CD6661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523241-F529-439E-BCF4-91C5C1CBF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EA58-0D1E-4DF5-AEC5-BBA26E3CB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32E984-AABB-4C76-87B7-E99C1B8B7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38A3F5-38D8-4182-8363-863FDC018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6EEEEB-D042-43DB-AC1D-718D5D28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3990DF-13BC-4A10-9E73-66AE6529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9187E1-2E5E-4420-8439-3DC79096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820F8D-A179-4CE4-847A-DD8BDBD9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84C19B-7E41-4312-8E99-0FF066ED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DFE1E2-9189-4E4C-9E76-E6133FED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DCA9E6-4869-4906-9C89-D18520F6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ABA607-AB2B-4C15-95B5-5972B361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A9CBD-FFE9-4173-A079-4607CCFF3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77C125-61BA-481D-92C9-9156B572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6F7403-7331-4E67-B600-779622053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8BF27D-CD5D-4358-9531-3D8D75B46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5282C2-715A-4BEF-9371-F726AFBF7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77F50E-BE48-4130-B616-D96B984F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281DBA-8661-43C0-836C-43D43906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1D0040-FB3B-4E18-8D1F-944258FE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76F4DF-1209-445B-86B9-13D9846C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451108-0B06-4648-B848-AFDB996E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65DD6D-AFD6-4AFF-A0F1-4689E2BE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8798B-6B96-4A89-9437-31A8D201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FCE3B7-9DFC-41BF-A67C-880B8BD3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177C62-BB38-46D0-A866-7C1088AD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BF8985-10F9-4EE2-AEF4-3C4DFADC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CEBCD8-2AE5-4570-8753-C5A6FD9BB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D4EB2C-C4DF-431F-93B0-200660D2A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E7DF87-2AFA-4E13-B6F5-A39E1674B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3E397F-A529-4486-8C5A-E2751DDC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84B3B4-2FB6-4DD0-8CA5-56605A6E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8F1223-A2FC-4B92-8805-74CC649D7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45264E-67AD-41FC-99A9-261335A0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A35EE-1706-4F39-AD82-D8179A03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A7CE48-BC4D-4F55-A935-F165089E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A6A562-574A-4AEC-BC4F-71A6C9B3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6916B6-BF7C-460E-A4C3-842D3B5F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2C0146-8DFD-40BF-BD91-A4422947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7BB22C-5DC1-4D61-B703-EBE4D462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3A266F-19EC-4B2D-9278-3B7E854F6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3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4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367707-9273-4915-963A-514429E8D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07F5F1-EA32-4053-98CD-BD7C59797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4EFE916-B932-4B86-8751-599F136D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228439-69BA-423D-AF08-A7706D5D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184C5-89B2-4EBD-99AC-9A641504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26148AA-348A-4271-881B-33D41F5D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619D68-8D65-410D-9569-E9398B15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2C63BF-BF3C-4350-B5EC-4CA1DF23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007BBC6-8B7F-4A59-A2C4-39E27B16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C3A3C6-BC97-4524-BBE3-655E3B68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5563B3-8078-49AD-B6AB-C2813040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92A2C9-79B6-49A8-A191-E2F8D8CA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FE7ECC-6D07-4503-AF41-B40432E2A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4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D9C818-C889-451B-90E8-6CD89893A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F4B2DC7-56DE-455C-86F7-36C4FC6D5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A1166-B616-403E-A93A-01DC8ED3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32D431D-3B15-4BD4-BAE6-B66C290C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F43B835-AB71-4E0A-9CE1-B57673F0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77C0A76-FC58-4EE9-9D99-EEAACF74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9728AC0-5D97-447B-934D-D1F9AAA5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72D4175-1BA0-4504-966A-B0B56C9A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FEEF9B1-AED8-47A0-A58D-CBC93C74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3C3EF9B-3C1B-475E-93BE-A782F3A0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1CAFE8A-2FED-4527-9BB7-9A1EA60E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2C6E010-1473-4C88-9983-557E84EB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6CBE107-1F88-4E46-84B7-03A1A4F66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CCD4-5D0B-4BF5-89EE-4470C5E4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010EA-C876-40C6-A80E-0BEF4610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6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047DD92-3C58-4230-A416-17C871FE1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0F33F8-4A3B-4960-AF22-16A021545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5F8A51B-A74A-4760-BA5D-23879E5F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19FE5CF-5EB3-437C-90D0-9167C331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5067A00-B8A9-47A8-B60B-0FACEDE8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BCDCDD7-37B2-4A83-A555-A4076EB4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F2EFD35-BBFB-460A-8184-9D56961D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BBDE163-4B6B-4DCC-B82A-A8E4C538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DDEBA22-2888-446F-BE37-241E17BE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AB91862-F671-42B1-9B16-9AE127CD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8E869-23E7-4F90-994F-9B4C7E6C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4EE367C-D661-4F78-8D31-A2767F7B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79464C0-D664-4DAD-BCFA-5745E2CB3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6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7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A116D94-A007-48E2-A4FC-141FD23E2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8E0FF7D-9301-4511-A6E6-4458932DB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EBF1D03-2309-4B52-AA88-007580F6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4CE01E2-A6A2-4BE3-8F11-5629A635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19B5BEE-E30A-42E7-9676-5DA90E21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BAE993A-72A3-4210-8C04-DAD1E140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DD1C4CA-AF46-47C9-9BE4-B9A61B72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F288173-F62F-4DDC-81FB-B7FA0FF4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86477-B280-45AE-9BB1-842F6526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5E9BDD3-8F43-4CE8-972F-6F3220DF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ED907CB-2E6F-4499-946A-EB8206B8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D872734-DE10-43FC-83C8-339BC609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CD7C40D-6FAA-4670-9151-4640FDFDD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7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BBC2AC3-5691-4439-8645-2FE2DC84E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DBBD52A-BA9B-44D0-95B8-89FC3CD4C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E73FADD-8ECC-4061-ABC6-9FC5AD2D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C92A808-3699-4F7B-920D-180EF2EE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3BE92AE-130B-479B-AFC9-70756932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FA233A0-1484-42D7-B459-FDBEF2EF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ED9AC-409F-4982-8ECA-3CB76723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F7CC932-BF1F-4F2C-B357-D48F0E7C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F26E82F-1810-4EC0-BBC0-7AD55694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F04806A-86B6-4E94-BD42-A4A63D88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81EE2B0-4976-49E3-B87C-E1767DCE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E133A20-CB16-4365-9B77-74224679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9A831A9-3901-4B29-BFAE-E55C5592E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A87E516-BD5E-4394-A76B-927E903F3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D9BC1F4-05CA-4B5F-8692-D066F665D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FA7540C-2972-4F3C-990A-A9C2C155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97BC953-C3D9-485C-828D-5D53CBDC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C8948-A605-4B45-9E8C-760A15B1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3EA41BA-5E2A-4869-B666-B180B87E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3052C8B-6AFF-43EA-A571-27E3AF79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4D94535-CB5B-4299-B986-0D126770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F9142C9-3075-4E63-B8EF-A66ECE96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60F2FE9-4BBF-444F-9AE8-881F2D8D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673A429-88C8-4AC5-BB56-044BA318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5FBA344-6D3D-42D7-9ECB-1BE480A9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3861537-9B3E-4B55-A609-DD5AE6195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9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0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D8EB92B-0798-496C-859B-83024963E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1CDD280-049E-45B6-8953-3BA93AF8B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A908C-BBB1-41CD-BA1D-1759E0B18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E0D566D-921E-4DE1-A3E4-7FB35F1B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93F6FFB-062D-4044-A147-2819288B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FC45C69-5AB9-4D35-8902-CF2EFE92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A0A3C06-C5F7-4AF8-82FA-EDE39EDF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B8FEE41-A924-4F28-89E6-9B9BCE02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43B7EB4-920D-4211-8850-705CD99C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800C7B7-0709-49A7-A17C-A50AE8FC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006CD08-0B3B-4A52-8DDC-C694C23C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5197262-CEF1-40BA-8065-E2E68358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2FE4AB6-A15C-410C-8F25-09E4159F5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BA2A2-E0D9-4916-A578-F5BBFE7D5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1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D7A1D6C-97DC-425E-B769-CBCCFCB6B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086CD0A-389C-43BF-AB67-6400A300B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7DDE4A4-CF16-43C3-B176-3808CD18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A8F9FA6-8725-40A9-9E50-5A6FE047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BF21BAB-CDEB-4848-B077-11D9FCB2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5813499-6B43-4B49-AAA4-DD42E674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03F6B2C-E3C5-48F3-B0CD-9BC716D5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60FD77B-586C-4C8F-87E6-2F604AC2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944D470-8485-479F-8DFB-2133D641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793BD9A-D6A8-42AB-944A-D8594B90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AB2B0-AB87-4A9B-ADA1-CDC217D14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F580405-69C0-4FE0-8525-41BD9AD8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99D9F63-E218-4DA1-811E-58212732B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47BB097-E509-4125-BF8C-2B0EF8B29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6FC2A4A-A23D-48C2-A268-EBAF5CFC6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294404B-8F80-4381-98C0-E2FBD3B8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61BABC0-E1CD-4A70-8F2C-9EB5D349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D50784D-C94F-4748-A5C3-37ECDDFD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93D75BD-5939-4AE7-A14D-FD05F48A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A7D6034-71C8-463F-8657-0A09B4EF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821C847-59A3-412F-8105-C24E85CA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397E4-8E11-461F-ABA8-E34C18C9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95BC885-5793-4364-B478-8BBF9B39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D258C50-E19D-4D6F-9624-33D916A1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6FFDDEF-F523-4FC1-B96F-EA62A277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A41921A-9967-4E64-920B-044E2258F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9F53C8D-FE5E-4BB1-9614-B525B48BF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FE37385-E243-4452-B497-4E5E4954D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C90BE9A-732D-4389-93DD-74E67CBD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2ACD448-80FD-40F8-A829-9AACA6F5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E68D742-56B3-4D5F-857F-5FE7DC98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898302C-155F-480D-8E34-49542CE3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3F722-15BD-4C58-A228-9825BA77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5E72FA2-C324-4814-89A3-D7F606D1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D5FADDF-663D-4987-ACAF-49AAE888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95295D7-4952-4D62-8170-19539167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EADF4A8-BBA7-4AA1-B169-126590E7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A9ED1B0-46C5-49EF-A39E-1E0F8B0E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70376EF-51C3-4347-98EB-990D1707A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2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3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4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B6C42E8-90F5-4A20-9FAD-27E71E9CC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B1CE604-4CFA-468C-A50E-4821A26B4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225A3F3-243C-48D9-A9E1-5B6859A8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12F0DBC-D138-4B12-8046-DBEFB236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5701-B490-4AF5-A6E9-56908A66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32037-0DB2-4038-9EAA-F3E97748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AA1853D-F3AD-49B4-A553-EC9DF6A4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0F894C7-B04B-4C0F-90AD-3CE71B96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820991F-C3EC-45A5-96B3-E60231B6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90A960A-2965-469B-B1FA-0277FF98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E3416EF-BDA3-4FF2-8421-7A96A31B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2F53AFE-7908-4A3A-9B54-17C061F7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33A21E3-0184-483E-989A-CC23D5ED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34FA032-2E09-4FA4-AEEB-079DFB953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3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4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5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34357F5-3591-4D02-9DB7-4AAE920C1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65C8F4C-471E-4A14-B605-0FB7F96B9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0F074-745C-46A4-876D-63592567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5A52E51-7F74-4C16-AE34-FD3BF6FB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C2024F2-8D67-4265-A99A-B2C83E14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7015316-7257-409A-BDA7-FE05FACE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B9CDF2E-8522-4522-A731-DE2642E1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E3C898E-5C7D-4BA8-9BD9-AA4FD883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19CC6F0-B000-451D-81A1-02C8812B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3838A3E-E138-44CB-8D23-F00CFED1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90464E5-DBED-4E2B-9AF9-D789E884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7B77FFE-F7A1-4033-AF79-1CBD65BD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FCBB0E3-E309-4568-95A3-A84802141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491F3-7C77-4390-82B8-4472CD9B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4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5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7A51D24-62DB-498A-A6C8-48F58D1DB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CAA85A4-2D31-4DC8-8890-B6E37D709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BDD18CF-9EE9-4B9A-B74E-C915B5C9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82D08D7-26A0-4F57-960A-FC25256C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1D213DC-B4C4-49F5-8A22-81ADCF1D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EA52F94-18A7-483D-B6C2-8D294E93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D71723C-5020-4AA4-804D-AFE15ABC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D2DE0F3-A088-440C-988E-16870885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827026C-5F9F-48D8-BB34-A8B7D33D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DD28D80-F606-4ED2-80A8-986788ED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12341-8882-4E3C-8701-ABB0C68D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C2904F6-EFF0-417E-8B3D-EBB23178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0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DF35879-D09D-482A-8E71-ECB5D3678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6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7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374BBFE-C874-4A61-A8D3-F9476DA23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9ADF1D1-59C9-4282-B334-B945093CE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1A2A606-F85D-41D2-9B13-70C182F0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1DE1956-77F6-40C0-8C16-2DCB1836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0F323BF-073F-480F-88AD-27A30FBF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F493609-3774-4C48-844A-C6C2706E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CB6F2C6-9BA1-43F0-B248-9A57F1E5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A98869F-D66A-46F4-ADCC-B2E9B585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54C4E-C4EF-4829-AFE2-7DE7E12B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DD1084E-FBCE-4498-A7BE-26203AA4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A4A0F17-A988-45B2-88BA-8573F1AF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EE88251-4A9B-4270-87CA-1A3656FC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1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5D0B4D2-1BB6-4762-8098-F11A892FE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7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8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486E887-9F2C-440F-B17D-ABD80E344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FC1ACE1-36F8-46AE-8114-B93C59B84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EEA302F-A1C2-4E8B-A0EF-5A8D09EB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0102DDE-6F05-4BBC-90D5-6FC75C75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95CC4EA-FA64-47E2-86FA-8960443D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DDA14BB-87C2-488D-B0C9-49F70A16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A4102-ED9D-46F0-8BC7-F7AF49E5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9D26DE2-FA0D-4573-B226-16A005E3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1C6F358-41F6-40CE-BD07-81B64000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526B438-71B6-432C-888B-EB2C7C07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816951C-E898-4472-92FA-479BF501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F01BA61-5307-4655-A696-1003A0DD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42E6FF7-641A-4BF7-B441-314481231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81B4340-19EB-4106-8B85-275A9AE64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1AC156D-2120-4AD6-8AB8-565C142F6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1712BCC-8A8B-48EE-8A1D-41F43689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10419F1-DDAB-4781-841D-DBDBAA8D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C5FDF-3B5A-4B67-BA86-FC80C7B0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4D0AD4F-9F0D-4646-9C3C-9A4B79E1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79C72DF-AFFE-4FC5-9A5B-A2CFDDF7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C906ECA-4625-434B-B555-AEB5CFE4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DEC18F3-6684-42CA-9E81-9C6DD2D9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E80E869-A11B-4A08-BAAE-A5AC0EA7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B292AE6-74E9-4E72-8BF6-6DBDFD92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C34AF26-1421-45F5-9BE0-A1EE86AA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544CD02-EDA4-43C2-8F79-CB889EA33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7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8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9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0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FA9E9F4-805B-4F46-BA3E-4057024DC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C4C06A8-B39A-488C-B0B3-16BD4F7B8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1D4E0-871F-49C9-A439-479EF5F34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CBD35C4-F04A-455A-BDB5-13538ABF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B4A52EB-7F37-415B-B723-B5F00B1A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D6ECD37-111A-40A1-A12C-4DCA68DC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60BF539-D4F0-4FE8-B1D3-63A6AD4F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048BD3C-E8F2-4930-A08B-82CD3FA6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2FCC9B9-2688-4FFC-85AA-28E339AC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3E6D0AC-F53F-4D05-B92B-BE8DF688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4543FF2-00E3-4FAC-8661-A6EA93AA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69979CC-A041-4E02-AD9A-74EE311F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4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DE8CCE6-B484-4D59-81FF-3FC5DE314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821EF-5070-417A-AEE3-8A76EC409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9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0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1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31813C0-F202-47E7-84D3-D742759AF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C202E93-0AAE-47BF-B864-ABEF15D82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EF48B72-9A59-47A8-A75A-E331948E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4CB015A-101F-403B-B3F3-9F8556C7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D275C46-C61D-4F24-8482-B598DA67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AB6F81C-CEB5-439A-9EC0-CD53CD73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CFDA3B1-DD8E-441C-9A6C-AAB16FEA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9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2EF63EF-C8D6-4DB4-8AC5-E8C87A0A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3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031A30D-A0FD-4916-B782-970F2B72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FF0634D-CF13-4D39-BBE9-712ECB15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CD611-AFD2-4FDC-97E1-41C5F0059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E427EFA-90AF-4E0D-BE2F-3E6480BE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5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5AEDCEB-D1AC-445D-8813-35A1B45D7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9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0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1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2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37F9EF0-7154-49D4-B06D-1403D6705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947EB6D-6D35-442A-A52A-B8F9E119B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EEEB065-8F85-4DB6-BD68-9760EFC3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F964D8D-47F8-44DD-A648-7037DFD1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733AC4B-92C5-4B5A-BCC2-0959111B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545E9C7-AF44-4ED7-A267-17104228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C459488-7107-45AD-9AFA-E94C9F4D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A00837C-D00B-4CAA-A45E-6B80B9B2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3E5E-6A2F-4643-89F6-34BFD727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F03FD-4D78-4EFB-99B0-E8571A10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9FC80D5-6F49-496B-9D26-3545A16A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5DDF864-AB8E-43D8-90C0-44728688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C60202C-DB83-48E2-A4FA-1E896694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6A8D8CC-7F72-4F65-B616-CEC68632F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13A2F89-07A9-4A62-885F-D848C55CD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39A6C-740D-4DED-A36E-275CA872C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13FA1-9695-497B-B583-BF525DD9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2F189-8424-44D8-93FC-F9A86D61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E4AD7-6290-4579-A93F-DA0362D6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9DC1F-621E-4731-A145-7F72991E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13DFB-CE51-46ED-8CB4-676A265A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AB08B-A925-45EC-BCF6-1EF42496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F7B9D-1B1F-4B9C-BD7E-9547F5A8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FE9BA-0D25-4149-8887-7B717590C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0046-A9C2-46EE-B742-3B2B9114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BADB5-27C2-4C0E-965A-C08AE828B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8ADCE-3E2E-4E8B-8AE0-7E2557EA2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84753-7033-4033-973F-85AB1D78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C82B7-5ABC-43CA-BE1C-B98F3746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5A302-5AB0-4A32-9E00-8F5FA56A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6B9F9-1791-4673-8FC5-44A5647B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0F5E5-415A-47AC-B77D-52512C64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A56E6-D713-4F2B-9D68-EBB2DB78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5E265-CB78-457B-9771-48D1F9E5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9DBD0-49D0-4ECA-8982-908D0CC3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C319-30DD-44A7-908B-AE7280EE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4ECD6-4FCA-4C77-8075-BF4815AD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36EDA-DB99-497D-9B68-4F3DD5D7B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235EB-CD98-4299-A12E-DF79982B8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A00C3-F738-4569-8134-FD290843E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710A3-51CA-4A19-90B9-50D7698E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2A057-D363-4A4F-9DB4-FA6DBA3F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CDC03-C5A6-4A28-BFC8-A3C5038B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49F47-57F9-489D-A37D-D0559563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FBABF-BACF-4EA7-B500-0380AD2A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89A5D-A6E1-49A2-9178-6D5465D2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3AAC-F110-433C-954B-31F8FE9E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CE4DB-34B1-4DFA-B533-5BCDA7E5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8F1C2-7F4C-411D-867F-46A791B5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F2EA9-5186-4F9F-90A7-C0205E18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A2E22-906F-4F18-8A88-E3F7FAA26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7020E-C0CC-425A-8402-6BCC31D49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F6C66-E982-46B1-B344-502C8E7DC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828D2-09F3-4A43-9A03-C585E250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87F48-BA30-4A9E-8ABC-26FD33BD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9346A-064A-4BB5-A085-F5AA127B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87110-C2FE-4879-B81F-9C10EF23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6E10-CB0A-47DC-B389-48B95EA2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ED283-BBF2-43A2-A21E-47407347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18E44-4FAB-4965-905A-F93A6369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999E1-F317-4073-9761-26093B71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A8D8E-DEED-4ECF-B35B-846E9798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53786-7C39-4833-ADD7-DA3AEE32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09BDC-0EEB-46B7-8FDC-10179115C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10F0B-68FD-40FE-9546-98B54BA40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01FE8-407A-42DE-9FF4-723BF343B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A9406-95D7-4133-9DF5-0B77A131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3BA83-8834-4B83-994E-DE3925A6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6145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矩形 6146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" name="矩形 6147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" name="矩形 6148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" name="矩形 6149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" name="矩形 6150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" name="矩形 6151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" name="矩形 6152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" name="矩形 6153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" name="矩形 6154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" name="矩形 6155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" name="矩形 6156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" name="矩形 6157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" name="矩形 6158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" name="矩形 6159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" name="矩形 6160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" name="矩形 6161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" name="矩形 6162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" name="矩形 6163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" name="矩形 6164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" name="矩形 6165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" name="矩形 6166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" name="矩形 6167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" name="矩形 6168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" name="矩形 6169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" name="矩形 6170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" name="矩形 6171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7" name="矩形 6172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8" name="矩形 6173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9" name="矩形 6174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0" name="矩形 6175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1" name="矩形 6176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2" name="矩形 6177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3" name="矩形 6178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4" name="矩形 6179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5" name="矩形 6180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6" name="矩形 6181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7" name="矩形 6182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8" name="矩形 6183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9" name="矩形 6184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0" name="矩形 6185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1" name="矩形 6186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2" name="矩形 6187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3" name="矩形 6188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4" name="矩形 6189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5" name="矩形 6190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6" name="矩形 6191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7" name="矩形 6192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8" name="矩形 6193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9" name="矩形 6194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0" name="矩形 6195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1" name="矩形 6196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2" name="矩形 6197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3" name="矩形 6198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4" name="矩形 6199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5" name="矩形 6200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6" name="矩形 6201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7" name="矩形 6202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8" name="矩形 6203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9" name="矩形 6204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0" name="矩形 6205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1" name="矩形 6206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2" name="矩形 6207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B349-856D-43D5-BCF5-0C89D9B4748B}" type="slidenum">
              <a:rPr b="0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7AB6-8D23-44BE-8959-155EB173A670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20EF-E74B-4DBE-A7C0-6D4CC058AF46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59C7-E775-4C4A-A087-4BCFA263B229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9877-B3DB-4205-B7AF-6107C5BC7B46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6C78-2668-4934-8B3E-6F41E4F21899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C553-A630-4E4C-B032-1B3274D8E1C7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3CDB-6CF9-4126-BACE-429EFD7BED20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4044-0E41-4B25-9736-3A1346217551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60F3-5DE5-40F9-A664-5DB6D79F2430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50A0-AE23-4308-943D-41EEFE77356F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6600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66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66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E788-8A99-4669-9117-EACF70A3D029}" type="slidenum">
              <a:rPr b="0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06A1-1BA2-46B2-9293-97604DC7CF21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3F9A-4149-4E48-9402-6320D3CA501F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1785-FC02-4FAE-B990-16C42E5F31F9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757A-A82C-4658-B974-60F364AC8C2C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3157-F1C2-44D6-8F00-07F3136028EE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2DEC-2955-4439-8610-77F5CB4F9800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 type="dt" idx="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 type="sldNum" idx="7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87C4-C6A7-4C50-8E40-F245684B40E8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 type="dt" idx="7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 type="sldNum" idx="8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FE44-964C-4C88-AE7C-B27C8CD9AAA8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 type="dt" idx="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E03A-F3B8-4FAF-A021-1CCB80885E8F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 type="dt" idx="8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4" name="PlaceHolder 5"/>
          <p:cNvSpPr>
            <a:spLocks noGrp="1"/>
          </p:cNvSpPr>
          <p:nvPr>
            <p:ph type="sldNum" idx="8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4DB1-7DCA-41F4-BFF9-7F50ED4B9AAB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65F0-1188-42FD-A6E3-54271ECB0BDB}" type="slidenum">
              <a:rPr b="0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任意多边形 131078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1" name="直接连接符 131079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 type="dt" idx="8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 type="sldNum" idx="9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7BFF-6CAE-4480-8EB6-1C402082336C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 type="dt" idx="9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 type="sldNum" idx="9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58D9-3BE7-4E6C-A5C2-09F6DED2D11B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 type="dt" idx="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07" name="PlaceHolder 5"/>
          <p:cNvSpPr>
            <a:spLocks noGrp="1"/>
          </p:cNvSpPr>
          <p:nvPr>
            <p:ph type="sldNum" idx="9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ECD4-7822-445F-8955-D8BD80F7DEF8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 type="dt" idx="9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 type="ftr" idx="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 type="sldNum" idx="9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4D56-C824-41DC-84F8-1843DBBB6E46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 type="dt" idx="10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 type="ftr" idx="1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 type="sldNum" idx="10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C8BA-32C1-4E87-ADBE-C283AB4FA7AB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 type="dt" idx="10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 type="ftr" idx="1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30" name="PlaceHolder 5"/>
          <p:cNvSpPr>
            <a:spLocks noGrp="1"/>
          </p:cNvSpPr>
          <p:nvPr>
            <p:ph type="sldNum" idx="10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D209-D05C-4319-8DAF-6DC5152C168F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 type="dt" idx="10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71" name="PlaceHolder 5"/>
          <p:cNvSpPr>
            <a:spLocks noGrp="1"/>
          </p:cNvSpPr>
          <p:nvPr>
            <p:ph type="sldNum" idx="10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5BAB-91DF-4D69-9ACC-B6D7CCCCB9F2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 type="dt" idx="10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11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12" name="PlaceHolder 5"/>
          <p:cNvSpPr>
            <a:spLocks noGrp="1"/>
          </p:cNvSpPr>
          <p:nvPr>
            <p:ph type="sldNum" idx="1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D611-B640-4F40-92B4-072DF40541F2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 type="dt" idx="11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 type="ftr" idx="1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53" name="PlaceHolder 5"/>
          <p:cNvSpPr>
            <a:spLocks noGrp="1"/>
          </p:cNvSpPr>
          <p:nvPr>
            <p:ph type="sldNum" idx="11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67C4-01F7-49A9-83E2-6F5C0191F660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 type="dt" idx="11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 type="ftr" idx="1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94" name="PlaceHolder 5"/>
          <p:cNvSpPr>
            <a:spLocks noGrp="1"/>
          </p:cNvSpPr>
          <p:nvPr>
            <p:ph type="sldNum" idx="11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CDEC-AE40-42F1-9702-7E0CCCBB21A3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1BAA-0212-44B9-BE40-3982EE92B143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 type="dt" idx="11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 type="ftr" idx="1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35" name="PlaceHolder 5"/>
          <p:cNvSpPr>
            <a:spLocks noGrp="1"/>
          </p:cNvSpPr>
          <p:nvPr>
            <p:ph type="sldNum" idx="12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103B-213A-444C-8162-116DE79A7B76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 type="dt" idx="12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 type="ftr" idx="1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76" name="PlaceHolder 5"/>
          <p:cNvSpPr>
            <a:spLocks noGrp="1"/>
          </p:cNvSpPr>
          <p:nvPr>
            <p:ph type="sldNum" idx="12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4BE9-2ED0-455A-B7C0-E6ED07F4EAF1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 type="dt" idx="12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 type="ftr" idx="1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17" name="PlaceHolder 5"/>
          <p:cNvSpPr>
            <a:spLocks noGrp="1"/>
          </p:cNvSpPr>
          <p:nvPr>
            <p:ph type="sldNum" idx="12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446B-8D2D-4C9E-A692-AA752B5BE4B9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6BE2-7E67-4ABF-9A61-6D75D01D8EC9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E2C9-9DEB-4561-AB10-43C4BB36A8CB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组合 69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312" name="组合 7170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313" name="矩形 7171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14" name="矩形 7172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15" name="矩形 7173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16" name="矩形 7174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17" name="矩形 7175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18" name="矩形 7176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19" name="矩形 7177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20" name="矩形 7178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21" name="矩形 7179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22" name="矩形 7180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23" name="矩形 7181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24" name="矩形 7182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25" name="矩形 7183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26" name="矩形 7184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27" name="矩形 7185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28" name="矩形 7186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29" name="矩形 7187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30" name="矩形 7188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31" name="矩形 7189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32" name="矩形 7190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33" name="矩形 7191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34" name="矩形 7192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35" name="矩形 7193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36" name="矩形 7194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37" name="矩形 7195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38" name="矩形 7196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39" name="矩形 7197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0" name="矩形 7198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1" name="矩形 7199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2" name="矩形 7200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3" name="矩形 7201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4" name="矩形 7202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5" name="矩形 7203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6" name="矩形 7204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7" name="矩形 7205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8" name="矩形 7206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49" name="矩形 7207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50" name="矩形 7208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51" name="矩形 7209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52" name="矩形 7210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53" name="矩形 7211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54" name="矩形 7212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55" name="矩形 7213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56" name="矩形 7214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57" name="矩形 7215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58" name="矩形 7216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59" name="矩形 7217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60" name="矩形 7218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61" name="矩形 7219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62" name="矩形 7220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63" name="矩形 7221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64" name="矩形 7222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65" name="矩形 7223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66" name="矩形 7224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67" name="矩形 7225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68" name="矩形 7226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69" name="矩形 7227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70" name="矩形 7228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71" name="矩形 7229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372" name="矩形 7230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373" name="矩形 7231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74" name="矩形 7232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375" name="矩形 7233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BE6C-0A28-4A00-8EA7-93EF9629E7A8}" type="slidenum">
              <a:rPr b="0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6600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66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66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656E-007B-4CC5-A9F3-9998532C721B}" type="slidenum">
              <a:rPr b="0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任意多边形 132102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9" name="直接连接符 132103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6022-8791-485C-81A4-486473AD17F7}" type="slidenum">
              <a:rPr b="0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8.xm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8.xm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" Target="slide4.xml"/><Relationship Id="rId5" Type="http://schemas.openxmlformats.org/officeDocument/2006/relationships/slide" Target="slide21.xml"/><Relationship Id="rId6" Type="http://schemas.openxmlformats.org/officeDocument/2006/relationships/slide" Target="slide8.xml"/><Relationship Id="rId7" Type="http://schemas.openxmlformats.org/officeDocument/2006/relationships/slide" Target="slide18.xml"/><Relationship Id="rId8" Type="http://schemas.openxmlformats.org/officeDocument/2006/relationships/slide" Target="slide28.xml"/><Relationship Id="rId9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slide" Target="slide4.xml"/><Relationship Id="rId5" Type="http://schemas.openxmlformats.org/officeDocument/2006/relationships/slide" Target="slide21.xml"/><Relationship Id="rId6" Type="http://schemas.openxmlformats.org/officeDocument/2006/relationships/slide" Target="slide8.xml"/><Relationship Id="rId7" Type="http://schemas.openxmlformats.org/officeDocument/2006/relationships/slide" Target="slide18.xml"/><Relationship Id="rId8" Type="http://schemas.openxmlformats.org/officeDocument/2006/relationships/slide" Target="slide28.xm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4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4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image" Target="../media/image11.png"/><Relationship Id="rId4" Type="http://schemas.openxmlformats.org/officeDocument/2006/relationships/slide" Target="slide4.xml"/><Relationship Id="rId5" Type="http://schemas.openxmlformats.org/officeDocument/2006/relationships/slide" Target="slide21.xml"/><Relationship Id="rId6" Type="http://schemas.openxmlformats.org/officeDocument/2006/relationships/slide" Target="slide8.xml"/><Relationship Id="rId7" Type="http://schemas.openxmlformats.org/officeDocument/2006/relationships/slide" Target="slide18.xml"/><Relationship Id="rId8" Type="http://schemas.openxmlformats.org/officeDocument/2006/relationships/slide" Target="slide28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文本框 129025"/>
          <p:cNvSpPr/>
          <p:nvPr/>
        </p:nvSpPr>
        <p:spPr>
          <a:xfrm>
            <a:off x="8233200" y="-237600"/>
            <a:ext cx="667800" cy="73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华文新魏"/>
              </a:rPr>
              <a:t>孔子像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  <a:ea typeface="华文新魏"/>
              </a:rPr>
              <a:t>(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华文新魏"/>
              </a:rPr>
              <a:t>台湾故宫博物院藏品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  <a:ea typeface="华文新魏"/>
              </a:rPr>
              <a:t>)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855" name="图片 129026" descr="孔子像"/>
          <p:cNvPicPr/>
          <p:nvPr/>
        </p:nvPicPr>
        <p:blipFill>
          <a:blip r:embed="rId1"/>
          <a:stretch/>
        </p:blipFill>
        <p:spPr>
          <a:xfrm>
            <a:off x="4419720" y="1219320"/>
            <a:ext cx="3674880" cy="4343400"/>
          </a:xfrm>
          <a:prstGeom prst="rect">
            <a:avLst/>
          </a:prstGeom>
          <a:ln w="0">
            <a:noFill/>
          </a:ln>
        </p:spPr>
      </p:pic>
      <p:sp>
        <p:nvSpPr>
          <p:cNvPr id="1856" name="文本框 129027"/>
          <p:cNvSpPr/>
          <p:nvPr/>
        </p:nvSpPr>
        <p:spPr>
          <a:xfrm>
            <a:off x="457200" y="1219320"/>
            <a:ext cx="3733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黑体"/>
                <a:ea typeface="黑体"/>
              </a:rPr>
              <a:t>　  </a:t>
            </a:r>
            <a:r>
              <a:rPr b="1" lang="zh-CN" sz="4000" spc="-1" strike="noStrike">
                <a:solidFill>
                  <a:srgbClr val="ff6600"/>
                </a:solidFill>
                <a:latin typeface="黑体"/>
                <a:ea typeface="黑体"/>
              </a:rPr>
              <a:t>俗语说，半部</a:t>
            </a:r>
            <a:r>
              <a:rPr b="1" lang="en-US" sz="4000" spc="-1" strike="noStrike">
                <a:solidFill>
                  <a:srgbClr val="ff6600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ff6600"/>
                </a:solidFill>
                <a:latin typeface="黑体"/>
                <a:ea typeface="黑体"/>
              </a:rPr>
              <a:t>论语</a:t>
            </a:r>
            <a:r>
              <a:rPr b="1" lang="en-US" sz="4000" spc="-1" strike="noStrike">
                <a:solidFill>
                  <a:srgbClr val="ff6600"/>
                </a:solidFill>
                <a:latin typeface="黑体"/>
                <a:ea typeface="黑体"/>
              </a:rPr>
              <a:t>》</a:t>
            </a:r>
            <a:r>
              <a:rPr b="1" lang="zh-CN" sz="4000" spc="-1" strike="noStrike">
                <a:solidFill>
                  <a:srgbClr val="ff6600"/>
                </a:solidFill>
                <a:latin typeface="黑体"/>
                <a:ea typeface="黑体"/>
              </a:rPr>
              <a:t>治天下，今天这节课我们一起来学习选自</a:t>
            </a:r>
            <a:r>
              <a:rPr b="1" lang="en-US" sz="4000" spc="-1" strike="noStrike">
                <a:solidFill>
                  <a:srgbClr val="ff6600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ff6600"/>
                </a:solidFill>
                <a:latin typeface="黑体"/>
                <a:ea typeface="黑体"/>
              </a:rPr>
              <a:t>论语 先进</a:t>
            </a:r>
            <a:r>
              <a:rPr b="1" lang="en-US" sz="4000" spc="-1" strike="noStrike">
                <a:solidFill>
                  <a:srgbClr val="ff6600"/>
                </a:solidFill>
                <a:latin typeface="黑体"/>
                <a:ea typeface="黑体"/>
              </a:rPr>
              <a:t>》</a:t>
            </a:r>
            <a:r>
              <a:rPr b="1" lang="zh-CN" sz="4000" spc="-1" strike="noStrike">
                <a:solidFill>
                  <a:srgbClr val="ff6600"/>
                </a:solidFill>
                <a:latin typeface="黑体"/>
                <a:ea typeface="黑体"/>
              </a:rPr>
              <a:t>中的一篇文章。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324000" y="1916280"/>
            <a:ext cx="816264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</a:rPr>
              <a:t>冉有（求）：</a:t>
            </a:r>
            <a:endParaRPr b="0" lang="en-US" sz="4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228600" y="238716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3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ff0000"/>
                </a:solidFill>
                <a:latin typeface="Verdana"/>
              </a:rPr>
              <a:t>方</a:t>
            </a:r>
            <a:r>
              <a:rPr b="1" sz="3600" spc="-1" strike="noStrike">
                <a:solidFill>
                  <a:srgbClr val="000000"/>
                </a:solidFill>
                <a:latin typeface="Verdana"/>
              </a:rPr>
              <a:t>六七十，</a:t>
            </a:r>
            <a:r>
              <a:rPr b="1" sz="3600" spc="-1" strike="noStrike">
                <a:solidFill>
                  <a:srgbClr val="ff0000"/>
                </a:solidFill>
                <a:latin typeface="Verdana"/>
              </a:rPr>
              <a:t>如</a:t>
            </a:r>
            <a:r>
              <a:rPr b="1" sz="3600" spc="-1" strike="noStrike">
                <a:solidFill>
                  <a:srgbClr val="000000"/>
                </a:solidFill>
                <a:latin typeface="Verdana"/>
              </a:rPr>
              <a:t>五六十，求也</a:t>
            </a:r>
            <a:r>
              <a:rPr b="1" sz="3600" spc="-1" strike="noStrike">
                <a:solidFill>
                  <a:srgbClr val="ff0000"/>
                </a:solidFill>
                <a:latin typeface="Verdana"/>
              </a:rPr>
              <a:t>为</a:t>
            </a:r>
            <a:r>
              <a:rPr b="1" sz="3600" spc="-1" strike="noStrike">
                <a:solidFill>
                  <a:srgbClr val="000000"/>
                </a:solidFill>
                <a:latin typeface="Verdana"/>
              </a:rPr>
              <a:t>之，比及三年，可使</a:t>
            </a:r>
            <a:r>
              <a:rPr b="1" sz="3600" spc="-1" strike="noStrike">
                <a:solidFill>
                  <a:srgbClr val="ff0000"/>
                </a:solidFill>
                <a:latin typeface="Verdana"/>
              </a:rPr>
              <a:t>足</a:t>
            </a:r>
            <a:r>
              <a:rPr b="1" sz="3600" spc="-1" strike="noStrike">
                <a:solidFill>
                  <a:srgbClr val="000000"/>
                </a:solidFill>
                <a:latin typeface="Verdana"/>
              </a:rPr>
              <a:t>民。</a:t>
            </a:r>
            <a:r>
              <a:rPr b="1" sz="3600" spc="-1" strike="noStrike">
                <a:solidFill>
                  <a:srgbClr val="ff0000"/>
                </a:solidFill>
                <a:latin typeface="Verdana"/>
              </a:rPr>
              <a:t>如</a:t>
            </a:r>
            <a:r>
              <a:rPr b="1" sz="3600" spc="-1" strike="noStrike">
                <a:solidFill>
                  <a:srgbClr val="000000"/>
                </a:solidFill>
                <a:latin typeface="Verdana"/>
              </a:rPr>
              <a:t>其礼乐，以</a:t>
            </a:r>
            <a:r>
              <a:rPr b="1" sz="3600" spc="-1" strike="noStrike">
                <a:solidFill>
                  <a:srgbClr val="ff0000"/>
                </a:solidFill>
                <a:latin typeface="Verdana"/>
              </a:rPr>
              <a:t>俟</a:t>
            </a:r>
            <a:r>
              <a:rPr b="1" sz="3600" spc="-1" strike="noStrike">
                <a:solidFill>
                  <a:srgbClr val="000000"/>
                </a:solidFill>
                <a:latin typeface="Verdana"/>
              </a:rPr>
              <a:t>君子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8" name="文本框 102405"/>
          <p:cNvSpPr/>
          <p:nvPr/>
        </p:nvSpPr>
        <p:spPr>
          <a:xfrm>
            <a:off x="228600" y="360684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ff"/>
                </a:solidFill>
                <a:latin typeface="Verdana"/>
              </a:rPr>
              <a:t>方圆、纵横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29" name="文本框 102406"/>
          <p:cNvSpPr/>
          <p:nvPr/>
        </p:nvSpPr>
        <p:spPr>
          <a:xfrm>
            <a:off x="2666880" y="360684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ff"/>
                </a:solidFill>
                <a:latin typeface="Verdana"/>
              </a:rPr>
              <a:t>或者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30" name="文本框 102407"/>
          <p:cNvSpPr/>
          <p:nvPr/>
        </p:nvSpPr>
        <p:spPr>
          <a:xfrm>
            <a:off x="1600200" y="4902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ff"/>
                </a:solidFill>
                <a:latin typeface="Verdana"/>
              </a:rPr>
              <a:t>使</a:t>
            </a:r>
            <a:r>
              <a:rPr b="1" sz="3200" spc="-1" strike="noStrike">
                <a:solidFill>
                  <a:srgbClr val="0000ff"/>
                </a:solidFill>
                <a:latin typeface="Times New Roman"/>
              </a:rPr>
              <a:t>……</a:t>
            </a:r>
            <a:r>
              <a:rPr b="1" sz="3200" spc="-1" strike="noStrike">
                <a:solidFill>
                  <a:srgbClr val="0000ff"/>
                </a:solidFill>
                <a:latin typeface="Verdana"/>
              </a:rPr>
              <a:t>富足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31" name="文本框 102408"/>
          <p:cNvSpPr/>
          <p:nvPr/>
        </p:nvSpPr>
        <p:spPr>
          <a:xfrm>
            <a:off x="4267080" y="4902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ff"/>
                </a:solidFill>
                <a:latin typeface="Verdana"/>
              </a:rPr>
              <a:t>至于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32" name="文本框 102409"/>
          <p:cNvSpPr/>
          <p:nvPr/>
        </p:nvSpPr>
        <p:spPr>
          <a:xfrm>
            <a:off x="6934320" y="49021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ff"/>
                </a:solidFill>
                <a:latin typeface="Verdana"/>
              </a:rPr>
              <a:t>等待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33" name="动作按钮: 后退或前一项 102412">
            <a:hlinkClick r:id="" action="ppaction://hlinkshowjump?jump=previousslide"/>
          </p:cNvPr>
          <p:cNvSpPr/>
          <p:nvPr/>
        </p:nvSpPr>
        <p:spPr>
          <a:xfrm>
            <a:off x="7524720" y="5805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34" name="动作按钮: 前进或下一项 102413">
            <a:hlinkClick r:id="" action="ppaction://hlinkshowjump?jump=nextslide"/>
          </p:cNvPr>
          <p:cNvSpPr/>
          <p:nvPr/>
        </p:nvSpPr>
        <p:spPr>
          <a:xfrm>
            <a:off x="7956720" y="5805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6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35" name="动作按钮: 上一张 102414">
            <a:hlinkClick r:id="rId2" action="ppaction://hlinksldjump"/>
          </p:cNvPr>
          <p:cNvSpPr/>
          <p:nvPr/>
        </p:nvSpPr>
        <p:spPr>
          <a:xfrm>
            <a:off x="8388360" y="5805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66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936" name="图片 102415" descr="图片3"/>
          <p:cNvPicPr/>
          <p:nvPr/>
        </p:nvPicPr>
        <p:blipFill>
          <a:blip r:embed="rId3"/>
          <a:stretch/>
        </p:blipFill>
        <p:spPr>
          <a:xfrm>
            <a:off x="3059280" y="549360"/>
            <a:ext cx="2876400" cy="828720"/>
          </a:xfrm>
          <a:prstGeom prst="rect">
            <a:avLst/>
          </a:prstGeom>
          <a:ln w="0">
            <a:noFill/>
          </a:ln>
        </p:spPr>
      </p:pic>
      <p:sp>
        <p:nvSpPr>
          <p:cNvPr id="1937" name="文本框 102416"/>
          <p:cNvSpPr/>
          <p:nvPr/>
        </p:nvSpPr>
        <p:spPr>
          <a:xfrm>
            <a:off x="6032880" y="3573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ff"/>
                </a:solidFill>
                <a:latin typeface="Times New Roman"/>
              </a:rPr>
              <a:t>治理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588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光粗黑_CNKI"/>
                <a:ea typeface="华光粗黑_CNKI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华光粗黑_CNKI"/>
                <a:ea typeface="华光粗黑_CNKI"/>
              </a:rPr>
              <a:t>求，尔何如？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光粗黑_CNKI"/>
                <a:ea typeface="华光粗黑_CNKI"/>
              </a:rPr>
              <a:t>    对曰：“</a:t>
            </a:r>
            <a:r>
              <a:rPr b="1" lang="zh-CN" sz="2800" spc="-1" strike="noStrike">
                <a:solidFill>
                  <a:srgbClr val="ff3300"/>
                </a:solidFill>
                <a:latin typeface="华光粗黑_CNKI"/>
                <a:ea typeface="华光粗黑_CNKI"/>
              </a:rPr>
              <a:t>方</a:t>
            </a:r>
            <a:r>
              <a:rPr b="1" lang="zh-CN" sz="2800" spc="-1" strike="noStrike">
                <a:solidFill>
                  <a:srgbClr val="000000"/>
                </a:solidFill>
                <a:latin typeface="华光粗黑_CNKI"/>
                <a:ea typeface="华光粗黑_CNKI"/>
              </a:rPr>
              <a:t>六七十，</a:t>
            </a:r>
            <a:r>
              <a:rPr b="1" lang="zh-CN" sz="2800" spc="-1" strike="noStrike">
                <a:solidFill>
                  <a:srgbClr val="ff3300"/>
                </a:solidFill>
                <a:latin typeface="华光粗黑_CNKI"/>
                <a:ea typeface="华光粗黑_CNKI"/>
              </a:rPr>
              <a:t>如</a:t>
            </a:r>
            <a:r>
              <a:rPr b="1" lang="zh-CN" sz="2800" spc="-1" strike="noStrike">
                <a:solidFill>
                  <a:srgbClr val="000000"/>
                </a:solidFill>
                <a:latin typeface="华光粗黑_CNKI"/>
                <a:ea typeface="华光粗黑_CNKI"/>
              </a:rPr>
              <a:t>五六十，求也为之，比及三年，可使</a:t>
            </a:r>
            <a:r>
              <a:rPr b="1" lang="zh-CN" sz="2800" spc="-1" strike="noStrike">
                <a:solidFill>
                  <a:srgbClr val="ff3300"/>
                </a:solidFill>
                <a:latin typeface="华光粗黑_CNKI"/>
                <a:ea typeface="华光粗黑_CNKI"/>
              </a:rPr>
              <a:t>足</a:t>
            </a:r>
            <a:r>
              <a:rPr b="1" lang="zh-CN" sz="2800" spc="-1" strike="noStrike">
                <a:solidFill>
                  <a:srgbClr val="000000"/>
                </a:solidFill>
                <a:latin typeface="华光粗黑_CNKI"/>
                <a:ea typeface="华光粗黑_CNKI"/>
              </a:rPr>
              <a:t>民。</a:t>
            </a:r>
            <a:r>
              <a:rPr b="1" lang="zh-CN" sz="2800" spc="-1" strike="noStrike">
                <a:solidFill>
                  <a:srgbClr val="ff3300"/>
                </a:solidFill>
                <a:latin typeface="华光粗黑_CNKI"/>
                <a:ea typeface="华光粗黑_CNKI"/>
              </a:rPr>
              <a:t>如</a:t>
            </a:r>
            <a:r>
              <a:rPr b="1" lang="zh-CN" sz="2800" spc="-1" strike="noStrike">
                <a:solidFill>
                  <a:srgbClr val="3333cc"/>
                </a:solidFill>
                <a:latin typeface="华光粗黑_CNKI"/>
                <a:ea typeface="华光粗黑_CNKI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华光粗黑_CNKI"/>
                <a:ea typeface="华光粗黑_CNKI"/>
              </a:rPr>
              <a:t>礼乐，以</a:t>
            </a:r>
            <a:r>
              <a:rPr b="1" lang="zh-CN" sz="2800" spc="-1" strike="noStrike">
                <a:solidFill>
                  <a:srgbClr val="ff3300"/>
                </a:solidFill>
                <a:latin typeface="华光粗黑_CNKI"/>
                <a:ea typeface="华光粗黑_CNKI"/>
              </a:rPr>
              <a:t>俟</a:t>
            </a:r>
            <a:r>
              <a:rPr b="1" lang="zh-CN" sz="2800" spc="-1" strike="noStrike">
                <a:solidFill>
                  <a:srgbClr val="000000"/>
                </a:solidFill>
                <a:latin typeface="华光粗黑_CNKI"/>
                <a:ea typeface="华光粗黑_CNKI"/>
              </a:rPr>
              <a:t>君子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 txBox="1"/>
          <p:nvPr/>
        </p:nvSpPr>
        <p:spPr>
          <a:xfrm>
            <a:off x="152280" y="18284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计算面积的单位，纵横各一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连词，或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足</a:t>
            </a:r>
            <a:r>
              <a:rPr b="0" lang="zh-CN" sz="3200" spc="-1" strike="noStrike">
                <a:solidFill>
                  <a:srgbClr val="009900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形容词使动用法，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富足</a:t>
            </a:r>
            <a:r>
              <a:rPr b="0" lang="zh-CN" sz="3200" spc="-1" strike="noStrike">
                <a:solidFill>
                  <a:srgbClr val="009900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如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连词，至于。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等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翻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冉求，你怎么样啊？”  冉求回答说：“一个纵横六七十里，或者五六十里的国家，如果让我去治理，等待三年，可以使人民富足起来。至于礼乐教化，（自己的能力是不够的）只好等待着修养更高的君子来推行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9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9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9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微软雅黑"/>
                <a:ea typeface="微软雅黑"/>
              </a:rPr>
              <a:t>"</a:t>
            </a:r>
            <a:r>
              <a:rPr b="1" lang="zh-CN" sz="37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赤，尔何如</a:t>
            </a:r>
            <a:r>
              <a:rPr b="1" lang="zh-CN" sz="3700" spc="-1" strike="noStrike">
                <a:solidFill>
                  <a:srgbClr val="000000"/>
                </a:solidFill>
                <a:latin typeface="微软雅黑"/>
                <a:ea typeface="微软雅黑"/>
              </a:rPr>
              <a:t>?"</a:t>
            </a:r>
            <a:br>
              <a:rPr sz="3700"/>
            </a:br>
            <a:r>
              <a:rPr b="1" lang="zh-CN" sz="37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曰</a:t>
            </a:r>
            <a:r>
              <a:rPr b="1" lang="zh-CN" sz="3700" spc="-1" strike="noStrike">
                <a:solidFill>
                  <a:srgbClr val="000000"/>
                </a:solidFill>
                <a:latin typeface="微软雅黑"/>
                <a:ea typeface="微软雅黑"/>
              </a:rPr>
              <a:t>:"</a:t>
            </a:r>
            <a:r>
              <a:rPr b="1" lang="zh-CN" sz="37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非曰能之，愿学焉。</a:t>
            </a:r>
            <a:r>
              <a:rPr b="1" lang="zh-CN" sz="3700" spc="-1" strike="noStrike">
                <a:solidFill>
                  <a:srgbClr val="ff0000"/>
                </a:solidFill>
                <a:latin typeface="微软雅黑"/>
                <a:ea typeface="微软雅黑"/>
              </a:rPr>
              <a:t>宗庙之事</a:t>
            </a:r>
            <a:r>
              <a:rPr b="1" lang="zh-CN" sz="37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1" lang="zh-CN" sz="3700" spc="-1" strike="noStrike">
                <a:solidFill>
                  <a:srgbClr val="ff0000"/>
                </a:solidFill>
                <a:latin typeface="微软雅黑"/>
                <a:ea typeface="微软雅黑"/>
              </a:rPr>
              <a:t>如会同</a:t>
            </a:r>
            <a:r>
              <a:rPr b="1" lang="zh-CN" sz="37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1" lang="zh-CN" sz="3700" spc="-1" strike="noStrike">
                <a:solidFill>
                  <a:srgbClr val="ff0000"/>
                </a:solidFill>
                <a:latin typeface="微软雅黑"/>
                <a:ea typeface="微软雅黑"/>
              </a:rPr>
              <a:t>端章甫</a:t>
            </a:r>
            <a:r>
              <a:rPr b="1" lang="zh-CN" sz="37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1" lang="zh-CN" sz="3700" spc="-1" strike="noStrike">
                <a:solidFill>
                  <a:srgbClr val="ff0000"/>
                </a:solidFill>
                <a:latin typeface="微软雅黑"/>
                <a:ea typeface="微软雅黑"/>
              </a:rPr>
              <a:t>愿为小相</a:t>
            </a:r>
            <a:r>
              <a:rPr b="1" lang="zh-CN" sz="3700" spc="-1" strike="noStrike">
                <a:solidFill>
                  <a:srgbClr val="000000"/>
                </a:solidFill>
                <a:latin typeface="微软雅黑"/>
                <a:ea typeface="微软雅黑"/>
              </a:rPr>
              <a:t>焉。</a:t>
            </a:r>
            <a:r>
              <a:rPr b="1" lang="zh-CN" sz="3700" spc="-1" strike="noStrike">
                <a:solidFill>
                  <a:srgbClr val="000000"/>
                </a:solidFill>
                <a:latin typeface="微软雅黑"/>
                <a:ea typeface="微软雅黑"/>
              </a:rPr>
              <a:t>"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 txBox="1"/>
          <p:nvPr/>
        </p:nvSpPr>
        <p:spPr>
          <a:xfrm>
            <a:off x="23760" y="2359080"/>
            <a:ext cx="4687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8360" indent="-1983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宗庙之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指诸侯的祭祀活动。祭祖必在宗庙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祖庙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故以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宗庙之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泛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或者，连词，表示选择关系。会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诸侯会盟。会，诸侯相见。同，诸侯共同朝见天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端章甫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穿着礼服，戴着礼帽。端，礼服。章甫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礼帽。在这里都是名词活用作动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愿为小相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希望成为赞礼人。小相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赞礼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 txBox="1"/>
          <p:nvPr/>
        </p:nvSpPr>
        <p:spPr>
          <a:xfrm>
            <a:off x="4797360" y="2359080"/>
            <a:ext cx="4346640" cy="430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公西华，你怎么样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?"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公西华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回答说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:"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我不敢说能做到什么，只是愿意学习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宗庙祭祀的工作，或者是诸侯会盟，朝见天子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我愿意穿着礼服，戴着礼帽，做一个小小的赞礼人。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9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9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19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8" dur="500"/>
                                        <p:tgtEl>
                                          <p:spTgt spid="19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9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9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9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9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9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9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394920" y="119664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Verdana"/>
              </a:rPr>
              <a:t>曾皙（点）：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2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Verdana"/>
              </a:rPr>
              <a:t>鼓瑟</a:t>
            </a:r>
            <a:r>
              <a:rPr b="1" sz="3200" spc="-1" strike="noStrike">
                <a:solidFill>
                  <a:srgbClr val="ff0000"/>
                </a:solidFill>
                <a:latin typeface="Verdana"/>
              </a:rPr>
              <a:t>希，铿</a:t>
            </a:r>
            <a:r>
              <a:rPr b="1" sz="3200" spc="-1" strike="noStrike">
                <a:solidFill>
                  <a:srgbClr val="000000"/>
                </a:solidFill>
                <a:latin typeface="Verdana"/>
              </a:rPr>
              <a:t>尔</a:t>
            </a:r>
            <a:r>
              <a:rPr b="1" sz="3200" spc="-1" strike="noStrike">
                <a:solidFill>
                  <a:srgbClr val="ff0000"/>
                </a:solidFill>
                <a:latin typeface="Verdana"/>
              </a:rPr>
              <a:t>，</a:t>
            </a:r>
            <a:r>
              <a:rPr b="1" sz="3200" spc="-1" strike="noStrike">
                <a:solidFill>
                  <a:srgbClr val="000000"/>
                </a:solidFill>
                <a:latin typeface="Verdana"/>
              </a:rPr>
              <a:t>舍瑟而</a:t>
            </a:r>
            <a:r>
              <a:rPr b="1" sz="3200" spc="-1" strike="noStrike">
                <a:solidFill>
                  <a:srgbClr val="ff0000"/>
                </a:solidFill>
                <a:latin typeface="Verdana"/>
              </a:rPr>
              <a:t>作，</a:t>
            </a:r>
            <a:r>
              <a:rPr b="1" sz="3200" spc="-1" strike="noStrike">
                <a:solidFill>
                  <a:srgbClr val="000000"/>
                </a:solidFill>
                <a:latin typeface="Verdana"/>
              </a:rPr>
              <a:t>对曰：”</a:t>
            </a:r>
            <a:r>
              <a:rPr b="1" sz="3200" spc="-1" strike="noStrike">
                <a:solidFill>
                  <a:srgbClr val="ff0000"/>
                </a:solidFill>
                <a:latin typeface="Verdana"/>
              </a:rPr>
              <a:t>异</a:t>
            </a:r>
            <a:r>
              <a:rPr b="1" sz="3200" spc="-1" strike="noStrike">
                <a:solidFill>
                  <a:srgbClr val="000000"/>
                </a:solidFill>
                <a:latin typeface="Verdana"/>
              </a:rPr>
              <a:t>乎三子者之</a:t>
            </a:r>
            <a:r>
              <a:rPr b="1" sz="3200" spc="-1" strike="noStrike">
                <a:solidFill>
                  <a:srgbClr val="ff0000"/>
                </a:solidFill>
                <a:latin typeface="Verdana"/>
              </a:rPr>
              <a:t>撰</a:t>
            </a:r>
            <a:r>
              <a:rPr b="1" sz="3200" spc="-1" strike="noStrike">
                <a:solidFill>
                  <a:srgbClr val="000000"/>
                </a:solidFill>
                <a:latin typeface="Verdana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2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0000"/>
                </a:solidFill>
                <a:latin typeface="Verdana"/>
              </a:rPr>
              <a:t>莫</a:t>
            </a:r>
            <a:r>
              <a:rPr b="1" sz="3200" spc="-1" strike="noStrike">
                <a:solidFill>
                  <a:srgbClr val="000000"/>
                </a:solidFill>
                <a:latin typeface="Verdana"/>
              </a:rPr>
              <a:t>春者，春服</a:t>
            </a:r>
            <a:r>
              <a:rPr b="1" sz="3200" spc="-1" strike="noStrike">
                <a:solidFill>
                  <a:srgbClr val="ff0000"/>
                </a:solidFill>
                <a:latin typeface="Verdana"/>
              </a:rPr>
              <a:t>既</a:t>
            </a:r>
            <a:r>
              <a:rPr b="1" sz="3200" spc="-1" strike="noStrike">
                <a:solidFill>
                  <a:srgbClr val="000000"/>
                </a:solidFill>
                <a:latin typeface="Verdana"/>
              </a:rPr>
              <a:t>成，冠者五六人，童子六七人，浴</a:t>
            </a:r>
            <a:r>
              <a:rPr b="1" sz="3200" spc="-1" strike="noStrike">
                <a:solidFill>
                  <a:srgbClr val="ff0000"/>
                </a:solidFill>
                <a:latin typeface="Verdana"/>
              </a:rPr>
              <a:t>乎</a:t>
            </a:r>
            <a:r>
              <a:rPr b="1" sz="3200" spc="-1" strike="noStrike">
                <a:solidFill>
                  <a:srgbClr val="000000"/>
                </a:solidFill>
                <a:latin typeface="Verdana"/>
              </a:rPr>
              <a:t>沂，</a:t>
            </a:r>
            <a:r>
              <a:rPr b="1" sz="3200" spc="-1" strike="noStrike">
                <a:solidFill>
                  <a:srgbClr val="ff0000"/>
                </a:solidFill>
                <a:latin typeface="Verdana"/>
              </a:rPr>
              <a:t>风</a:t>
            </a:r>
            <a:r>
              <a:rPr b="1" sz="3200" spc="-1" strike="noStrike">
                <a:solidFill>
                  <a:srgbClr val="000000"/>
                </a:solidFill>
                <a:latin typeface="Verdana"/>
              </a:rPr>
              <a:t>乎</a:t>
            </a:r>
            <a:r>
              <a:rPr b="1" sz="3200" spc="-1" strike="noStrike">
                <a:solidFill>
                  <a:srgbClr val="000000"/>
                </a:solidFill>
                <a:latin typeface="Verdana"/>
              </a:rPr>
              <a:t>舞雩，</a:t>
            </a:r>
            <a:r>
              <a:rPr b="1" sz="3200" spc="-1" strike="noStrike">
                <a:solidFill>
                  <a:srgbClr val="ff0000"/>
                </a:solidFill>
                <a:latin typeface="Verdana"/>
              </a:rPr>
              <a:t>咏</a:t>
            </a:r>
            <a:r>
              <a:rPr b="1" sz="3200" spc="-1" strike="noStrike">
                <a:solidFill>
                  <a:srgbClr val="000000"/>
                </a:solidFill>
                <a:latin typeface="Verdana"/>
              </a:rPr>
              <a:t>而归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5" name="文本框 104452"/>
          <p:cNvSpPr/>
          <p:nvPr/>
        </p:nvSpPr>
        <p:spPr>
          <a:xfrm>
            <a:off x="7020000" y="27082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ff"/>
                </a:solidFill>
                <a:latin typeface="Verdana"/>
              </a:rPr>
              <a:t>不同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46" name="文本框 104453"/>
          <p:cNvSpPr/>
          <p:nvPr/>
        </p:nvSpPr>
        <p:spPr>
          <a:xfrm>
            <a:off x="684360" y="378936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ff"/>
                </a:solidFill>
                <a:latin typeface="Verdana"/>
              </a:rPr>
              <a:t>说，陈述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47" name="文本框 104454"/>
          <p:cNvSpPr/>
          <p:nvPr/>
        </p:nvSpPr>
        <p:spPr>
          <a:xfrm>
            <a:off x="468360" y="4941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ff"/>
                </a:solidFill>
                <a:latin typeface="Verdana"/>
              </a:rPr>
              <a:t>同“暮”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48" name="文本框 104455"/>
          <p:cNvSpPr/>
          <p:nvPr/>
        </p:nvSpPr>
        <p:spPr>
          <a:xfrm>
            <a:off x="2987640" y="49417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ff"/>
                </a:solidFill>
                <a:latin typeface="Verdana"/>
              </a:rPr>
              <a:t>已经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49" name="文本框 104456"/>
          <p:cNvSpPr/>
          <p:nvPr/>
        </p:nvSpPr>
        <p:spPr>
          <a:xfrm>
            <a:off x="1476360" y="59500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ff"/>
                </a:solidFill>
                <a:latin typeface="Verdana"/>
              </a:rPr>
              <a:t>于，在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50" name="文本框 104457"/>
          <p:cNvSpPr/>
          <p:nvPr/>
        </p:nvSpPr>
        <p:spPr>
          <a:xfrm>
            <a:off x="3059280" y="5950080"/>
            <a:ext cx="270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ff"/>
                </a:solidFill>
                <a:latin typeface="Verdana"/>
              </a:rPr>
              <a:t>吹风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51" name="文本框 104458"/>
          <p:cNvSpPr/>
          <p:nvPr/>
        </p:nvSpPr>
        <p:spPr>
          <a:xfrm>
            <a:off x="5003640" y="59500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ff"/>
                </a:solidFill>
                <a:latin typeface="Verdana"/>
              </a:rPr>
              <a:t>唱歌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52" name="动作按钮: 后退或前一项 104460">
            <a:hlinkClick r:id="" action="ppaction://hlinkshowjump?jump=previousslide"/>
          </p:cNvPr>
          <p:cNvSpPr/>
          <p:nvPr/>
        </p:nvSpPr>
        <p:spPr>
          <a:xfrm>
            <a:off x="7524720" y="5805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53" name="动作按钮: 前进或下一项 104461">
            <a:hlinkClick r:id="" action="ppaction://hlinkshowjump?jump=nextslide"/>
          </p:cNvPr>
          <p:cNvSpPr/>
          <p:nvPr/>
        </p:nvSpPr>
        <p:spPr>
          <a:xfrm>
            <a:off x="7956720" y="5805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6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54" name="动作按钮: 上一张 104462">
            <a:hlinkClick r:id="rId2" action="ppaction://hlinksldjump"/>
          </p:cNvPr>
          <p:cNvSpPr/>
          <p:nvPr/>
        </p:nvSpPr>
        <p:spPr>
          <a:xfrm>
            <a:off x="8388360" y="5805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66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955" name="图片 104463" descr="图片3"/>
          <p:cNvPicPr/>
          <p:nvPr/>
        </p:nvPicPr>
        <p:blipFill>
          <a:blip r:embed="rId3"/>
          <a:stretch/>
        </p:blipFill>
        <p:spPr>
          <a:xfrm>
            <a:off x="3132000" y="549360"/>
            <a:ext cx="2803680" cy="807840"/>
          </a:xfrm>
          <a:prstGeom prst="rect">
            <a:avLst/>
          </a:prstGeom>
          <a:ln w="0">
            <a:noFill/>
          </a:ln>
        </p:spPr>
      </p:pic>
      <p:sp>
        <p:nvSpPr>
          <p:cNvPr id="1956" name="文本框 104464"/>
          <p:cNvSpPr/>
          <p:nvPr/>
        </p:nvSpPr>
        <p:spPr>
          <a:xfrm>
            <a:off x="2340000" y="1844640"/>
            <a:ext cx="12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kēng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57" name="文本框 104465"/>
          <p:cNvSpPr/>
          <p:nvPr/>
        </p:nvSpPr>
        <p:spPr>
          <a:xfrm>
            <a:off x="395280" y="2708280"/>
            <a:ext cx="25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ff"/>
                </a:solidFill>
                <a:latin typeface="Times New Roman"/>
              </a:rPr>
              <a:t>通“稀”</a:t>
            </a:r>
            <a:r>
              <a:rPr b="1" sz="32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sz="3200" spc="-1" strike="noStrike">
                <a:solidFill>
                  <a:srgbClr val="0000ff"/>
                </a:solidFill>
                <a:latin typeface="Times New Roman"/>
              </a:rPr>
              <a:t>稀疏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58" name="文本框 104466"/>
          <p:cNvSpPr/>
          <p:nvPr/>
        </p:nvSpPr>
        <p:spPr>
          <a:xfrm>
            <a:off x="4614840" y="2708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ff"/>
                </a:solidFill>
                <a:latin typeface="Times New Roman"/>
              </a:rPr>
              <a:t>直起身子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117000" y="609120"/>
            <a:ext cx="898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"</a:t>
            </a:r>
            <a:r>
              <a:rPr b="1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，尔何如</a:t>
            </a:r>
            <a:r>
              <a:rPr b="1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?"</a:t>
            </a:r>
            <a:br>
              <a:rPr sz="3600"/>
            </a:br>
            <a:r>
              <a:rPr b="1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鼓瑟</a:t>
            </a:r>
            <a:r>
              <a:rPr b="1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希</a:t>
            </a:r>
            <a:r>
              <a:rPr b="1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1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铿尔</a:t>
            </a:r>
            <a:r>
              <a:rPr b="1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舍瑟而作，对曰</a:t>
            </a:r>
            <a:r>
              <a:rPr b="1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:"</a:t>
            </a:r>
            <a:r>
              <a:rPr b="1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异乎三子者之</a:t>
            </a:r>
            <a:r>
              <a:rPr b="1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撰</a:t>
            </a:r>
            <a:r>
              <a:rPr b="1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1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"</a:t>
            </a:r>
            <a:r>
              <a:rPr b="1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子曰</a:t>
            </a:r>
            <a:r>
              <a:rPr b="1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:"</a:t>
            </a:r>
            <a:r>
              <a:rPr b="1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何伤乎</a:t>
            </a:r>
            <a:r>
              <a:rPr b="1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r>
              <a:rPr b="1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亦各言其志也。</a:t>
            </a:r>
            <a:r>
              <a:rPr b="1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"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 txBox="1"/>
          <p:nvPr/>
        </p:nvSpPr>
        <p:spPr>
          <a:xfrm>
            <a:off x="-19440" y="2516040"/>
            <a:ext cx="4449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希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通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稀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。指弹瑟的速度放慢，节奏逐渐稀疏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铿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(kēng)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尔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铿的一声，琴瑟声止住了。铿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象声词。指弹瑟完毕时最后一声高音。尔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:"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铿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的词尾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撰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才能，指为政的才能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 txBox="1"/>
          <p:nvPr/>
        </p:nvSpPr>
        <p:spPr>
          <a:xfrm>
            <a:off x="4627080" y="2516040"/>
            <a:ext cx="4472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曾晳，你怎么样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?"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曾晳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弹瑟的声音渐渐稀疏下来，铿的一声，放下瑟直起身来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回答说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:"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我和他们三人所说的志向不同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!"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孔子说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:"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那有什么关系呢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不过是各自谈谈自己的志向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!"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4" dur="500"/>
                                        <p:tgtEl>
                                          <p:spTgt spid="1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9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4" dur="2000"/>
                                        <p:tgtEl>
                                          <p:spTgt spid="19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123840" y="399600"/>
            <a:ext cx="8896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曰</a:t>
            </a:r>
            <a:r>
              <a:rPr b="1" lang="zh-CN" sz="3700" spc="-1" strike="noStrike">
                <a:solidFill>
                  <a:srgbClr val="000000"/>
                </a:solidFill>
                <a:latin typeface="微软雅黑"/>
                <a:ea typeface="微软雅黑"/>
              </a:rPr>
              <a:t>:"</a:t>
            </a:r>
            <a:r>
              <a:rPr b="1" lang="zh-CN" sz="3700" spc="-1" strike="noStrike">
                <a:solidFill>
                  <a:srgbClr val="ff0000"/>
                </a:solidFill>
                <a:latin typeface="微软雅黑"/>
                <a:ea typeface="微软雅黑"/>
              </a:rPr>
              <a:t>莫春</a:t>
            </a:r>
            <a:r>
              <a:rPr b="1" lang="zh-CN" sz="37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者，春服既成，</a:t>
            </a:r>
            <a:r>
              <a:rPr b="1" lang="zh-CN" sz="3700" spc="-1" strike="noStrike">
                <a:solidFill>
                  <a:srgbClr val="ff0000"/>
                </a:solidFill>
                <a:latin typeface="微软雅黑"/>
                <a:ea typeface="微软雅黑"/>
              </a:rPr>
              <a:t>冠者</a:t>
            </a:r>
            <a:r>
              <a:rPr b="1" lang="zh-CN" sz="37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五六人，</a:t>
            </a:r>
            <a:r>
              <a:rPr b="1" lang="zh-CN" sz="3700" spc="-1" strike="noStrike">
                <a:solidFill>
                  <a:srgbClr val="ff0000"/>
                </a:solidFill>
                <a:latin typeface="微软雅黑"/>
                <a:ea typeface="微软雅黑"/>
              </a:rPr>
              <a:t>童子</a:t>
            </a:r>
            <a:r>
              <a:rPr b="1" lang="zh-CN" sz="37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六七人，</a:t>
            </a:r>
            <a:r>
              <a:rPr b="1" lang="zh-CN" sz="3700" spc="-1" strike="noStrike">
                <a:solidFill>
                  <a:srgbClr val="ff0000"/>
                </a:solidFill>
                <a:latin typeface="微软雅黑"/>
                <a:ea typeface="微软雅黑"/>
              </a:rPr>
              <a:t>浴乎沂</a:t>
            </a:r>
            <a:r>
              <a:rPr b="1" lang="zh-CN" sz="37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1" lang="zh-CN" sz="3700" spc="-1" strike="noStrike">
                <a:solidFill>
                  <a:srgbClr val="ff0000"/>
                </a:solidFill>
                <a:latin typeface="微软雅黑"/>
                <a:ea typeface="微软雅黑"/>
              </a:rPr>
              <a:t>风</a:t>
            </a:r>
            <a:r>
              <a:rPr b="1" lang="zh-CN" sz="37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乎</a:t>
            </a:r>
            <a:r>
              <a:rPr b="1" lang="zh-CN" sz="3700" spc="-1" strike="noStrike">
                <a:solidFill>
                  <a:srgbClr val="ff0000"/>
                </a:solidFill>
                <a:latin typeface="微软雅黑"/>
                <a:ea typeface="微软雅黑"/>
              </a:rPr>
              <a:t>舞雩</a:t>
            </a:r>
            <a:r>
              <a:rPr b="1" lang="zh-CN" sz="37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咏而</a:t>
            </a:r>
            <a:r>
              <a:rPr b="1" lang="zh-CN" sz="3700" spc="-1" strike="noStrike">
                <a:solidFill>
                  <a:srgbClr val="ff0000"/>
                </a:solidFill>
                <a:latin typeface="微软雅黑"/>
                <a:ea typeface="微软雅黑"/>
              </a:rPr>
              <a:t>归</a:t>
            </a:r>
            <a:r>
              <a:rPr b="1" lang="zh-CN" sz="37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1" lang="zh-CN" sz="3700" spc="-1" strike="noStrike">
                <a:solidFill>
                  <a:srgbClr val="000000"/>
                </a:solidFill>
                <a:latin typeface="微软雅黑"/>
                <a:ea typeface="微软雅黑"/>
              </a:rPr>
              <a:t>"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 txBox="1"/>
          <p:nvPr/>
        </p:nvSpPr>
        <p:spPr>
          <a:xfrm>
            <a:off x="0" y="1981080"/>
            <a:ext cx="5005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0200" indent="-1602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莫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mù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春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农历三月，天气已转暖的时节。莫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暮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0200" indent="-1602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冠者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古代男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岁时要举行冠礼，束发、加帽，表示成人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冠者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指成年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0200" indent="-1602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童子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未加冠的少年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不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0200" indent="-1602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浴：洗澡。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；沂，水名，在今山东。此水因有温泉流入，暮春时即可人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0200" indent="-1602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吹风，乘凉。名词作动词。舞雩。鲁国祭天求雨的地方，设有坛，在今山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0200" indent="-1602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归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通馈，进食，送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 txBox="1"/>
          <p:nvPr/>
        </p:nvSpPr>
        <p:spPr>
          <a:xfrm>
            <a:off x="5162400" y="1981080"/>
            <a:ext cx="3857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曾晳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说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:"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暮春时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天气暖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春天的衣服已经穿着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五六位成年人，六七个少年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到沂河里洗澡，在舞雩台上吹吹风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唱着歌走回家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0" fill="hold"/>
                                        <p:tgtEl>
                                          <p:spTgt spid="1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0" fill="hold"/>
                                        <p:tgtEl>
                                          <p:spTgt spid="1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9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9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9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"/>
                                        <p:tgtEl>
                                          <p:spTgt spid="19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400" fill="hold"/>
                                        <p:tgtEl>
                                          <p:spTgt spid="19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400" fill="hold"/>
                                        <p:tgtEl>
                                          <p:spTgt spid="19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9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9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9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9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9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1" dur="500"/>
                                        <p:tgtEl>
                                          <p:spTgt spid="1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770"/>
                                        <p:tgtEl>
                                          <p:spTgt spid="19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7" dur="770" fill="hold"/>
                                        <p:tgtEl>
                                          <p:spTgt spid="19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9" dur="770" fill="hold"/>
                                        <p:tgtEl>
                                          <p:spTgt spid="19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1" dur="770" fill="hold"/>
                                        <p:tgtEl>
                                          <p:spTgt spid="19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9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9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9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4" dur="500"/>
                                        <p:tgtEl>
                                          <p:spTgt spid="19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5" name="图片 125953" descr="002"/>
          <p:cNvPicPr/>
          <p:nvPr/>
        </p:nvPicPr>
        <p:blipFill>
          <a:blip r:embed="rId1"/>
          <a:stretch/>
        </p:blipFill>
        <p:spPr>
          <a:xfrm>
            <a:off x="5715000" y="0"/>
            <a:ext cx="3598920" cy="6858000"/>
          </a:xfrm>
          <a:prstGeom prst="rect">
            <a:avLst/>
          </a:prstGeom>
          <a:ln w="0">
            <a:noFill/>
          </a:ln>
        </p:spPr>
      </p:pic>
      <p:sp>
        <p:nvSpPr>
          <p:cNvPr id="1966" name="文本框 125955"/>
          <p:cNvSpPr/>
          <p:nvPr/>
        </p:nvSpPr>
        <p:spPr>
          <a:xfrm>
            <a:off x="838080" y="1219320"/>
            <a:ext cx="48769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暮春时节，脱下冬衣，穿上春衣，和五六个２０岁的成年人，带着六、七个少年，在沂水边洗洗澡，在舞雩台上吹吹风，一路唱着歌回来。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67" name="文本框 125956"/>
          <p:cNvSpPr/>
          <p:nvPr/>
        </p:nvSpPr>
        <p:spPr>
          <a:xfrm>
            <a:off x="2302560" y="3808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曾皙（点）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68" name="文本框 125957"/>
          <p:cNvSpPr/>
          <p:nvPr/>
        </p:nvSpPr>
        <p:spPr>
          <a:xfrm>
            <a:off x="941040" y="4797360"/>
            <a:ext cx="11559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洒脱高雅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从容淡定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69" name="文本框 125958"/>
          <p:cNvSpPr/>
          <p:nvPr/>
        </p:nvSpPr>
        <p:spPr>
          <a:xfrm>
            <a:off x="1058040" y="1166760"/>
            <a:ext cx="60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33cc"/>
                </a:solidFill>
                <a:uFillTx/>
                <a:latin typeface="华文中宋"/>
                <a:ea typeface="华文中宋"/>
              </a:rPr>
              <a:t>志</a:t>
            </a:r>
            <a:r>
              <a:rPr b="1" lang="zh-CN" sz="2800" spc="-1" strike="noStrike">
                <a:solidFill>
                  <a:srgbClr val="3333cc"/>
                </a:solidFill>
                <a:latin typeface="华文中宋"/>
                <a:ea typeface="华文中宋"/>
              </a:rPr>
              <a:t>：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70" name="文本框 125959"/>
          <p:cNvSpPr/>
          <p:nvPr/>
        </p:nvSpPr>
        <p:spPr>
          <a:xfrm>
            <a:off x="828720" y="4653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  <a:ea typeface="隶书"/>
              </a:rPr>
              <a:t>性格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隶书"/>
              </a:rPr>
              <a:t>：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71" name="矩形 125960"/>
          <p:cNvSpPr/>
          <p:nvPr/>
        </p:nvSpPr>
        <p:spPr>
          <a:xfrm>
            <a:off x="3893040" y="4437000"/>
            <a:ext cx="12531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50"/>
              </a:spcBef>
              <a:buClr>
                <a:srgbClr val="cccc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  <a:ea typeface="华文彩云"/>
              </a:rPr>
              <a:t>春游图</a:t>
            </a:r>
            <a:endParaRPr b="1" lang="en-US" sz="3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357120" y="115920"/>
            <a:ext cx="8429760" cy="22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华光粗黑_CNKI"/>
                <a:ea typeface="华光粗黑_CNKI"/>
              </a:rPr>
              <a:t>三子者出，曾皙</a:t>
            </a:r>
            <a:r>
              <a:rPr b="1" lang="zh-CN" sz="2400" spc="-1" strike="noStrike">
                <a:solidFill>
                  <a:srgbClr val="ff3300"/>
                </a:solidFill>
                <a:latin typeface="华光粗黑_CNKI"/>
                <a:ea typeface="华光粗黑_CNKI"/>
              </a:rPr>
              <a:t>后</a:t>
            </a:r>
            <a:r>
              <a:rPr b="1" lang="zh-CN" sz="2400" spc="-1" strike="noStrike">
                <a:solidFill>
                  <a:srgbClr val="000000"/>
                </a:solidFill>
                <a:latin typeface="华光粗黑_CNKI"/>
                <a:ea typeface="华光粗黑_CNKI"/>
              </a:rPr>
              <a:t>。曾皙曰：“</a:t>
            </a:r>
            <a:r>
              <a:rPr b="1" lang="zh-CN" sz="2400" spc="-1" strike="noStrike">
                <a:solidFill>
                  <a:srgbClr val="ff3300"/>
                </a:solidFill>
                <a:latin typeface="华光粗黑_CNKI"/>
                <a:ea typeface="华光粗黑_CNKI"/>
              </a:rPr>
              <a:t>夫</a:t>
            </a:r>
            <a:r>
              <a:rPr b="1" lang="zh-CN" sz="2400" spc="-1" strike="noStrike">
                <a:solidFill>
                  <a:srgbClr val="000000"/>
                </a:solidFill>
                <a:latin typeface="华光粗黑_CNKI"/>
                <a:ea typeface="华光粗黑_CNKI"/>
              </a:rPr>
              <a:t>三子者之言何如？”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华光粗黑_CNKI"/>
                <a:ea typeface="华光粗黑_CNKI"/>
              </a:rPr>
              <a:t>子曰：“亦各言其志也</a:t>
            </a:r>
            <a:r>
              <a:rPr b="1" lang="zh-CN" sz="2400" spc="-1" strike="noStrike">
                <a:solidFill>
                  <a:srgbClr val="3333cc"/>
                </a:solidFill>
                <a:latin typeface="华光粗黑_CNKI"/>
                <a:ea typeface="华光粗黑_CNKI"/>
              </a:rPr>
              <a:t>已矣</a:t>
            </a:r>
            <a:r>
              <a:rPr b="1" lang="zh-CN" sz="2400" spc="-1" strike="noStrike">
                <a:solidFill>
                  <a:srgbClr val="000000"/>
                </a:solidFill>
                <a:latin typeface="华光粗黑_CNKI"/>
                <a:ea typeface="华光粗黑_CNKI"/>
              </a:rPr>
              <a:t>！”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华光粗黑_CNKI"/>
                <a:ea typeface="华光粗黑_CNKI"/>
              </a:rPr>
              <a:t>    曰：“夫子何哂由也？”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华光粗黑_CNKI"/>
                <a:ea typeface="华光粗黑_CNKI"/>
              </a:rPr>
              <a:t>    曰：“为国以礼，其言不</a:t>
            </a:r>
            <a:r>
              <a:rPr b="1" lang="zh-CN" sz="2400" spc="-1" strike="noStrike">
                <a:solidFill>
                  <a:srgbClr val="ff3300"/>
                </a:solidFill>
                <a:latin typeface="华光粗黑_CNKI"/>
                <a:ea typeface="华光粗黑_CNKI"/>
              </a:rPr>
              <a:t>让</a:t>
            </a:r>
            <a:r>
              <a:rPr b="1" lang="zh-CN" sz="2400" spc="-1" strike="noStrike">
                <a:solidFill>
                  <a:srgbClr val="000000"/>
                </a:solidFill>
                <a:latin typeface="华光粗黑_CNKI"/>
                <a:ea typeface="华光粗黑_CNKI"/>
              </a:rPr>
              <a:t>，是故哂之。</a:t>
            </a:r>
            <a:r>
              <a:rPr b="1" lang="zh-CN" sz="2400" spc="-1" strike="noStrike">
                <a:solidFill>
                  <a:srgbClr val="ff3300"/>
                </a:solidFill>
                <a:latin typeface="华光粗黑_CNKI"/>
                <a:ea typeface="华光粗黑_CNKI"/>
              </a:rPr>
              <a:t>唯</a:t>
            </a:r>
            <a:r>
              <a:rPr b="1" lang="zh-CN" sz="2400" spc="-1" strike="noStrike">
                <a:solidFill>
                  <a:srgbClr val="000000"/>
                </a:solidFill>
                <a:latin typeface="华光粗黑_CNKI"/>
                <a:ea typeface="华光粗黑_CNKI"/>
              </a:rPr>
              <a:t>求则非</a:t>
            </a:r>
            <a:r>
              <a:rPr b="1" lang="zh-CN" sz="2400" spc="-1" strike="noStrike">
                <a:solidFill>
                  <a:srgbClr val="3333cc"/>
                </a:solidFill>
                <a:latin typeface="华光粗黑_CNKI"/>
                <a:ea typeface="华光粗黑_CNKI"/>
              </a:rPr>
              <a:t>邦</a:t>
            </a:r>
            <a:r>
              <a:rPr b="1" lang="zh-CN" sz="2400" spc="-1" strike="noStrike">
                <a:solidFill>
                  <a:srgbClr val="000000"/>
                </a:solidFill>
                <a:latin typeface="华光粗黑_CNKI"/>
                <a:ea typeface="华光粗黑_CNKI"/>
              </a:rPr>
              <a:t>也与？</a:t>
            </a:r>
            <a:r>
              <a:rPr b="1" lang="zh-CN" sz="2400" spc="-1" strike="noStrike">
                <a:solidFill>
                  <a:srgbClr val="ff3300"/>
                </a:solidFill>
                <a:latin typeface="华光粗黑_CNKI"/>
                <a:ea typeface="华光粗黑_CNKI"/>
              </a:rPr>
              <a:t>安</a:t>
            </a:r>
            <a:r>
              <a:rPr b="1" lang="zh-CN" sz="2400" spc="-1" strike="noStrike">
                <a:solidFill>
                  <a:srgbClr val="3333cc"/>
                </a:solidFill>
                <a:latin typeface="华光粗黑_CNKI"/>
                <a:ea typeface="华光粗黑_CNKI"/>
              </a:rPr>
              <a:t>见</a:t>
            </a:r>
            <a:r>
              <a:rPr b="1" lang="zh-CN" sz="2400" spc="-1" strike="noStrike">
                <a:solidFill>
                  <a:srgbClr val="000000"/>
                </a:solidFill>
                <a:latin typeface="华光粗黑_CNKI"/>
                <a:ea typeface="华光粗黑_CNKI"/>
              </a:rPr>
              <a:t>方六七十，如五六十而非邦也者</a:t>
            </a:r>
            <a:r>
              <a:rPr b="1" lang="en-US" sz="2400" spc="-1" strike="noStrike">
                <a:solidFill>
                  <a:srgbClr val="000000"/>
                </a:solidFill>
                <a:latin typeface="华光粗黑_CNKI"/>
                <a:ea typeface="华光粗黑_CNKI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华光粗黑_CNKI"/>
                <a:ea typeface="华光粗黑_CNKI"/>
              </a:rPr>
              <a:t>唯赤则非邦也与？宗庙会同，非诸侯而何？赤也为</a:t>
            </a:r>
            <a:r>
              <a:rPr b="1" lang="zh-CN" sz="2400" spc="-1" strike="noStrike">
                <a:solidFill>
                  <a:srgbClr val="ff3300"/>
                </a:solidFill>
                <a:latin typeface="华光粗黑_CNKI"/>
                <a:ea typeface="华光粗黑_CNKI"/>
              </a:rPr>
              <a:t>之</a:t>
            </a:r>
            <a:r>
              <a:rPr b="1" lang="zh-CN" sz="2400" spc="-1" strike="noStrike">
                <a:solidFill>
                  <a:srgbClr val="000000"/>
                </a:solidFill>
                <a:latin typeface="华光粗黑_CNKI"/>
                <a:ea typeface="华光粗黑_CNKI"/>
              </a:rPr>
              <a:t>小，孰能为</a:t>
            </a:r>
            <a:r>
              <a:rPr b="1" lang="zh-CN" sz="2400" spc="-1" strike="noStrike">
                <a:solidFill>
                  <a:srgbClr val="ff3300"/>
                </a:solidFill>
                <a:latin typeface="华光粗黑_CNKI"/>
                <a:ea typeface="华光粗黑_CNKI"/>
              </a:rPr>
              <a:t>之</a:t>
            </a:r>
            <a:r>
              <a:rPr b="1" lang="zh-CN" sz="2400" spc="-1" strike="noStrike">
                <a:solidFill>
                  <a:srgbClr val="000000"/>
                </a:solidFill>
                <a:latin typeface="华光粗黑_CNKI"/>
                <a:ea typeface="华光粗黑_CNKI"/>
              </a:rPr>
              <a:t>大？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 txBox="1"/>
          <p:nvPr/>
        </p:nvSpPr>
        <p:spPr>
          <a:xfrm>
            <a:off x="0" y="2403000"/>
            <a:ext cx="914400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走在后头。方位名词作动词。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指示代词，那。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已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罢了。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谦让。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邦</a:t>
            </a:r>
            <a:r>
              <a:rPr b="0" lang="zh-CN" sz="2400" spc="-1" strike="noStrike">
                <a:solidFill>
                  <a:srgbClr val="b2b2b2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国家 。此处指治理国家大事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句首语气助词，无义。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疑问代词，怎么。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见</a:t>
            </a:r>
            <a:r>
              <a:rPr b="0" lang="zh-CN" sz="2400" spc="-1" strike="noStrike">
                <a:solidFill>
                  <a:srgbClr val="b2b2b2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见得。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指诸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翻译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路、冉有、公西华三个人都出去了，曾皙走在后面。曾皙问孔子：“他们三个人的话怎么样？” 孔子说：“只不过自己谈谈自己的志向罢了。”曾皙说：“您为什么笑仲由呢？”孔子说：“治国要讲究礼让，可是他说话一点都不谦虚，因此我笑他。难道冉求所讲的就不是国家大事吗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怎么见得纵横六七十里或者五六十里讲的就不是国家大事呢？公西赤所讲的不是国家大事吗？宗庙祭祀，诸侯会盟和朝见天子，讲的不是国家大事又是什么呢？如果公西赤只能给诸侯做一个小相，那么谁能做大事呢？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1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9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19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9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/>
          </p:nvPr>
        </p:nvSpPr>
        <p:spPr>
          <a:xfrm>
            <a:off x="544320" y="1557000"/>
            <a:ext cx="8491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ff"/>
                </a:solidFill>
                <a:latin typeface="Verdana"/>
              </a:rPr>
              <a:t>子路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000000"/>
                </a:solidFill>
                <a:uFillTx/>
                <a:latin typeface="Verdana"/>
              </a:rPr>
              <a:t>为国以礼，其言不</a:t>
            </a:r>
            <a:r>
              <a:rPr b="1" sz="2800" spc="-1" strike="noStrike" u="sng">
                <a:solidFill>
                  <a:srgbClr val="ff0000"/>
                </a:solidFill>
                <a:uFillTx/>
                <a:latin typeface="Verdana"/>
              </a:rPr>
              <a:t>让</a:t>
            </a:r>
            <a:r>
              <a:rPr b="1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sz="2800" spc="-1" strike="noStrike">
                <a:solidFill>
                  <a:srgbClr val="000000"/>
                </a:solidFill>
                <a:latin typeface="Verdana"/>
              </a:rPr>
              <a:t>，是故哂之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ff"/>
                </a:solidFill>
                <a:latin typeface="Verdana"/>
              </a:rPr>
              <a:t>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Verdana"/>
              </a:rPr>
              <a:t>唯</a:t>
            </a:r>
            <a:r>
              <a:rPr b="1" sz="2800" spc="-1" strike="noStrike">
                <a:solidFill>
                  <a:srgbClr val="000000"/>
                </a:solidFill>
                <a:latin typeface="Verdana"/>
              </a:rPr>
              <a:t>求则非</a:t>
            </a:r>
            <a:r>
              <a:rPr b="1" sz="2800" spc="-1" strike="noStrike">
                <a:solidFill>
                  <a:srgbClr val="ff0000"/>
                </a:solidFill>
                <a:latin typeface="Verdana"/>
              </a:rPr>
              <a:t>邦</a:t>
            </a:r>
            <a:r>
              <a:rPr b="1" sz="2800" spc="-1" strike="noStrike">
                <a:solidFill>
                  <a:srgbClr val="000000"/>
                </a:solidFill>
                <a:latin typeface="Verdana"/>
              </a:rPr>
              <a:t>也与？安见方六七十，如五六十而非邦也者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ff"/>
                </a:solidFill>
                <a:latin typeface="Verdana"/>
              </a:rPr>
              <a:t>赤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Verdana"/>
              </a:rPr>
              <a:t>唯</a:t>
            </a:r>
            <a:r>
              <a:rPr b="1" sz="2800" spc="-1" strike="noStrike">
                <a:solidFill>
                  <a:srgbClr val="000000"/>
                </a:solidFill>
                <a:latin typeface="Verdana"/>
              </a:rPr>
              <a:t>赤则非邦也与？宗庙会同，非诸侯而何？赤也为之小，</a:t>
            </a:r>
            <a:r>
              <a:rPr b="1" sz="2800" spc="-1" strike="noStrike">
                <a:solidFill>
                  <a:srgbClr val="ff0000"/>
                </a:solidFill>
                <a:latin typeface="Verdana"/>
              </a:rPr>
              <a:t>孰</a:t>
            </a:r>
            <a:r>
              <a:rPr b="1" sz="2800" spc="-1" strike="noStrike">
                <a:solidFill>
                  <a:srgbClr val="000000"/>
                </a:solidFill>
                <a:latin typeface="Verdana"/>
              </a:rPr>
              <a:t>能为之大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ff"/>
                </a:solidFill>
                <a:latin typeface="Verdana"/>
              </a:rPr>
              <a:t>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Verdana"/>
              </a:rPr>
              <a:t>喟然叹曰：吾</a:t>
            </a:r>
            <a:r>
              <a:rPr b="1" sz="2800" spc="-1" strike="noStrike">
                <a:solidFill>
                  <a:srgbClr val="ff0000"/>
                </a:solidFill>
                <a:latin typeface="Verdana"/>
              </a:rPr>
              <a:t>与</a:t>
            </a:r>
            <a:r>
              <a:rPr b="1" sz="2800" spc="-1" strike="noStrike">
                <a:solidFill>
                  <a:srgbClr val="000000"/>
                </a:solidFill>
                <a:latin typeface="Verdana"/>
              </a:rPr>
              <a:t>点也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5" name="文本框 105475"/>
          <p:cNvSpPr/>
          <p:nvPr/>
        </p:nvSpPr>
        <p:spPr>
          <a:xfrm>
            <a:off x="6372360" y="1989000"/>
            <a:ext cx="914400" cy="5205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Verdana"/>
              </a:rPr>
              <a:t>谦让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76" name="文本框 105476"/>
          <p:cNvSpPr/>
          <p:nvPr/>
        </p:nvSpPr>
        <p:spPr>
          <a:xfrm>
            <a:off x="2068560" y="3462480"/>
            <a:ext cx="1981080" cy="5205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Verdana"/>
              </a:rPr>
              <a:t>句首语气词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77" name="文本框 105477"/>
          <p:cNvSpPr/>
          <p:nvPr/>
        </p:nvSpPr>
        <p:spPr>
          <a:xfrm>
            <a:off x="4583160" y="3462480"/>
            <a:ext cx="3809880" cy="5205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Verdana"/>
              </a:rPr>
              <a:t>国家，这里指国家政事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78" name="文本框 105478"/>
          <p:cNvSpPr/>
          <p:nvPr/>
        </p:nvSpPr>
        <p:spPr>
          <a:xfrm>
            <a:off x="4202280" y="4757760"/>
            <a:ext cx="609480" cy="5205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Verdana"/>
              </a:rPr>
              <a:t>谁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79" name="文本框 105479"/>
          <p:cNvSpPr/>
          <p:nvPr/>
        </p:nvSpPr>
        <p:spPr>
          <a:xfrm>
            <a:off x="4506840" y="5595840"/>
            <a:ext cx="914400" cy="5205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Verdana"/>
              </a:rPr>
              <a:t>赞成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80" name="动作按钮: 后退或前一项 105487">
            <a:hlinkClick r:id="" action="ppaction://hlinkshowjump?jump=previousslide"/>
          </p:cNvPr>
          <p:cNvSpPr/>
          <p:nvPr/>
        </p:nvSpPr>
        <p:spPr>
          <a:xfrm>
            <a:off x="7524720" y="5805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81" name="动作按钮: 前进或下一项 105488">
            <a:hlinkClick r:id="" action="ppaction://hlinkshowjump?jump=nextslide"/>
          </p:cNvPr>
          <p:cNvSpPr/>
          <p:nvPr/>
        </p:nvSpPr>
        <p:spPr>
          <a:xfrm>
            <a:off x="7956720" y="5805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6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82" name="动作按钮: 上一张 105489"/>
          <p:cNvSpPr/>
          <p:nvPr/>
        </p:nvSpPr>
        <p:spPr>
          <a:xfrm>
            <a:off x="8388360" y="5805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66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983" name="图片 105491" descr="图片5"/>
          <p:cNvPicPr/>
          <p:nvPr/>
        </p:nvPicPr>
        <p:blipFill>
          <a:blip r:embed="rId2"/>
          <a:stretch/>
        </p:blipFill>
        <p:spPr>
          <a:xfrm>
            <a:off x="3132000" y="476280"/>
            <a:ext cx="2810160" cy="828720"/>
          </a:xfrm>
          <a:prstGeom prst="rect">
            <a:avLst/>
          </a:prstGeom>
          <a:ln w="0">
            <a:noFill/>
          </a:ln>
        </p:spPr>
      </p:pic>
      <p:sp>
        <p:nvSpPr>
          <p:cNvPr id="1984" name="动作按钮: 自定义 105492"/>
          <p:cNvSpPr/>
          <p:nvPr/>
        </p:nvSpPr>
        <p:spPr>
          <a:xfrm>
            <a:off x="468360" y="6480000"/>
            <a:ext cx="1079280" cy="333720"/>
          </a:xfrm>
          <a:custGeom>
            <a:avLst/>
            <a:gdLst>
              <a:gd name="textAreaLeft" fmla="*/ 21600 w 1079280"/>
              <a:gd name="textAreaRight" fmla="*/ 1057680 w 107928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04" h="21600">
                <a:moveTo>
                  <a:pt x="0" y="0"/>
                </a:moveTo>
                <a:lnTo>
                  <a:pt x="69804" y="0"/>
                </a:lnTo>
                <a:lnTo>
                  <a:pt x="69804" y="21600"/>
                </a:lnTo>
                <a:lnTo>
                  <a:pt x="0" y="21600"/>
                </a:lnTo>
                <a:close/>
              </a:path>
              <a:path fill="lightenLess" w="69804" h="21600">
                <a:moveTo>
                  <a:pt x="0" y="0"/>
                </a:moveTo>
                <a:lnTo>
                  <a:pt x="69804" y="0"/>
                </a:lnTo>
                <a:lnTo>
                  <a:pt x="68404" y="1400"/>
                </a:lnTo>
                <a:lnTo>
                  <a:pt x="1400" y="1400"/>
                </a:lnTo>
                <a:close/>
              </a:path>
              <a:path fill="darken" w="69804" h="21600">
                <a:moveTo>
                  <a:pt x="69804" y="0"/>
                </a:moveTo>
                <a:lnTo>
                  <a:pt x="69804" y="21600"/>
                </a:lnTo>
                <a:lnTo>
                  <a:pt x="68404" y="20200"/>
                </a:lnTo>
                <a:lnTo>
                  <a:pt x="68404" y="1400"/>
                </a:lnTo>
                <a:close/>
              </a:path>
              <a:path fill="darkenLess" w="69804" h="21600">
                <a:moveTo>
                  <a:pt x="698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04" y="20200"/>
                </a:lnTo>
                <a:close/>
              </a:path>
              <a:path fill="lighten" w="698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整体感知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85" name="动作按钮: 自定义 105493"/>
          <p:cNvSpPr/>
          <p:nvPr/>
        </p:nvSpPr>
        <p:spPr>
          <a:xfrm>
            <a:off x="4068720" y="6480000"/>
            <a:ext cx="1079640" cy="333720"/>
          </a:xfrm>
          <a:custGeom>
            <a:avLst/>
            <a:gdLst>
              <a:gd name="textAreaLeft" fmla="*/ 21600 w 1079640"/>
              <a:gd name="textAreaRight" fmla="*/ 1058040 w 107964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28" h="21600">
                <a:moveTo>
                  <a:pt x="0" y="0"/>
                </a:moveTo>
                <a:lnTo>
                  <a:pt x="69828" y="0"/>
                </a:lnTo>
                <a:lnTo>
                  <a:pt x="69828" y="21600"/>
                </a:lnTo>
                <a:lnTo>
                  <a:pt x="0" y="21600"/>
                </a:lnTo>
                <a:close/>
              </a:path>
              <a:path fill="lightenLess" w="69828" h="21600">
                <a:moveTo>
                  <a:pt x="0" y="0"/>
                </a:moveTo>
                <a:lnTo>
                  <a:pt x="69828" y="0"/>
                </a:lnTo>
                <a:lnTo>
                  <a:pt x="68428" y="1400"/>
                </a:lnTo>
                <a:lnTo>
                  <a:pt x="1400" y="1400"/>
                </a:lnTo>
                <a:close/>
              </a:path>
              <a:path fill="darken" w="69828" h="21600">
                <a:moveTo>
                  <a:pt x="69828" y="0"/>
                </a:moveTo>
                <a:lnTo>
                  <a:pt x="69828" y="21600"/>
                </a:lnTo>
                <a:lnTo>
                  <a:pt x="68428" y="20200"/>
                </a:lnTo>
                <a:lnTo>
                  <a:pt x="68428" y="1400"/>
                </a:lnTo>
                <a:close/>
              </a:path>
              <a:path fill="darkenLess" w="69828" h="21600">
                <a:moveTo>
                  <a:pt x="69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28" y="20200"/>
                </a:lnTo>
                <a:close/>
              </a:path>
              <a:path fill="lighten" w="69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知识拓展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86" name="动作按钮: 自定义 105494"/>
          <p:cNvSpPr/>
          <p:nvPr/>
        </p:nvSpPr>
        <p:spPr>
          <a:xfrm>
            <a:off x="1668600" y="6480000"/>
            <a:ext cx="1079280" cy="333720"/>
          </a:xfrm>
          <a:custGeom>
            <a:avLst/>
            <a:gdLst>
              <a:gd name="textAreaLeft" fmla="*/ 21600 w 1079280"/>
              <a:gd name="textAreaRight" fmla="*/ 1057680 w 107928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04" h="21600">
                <a:moveTo>
                  <a:pt x="0" y="0"/>
                </a:moveTo>
                <a:lnTo>
                  <a:pt x="69804" y="0"/>
                </a:lnTo>
                <a:lnTo>
                  <a:pt x="69804" y="21600"/>
                </a:lnTo>
                <a:lnTo>
                  <a:pt x="0" y="21600"/>
                </a:lnTo>
                <a:close/>
              </a:path>
              <a:path fill="lightenLess" w="69804" h="21600">
                <a:moveTo>
                  <a:pt x="0" y="0"/>
                </a:moveTo>
                <a:lnTo>
                  <a:pt x="69804" y="0"/>
                </a:lnTo>
                <a:lnTo>
                  <a:pt x="68404" y="1400"/>
                </a:lnTo>
                <a:lnTo>
                  <a:pt x="1400" y="1400"/>
                </a:lnTo>
                <a:close/>
              </a:path>
              <a:path fill="darken" w="69804" h="21600">
                <a:moveTo>
                  <a:pt x="69804" y="0"/>
                </a:moveTo>
                <a:lnTo>
                  <a:pt x="69804" y="21600"/>
                </a:lnTo>
                <a:lnTo>
                  <a:pt x="68404" y="20200"/>
                </a:lnTo>
                <a:lnTo>
                  <a:pt x="68404" y="1400"/>
                </a:lnTo>
                <a:close/>
              </a:path>
              <a:path fill="darkenLess" w="69804" h="21600">
                <a:moveTo>
                  <a:pt x="698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04" y="20200"/>
                </a:lnTo>
                <a:close/>
              </a:path>
              <a:path fill="lighten" w="698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弟子述志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87" name="动作按钮: 自定义 105495"/>
          <p:cNvSpPr/>
          <p:nvPr/>
        </p:nvSpPr>
        <p:spPr>
          <a:xfrm>
            <a:off x="2868480" y="6480000"/>
            <a:ext cx="1079640" cy="333720"/>
          </a:xfrm>
          <a:custGeom>
            <a:avLst/>
            <a:gdLst>
              <a:gd name="textAreaLeft" fmla="*/ 21600 w 1079640"/>
              <a:gd name="textAreaRight" fmla="*/ 1058040 w 107964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28" h="21600">
                <a:moveTo>
                  <a:pt x="0" y="0"/>
                </a:moveTo>
                <a:lnTo>
                  <a:pt x="69828" y="0"/>
                </a:lnTo>
                <a:lnTo>
                  <a:pt x="69828" y="21600"/>
                </a:lnTo>
                <a:lnTo>
                  <a:pt x="0" y="21600"/>
                </a:lnTo>
                <a:close/>
              </a:path>
              <a:path fill="lightenLess" w="69828" h="21600">
                <a:moveTo>
                  <a:pt x="0" y="0"/>
                </a:moveTo>
                <a:lnTo>
                  <a:pt x="69828" y="0"/>
                </a:lnTo>
                <a:lnTo>
                  <a:pt x="68428" y="1400"/>
                </a:lnTo>
                <a:lnTo>
                  <a:pt x="1400" y="1400"/>
                </a:lnTo>
                <a:close/>
              </a:path>
              <a:path fill="darken" w="69828" h="21600">
                <a:moveTo>
                  <a:pt x="69828" y="0"/>
                </a:moveTo>
                <a:lnTo>
                  <a:pt x="69828" y="21600"/>
                </a:lnTo>
                <a:lnTo>
                  <a:pt x="68428" y="20200"/>
                </a:lnTo>
                <a:lnTo>
                  <a:pt x="68428" y="1400"/>
                </a:lnTo>
                <a:close/>
              </a:path>
              <a:path fill="darkenLess" w="69828" h="21600">
                <a:moveTo>
                  <a:pt x="69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28" y="20200"/>
                </a:lnTo>
                <a:close/>
              </a:path>
              <a:path fill="lighten" w="69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孔子评价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88" name="动作按钮: 自定义 105496"/>
          <p:cNvSpPr/>
          <p:nvPr/>
        </p:nvSpPr>
        <p:spPr>
          <a:xfrm>
            <a:off x="5268960" y="6480000"/>
            <a:ext cx="1079280" cy="333720"/>
          </a:xfrm>
          <a:custGeom>
            <a:avLst/>
            <a:gdLst>
              <a:gd name="textAreaLeft" fmla="*/ 21600 w 1079280"/>
              <a:gd name="textAreaRight" fmla="*/ 1057680 w 107928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04" h="21600">
                <a:moveTo>
                  <a:pt x="0" y="0"/>
                </a:moveTo>
                <a:lnTo>
                  <a:pt x="69804" y="0"/>
                </a:lnTo>
                <a:lnTo>
                  <a:pt x="69804" y="21600"/>
                </a:lnTo>
                <a:lnTo>
                  <a:pt x="0" y="21600"/>
                </a:lnTo>
                <a:close/>
              </a:path>
              <a:path fill="lightenLess" w="69804" h="21600">
                <a:moveTo>
                  <a:pt x="0" y="0"/>
                </a:moveTo>
                <a:lnTo>
                  <a:pt x="69804" y="0"/>
                </a:lnTo>
                <a:lnTo>
                  <a:pt x="68404" y="1400"/>
                </a:lnTo>
                <a:lnTo>
                  <a:pt x="1400" y="1400"/>
                </a:lnTo>
                <a:close/>
              </a:path>
              <a:path fill="darken" w="69804" h="21600">
                <a:moveTo>
                  <a:pt x="69804" y="0"/>
                </a:moveTo>
                <a:lnTo>
                  <a:pt x="69804" y="21600"/>
                </a:lnTo>
                <a:lnTo>
                  <a:pt x="68404" y="20200"/>
                </a:lnTo>
                <a:lnTo>
                  <a:pt x="68404" y="1400"/>
                </a:lnTo>
                <a:close/>
              </a:path>
              <a:path fill="darkenLess" w="69804" h="21600">
                <a:moveTo>
                  <a:pt x="698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04" y="20200"/>
                </a:lnTo>
                <a:close/>
              </a:path>
              <a:path fill="lighten" w="698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师生探究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89" name="动作按钮: 自定义 105498"/>
          <p:cNvSpPr/>
          <p:nvPr/>
        </p:nvSpPr>
        <p:spPr>
          <a:xfrm>
            <a:off x="6516720" y="6524640"/>
            <a:ext cx="1079640" cy="333360"/>
          </a:xfrm>
          <a:custGeom>
            <a:avLst/>
            <a:gdLst>
              <a:gd name="textAreaLeft" fmla="*/ 21600 w 1079640"/>
              <a:gd name="textAreaRight" fmla="*/ 1058040 w 1079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69903" h="21600">
                <a:moveTo>
                  <a:pt x="0" y="0"/>
                </a:moveTo>
                <a:lnTo>
                  <a:pt x="69903" y="0"/>
                </a:lnTo>
                <a:lnTo>
                  <a:pt x="69903" y="21600"/>
                </a:lnTo>
                <a:lnTo>
                  <a:pt x="0" y="21600"/>
                </a:lnTo>
                <a:close/>
              </a:path>
              <a:path fill="lightenLess" w="69903" h="21600">
                <a:moveTo>
                  <a:pt x="0" y="0"/>
                </a:moveTo>
                <a:lnTo>
                  <a:pt x="69903" y="0"/>
                </a:lnTo>
                <a:lnTo>
                  <a:pt x="68503" y="1400"/>
                </a:lnTo>
                <a:lnTo>
                  <a:pt x="1400" y="1400"/>
                </a:lnTo>
                <a:close/>
              </a:path>
              <a:path fill="darken" w="69903" h="21600">
                <a:moveTo>
                  <a:pt x="69903" y="0"/>
                </a:moveTo>
                <a:lnTo>
                  <a:pt x="69903" y="21600"/>
                </a:lnTo>
                <a:lnTo>
                  <a:pt x="68503" y="20200"/>
                </a:lnTo>
                <a:lnTo>
                  <a:pt x="68503" y="1400"/>
                </a:lnTo>
                <a:close/>
              </a:path>
              <a:path fill="darkenLess" w="69903" h="21600">
                <a:moveTo>
                  <a:pt x="699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503" y="20200"/>
                </a:lnTo>
                <a:close/>
              </a:path>
              <a:path fill="lighten" w="699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知识链接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9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9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9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9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5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0" dur="5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5" dur="500"/>
                                        <p:tgtEl>
                                          <p:spTgt spid="1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0" dur="5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5" dur="5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55504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Verdana"/>
              </a:rPr>
              <a:t>从</a:t>
            </a:r>
            <a:r>
              <a:rPr b="1" lang="zh-CN" sz="6000" spc="-1" strike="noStrike">
                <a:solidFill>
                  <a:srgbClr val="0000cc"/>
                </a:solidFill>
                <a:latin typeface="Times New Roman"/>
              </a:rPr>
              <a:t>“</a:t>
            </a:r>
            <a:r>
              <a:rPr b="1" lang="zh-CN" sz="6000" spc="-1" strike="noStrike">
                <a:solidFill>
                  <a:srgbClr val="0000cc"/>
                </a:solidFill>
                <a:latin typeface="Verdana"/>
              </a:rPr>
              <a:t>弟子述志</a:t>
            </a:r>
            <a:r>
              <a:rPr b="1" lang="zh-CN" sz="6000" spc="-1" strike="noStrike">
                <a:solidFill>
                  <a:srgbClr val="0000cc"/>
                </a:solidFill>
                <a:latin typeface="Times New Roman"/>
              </a:rPr>
              <a:t>”</a:t>
            </a:r>
            <a:r>
              <a:rPr b="1" lang="zh-CN" sz="6000" spc="-1" strike="noStrike">
                <a:solidFill>
                  <a:srgbClr val="0000cc"/>
                </a:solidFill>
                <a:latin typeface="Verdana"/>
              </a:rPr>
              <a:t>中可以看出他们的什么</a:t>
            </a:r>
            <a:r>
              <a:rPr b="1" lang="zh-CN" sz="6000" spc="-1" strike="noStrike">
                <a:solidFill>
                  <a:srgbClr val="0000cc"/>
                </a:solidFill>
                <a:latin typeface="Times New Roman"/>
              </a:rPr>
              <a:t>“</a:t>
            </a:r>
            <a:r>
              <a:rPr b="1" lang="zh-CN" sz="6000" spc="-1" strike="noStrike">
                <a:solidFill>
                  <a:srgbClr val="0000cc"/>
                </a:solidFill>
                <a:latin typeface="Verdana"/>
              </a:rPr>
              <a:t>志</a:t>
            </a:r>
            <a:r>
              <a:rPr b="1" lang="zh-CN" sz="6000" spc="-1" strike="noStrike">
                <a:solidFill>
                  <a:srgbClr val="0000cc"/>
                </a:solidFill>
                <a:latin typeface="Times New Roman"/>
              </a:rPr>
              <a:t>”</a:t>
            </a:r>
            <a:r>
              <a:rPr b="1" lang="zh-CN" sz="6000" spc="-1" strike="noStrike">
                <a:solidFill>
                  <a:srgbClr val="0000cc"/>
                </a:solidFill>
                <a:latin typeface="Verdana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文本框 106499"/>
          <p:cNvSpPr/>
          <p:nvPr/>
        </p:nvSpPr>
        <p:spPr>
          <a:xfrm>
            <a:off x="4500720" y="76500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xī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58" name="文本框 106500"/>
          <p:cNvSpPr/>
          <p:nvPr/>
        </p:nvSpPr>
        <p:spPr>
          <a:xfrm>
            <a:off x="5867280" y="76500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rǎn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59" name="文本框 106501"/>
          <p:cNvSpPr/>
          <p:nvPr/>
        </p:nvSpPr>
        <p:spPr>
          <a:xfrm>
            <a:off x="5148360" y="198900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shì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1860" name="对象 106505"/>
          <p:cNvGraphicFramePr/>
          <p:nvPr/>
        </p:nvGraphicFramePr>
        <p:xfrm>
          <a:off x="2897280" y="5013360"/>
          <a:ext cx="3619440" cy="129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61" name="对象 10650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7280" y="5013360"/>
                    <a:ext cx="3619440" cy="1295280"/>
                  </a:xfrm>
                  <a:prstGeom prst="rect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62" name="动作按钮: 自定义 106511">
            <a:hlinkClick r:id="rId4" action="ppaction://hlinksldjump"/>
          </p:cNvPr>
          <p:cNvSpPr/>
          <p:nvPr/>
        </p:nvSpPr>
        <p:spPr>
          <a:xfrm>
            <a:off x="468360" y="6480000"/>
            <a:ext cx="1079280" cy="333720"/>
          </a:xfrm>
          <a:custGeom>
            <a:avLst/>
            <a:gdLst>
              <a:gd name="textAreaLeft" fmla="*/ 21600 w 1079280"/>
              <a:gd name="textAreaRight" fmla="*/ 1057680 w 107928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04" h="21600">
                <a:moveTo>
                  <a:pt x="0" y="0"/>
                </a:moveTo>
                <a:lnTo>
                  <a:pt x="69804" y="0"/>
                </a:lnTo>
                <a:lnTo>
                  <a:pt x="69804" y="21600"/>
                </a:lnTo>
                <a:lnTo>
                  <a:pt x="0" y="21600"/>
                </a:lnTo>
                <a:close/>
              </a:path>
              <a:path fill="lightenLess" w="69804" h="21600">
                <a:moveTo>
                  <a:pt x="0" y="0"/>
                </a:moveTo>
                <a:lnTo>
                  <a:pt x="69804" y="0"/>
                </a:lnTo>
                <a:lnTo>
                  <a:pt x="68404" y="1400"/>
                </a:lnTo>
                <a:lnTo>
                  <a:pt x="1400" y="1400"/>
                </a:lnTo>
                <a:close/>
              </a:path>
              <a:path fill="darken" w="69804" h="21600">
                <a:moveTo>
                  <a:pt x="69804" y="0"/>
                </a:moveTo>
                <a:lnTo>
                  <a:pt x="69804" y="21600"/>
                </a:lnTo>
                <a:lnTo>
                  <a:pt x="68404" y="20200"/>
                </a:lnTo>
                <a:lnTo>
                  <a:pt x="68404" y="1400"/>
                </a:lnTo>
                <a:close/>
              </a:path>
              <a:path fill="darkenLess" w="69804" h="21600">
                <a:moveTo>
                  <a:pt x="698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04" y="20200"/>
                </a:lnTo>
                <a:close/>
              </a:path>
              <a:path fill="lighten" w="698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整体感知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63" name="动作按钮: 自定义 106513">
            <a:hlinkClick r:id="rId5" action="ppaction://hlinksldjump"/>
          </p:cNvPr>
          <p:cNvSpPr/>
          <p:nvPr/>
        </p:nvSpPr>
        <p:spPr>
          <a:xfrm>
            <a:off x="4068720" y="6480000"/>
            <a:ext cx="1079640" cy="333720"/>
          </a:xfrm>
          <a:custGeom>
            <a:avLst/>
            <a:gdLst>
              <a:gd name="textAreaLeft" fmla="*/ 21600 w 1079640"/>
              <a:gd name="textAreaRight" fmla="*/ 1058040 w 107964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28" h="21600">
                <a:moveTo>
                  <a:pt x="0" y="0"/>
                </a:moveTo>
                <a:lnTo>
                  <a:pt x="69828" y="0"/>
                </a:lnTo>
                <a:lnTo>
                  <a:pt x="69828" y="21600"/>
                </a:lnTo>
                <a:lnTo>
                  <a:pt x="0" y="21600"/>
                </a:lnTo>
                <a:close/>
              </a:path>
              <a:path fill="lightenLess" w="69828" h="21600">
                <a:moveTo>
                  <a:pt x="0" y="0"/>
                </a:moveTo>
                <a:lnTo>
                  <a:pt x="69828" y="0"/>
                </a:lnTo>
                <a:lnTo>
                  <a:pt x="68428" y="1400"/>
                </a:lnTo>
                <a:lnTo>
                  <a:pt x="1400" y="1400"/>
                </a:lnTo>
                <a:close/>
              </a:path>
              <a:path fill="darken" w="69828" h="21600">
                <a:moveTo>
                  <a:pt x="69828" y="0"/>
                </a:moveTo>
                <a:lnTo>
                  <a:pt x="69828" y="21600"/>
                </a:lnTo>
                <a:lnTo>
                  <a:pt x="68428" y="20200"/>
                </a:lnTo>
                <a:lnTo>
                  <a:pt x="68428" y="1400"/>
                </a:lnTo>
                <a:close/>
              </a:path>
              <a:path fill="darkenLess" w="69828" h="21600">
                <a:moveTo>
                  <a:pt x="69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28" y="20200"/>
                </a:lnTo>
                <a:close/>
              </a:path>
              <a:path fill="lighten" w="69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知识拓展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64" name="动作按钮: 自定义 106514">
            <a:hlinkClick r:id="rId6" action="ppaction://hlinksldjump"/>
          </p:cNvPr>
          <p:cNvSpPr/>
          <p:nvPr/>
        </p:nvSpPr>
        <p:spPr>
          <a:xfrm>
            <a:off x="1668600" y="6480000"/>
            <a:ext cx="1079280" cy="333720"/>
          </a:xfrm>
          <a:custGeom>
            <a:avLst/>
            <a:gdLst>
              <a:gd name="textAreaLeft" fmla="*/ 21600 w 1079280"/>
              <a:gd name="textAreaRight" fmla="*/ 1057680 w 107928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04" h="21600">
                <a:moveTo>
                  <a:pt x="0" y="0"/>
                </a:moveTo>
                <a:lnTo>
                  <a:pt x="69804" y="0"/>
                </a:lnTo>
                <a:lnTo>
                  <a:pt x="69804" y="21600"/>
                </a:lnTo>
                <a:lnTo>
                  <a:pt x="0" y="21600"/>
                </a:lnTo>
                <a:close/>
              </a:path>
              <a:path fill="lightenLess" w="69804" h="21600">
                <a:moveTo>
                  <a:pt x="0" y="0"/>
                </a:moveTo>
                <a:lnTo>
                  <a:pt x="69804" y="0"/>
                </a:lnTo>
                <a:lnTo>
                  <a:pt x="68404" y="1400"/>
                </a:lnTo>
                <a:lnTo>
                  <a:pt x="1400" y="1400"/>
                </a:lnTo>
                <a:close/>
              </a:path>
              <a:path fill="darken" w="69804" h="21600">
                <a:moveTo>
                  <a:pt x="69804" y="0"/>
                </a:moveTo>
                <a:lnTo>
                  <a:pt x="69804" y="21600"/>
                </a:lnTo>
                <a:lnTo>
                  <a:pt x="68404" y="20200"/>
                </a:lnTo>
                <a:lnTo>
                  <a:pt x="68404" y="1400"/>
                </a:lnTo>
                <a:close/>
              </a:path>
              <a:path fill="darkenLess" w="69804" h="21600">
                <a:moveTo>
                  <a:pt x="698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04" y="20200"/>
                </a:lnTo>
                <a:close/>
              </a:path>
              <a:path fill="lighten" w="698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弟子述志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65" name="动作按钮: 自定义 106515">
            <a:hlinkClick r:id="rId7" action="ppaction://hlinksldjump"/>
          </p:cNvPr>
          <p:cNvSpPr/>
          <p:nvPr/>
        </p:nvSpPr>
        <p:spPr>
          <a:xfrm>
            <a:off x="2868480" y="6480000"/>
            <a:ext cx="1079640" cy="333720"/>
          </a:xfrm>
          <a:custGeom>
            <a:avLst/>
            <a:gdLst>
              <a:gd name="textAreaLeft" fmla="*/ 21600 w 1079640"/>
              <a:gd name="textAreaRight" fmla="*/ 1058040 w 107964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28" h="21600">
                <a:moveTo>
                  <a:pt x="0" y="0"/>
                </a:moveTo>
                <a:lnTo>
                  <a:pt x="69828" y="0"/>
                </a:lnTo>
                <a:lnTo>
                  <a:pt x="69828" y="21600"/>
                </a:lnTo>
                <a:lnTo>
                  <a:pt x="0" y="21600"/>
                </a:lnTo>
                <a:close/>
              </a:path>
              <a:path fill="lightenLess" w="69828" h="21600">
                <a:moveTo>
                  <a:pt x="0" y="0"/>
                </a:moveTo>
                <a:lnTo>
                  <a:pt x="69828" y="0"/>
                </a:lnTo>
                <a:lnTo>
                  <a:pt x="68428" y="1400"/>
                </a:lnTo>
                <a:lnTo>
                  <a:pt x="1400" y="1400"/>
                </a:lnTo>
                <a:close/>
              </a:path>
              <a:path fill="darken" w="69828" h="21600">
                <a:moveTo>
                  <a:pt x="69828" y="0"/>
                </a:moveTo>
                <a:lnTo>
                  <a:pt x="69828" y="21600"/>
                </a:lnTo>
                <a:lnTo>
                  <a:pt x="68428" y="20200"/>
                </a:lnTo>
                <a:lnTo>
                  <a:pt x="68428" y="1400"/>
                </a:lnTo>
                <a:close/>
              </a:path>
              <a:path fill="darkenLess" w="69828" h="21600">
                <a:moveTo>
                  <a:pt x="69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28" y="20200"/>
                </a:lnTo>
                <a:close/>
              </a:path>
              <a:path fill="lighten" w="69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孔子评价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66" name="动作按钮: 自定义 106516"/>
          <p:cNvSpPr/>
          <p:nvPr/>
        </p:nvSpPr>
        <p:spPr>
          <a:xfrm>
            <a:off x="5268960" y="6480000"/>
            <a:ext cx="1079280" cy="333720"/>
          </a:xfrm>
          <a:custGeom>
            <a:avLst/>
            <a:gdLst>
              <a:gd name="textAreaLeft" fmla="*/ 21600 w 1079280"/>
              <a:gd name="textAreaRight" fmla="*/ 1057680 w 107928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04" h="21600">
                <a:moveTo>
                  <a:pt x="0" y="0"/>
                </a:moveTo>
                <a:lnTo>
                  <a:pt x="69804" y="0"/>
                </a:lnTo>
                <a:lnTo>
                  <a:pt x="69804" y="21600"/>
                </a:lnTo>
                <a:lnTo>
                  <a:pt x="0" y="21600"/>
                </a:lnTo>
                <a:close/>
              </a:path>
              <a:path fill="lightenLess" w="69804" h="21600">
                <a:moveTo>
                  <a:pt x="0" y="0"/>
                </a:moveTo>
                <a:lnTo>
                  <a:pt x="69804" y="0"/>
                </a:lnTo>
                <a:lnTo>
                  <a:pt x="68404" y="1400"/>
                </a:lnTo>
                <a:lnTo>
                  <a:pt x="1400" y="1400"/>
                </a:lnTo>
                <a:close/>
              </a:path>
              <a:path fill="darken" w="69804" h="21600">
                <a:moveTo>
                  <a:pt x="69804" y="0"/>
                </a:moveTo>
                <a:lnTo>
                  <a:pt x="69804" y="21600"/>
                </a:lnTo>
                <a:lnTo>
                  <a:pt x="68404" y="20200"/>
                </a:lnTo>
                <a:lnTo>
                  <a:pt x="68404" y="1400"/>
                </a:lnTo>
                <a:close/>
              </a:path>
              <a:path fill="darkenLess" w="69804" h="21600">
                <a:moveTo>
                  <a:pt x="698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04" y="20200"/>
                </a:lnTo>
                <a:close/>
              </a:path>
              <a:path fill="lighten" w="698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师生探究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67" name="动作按钮: 自定义 106517"/>
          <p:cNvSpPr/>
          <p:nvPr/>
        </p:nvSpPr>
        <p:spPr>
          <a:xfrm>
            <a:off x="6469200" y="6480000"/>
            <a:ext cx="1079280" cy="333720"/>
          </a:xfrm>
          <a:custGeom>
            <a:avLst/>
            <a:gdLst>
              <a:gd name="textAreaLeft" fmla="*/ 21600 w 1079280"/>
              <a:gd name="textAreaRight" fmla="*/ 1057680 w 107928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04" h="21600">
                <a:moveTo>
                  <a:pt x="0" y="0"/>
                </a:moveTo>
                <a:lnTo>
                  <a:pt x="69804" y="0"/>
                </a:lnTo>
                <a:lnTo>
                  <a:pt x="69804" y="21600"/>
                </a:lnTo>
                <a:lnTo>
                  <a:pt x="0" y="21600"/>
                </a:lnTo>
                <a:close/>
              </a:path>
              <a:path fill="lightenLess" w="69804" h="21600">
                <a:moveTo>
                  <a:pt x="0" y="0"/>
                </a:moveTo>
                <a:lnTo>
                  <a:pt x="69804" y="0"/>
                </a:lnTo>
                <a:lnTo>
                  <a:pt x="68404" y="1400"/>
                </a:lnTo>
                <a:lnTo>
                  <a:pt x="1400" y="1400"/>
                </a:lnTo>
                <a:close/>
              </a:path>
              <a:path fill="darken" w="69804" h="21600">
                <a:moveTo>
                  <a:pt x="69804" y="0"/>
                </a:moveTo>
                <a:lnTo>
                  <a:pt x="69804" y="21600"/>
                </a:lnTo>
                <a:lnTo>
                  <a:pt x="68404" y="20200"/>
                </a:lnTo>
                <a:lnTo>
                  <a:pt x="68404" y="1400"/>
                </a:lnTo>
                <a:close/>
              </a:path>
              <a:path fill="darkenLess" w="69804" h="21600">
                <a:moveTo>
                  <a:pt x="698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04" y="20200"/>
                </a:lnTo>
                <a:close/>
              </a:path>
              <a:path fill="lighten" w="698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课后作业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68" name="动作按钮: 自定义 106518">
            <a:hlinkClick r:id="rId8" action="ppaction://hlinksldjump"/>
          </p:cNvPr>
          <p:cNvSpPr/>
          <p:nvPr/>
        </p:nvSpPr>
        <p:spPr>
          <a:xfrm>
            <a:off x="7669080" y="6480000"/>
            <a:ext cx="1079640" cy="333720"/>
          </a:xfrm>
          <a:custGeom>
            <a:avLst/>
            <a:gdLst>
              <a:gd name="textAreaLeft" fmla="*/ 21600 w 1079640"/>
              <a:gd name="textAreaRight" fmla="*/ 1058040 w 107964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28" h="21600">
                <a:moveTo>
                  <a:pt x="0" y="0"/>
                </a:moveTo>
                <a:lnTo>
                  <a:pt x="69828" y="0"/>
                </a:lnTo>
                <a:lnTo>
                  <a:pt x="69828" y="21600"/>
                </a:lnTo>
                <a:lnTo>
                  <a:pt x="0" y="21600"/>
                </a:lnTo>
                <a:close/>
              </a:path>
              <a:path fill="lightenLess" w="69828" h="21600">
                <a:moveTo>
                  <a:pt x="0" y="0"/>
                </a:moveTo>
                <a:lnTo>
                  <a:pt x="69828" y="0"/>
                </a:lnTo>
                <a:lnTo>
                  <a:pt x="68428" y="1400"/>
                </a:lnTo>
                <a:lnTo>
                  <a:pt x="1400" y="1400"/>
                </a:lnTo>
                <a:close/>
              </a:path>
              <a:path fill="darken" w="69828" h="21600">
                <a:moveTo>
                  <a:pt x="69828" y="0"/>
                </a:moveTo>
                <a:lnTo>
                  <a:pt x="69828" y="21600"/>
                </a:lnTo>
                <a:lnTo>
                  <a:pt x="68428" y="20200"/>
                </a:lnTo>
                <a:lnTo>
                  <a:pt x="68428" y="1400"/>
                </a:lnTo>
                <a:close/>
              </a:path>
              <a:path fill="darkenLess" w="69828" h="21600">
                <a:moveTo>
                  <a:pt x="69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28" y="20200"/>
                </a:lnTo>
                <a:close/>
              </a:path>
              <a:path fill="lighten" w="69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知识链接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Text Box 2"/>
          <p:cNvSpPr/>
          <p:nvPr/>
        </p:nvSpPr>
        <p:spPr>
          <a:xfrm>
            <a:off x="1116000" y="1052640"/>
            <a:ext cx="2158920" cy="446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子路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0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冉有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0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公西华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0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曾皙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92" name="Text Box 3"/>
          <p:cNvSpPr/>
          <p:nvPr/>
        </p:nvSpPr>
        <p:spPr>
          <a:xfrm>
            <a:off x="5219640" y="1052640"/>
            <a:ext cx="2737080" cy="439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个人志向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0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军事治国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0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礼乐治国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0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经济治国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93" name="矩形 7"/>
          <p:cNvSpPr/>
          <p:nvPr/>
        </p:nvSpPr>
        <p:spPr>
          <a:xfrm>
            <a:off x="4176000" y="278136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1" lang="en-US" sz="9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0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816264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《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礼记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·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曲礼上</a:t>
            </a: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》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规定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684000" y="2565000"/>
            <a:ext cx="7777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长者不及，勿谗言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这就是说在长者面前，如不问及，是非礼的，所以受到孔子的哂笑。这种形式的主动发言，并不被孔子所提倡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6" name="动作按钮: 后退或前一项 70659"/>
          <p:cNvSpPr/>
          <p:nvPr/>
        </p:nvSpPr>
        <p:spPr>
          <a:xfrm>
            <a:off x="8101080" y="530064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10800"/>
                </a:moveTo>
                <a:lnTo>
                  <a:pt x="21412" y="3794"/>
                </a:lnTo>
                <a:lnTo>
                  <a:pt x="2141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97" name="动作按钮: 后退或前一项 70660">
            <a:hlinkClick r:id="" action="ppaction://hlinkshowjump?jump=previousslide"/>
          </p:cNvPr>
          <p:cNvSpPr/>
          <p:nvPr/>
        </p:nvSpPr>
        <p:spPr>
          <a:xfrm>
            <a:off x="7524720" y="5805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98" name="动作按钮: 前进或下一项 70661">
            <a:hlinkClick r:id="" action="ppaction://hlinkshowjump?jump=nextslide"/>
          </p:cNvPr>
          <p:cNvSpPr/>
          <p:nvPr/>
        </p:nvSpPr>
        <p:spPr>
          <a:xfrm>
            <a:off x="7956720" y="5805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6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99" name="动作按钮: 上一张 70662"/>
          <p:cNvSpPr/>
          <p:nvPr/>
        </p:nvSpPr>
        <p:spPr>
          <a:xfrm>
            <a:off x="8388360" y="5805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66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000" name="图片 70664" descr="图片1"/>
          <p:cNvPicPr/>
          <p:nvPr/>
        </p:nvPicPr>
        <p:blipFill>
          <a:blip r:embed="rId2"/>
          <a:stretch/>
        </p:blipFill>
        <p:spPr>
          <a:xfrm>
            <a:off x="3203640" y="620640"/>
            <a:ext cx="2619360" cy="819360"/>
          </a:xfrm>
          <a:prstGeom prst="rect">
            <a:avLst/>
          </a:prstGeom>
          <a:ln w="0">
            <a:noFill/>
          </a:ln>
        </p:spPr>
      </p:pic>
      <p:sp>
        <p:nvSpPr>
          <p:cNvPr id="2001" name="动作按钮: 自定义 70665"/>
          <p:cNvSpPr/>
          <p:nvPr/>
        </p:nvSpPr>
        <p:spPr>
          <a:xfrm>
            <a:off x="468360" y="6480000"/>
            <a:ext cx="1079280" cy="333720"/>
          </a:xfrm>
          <a:custGeom>
            <a:avLst/>
            <a:gdLst>
              <a:gd name="textAreaLeft" fmla="*/ 21600 w 1079280"/>
              <a:gd name="textAreaRight" fmla="*/ 1057680 w 107928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04" h="21600">
                <a:moveTo>
                  <a:pt x="0" y="0"/>
                </a:moveTo>
                <a:lnTo>
                  <a:pt x="69804" y="0"/>
                </a:lnTo>
                <a:lnTo>
                  <a:pt x="69804" y="21600"/>
                </a:lnTo>
                <a:lnTo>
                  <a:pt x="0" y="21600"/>
                </a:lnTo>
                <a:close/>
              </a:path>
              <a:path fill="lightenLess" w="69804" h="21600">
                <a:moveTo>
                  <a:pt x="0" y="0"/>
                </a:moveTo>
                <a:lnTo>
                  <a:pt x="69804" y="0"/>
                </a:lnTo>
                <a:lnTo>
                  <a:pt x="68404" y="1400"/>
                </a:lnTo>
                <a:lnTo>
                  <a:pt x="1400" y="1400"/>
                </a:lnTo>
                <a:close/>
              </a:path>
              <a:path fill="darken" w="69804" h="21600">
                <a:moveTo>
                  <a:pt x="69804" y="0"/>
                </a:moveTo>
                <a:lnTo>
                  <a:pt x="69804" y="21600"/>
                </a:lnTo>
                <a:lnTo>
                  <a:pt x="68404" y="20200"/>
                </a:lnTo>
                <a:lnTo>
                  <a:pt x="68404" y="1400"/>
                </a:lnTo>
                <a:close/>
              </a:path>
              <a:path fill="darkenLess" w="69804" h="21600">
                <a:moveTo>
                  <a:pt x="698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04" y="20200"/>
                </a:lnTo>
                <a:close/>
              </a:path>
              <a:path fill="lighten" w="698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整体感知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02" name="动作按钮: 自定义 70666"/>
          <p:cNvSpPr/>
          <p:nvPr/>
        </p:nvSpPr>
        <p:spPr>
          <a:xfrm>
            <a:off x="4068720" y="6480000"/>
            <a:ext cx="1079640" cy="333720"/>
          </a:xfrm>
          <a:custGeom>
            <a:avLst/>
            <a:gdLst>
              <a:gd name="textAreaLeft" fmla="*/ 21600 w 1079640"/>
              <a:gd name="textAreaRight" fmla="*/ 1058040 w 107964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28" h="21600">
                <a:moveTo>
                  <a:pt x="0" y="0"/>
                </a:moveTo>
                <a:lnTo>
                  <a:pt x="69828" y="0"/>
                </a:lnTo>
                <a:lnTo>
                  <a:pt x="69828" y="21600"/>
                </a:lnTo>
                <a:lnTo>
                  <a:pt x="0" y="21600"/>
                </a:lnTo>
                <a:close/>
              </a:path>
              <a:path fill="lightenLess" w="69828" h="21600">
                <a:moveTo>
                  <a:pt x="0" y="0"/>
                </a:moveTo>
                <a:lnTo>
                  <a:pt x="69828" y="0"/>
                </a:lnTo>
                <a:lnTo>
                  <a:pt x="68428" y="1400"/>
                </a:lnTo>
                <a:lnTo>
                  <a:pt x="1400" y="1400"/>
                </a:lnTo>
                <a:close/>
              </a:path>
              <a:path fill="darken" w="69828" h="21600">
                <a:moveTo>
                  <a:pt x="69828" y="0"/>
                </a:moveTo>
                <a:lnTo>
                  <a:pt x="69828" y="21600"/>
                </a:lnTo>
                <a:lnTo>
                  <a:pt x="68428" y="20200"/>
                </a:lnTo>
                <a:lnTo>
                  <a:pt x="68428" y="1400"/>
                </a:lnTo>
                <a:close/>
              </a:path>
              <a:path fill="darkenLess" w="69828" h="21600">
                <a:moveTo>
                  <a:pt x="69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28" y="20200"/>
                </a:lnTo>
                <a:close/>
              </a:path>
              <a:path fill="lighten" w="69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知识拓展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03" name="动作按钮: 自定义 70667"/>
          <p:cNvSpPr/>
          <p:nvPr/>
        </p:nvSpPr>
        <p:spPr>
          <a:xfrm>
            <a:off x="1668600" y="6480000"/>
            <a:ext cx="1079280" cy="333720"/>
          </a:xfrm>
          <a:custGeom>
            <a:avLst/>
            <a:gdLst>
              <a:gd name="textAreaLeft" fmla="*/ 21600 w 1079280"/>
              <a:gd name="textAreaRight" fmla="*/ 1057680 w 107928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04" h="21600">
                <a:moveTo>
                  <a:pt x="0" y="0"/>
                </a:moveTo>
                <a:lnTo>
                  <a:pt x="69804" y="0"/>
                </a:lnTo>
                <a:lnTo>
                  <a:pt x="69804" y="21600"/>
                </a:lnTo>
                <a:lnTo>
                  <a:pt x="0" y="21600"/>
                </a:lnTo>
                <a:close/>
              </a:path>
              <a:path fill="lightenLess" w="69804" h="21600">
                <a:moveTo>
                  <a:pt x="0" y="0"/>
                </a:moveTo>
                <a:lnTo>
                  <a:pt x="69804" y="0"/>
                </a:lnTo>
                <a:lnTo>
                  <a:pt x="68404" y="1400"/>
                </a:lnTo>
                <a:lnTo>
                  <a:pt x="1400" y="1400"/>
                </a:lnTo>
                <a:close/>
              </a:path>
              <a:path fill="darken" w="69804" h="21600">
                <a:moveTo>
                  <a:pt x="69804" y="0"/>
                </a:moveTo>
                <a:lnTo>
                  <a:pt x="69804" y="21600"/>
                </a:lnTo>
                <a:lnTo>
                  <a:pt x="68404" y="20200"/>
                </a:lnTo>
                <a:lnTo>
                  <a:pt x="68404" y="1400"/>
                </a:lnTo>
                <a:close/>
              </a:path>
              <a:path fill="darkenLess" w="69804" h="21600">
                <a:moveTo>
                  <a:pt x="698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04" y="20200"/>
                </a:lnTo>
                <a:close/>
              </a:path>
              <a:path fill="lighten" w="698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弟子述志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04" name="动作按钮: 自定义 70668"/>
          <p:cNvSpPr/>
          <p:nvPr/>
        </p:nvSpPr>
        <p:spPr>
          <a:xfrm>
            <a:off x="2868480" y="6480000"/>
            <a:ext cx="1079640" cy="333720"/>
          </a:xfrm>
          <a:custGeom>
            <a:avLst/>
            <a:gdLst>
              <a:gd name="textAreaLeft" fmla="*/ 21600 w 1079640"/>
              <a:gd name="textAreaRight" fmla="*/ 1058040 w 107964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28" h="21600">
                <a:moveTo>
                  <a:pt x="0" y="0"/>
                </a:moveTo>
                <a:lnTo>
                  <a:pt x="69828" y="0"/>
                </a:lnTo>
                <a:lnTo>
                  <a:pt x="69828" y="21600"/>
                </a:lnTo>
                <a:lnTo>
                  <a:pt x="0" y="21600"/>
                </a:lnTo>
                <a:close/>
              </a:path>
              <a:path fill="lightenLess" w="69828" h="21600">
                <a:moveTo>
                  <a:pt x="0" y="0"/>
                </a:moveTo>
                <a:lnTo>
                  <a:pt x="69828" y="0"/>
                </a:lnTo>
                <a:lnTo>
                  <a:pt x="68428" y="1400"/>
                </a:lnTo>
                <a:lnTo>
                  <a:pt x="1400" y="1400"/>
                </a:lnTo>
                <a:close/>
              </a:path>
              <a:path fill="darken" w="69828" h="21600">
                <a:moveTo>
                  <a:pt x="69828" y="0"/>
                </a:moveTo>
                <a:lnTo>
                  <a:pt x="69828" y="21600"/>
                </a:lnTo>
                <a:lnTo>
                  <a:pt x="68428" y="20200"/>
                </a:lnTo>
                <a:lnTo>
                  <a:pt x="68428" y="1400"/>
                </a:lnTo>
                <a:close/>
              </a:path>
              <a:path fill="darkenLess" w="69828" h="21600">
                <a:moveTo>
                  <a:pt x="69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28" y="20200"/>
                </a:lnTo>
                <a:close/>
              </a:path>
              <a:path fill="lighten" w="69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孔子评价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05" name="动作按钮: 自定义 70669"/>
          <p:cNvSpPr/>
          <p:nvPr/>
        </p:nvSpPr>
        <p:spPr>
          <a:xfrm>
            <a:off x="5268960" y="6480000"/>
            <a:ext cx="1079280" cy="333720"/>
          </a:xfrm>
          <a:custGeom>
            <a:avLst/>
            <a:gdLst>
              <a:gd name="textAreaLeft" fmla="*/ 21600 w 1079280"/>
              <a:gd name="textAreaRight" fmla="*/ 1057680 w 107928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04" h="21600">
                <a:moveTo>
                  <a:pt x="0" y="0"/>
                </a:moveTo>
                <a:lnTo>
                  <a:pt x="69804" y="0"/>
                </a:lnTo>
                <a:lnTo>
                  <a:pt x="69804" y="21600"/>
                </a:lnTo>
                <a:lnTo>
                  <a:pt x="0" y="21600"/>
                </a:lnTo>
                <a:close/>
              </a:path>
              <a:path fill="lightenLess" w="69804" h="21600">
                <a:moveTo>
                  <a:pt x="0" y="0"/>
                </a:moveTo>
                <a:lnTo>
                  <a:pt x="69804" y="0"/>
                </a:lnTo>
                <a:lnTo>
                  <a:pt x="68404" y="1400"/>
                </a:lnTo>
                <a:lnTo>
                  <a:pt x="1400" y="1400"/>
                </a:lnTo>
                <a:close/>
              </a:path>
              <a:path fill="darken" w="69804" h="21600">
                <a:moveTo>
                  <a:pt x="69804" y="0"/>
                </a:moveTo>
                <a:lnTo>
                  <a:pt x="69804" y="21600"/>
                </a:lnTo>
                <a:lnTo>
                  <a:pt x="68404" y="20200"/>
                </a:lnTo>
                <a:lnTo>
                  <a:pt x="68404" y="1400"/>
                </a:lnTo>
                <a:close/>
              </a:path>
              <a:path fill="darkenLess" w="69804" h="21600">
                <a:moveTo>
                  <a:pt x="698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04" y="20200"/>
                </a:lnTo>
                <a:close/>
              </a:path>
              <a:path fill="lighten" w="698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师生探究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06" name="动作按钮: 自定义 70670"/>
          <p:cNvSpPr/>
          <p:nvPr/>
        </p:nvSpPr>
        <p:spPr>
          <a:xfrm>
            <a:off x="6469200" y="6480000"/>
            <a:ext cx="1079280" cy="333720"/>
          </a:xfrm>
          <a:custGeom>
            <a:avLst/>
            <a:gdLst>
              <a:gd name="textAreaLeft" fmla="*/ 21600 w 1079280"/>
              <a:gd name="textAreaRight" fmla="*/ 1057680 w 107928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04" h="21600">
                <a:moveTo>
                  <a:pt x="0" y="0"/>
                </a:moveTo>
                <a:lnTo>
                  <a:pt x="69804" y="0"/>
                </a:lnTo>
                <a:lnTo>
                  <a:pt x="69804" y="21600"/>
                </a:lnTo>
                <a:lnTo>
                  <a:pt x="0" y="21600"/>
                </a:lnTo>
                <a:close/>
              </a:path>
              <a:path fill="lightenLess" w="69804" h="21600">
                <a:moveTo>
                  <a:pt x="0" y="0"/>
                </a:moveTo>
                <a:lnTo>
                  <a:pt x="69804" y="0"/>
                </a:lnTo>
                <a:lnTo>
                  <a:pt x="68404" y="1400"/>
                </a:lnTo>
                <a:lnTo>
                  <a:pt x="1400" y="1400"/>
                </a:lnTo>
                <a:close/>
              </a:path>
              <a:path fill="darken" w="69804" h="21600">
                <a:moveTo>
                  <a:pt x="69804" y="0"/>
                </a:moveTo>
                <a:lnTo>
                  <a:pt x="69804" y="21600"/>
                </a:lnTo>
                <a:lnTo>
                  <a:pt x="68404" y="20200"/>
                </a:lnTo>
                <a:lnTo>
                  <a:pt x="68404" y="1400"/>
                </a:lnTo>
                <a:close/>
              </a:path>
              <a:path fill="darkenLess" w="69804" h="21600">
                <a:moveTo>
                  <a:pt x="698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04" y="20200"/>
                </a:lnTo>
                <a:close/>
              </a:path>
              <a:path fill="lighten" w="698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课后作业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07" name="动作按钮: 自定义 70671"/>
          <p:cNvSpPr/>
          <p:nvPr/>
        </p:nvSpPr>
        <p:spPr>
          <a:xfrm>
            <a:off x="7669080" y="6480000"/>
            <a:ext cx="1079640" cy="333720"/>
          </a:xfrm>
          <a:custGeom>
            <a:avLst/>
            <a:gdLst>
              <a:gd name="textAreaLeft" fmla="*/ 21600 w 1079640"/>
              <a:gd name="textAreaRight" fmla="*/ 1058040 w 107964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28" h="21600">
                <a:moveTo>
                  <a:pt x="0" y="0"/>
                </a:moveTo>
                <a:lnTo>
                  <a:pt x="69828" y="0"/>
                </a:lnTo>
                <a:lnTo>
                  <a:pt x="69828" y="21600"/>
                </a:lnTo>
                <a:lnTo>
                  <a:pt x="0" y="21600"/>
                </a:lnTo>
                <a:close/>
              </a:path>
              <a:path fill="lightenLess" w="69828" h="21600">
                <a:moveTo>
                  <a:pt x="0" y="0"/>
                </a:moveTo>
                <a:lnTo>
                  <a:pt x="69828" y="0"/>
                </a:lnTo>
                <a:lnTo>
                  <a:pt x="68428" y="1400"/>
                </a:lnTo>
                <a:lnTo>
                  <a:pt x="1400" y="1400"/>
                </a:lnTo>
                <a:close/>
              </a:path>
              <a:path fill="darken" w="69828" h="21600">
                <a:moveTo>
                  <a:pt x="69828" y="0"/>
                </a:moveTo>
                <a:lnTo>
                  <a:pt x="69828" y="21600"/>
                </a:lnTo>
                <a:lnTo>
                  <a:pt x="68428" y="20200"/>
                </a:lnTo>
                <a:lnTo>
                  <a:pt x="68428" y="1400"/>
                </a:lnTo>
                <a:close/>
              </a:path>
              <a:path fill="darkenLess" w="69828" h="21600">
                <a:moveTo>
                  <a:pt x="69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28" y="20200"/>
                </a:lnTo>
                <a:close/>
              </a:path>
              <a:path fill="lighten" w="69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知识链接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cc"/>
                </a:solidFill>
                <a:latin typeface="Verdana"/>
              </a:rPr>
              <a:t>从他们的言谈中可以看出弟子们各自什么性格？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矩形 3"/>
          <p:cNvSpPr/>
          <p:nvPr/>
        </p:nvSpPr>
        <p:spPr>
          <a:xfrm>
            <a:off x="250920" y="1052640"/>
            <a:ext cx="88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隶书"/>
                <a:ea typeface="隶书"/>
              </a:rPr>
              <a:t>子路、曾皙、冉有、公西华侍坐</a:t>
            </a: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11" name="TextBox 4"/>
          <p:cNvSpPr/>
          <p:nvPr/>
        </p:nvSpPr>
        <p:spPr>
          <a:xfrm>
            <a:off x="612720" y="1832040"/>
            <a:ext cx="80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12" name="TextBox 5"/>
          <p:cNvSpPr/>
          <p:nvPr/>
        </p:nvSpPr>
        <p:spPr>
          <a:xfrm>
            <a:off x="2484360" y="1773360"/>
            <a:ext cx="80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9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13" name="TextBox 6"/>
          <p:cNvSpPr/>
          <p:nvPr/>
        </p:nvSpPr>
        <p:spPr>
          <a:xfrm>
            <a:off x="4356000" y="1773360"/>
            <a:ext cx="80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14" name="TextBox 7"/>
          <p:cNvSpPr/>
          <p:nvPr/>
        </p:nvSpPr>
        <p:spPr>
          <a:xfrm>
            <a:off x="6454800" y="181944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岁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2015" name=""/>
          <p:cNvGraphicFramePr/>
          <p:nvPr/>
        </p:nvGraphicFramePr>
        <p:xfrm>
          <a:off x="250920" y="2276640"/>
          <a:ext cx="8893080" cy="4581360"/>
        </p:xfrm>
        <a:graphic>
          <a:graphicData uri="http://schemas.openxmlformats.org/drawingml/2006/table">
            <a:tbl>
              <a:tblPr/>
              <a:tblGrid>
                <a:gridCol w="2332080"/>
                <a:gridCol w="6561000"/>
              </a:tblGrid>
              <a:tr h="91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人物</a:t>
                      </a:r>
                      <a:endParaRPr b="1" lang="en-US" sz="4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人物性格</a:t>
                      </a:r>
                      <a:endParaRPr b="1" lang="en-US" sz="4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1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子路</a:t>
                      </a:r>
                      <a:endParaRPr b="1" lang="en-US" sz="4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91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冉有</a:t>
                      </a:r>
                      <a:endParaRPr b="1" lang="en-US" sz="4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91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公西华</a:t>
                      </a:r>
                      <a:endParaRPr b="1" lang="en-US" sz="4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91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曾皙</a:t>
                      </a:r>
                      <a:endParaRPr b="1" lang="en-US" sz="4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2016" name="TextBox 10"/>
          <p:cNvSpPr/>
          <p:nvPr/>
        </p:nvSpPr>
        <p:spPr>
          <a:xfrm>
            <a:off x="6031440" y="350028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有魄力、自信；性格也较鲁莽、轻率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17" name="TextBox 11"/>
          <p:cNvSpPr/>
          <p:nvPr/>
        </p:nvSpPr>
        <p:spPr>
          <a:xfrm>
            <a:off x="5467680" y="414972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性格谨慎、谦虚、自知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18" name="TextBox 12"/>
          <p:cNvSpPr/>
          <p:nvPr/>
        </p:nvSpPr>
        <p:spPr>
          <a:xfrm>
            <a:off x="4205520" y="5300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谦恭有礼，娴于辞令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19" name="TextBox 13"/>
          <p:cNvSpPr/>
          <p:nvPr/>
        </p:nvSpPr>
        <p:spPr>
          <a:xfrm>
            <a:off x="3851280" y="616572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温文尔雅，性格从容洒脱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2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1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6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2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6" dur="500"/>
                                        <p:tgtEl>
                                          <p:spTgt spid="2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矩形 133121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ff"/>
                </a:solidFill>
                <a:latin typeface="Garamond"/>
                <a:ea typeface="黑体"/>
              </a:rPr>
              <a:t> </a:t>
            </a:r>
            <a:r>
              <a:rPr b="1" lang="zh-CN" sz="4600" spc="-1" strike="noStrike">
                <a:solidFill>
                  <a:srgbClr val="0000ff"/>
                </a:solidFill>
                <a:latin typeface="Garamond"/>
                <a:ea typeface="黑体"/>
              </a:rPr>
              <a:t>探究一：曾皙的</a:t>
            </a:r>
            <a:r>
              <a:rPr b="1" lang="zh-CN" sz="46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4600" spc="-1" strike="noStrike">
                <a:solidFill>
                  <a:srgbClr val="0000ff"/>
                </a:solidFill>
                <a:latin typeface="Garamond"/>
                <a:ea typeface="黑体"/>
              </a:rPr>
              <a:t>志</a:t>
            </a:r>
            <a:r>
              <a:rPr b="1" lang="zh-CN" sz="46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4600" spc="-1" strike="noStrike">
                <a:solidFill>
                  <a:srgbClr val="0000ff"/>
                </a:solidFill>
                <a:latin typeface="Garamond"/>
                <a:ea typeface="黑体"/>
              </a:rPr>
              <a:t>具体是什么？</a:t>
            </a:r>
            <a:endParaRPr b="1" lang="en-US" sz="4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21" name="文本框 133122"/>
          <p:cNvSpPr/>
          <p:nvPr/>
        </p:nvSpPr>
        <p:spPr>
          <a:xfrm>
            <a:off x="0" y="1484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暮春咏归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实际上就是委婉展现了曾点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出世为政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理想，即所治理的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国家安定自主、百姓自由幸福。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22" name="文本框 133123"/>
          <p:cNvSpPr/>
          <p:nvPr/>
        </p:nvSpPr>
        <p:spPr>
          <a:xfrm>
            <a:off x="0" y="3645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曾点描绘了一种超然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世外桃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无拘无束，自由快乐，即隐士的生活景象，表现了淡泊宁静的心态。  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2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矩形 124931"/>
          <p:cNvSpPr/>
          <p:nvPr/>
        </p:nvSpPr>
        <p:spPr>
          <a:xfrm>
            <a:off x="1116000" y="1914480"/>
            <a:ext cx="69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黑体"/>
              </a:rPr>
              <a:t>二、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黑体"/>
              </a:rPr>
              <a:t>孔子为什么“与点”？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024" name="图片 124932" descr="图片4"/>
          <p:cNvPicPr/>
          <p:nvPr/>
        </p:nvPicPr>
        <p:blipFill>
          <a:blip r:embed="rId1"/>
          <a:stretch/>
        </p:blipFill>
        <p:spPr>
          <a:xfrm>
            <a:off x="2627280" y="549360"/>
            <a:ext cx="3600360" cy="828720"/>
          </a:xfrm>
          <a:prstGeom prst="rect">
            <a:avLst/>
          </a:prstGeom>
          <a:ln w="0">
            <a:noFill/>
          </a:ln>
        </p:spPr>
      </p:pic>
      <p:sp>
        <p:nvSpPr>
          <p:cNvPr id="2025" name="文本框 124933"/>
          <p:cNvSpPr/>
          <p:nvPr/>
        </p:nvSpPr>
        <p:spPr>
          <a:xfrm>
            <a:off x="1547640" y="2852640"/>
            <a:ext cx="583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008000"/>
                </a:solidFill>
                <a:latin typeface="隶书"/>
                <a:ea typeface="隶书"/>
              </a:rPr>
              <a:t>暮春咏归图</a:t>
            </a:r>
            <a:endParaRPr b="1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26" name="矩形 124934"/>
          <p:cNvSpPr/>
          <p:nvPr/>
        </p:nvSpPr>
        <p:spPr>
          <a:xfrm>
            <a:off x="2411280" y="3716280"/>
            <a:ext cx="396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理想生活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和谐社会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精神家园</a:t>
            </a:r>
            <a:endParaRPr b="1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27" name="动作按钮: 自定义 124935"/>
          <p:cNvSpPr/>
          <p:nvPr/>
        </p:nvSpPr>
        <p:spPr>
          <a:xfrm>
            <a:off x="468360" y="6480000"/>
            <a:ext cx="1079280" cy="333720"/>
          </a:xfrm>
          <a:custGeom>
            <a:avLst/>
            <a:gdLst>
              <a:gd name="textAreaLeft" fmla="*/ 21600 w 1079280"/>
              <a:gd name="textAreaRight" fmla="*/ 1057680 w 107928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04" h="21600">
                <a:moveTo>
                  <a:pt x="0" y="0"/>
                </a:moveTo>
                <a:lnTo>
                  <a:pt x="69804" y="0"/>
                </a:lnTo>
                <a:lnTo>
                  <a:pt x="69804" y="21600"/>
                </a:lnTo>
                <a:lnTo>
                  <a:pt x="0" y="21600"/>
                </a:lnTo>
                <a:close/>
              </a:path>
              <a:path fill="lightenLess" w="69804" h="21600">
                <a:moveTo>
                  <a:pt x="0" y="0"/>
                </a:moveTo>
                <a:lnTo>
                  <a:pt x="69804" y="0"/>
                </a:lnTo>
                <a:lnTo>
                  <a:pt x="68404" y="1400"/>
                </a:lnTo>
                <a:lnTo>
                  <a:pt x="1400" y="1400"/>
                </a:lnTo>
                <a:close/>
              </a:path>
              <a:path fill="darken" w="69804" h="21600">
                <a:moveTo>
                  <a:pt x="69804" y="0"/>
                </a:moveTo>
                <a:lnTo>
                  <a:pt x="69804" y="21600"/>
                </a:lnTo>
                <a:lnTo>
                  <a:pt x="68404" y="20200"/>
                </a:lnTo>
                <a:lnTo>
                  <a:pt x="68404" y="1400"/>
                </a:lnTo>
                <a:close/>
              </a:path>
              <a:path fill="darkenLess" w="69804" h="21600">
                <a:moveTo>
                  <a:pt x="698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04" y="20200"/>
                </a:lnTo>
                <a:close/>
              </a:path>
              <a:path fill="lighten" w="698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整体感知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28" name="动作按钮: 自定义 124936"/>
          <p:cNvSpPr/>
          <p:nvPr/>
        </p:nvSpPr>
        <p:spPr>
          <a:xfrm>
            <a:off x="4068720" y="6480000"/>
            <a:ext cx="1079640" cy="333720"/>
          </a:xfrm>
          <a:custGeom>
            <a:avLst/>
            <a:gdLst>
              <a:gd name="textAreaLeft" fmla="*/ 21600 w 1079640"/>
              <a:gd name="textAreaRight" fmla="*/ 1058040 w 107964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28" h="21600">
                <a:moveTo>
                  <a:pt x="0" y="0"/>
                </a:moveTo>
                <a:lnTo>
                  <a:pt x="69828" y="0"/>
                </a:lnTo>
                <a:lnTo>
                  <a:pt x="69828" y="21600"/>
                </a:lnTo>
                <a:lnTo>
                  <a:pt x="0" y="21600"/>
                </a:lnTo>
                <a:close/>
              </a:path>
              <a:path fill="lightenLess" w="69828" h="21600">
                <a:moveTo>
                  <a:pt x="0" y="0"/>
                </a:moveTo>
                <a:lnTo>
                  <a:pt x="69828" y="0"/>
                </a:lnTo>
                <a:lnTo>
                  <a:pt x="68428" y="1400"/>
                </a:lnTo>
                <a:lnTo>
                  <a:pt x="1400" y="1400"/>
                </a:lnTo>
                <a:close/>
              </a:path>
              <a:path fill="darken" w="69828" h="21600">
                <a:moveTo>
                  <a:pt x="69828" y="0"/>
                </a:moveTo>
                <a:lnTo>
                  <a:pt x="69828" y="21600"/>
                </a:lnTo>
                <a:lnTo>
                  <a:pt x="68428" y="20200"/>
                </a:lnTo>
                <a:lnTo>
                  <a:pt x="68428" y="1400"/>
                </a:lnTo>
                <a:close/>
              </a:path>
              <a:path fill="darkenLess" w="69828" h="21600">
                <a:moveTo>
                  <a:pt x="69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28" y="20200"/>
                </a:lnTo>
                <a:close/>
              </a:path>
              <a:path fill="lighten" w="69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知识拓展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29" name="动作按钮: 自定义 124937"/>
          <p:cNvSpPr/>
          <p:nvPr/>
        </p:nvSpPr>
        <p:spPr>
          <a:xfrm>
            <a:off x="1668600" y="6480000"/>
            <a:ext cx="1079280" cy="333720"/>
          </a:xfrm>
          <a:custGeom>
            <a:avLst/>
            <a:gdLst>
              <a:gd name="textAreaLeft" fmla="*/ 21600 w 1079280"/>
              <a:gd name="textAreaRight" fmla="*/ 1057680 w 107928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04" h="21600">
                <a:moveTo>
                  <a:pt x="0" y="0"/>
                </a:moveTo>
                <a:lnTo>
                  <a:pt x="69804" y="0"/>
                </a:lnTo>
                <a:lnTo>
                  <a:pt x="69804" y="21600"/>
                </a:lnTo>
                <a:lnTo>
                  <a:pt x="0" y="21600"/>
                </a:lnTo>
                <a:close/>
              </a:path>
              <a:path fill="lightenLess" w="69804" h="21600">
                <a:moveTo>
                  <a:pt x="0" y="0"/>
                </a:moveTo>
                <a:lnTo>
                  <a:pt x="69804" y="0"/>
                </a:lnTo>
                <a:lnTo>
                  <a:pt x="68404" y="1400"/>
                </a:lnTo>
                <a:lnTo>
                  <a:pt x="1400" y="1400"/>
                </a:lnTo>
                <a:close/>
              </a:path>
              <a:path fill="darken" w="69804" h="21600">
                <a:moveTo>
                  <a:pt x="69804" y="0"/>
                </a:moveTo>
                <a:lnTo>
                  <a:pt x="69804" y="21600"/>
                </a:lnTo>
                <a:lnTo>
                  <a:pt x="68404" y="20200"/>
                </a:lnTo>
                <a:lnTo>
                  <a:pt x="68404" y="1400"/>
                </a:lnTo>
                <a:close/>
              </a:path>
              <a:path fill="darkenLess" w="69804" h="21600">
                <a:moveTo>
                  <a:pt x="698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04" y="20200"/>
                </a:lnTo>
                <a:close/>
              </a:path>
              <a:path fill="lighten" w="698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弟子述志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30" name="动作按钮: 自定义 124938"/>
          <p:cNvSpPr/>
          <p:nvPr/>
        </p:nvSpPr>
        <p:spPr>
          <a:xfrm>
            <a:off x="2868480" y="6480000"/>
            <a:ext cx="1079640" cy="333720"/>
          </a:xfrm>
          <a:custGeom>
            <a:avLst/>
            <a:gdLst>
              <a:gd name="textAreaLeft" fmla="*/ 21600 w 1079640"/>
              <a:gd name="textAreaRight" fmla="*/ 1058040 w 107964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28" h="21600">
                <a:moveTo>
                  <a:pt x="0" y="0"/>
                </a:moveTo>
                <a:lnTo>
                  <a:pt x="69828" y="0"/>
                </a:lnTo>
                <a:lnTo>
                  <a:pt x="69828" y="21600"/>
                </a:lnTo>
                <a:lnTo>
                  <a:pt x="0" y="21600"/>
                </a:lnTo>
                <a:close/>
              </a:path>
              <a:path fill="lightenLess" w="69828" h="21600">
                <a:moveTo>
                  <a:pt x="0" y="0"/>
                </a:moveTo>
                <a:lnTo>
                  <a:pt x="69828" y="0"/>
                </a:lnTo>
                <a:lnTo>
                  <a:pt x="68428" y="1400"/>
                </a:lnTo>
                <a:lnTo>
                  <a:pt x="1400" y="1400"/>
                </a:lnTo>
                <a:close/>
              </a:path>
              <a:path fill="darken" w="69828" h="21600">
                <a:moveTo>
                  <a:pt x="69828" y="0"/>
                </a:moveTo>
                <a:lnTo>
                  <a:pt x="69828" y="21600"/>
                </a:lnTo>
                <a:lnTo>
                  <a:pt x="68428" y="20200"/>
                </a:lnTo>
                <a:lnTo>
                  <a:pt x="68428" y="1400"/>
                </a:lnTo>
                <a:close/>
              </a:path>
              <a:path fill="darkenLess" w="69828" h="21600">
                <a:moveTo>
                  <a:pt x="69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28" y="20200"/>
                </a:lnTo>
                <a:close/>
              </a:path>
              <a:path fill="lighten" w="69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孔子评价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31" name="动作按钮: 自定义 124939"/>
          <p:cNvSpPr/>
          <p:nvPr/>
        </p:nvSpPr>
        <p:spPr>
          <a:xfrm>
            <a:off x="5268960" y="6480000"/>
            <a:ext cx="1079280" cy="333720"/>
          </a:xfrm>
          <a:custGeom>
            <a:avLst/>
            <a:gdLst>
              <a:gd name="textAreaLeft" fmla="*/ 21600 w 1079280"/>
              <a:gd name="textAreaRight" fmla="*/ 1057680 w 107928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04" h="21600">
                <a:moveTo>
                  <a:pt x="0" y="0"/>
                </a:moveTo>
                <a:lnTo>
                  <a:pt x="69804" y="0"/>
                </a:lnTo>
                <a:lnTo>
                  <a:pt x="69804" y="21600"/>
                </a:lnTo>
                <a:lnTo>
                  <a:pt x="0" y="21600"/>
                </a:lnTo>
                <a:close/>
              </a:path>
              <a:path fill="lightenLess" w="69804" h="21600">
                <a:moveTo>
                  <a:pt x="0" y="0"/>
                </a:moveTo>
                <a:lnTo>
                  <a:pt x="69804" y="0"/>
                </a:lnTo>
                <a:lnTo>
                  <a:pt x="68404" y="1400"/>
                </a:lnTo>
                <a:lnTo>
                  <a:pt x="1400" y="1400"/>
                </a:lnTo>
                <a:close/>
              </a:path>
              <a:path fill="darken" w="69804" h="21600">
                <a:moveTo>
                  <a:pt x="69804" y="0"/>
                </a:moveTo>
                <a:lnTo>
                  <a:pt x="69804" y="21600"/>
                </a:lnTo>
                <a:lnTo>
                  <a:pt x="68404" y="20200"/>
                </a:lnTo>
                <a:lnTo>
                  <a:pt x="68404" y="1400"/>
                </a:lnTo>
                <a:close/>
              </a:path>
              <a:path fill="darkenLess" w="69804" h="21600">
                <a:moveTo>
                  <a:pt x="698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04" y="20200"/>
                </a:lnTo>
                <a:close/>
              </a:path>
              <a:path fill="lighten" w="698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师生探究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32" name="动作按钮: 自定义 124941"/>
          <p:cNvSpPr/>
          <p:nvPr/>
        </p:nvSpPr>
        <p:spPr>
          <a:xfrm>
            <a:off x="6732720" y="6524640"/>
            <a:ext cx="1079280" cy="333360"/>
          </a:xfrm>
          <a:custGeom>
            <a:avLst/>
            <a:gdLst>
              <a:gd name="textAreaLeft" fmla="*/ 21600 w 1079280"/>
              <a:gd name="textAreaRight" fmla="*/ 1057680 w 1079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69880" h="21600">
                <a:moveTo>
                  <a:pt x="0" y="0"/>
                </a:moveTo>
                <a:lnTo>
                  <a:pt x="69880" y="0"/>
                </a:lnTo>
                <a:lnTo>
                  <a:pt x="69880" y="21600"/>
                </a:lnTo>
                <a:lnTo>
                  <a:pt x="0" y="21600"/>
                </a:lnTo>
                <a:close/>
              </a:path>
              <a:path fill="lightenLess" w="69880" h="21600">
                <a:moveTo>
                  <a:pt x="0" y="0"/>
                </a:moveTo>
                <a:lnTo>
                  <a:pt x="69880" y="0"/>
                </a:lnTo>
                <a:lnTo>
                  <a:pt x="68480" y="1400"/>
                </a:lnTo>
                <a:lnTo>
                  <a:pt x="1400" y="1400"/>
                </a:lnTo>
                <a:close/>
              </a:path>
              <a:path fill="darken" w="69880" h="21600">
                <a:moveTo>
                  <a:pt x="69880" y="0"/>
                </a:moveTo>
                <a:lnTo>
                  <a:pt x="69880" y="21600"/>
                </a:lnTo>
                <a:lnTo>
                  <a:pt x="68480" y="20200"/>
                </a:lnTo>
                <a:lnTo>
                  <a:pt x="68480" y="1400"/>
                </a:lnTo>
                <a:close/>
              </a:path>
              <a:path fill="darkenLess" w="69880" h="21600">
                <a:moveTo>
                  <a:pt x="698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80" y="20200"/>
                </a:lnTo>
                <a:close/>
              </a:path>
              <a:path fill="lighten" w="698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知识链接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33" name="动作按钮: 后退或前一项 124942">
            <a:hlinkClick r:id="" action="ppaction://hlinkshowjump?jump=previousslide"/>
          </p:cNvPr>
          <p:cNvSpPr/>
          <p:nvPr/>
        </p:nvSpPr>
        <p:spPr>
          <a:xfrm>
            <a:off x="7524720" y="5805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34" name="动作按钮: 前进或下一项 124943">
            <a:hlinkClick r:id="" action="ppaction://hlinkshowjump?jump=nextslide"/>
          </p:cNvPr>
          <p:cNvSpPr/>
          <p:nvPr/>
        </p:nvSpPr>
        <p:spPr>
          <a:xfrm>
            <a:off x="7956720" y="5805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6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35" name="动作按钮: 上一张 124944"/>
          <p:cNvSpPr/>
          <p:nvPr/>
        </p:nvSpPr>
        <p:spPr>
          <a:xfrm>
            <a:off x="8388360" y="5805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66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2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806400" y="14436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0000"/>
                </a:solidFill>
                <a:latin typeface="Garamond"/>
                <a:ea typeface="黑体"/>
              </a:rPr>
              <a:t>探究二：</a:t>
            </a:r>
            <a:r>
              <a:rPr b="1" lang="zh-CN" sz="3800" spc="-1" strike="noStrike">
                <a:solidFill>
                  <a:srgbClr val="ff0000"/>
                </a:solidFill>
                <a:latin typeface="Garamond"/>
                <a:ea typeface="黑体"/>
              </a:rPr>
              <a:t>为什么</a:t>
            </a:r>
            <a:r>
              <a:rPr b="1" lang="zh-CN" sz="38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3800" spc="-1" strike="noStrike">
                <a:solidFill>
                  <a:srgbClr val="ff0000"/>
                </a:solidFill>
                <a:latin typeface="Garamond"/>
                <a:ea typeface="黑体"/>
              </a:rPr>
              <a:t>孔子喟然与点</a:t>
            </a:r>
            <a:r>
              <a:rPr b="1" lang="zh-CN" sz="38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r>
              <a:rPr b="1" lang="zh-CN" sz="3800" spc="-1" strike="noStrike">
                <a:solidFill>
                  <a:srgbClr val="ff0000"/>
                </a:solidFill>
                <a:latin typeface="Garamond"/>
                <a:ea typeface="黑体"/>
              </a:rPr>
              <a:t>？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00cc"/>
                </a:solidFill>
                <a:latin typeface="黑体"/>
                <a:ea typeface="黑体"/>
              </a:rPr>
              <a:t>当时社会动乱，孔子称之为</a:t>
            </a:r>
            <a:r>
              <a:rPr b="1" lang="zh-CN" sz="3000" spc="-1" strike="noStrike">
                <a:solidFill>
                  <a:srgbClr val="6600cc"/>
                </a:solidFill>
                <a:latin typeface="宋体"/>
                <a:ea typeface="黑体"/>
              </a:rPr>
              <a:t>“</a:t>
            </a:r>
            <a:r>
              <a:rPr b="1" lang="zh-CN" sz="3000" spc="-1" strike="noStrike">
                <a:solidFill>
                  <a:srgbClr val="6600cc"/>
                </a:solidFill>
                <a:latin typeface="黑体"/>
                <a:ea typeface="黑体"/>
              </a:rPr>
              <a:t>礼崩乐坏</a:t>
            </a:r>
            <a:r>
              <a:rPr b="1" lang="zh-CN" sz="3000" spc="-1" strike="noStrike">
                <a:solidFill>
                  <a:srgbClr val="6600cc"/>
                </a:solidFill>
                <a:latin typeface="宋体"/>
                <a:ea typeface="黑体"/>
              </a:rPr>
              <a:t>”</a:t>
            </a:r>
            <a:r>
              <a:rPr b="1" lang="zh-CN" sz="3000" spc="-1" strike="noStrike">
                <a:solidFill>
                  <a:srgbClr val="6600cc"/>
                </a:solidFill>
                <a:latin typeface="黑体"/>
                <a:ea typeface="黑体"/>
              </a:rPr>
              <a:t>的时代，因而孔子政治上主张</a:t>
            </a:r>
            <a:r>
              <a:rPr b="1" lang="zh-CN" sz="3000" spc="-1" strike="noStrike">
                <a:solidFill>
                  <a:srgbClr val="6600cc"/>
                </a:solidFill>
                <a:latin typeface="宋体"/>
                <a:ea typeface="黑体"/>
              </a:rPr>
              <a:t>“</a:t>
            </a:r>
            <a:r>
              <a:rPr b="1" lang="zh-CN" sz="3000" spc="-1" strike="noStrike">
                <a:solidFill>
                  <a:srgbClr val="6600cc"/>
                </a:solidFill>
                <a:latin typeface="黑体"/>
                <a:ea typeface="黑体"/>
              </a:rPr>
              <a:t>礼治</a:t>
            </a:r>
            <a:r>
              <a:rPr b="1" lang="zh-CN" sz="3000" spc="-1" strike="noStrike">
                <a:solidFill>
                  <a:srgbClr val="6600cc"/>
                </a:solidFill>
                <a:latin typeface="宋体"/>
                <a:ea typeface="黑体"/>
              </a:rPr>
              <a:t>”</a:t>
            </a:r>
            <a:r>
              <a:rPr b="1" lang="zh-CN" sz="3000" spc="-1" strike="noStrike">
                <a:solidFill>
                  <a:srgbClr val="6600cc"/>
                </a:solidFill>
                <a:latin typeface="黑体"/>
                <a:ea typeface="黑体"/>
              </a:rPr>
              <a:t>，</a:t>
            </a:r>
            <a:r>
              <a:rPr b="1" lang="zh-CN" sz="3000" spc="-1" strike="noStrike">
                <a:solidFill>
                  <a:srgbClr val="6600cc"/>
                </a:solidFill>
                <a:latin typeface="宋体"/>
                <a:ea typeface="黑体"/>
              </a:rPr>
              <a:t>“</a:t>
            </a:r>
            <a:r>
              <a:rPr b="1" lang="zh-CN" sz="3000" spc="-1" strike="noStrike">
                <a:solidFill>
                  <a:srgbClr val="6600cc"/>
                </a:solidFill>
                <a:latin typeface="黑体"/>
                <a:ea typeface="黑体"/>
              </a:rPr>
              <a:t>为国以礼</a:t>
            </a:r>
            <a:r>
              <a:rPr b="1" lang="zh-CN" sz="3000" spc="-1" strike="noStrike">
                <a:solidFill>
                  <a:srgbClr val="6600cc"/>
                </a:solidFill>
                <a:latin typeface="宋体"/>
                <a:ea typeface="黑体"/>
              </a:rPr>
              <a:t>”</a:t>
            </a:r>
            <a:r>
              <a:rPr b="1" lang="zh-CN" sz="3000" spc="-1" strike="noStrike">
                <a:solidFill>
                  <a:srgbClr val="6600cc"/>
                </a:solidFill>
                <a:latin typeface="黑体"/>
                <a:ea typeface="黑体"/>
              </a:rPr>
              <a:t>。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曾点的志向突显孔子礼乐治国的最高境界，故孔子喟然叹曰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吾与点也。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文本框 135171"/>
          <p:cNvSpPr/>
          <p:nvPr/>
        </p:nvSpPr>
        <p:spPr>
          <a:xfrm>
            <a:off x="0" y="3429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曾皙的这段话，表达了隐士的生活景象，可能隐约触动了孔子周游列国屡遭失败、心力交瘁而想过平静无为的生活的想法。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黑体"/>
              </a:rPr>
              <a:t>因此曾皙的话不仅是显己志，也是对孔子心灵的折射。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TextBox 3"/>
          <p:cNvSpPr/>
          <p:nvPr/>
        </p:nvSpPr>
        <p:spPr>
          <a:xfrm>
            <a:off x="358920" y="971640"/>
            <a:ext cx="8424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琥珀"/>
                <a:ea typeface="华文琥珀"/>
              </a:rPr>
              <a:t>时代背景：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子是一位有着强烈的政治理想和远大抱负的人。他在担任鲁国大司寇时，推行礼治，施以仁政，使鲁国大治。可惜的是鲁国国君受人离间，很快就疏远了孔子，他的政治主张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礼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就成了一颗划过天空的流星，转瞬即逝。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文本框 73732"/>
          <p:cNvSpPr/>
          <p:nvPr/>
        </p:nvSpPr>
        <p:spPr>
          <a:xfrm>
            <a:off x="539640" y="134136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孔子思想：</a:t>
            </a: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2041" name="组合 73739"/>
          <p:cNvGrpSpPr/>
          <p:nvPr/>
        </p:nvGrpSpPr>
        <p:grpSpPr>
          <a:xfrm>
            <a:off x="468360" y="2050920"/>
            <a:ext cx="8934480" cy="4163040"/>
            <a:chOff x="468360" y="2050920"/>
            <a:chExt cx="8934480" cy="4163040"/>
          </a:xfrm>
        </p:grpSpPr>
        <p:sp>
          <p:nvSpPr>
            <p:cNvPr id="2042" name="文本框 73734"/>
            <p:cNvSpPr/>
            <p:nvPr/>
          </p:nvSpPr>
          <p:spPr>
            <a:xfrm>
              <a:off x="468360" y="2050920"/>
              <a:ext cx="8359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一、政治：反对暴政，主张仁政，“礼治”</a:t>
              </a:r>
              <a:endParaRPr b="1" lang="en-US" sz="3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43" name="文本框 73735"/>
            <p:cNvSpPr/>
            <p:nvPr/>
          </p:nvSpPr>
          <p:spPr>
            <a:xfrm>
              <a:off x="468360" y="2584440"/>
              <a:ext cx="8934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二、修身：“克己复礼” “非礼勿视、非礼勿听、  </a:t>
              </a:r>
              <a:endParaRPr b="1" lang="en-US" sz="32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    </a:t>
              </a:r>
              <a:r>
                <a:rPr b="0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非礼勿言、非礼勿动。”</a:t>
              </a:r>
              <a:endParaRPr b="1" lang="en-US" sz="3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44" name="文本框 73736"/>
            <p:cNvSpPr/>
            <p:nvPr/>
          </p:nvSpPr>
          <p:spPr>
            <a:xfrm>
              <a:off x="468360" y="3575160"/>
              <a:ext cx="8001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三、伦理思想：“仁”，“仁者爱人”                             “己所不欲，勿施与人”</a:t>
              </a:r>
              <a:endParaRPr b="1" lang="en-US" sz="3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45" name="文本框 73737"/>
            <p:cNvSpPr/>
            <p:nvPr/>
          </p:nvSpPr>
          <p:spPr>
            <a:xfrm>
              <a:off x="468360" y="4565520"/>
              <a:ext cx="8915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四、教育：主张“因材施教”，“学而不厌诲人不倦”，对学生喜欢“循循善诱”</a:t>
              </a:r>
              <a:endParaRPr b="1" lang="en-US" sz="3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46" name="文本框 73738"/>
            <p:cNvSpPr/>
            <p:nvPr/>
          </p:nvSpPr>
          <p:spPr>
            <a:xfrm>
              <a:off x="468360" y="5632560"/>
              <a:ext cx="7619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五、品德：“温、良、恭、俭、让”</a:t>
              </a:r>
              <a:endParaRPr b="1" lang="en-US" sz="3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2047" name="动作按钮: 后退或前一项 73748">
            <a:hlinkClick r:id="" action="ppaction://hlinkshowjump?jump=previousslide"/>
          </p:cNvPr>
          <p:cNvSpPr/>
          <p:nvPr/>
        </p:nvSpPr>
        <p:spPr>
          <a:xfrm>
            <a:off x="7524720" y="5805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48" name="动作按钮: 前进或下一项 73749">
            <a:hlinkClick r:id="" action="ppaction://hlinkshowjump?jump=nextslide"/>
          </p:cNvPr>
          <p:cNvSpPr/>
          <p:nvPr/>
        </p:nvSpPr>
        <p:spPr>
          <a:xfrm>
            <a:off x="7956720" y="5805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6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49" name="动作按钮: 上一张 73750"/>
          <p:cNvSpPr/>
          <p:nvPr/>
        </p:nvSpPr>
        <p:spPr>
          <a:xfrm>
            <a:off x="8388360" y="5805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66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050" name="图片 73753" descr="图片2"/>
          <p:cNvPicPr/>
          <p:nvPr/>
        </p:nvPicPr>
        <p:blipFill>
          <a:blip r:embed="rId2"/>
          <a:stretch/>
        </p:blipFill>
        <p:spPr>
          <a:xfrm>
            <a:off x="3203640" y="549360"/>
            <a:ext cx="2619360" cy="819000"/>
          </a:xfrm>
          <a:prstGeom prst="rect">
            <a:avLst/>
          </a:prstGeom>
          <a:ln w="0">
            <a:noFill/>
          </a:ln>
        </p:spPr>
      </p:pic>
      <p:sp>
        <p:nvSpPr>
          <p:cNvPr id="2051" name="动作按钮: 自定义 73754"/>
          <p:cNvSpPr/>
          <p:nvPr/>
        </p:nvSpPr>
        <p:spPr>
          <a:xfrm>
            <a:off x="468360" y="6480000"/>
            <a:ext cx="1079280" cy="333720"/>
          </a:xfrm>
          <a:custGeom>
            <a:avLst/>
            <a:gdLst>
              <a:gd name="textAreaLeft" fmla="*/ 21600 w 1079280"/>
              <a:gd name="textAreaRight" fmla="*/ 1057680 w 107928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04" h="21600">
                <a:moveTo>
                  <a:pt x="0" y="0"/>
                </a:moveTo>
                <a:lnTo>
                  <a:pt x="69804" y="0"/>
                </a:lnTo>
                <a:lnTo>
                  <a:pt x="69804" y="21600"/>
                </a:lnTo>
                <a:lnTo>
                  <a:pt x="0" y="21600"/>
                </a:lnTo>
                <a:close/>
              </a:path>
              <a:path fill="lightenLess" w="69804" h="21600">
                <a:moveTo>
                  <a:pt x="0" y="0"/>
                </a:moveTo>
                <a:lnTo>
                  <a:pt x="69804" y="0"/>
                </a:lnTo>
                <a:lnTo>
                  <a:pt x="68404" y="1400"/>
                </a:lnTo>
                <a:lnTo>
                  <a:pt x="1400" y="1400"/>
                </a:lnTo>
                <a:close/>
              </a:path>
              <a:path fill="darken" w="69804" h="21600">
                <a:moveTo>
                  <a:pt x="69804" y="0"/>
                </a:moveTo>
                <a:lnTo>
                  <a:pt x="69804" y="21600"/>
                </a:lnTo>
                <a:lnTo>
                  <a:pt x="68404" y="20200"/>
                </a:lnTo>
                <a:lnTo>
                  <a:pt x="68404" y="1400"/>
                </a:lnTo>
                <a:close/>
              </a:path>
              <a:path fill="darkenLess" w="69804" h="21600">
                <a:moveTo>
                  <a:pt x="698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04" y="20200"/>
                </a:lnTo>
                <a:close/>
              </a:path>
              <a:path fill="lighten" w="698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整体感知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52" name="动作按钮: 自定义 73755"/>
          <p:cNvSpPr/>
          <p:nvPr/>
        </p:nvSpPr>
        <p:spPr>
          <a:xfrm>
            <a:off x="4068720" y="6480000"/>
            <a:ext cx="1079640" cy="333720"/>
          </a:xfrm>
          <a:custGeom>
            <a:avLst/>
            <a:gdLst>
              <a:gd name="textAreaLeft" fmla="*/ 21600 w 1079640"/>
              <a:gd name="textAreaRight" fmla="*/ 1058040 w 107964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28" h="21600">
                <a:moveTo>
                  <a:pt x="0" y="0"/>
                </a:moveTo>
                <a:lnTo>
                  <a:pt x="69828" y="0"/>
                </a:lnTo>
                <a:lnTo>
                  <a:pt x="69828" y="21600"/>
                </a:lnTo>
                <a:lnTo>
                  <a:pt x="0" y="21600"/>
                </a:lnTo>
                <a:close/>
              </a:path>
              <a:path fill="lightenLess" w="69828" h="21600">
                <a:moveTo>
                  <a:pt x="0" y="0"/>
                </a:moveTo>
                <a:lnTo>
                  <a:pt x="69828" y="0"/>
                </a:lnTo>
                <a:lnTo>
                  <a:pt x="68428" y="1400"/>
                </a:lnTo>
                <a:lnTo>
                  <a:pt x="1400" y="1400"/>
                </a:lnTo>
                <a:close/>
              </a:path>
              <a:path fill="darken" w="69828" h="21600">
                <a:moveTo>
                  <a:pt x="69828" y="0"/>
                </a:moveTo>
                <a:lnTo>
                  <a:pt x="69828" y="21600"/>
                </a:lnTo>
                <a:lnTo>
                  <a:pt x="68428" y="20200"/>
                </a:lnTo>
                <a:lnTo>
                  <a:pt x="68428" y="1400"/>
                </a:lnTo>
                <a:close/>
              </a:path>
              <a:path fill="darkenLess" w="69828" h="21600">
                <a:moveTo>
                  <a:pt x="69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28" y="20200"/>
                </a:lnTo>
                <a:close/>
              </a:path>
              <a:path fill="lighten" w="69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知识拓展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53" name="动作按钮: 自定义 73756"/>
          <p:cNvSpPr/>
          <p:nvPr/>
        </p:nvSpPr>
        <p:spPr>
          <a:xfrm>
            <a:off x="1668600" y="6480000"/>
            <a:ext cx="1079280" cy="333720"/>
          </a:xfrm>
          <a:custGeom>
            <a:avLst/>
            <a:gdLst>
              <a:gd name="textAreaLeft" fmla="*/ 21600 w 1079280"/>
              <a:gd name="textAreaRight" fmla="*/ 1057680 w 107928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04" h="21600">
                <a:moveTo>
                  <a:pt x="0" y="0"/>
                </a:moveTo>
                <a:lnTo>
                  <a:pt x="69804" y="0"/>
                </a:lnTo>
                <a:lnTo>
                  <a:pt x="69804" y="21600"/>
                </a:lnTo>
                <a:lnTo>
                  <a:pt x="0" y="21600"/>
                </a:lnTo>
                <a:close/>
              </a:path>
              <a:path fill="lightenLess" w="69804" h="21600">
                <a:moveTo>
                  <a:pt x="0" y="0"/>
                </a:moveTo>
                <a:lnTo>
                  <a:pt x="69804" y="0"/>
                </a:lnTo>
                <a:lnTo>
                  <a:pt x="68404" y="1400"/>
                </a:lnTo>
                <a:lnTo>
                  <a:pt x="1400" y="1400"/>
                </a:lnTo>
                <a:close/>
              </a:path>
              <a:path fill="darken" w="69804" h="21600">
                <a:moveTo>
                  <a:pt x="69804" y="0"/>
                </a:moveTo>
                <a:lnTo>
                  <a:pt x="69804" y="21600"/>
                </a:lnTo>
                <a:lnTo>
                  <a:pt x="68404" y="20200"/>
                </a:lnTo>
                <a:lnTo>
                  <a:pt x="68404" y="1400"/>
                </a:lnTo>
                <a:close/>
              </a:path>
              <a:path fill="darkenLess" w="69804" h="21600">
                <a:moveTo>
                  <a:pt x="698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04" y="20200"/>
                </a:lnTo>
                <a:close/>
              </a:path>
              <a:path fill="lighten" w="698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弟子述志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54" name="动作按钮: 自定义 73757"/>
          <p:cNvSpPr/>
          <p:nvPr/>
        </p:nvSpPr>
        <p:spPr>
          <a:xfrm>
            <a:off x="2868480" y="6480000"/>
            <a:ext cx="1079640" cy="333720"/>
          </a:xfrm>
          <a:custGeom>
            <a:avLst/>
            <a:gdLst>
              <a:gd name="textAreaLeft" fmla="*/ 21600 w 1079640"/>
              <a:gd name="textAreaRight" fmla="*/ 1058040 w 107964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28" h="21600">
                <a:moveTo>
                  <a:pt x="0" y="0"/>
                </a:moveTo>
                <a:lnTo>
                  <a:pt x="69828" y="0"/>
                </a:lnTo>
                <a:lnTo>
                  <a:pt x="69828" y="21600"/>
                </a:lnTo>
                <a:lnTo>
                  <a:pt x="0" y="21600"/>
                </a:lnTo>
                <a:close/>
              </a:path>
              <a:path fill="lightenLess" w="69828" h="21600">
                <a:moveTo>
                  <a:pt x="0" y="0"/>
                </a:moveTo>
                <a:lnTo>
                  <a:pt x="69828" y="0"/>
                </a:lnTo>
                <a:lnTo>
                  <a:pt x="68428" y="1400"/>
                </a:lnTo>
                <a:lnTo>
                  <a:pt x="1400" y="1400"/>
                </a:lnTo>
                <a:close/>
              </a:path>
              <a:path fill="darken" w="69828" h="21600">
                <a:moveTo>
                  <a:pt x="69828" y="0"/>
                </a:moveTo>
                <a:lnTo>
                  <a:pt x="69828" y="21600"/>
                </a:lnTo>
                <a:lnTo>
                  <a:pt x="68428" y="20200"/>
                </a:lnTo>
                <a:lnTo>
                  <a:pt x="68428" y="1400"/>
                </a:lnTo>
                <a:close/>
              </a:path>
              <a:path fill="darkenLess" w="69828" h="21600">
                <a:moveTo>
                  <a:pt x="69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28" y="20200"/>
                </a:lnTo>
                <a:close/>
              </a:path>
              <a:path fill="lighten" w="69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孔子评价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55" name="动作按钮: 自定义 73758"/>
          <p:cNvSpPr/>
          <p:nvPr/>
        </p:nvSpPr>
        <p:spPr>
          <a:xfrm>
            <a:off x="5268960" y="6480000"/>
            <a:ext cx="1079280" cy="333720"/>
          </a:xfrm>
          <a:custGeom>
            <a:avLst/>
            <a:gdLst>
              <a:gd name="textAreaLeft" fmla="*/ 21600 w 1079280"/>
              <a:gd name="textAreaRight" fmla="*/ 1057680 w 107928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04" h="21600">
                <a:moveTo>
                  <a:pt x="0" y="0"/>
                </a:moveTo>
                <a:lnTo>
                  <a:pt x="69804" y="0"/>
                </a:lnTo>
                <a:lnTo>
                  <a:pt x="69804" y="21600"/>
                </a:lnTo>
                <a:lnTo>
                  <a:pt x="0" y="21600"/>
                </a:lnTo>
                <a:close/>
              </a:path>
              <a:path fill="lightenLess" w="69804" h="21600">
                <a:moveTo>
                  <a:pt x="0" y="0"/>
                </a:moveTo>
                <a:lnTo>
                  <a:pt x="69804" y="0"/>
                </a:lnTo>
                <a:lnTo>
                  <a:pt x="68404" y="1400"/>
                </a:lnTo>
                <a:lnTo>
                  <a:pt x="1400" y="1400"/>
                </a:lnTo>
                <a:close/>
              </a:path>
              <a:path fill="darken" w="69804" h="21600">
                <a:moveTo>
                  <a:pt x="69804" y="0"/>
                </a:moveTo>
                <a:lnTo>
                  <a:pt x="69804" y="21600"/>
                </a:lnTo>
                <a:lnTo>
                  <a:pt x="68404" y="20200"/>
                </a:lnTo>
                <a:lnTo>
                  <a:pt x="68404" y="1400"/>
                </a:lnTo>
                <a:close/>
              </a:path>
              <a:path fill="darkenLess" w="69804" h="21600">
                <a:moveTo>
                  <a:pt x="698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04" y="20200"/>
                </a:lnTo>
                <a:close/>
              </a:path>
              <a:path fill="lighten" w="698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师生探究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56" name="动作按钮: 自定义 73760"/>
          <p:cNvSpPr/>
          <p:nvPr/>
        </p:nvSpPr>
        <p:spPr>
          <a:xfrm>
            <a:off x="6732720" y="6524640"/>
            <a:ext cx="1079280" cy="333360"/>
          </a:xfrm>
          <a:custGeom>
            <a:avLst/>
            <a:gdLst>
              <a:gd name="textAreaLeft" fmla="*/ 21600 w 1079280"/>
              <a:gd name="textAreaRight" fmla="*/ 1057680 w 1079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69880" h="21600">
                <a:moveTo>
                  <a:pt x="0" y="0"/>
                </a:moveTo>
                <a:lnTo>
                  <a:pt x="69880" y="0"/>
                </a:lnTo>
                <a:lnTo>
                  <a:pt x="69880" y="21600"/>
                </a:lnTo>
                <a:lnTo>
                  <a:pt x="0" y="21600"/>
                </a:lnTo>
                <a:close/>
              </a:path>
              <a:path fill="lightenLess" w="69880" h="21600">
                <a:moveTo>
                  <a:pt x="0" y="0"/>
                </a:moveTo>
                <a:lnTo>
                  <a:pt x="69880" y="0"/>
                </a:lnTo>
                <a:lnTo>
                  <a:pt x="68480" y="1400"/>
                </a:lnTo>
                <a:lnTo>
                  <a:pt x="1400" y="1400"/>
                </a:lnTo>
                <a:close/>
              </a:path>
              <a:path fill="darken" w="69880" h="21600">
                <a:moveTo>
                  <a:pt x="69880" y="0"/>
                </a:moveTo>
                <a:lnTo>
                  <a:pt x="69880" y="21600"/>
                </a:lnTo>
                <a:lnTo>
                  <a:pt x="68480" y="20200"/>
                </a:lnTo>
                <a:lnTo>
                  <a:pt x="68480" y="1400"/>
                </a:lnTo>
                <a:close/>
              </a:path>
              <a:path fill="darkenLess" w="69880" h="21600">
                <a:moveTo>
                  <a:pt x="698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80" y="20200"/>
                </a:lnTo>
                <a:close/>
              </a:path>
              <a:path fill="lighten" w="698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知识链接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动作按钮: 后退或前一项 115715">
            <a:hlinkClick r:id="" action="ppaction://hlinkshowjump?jump=previousslide"/>
          </p:cNvPr>
          <p:cNvSpPr/>
          <p:nvPr/>
        </p:nvSpPr>
        <p:spPr>
          <a:xfrm>
            <a:off x="7524720" y="5805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58" name="动作按钮: 前进或下一项 115716">
            <a:hlinkClick r:id="" action="ppaction://hlinkshowjump?jump=nextslide"/>
          </p:cNvPr>
          <p:cNvSpPr/>
          <p:nvPr/>
        </p:nvSpPr>
        <p:spPr>
          <a:xfrm>
            <a:off x="7956720" y="5805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6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59" name="文本框 115719"/>
          <p:cNvSpPr/>
          <p:nvPr/>
        </p:nvSpPr>
        <p:spPr>
          <a:xfrm>
            <a:off x="1882440" y="1531800"/>
            <a:ext cx="42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华文行楷"/>
              </a:rPr>
              <a:t>更多关于孔子及儒家思想的内容请访问以下网站：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60" name="PlaceHolder 1"/>
          <p:cNvSpPr>
            <a:spLocks noGrp="1"/>
          </p:cNvSpPr>
          <p:nvPr>
            <p:ph/>
          </p:nvPr>
        </p:nvSpPr>
        <p:spPr>
          <a:xfrm>
            <a:off x="755280" y="2420640"/>
            <a:ext cx="81104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中国孔子网</a:t>
            </a:r>
            <a:r>
              <a:rPr b="1" lang="zh-CN" sz="2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http://www.chinakongzi.org/</a:t>
            </a:r>
            <a:r>
              <a:rPr b="1" lang="zh-CN" sz="2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孔子在线</a:t>
            </a:r>
            <a:r>
              <a:rPr b="1" lang="zh-CN" sz="2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http://confucian.ruc.edu.cn/</a:t>
            </a:r>
            <a:r>
              <a:rPr b="1" lang="zh-CN" sz="2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中国孔子研究院网</a:t>
            </a:r>
            <a:r>
              <a:rPr b="1" lang="zh-CN" sz="2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http://www.confucius.gov.cn/</a:t>
            </a:r>
            <a:r>
              <a:rPr b="1" lang="zh-CN" sz="2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孔子纪念馆</a:t>
            </a:r>
            <a:r>
              <a:rPr b="1" lang="zh-CN" sz="2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http://www.china5000.org.cn/kongzi/index.htm</a:t>
            </a:r>
            <a:r>
              <a:rPr b="1" lang="zh-CN" sz="2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1" name="图片 115730" descr="图片2"/>
          <p:cNvPicPr/>
          <p:nvPr/>
        </p:nvPicPr>
        <p:blipFill>
          <a:blip r:embed="rId2"/>
          <a:stretch/>
        </p:blipFill>
        <p:spPr>
          <a:xfrm>
            <a:off x="3203640" y="549360"/>
            <a:ext cx="261936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9" name="图片 136193" descr="HOW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0" name="文本框 136194"/>
          <p:cNvSpPr/>
          <p:nvPr/>
        </p:nvSpPr>
        <p:spPr>
          <a:xfrm>
            <a:off x="3124080" y="1066680"/>
            <a:ext cx="49532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孔子，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字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    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   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家学派创始人，思想核心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    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政治上主张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    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 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论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        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体散文，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         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记录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           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的言行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华文新魏"/>
              </a:rPr>
              <a:t>参考答案：丘、仲尼、儒、仁、礼治。语录、孔子门人及再传弟子、孔子及其弟子。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871" name="图片 136195" descr="孔子像1"/>
          <p:cNvPicPr/>
          <p:nvPr/>
        </p:nvPicPr>
        <p:blipFill>
          <a:blip r:embed="rId2"/>
          <a:stretch/>
        </p:blipFill>
        <p:spPr>
          <a:xfrm>
            <a:off x="1143000" y="2057400"/>
            <a:ext cx="1733400" cy="3581280"/>
          </a:xfrm>
          <a:prstGeom prst="rect">
            <a:avLst/>
          </a:prstGeom>
          <a:ln w="0">
            <a:noFill/>
          </a:ln>
        </p:spPr>
      </p:pic>
      <p:sp>
        <p:nvSpPr>
          <p:cNvPr id="1872" name="文本框 136196"/>
          <p:cNvSpPr/>
          <p:nvPr/>
        </p:nvSpPr>
        <p:spPr>
          <a:xfrm>
            <a:off x="914400" y="1219320"/>
            <a:ext cx="2057400" cy="64260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6600"/>
                </a:solidFill>
                <a:latin typeface="Times New Roman"/>
                <a:ea typeface="华文新魏"/>
              </a:rPr>
              <a:t>文学常识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873" name="2635子路曾皙冉有公西华侍坐[2](1).wav" descr=""/>
          <p:cNvPicPr/>
          <p:nvPr/>
        </p:nvPicPr>
        <p:blipFill>
          <a:blip r:embed="rId3"/>
          <a:stretch/>
        </p:blipFill>
        <p:spPr>
          <a:xfrm>
            <a:off x="8839080" y="304920"/>
            <a:ext cx="76320" cy="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8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" fill="hold"/>
                                        <p:tgtEl>
                                          <p:spTgt spid="18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2" name="图片 119815" descr="图片8"/>
          <p:cNvPicPr/>
          <p:nvPr/>
        </p:nvPicPr>
        <p:blipFill>
          <a:blip r:embed="rId1"/>
          <a:stretch/>
        </p:blipFill>
        <p:spPr>
          <a:xfrm>
            <a:off x="1547640" y="1773360"/>
            <a:ext cx="604872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/>
          </p:nvPr>
        </p:nvSpPr>
        <p:spPr>
          <a:xfrm>
            <a:off x="2556000" y="1341360"/>
            <a:ext cx="658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朗读课文并思考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每位弟子的志向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孔子的评价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5" name="动作按钮: 后退或前一项 75788">
            <a:hlinkClick r:id="" action="ppaction://hlinkshowjump?jump=previousslide"/>
          </p:cNvPr>
          <p:cNvSpPr/>
          <p:nvPr/>
        </p:nvSpPr>
        <p:spPr>
          <a:xfrm>
            <a:off x="7524720" y="5805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76" name="动作按钮: 前进或下一项 75790">
            <a:hlinkClick r:id="" action="ppaction://hlinkshowjump?jump=nextslide"/>
          </p:cNvPr>
          <p:cNvSpPr/>
          <p:nvPr/>
        </p:nvSpPr>
        <p:spPr>
          <a:xfrm>
            <a:off x="7956720" y="5805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6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77" name="动作按钮: 上一张 75791">
            <a:hlinkClick r:id="rId2" action="ppaction://hlinksldjump"/>
          </p:cNvPr>
          <p:cNvSpPr/>
          <p:nvPr/>
        </p:nvSpPr>
        <p:spPr>
          <a:xfrm>
            <a:off x="8388360" y="5805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66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878" name="图片 75808" descr="图片1"/>
          <p:cNvPicPr/>
          <p:nvPr/>
        </p:nvPicPr>
        <p:blipFill>
          <a:blip r:embed="rId3"/>
          <a:stretch/>
        </p:blipFill>
        <p:spPr>
          <a:xfrm>
            <a:off x="539640" y="2276640"/>
            <a:ext cx="790560" cy="2124000"/>
          </a:xfrm>
          <a:prstGeom prst="rect">
            <a:avLst/>
          </a:prstGeom>
          <a:ln w="0">
            <a:noFill/>
          </a:ln>
        </p:spPr>
      </p:pic>
      <p:sp>
        <p:nvSpPr>
          <p:cNvPr id="1879" name="动作按钮: 自定义 75809">
            <a:hlinkClick r:id="rId4" action="ppaction://hlinksldjump"/>
          </p:cNvPr>
          <p:cNvSpPr/>
          <p:nvPr/>
        </p:nvSpPr>
        <p:spPr>
          <a:xfrm>
            <a:off x="468360" y="6480000"/>
            <a:ext cx="1079280" cy="333720"/>
          </a:xfrm>
          <a:custGeom>
            <a:avLst/>
            <a:gdLst>
              <a:gd name="textAreaLeft" fmla="*/ 21600 w 1079280"/>
              <a:gd name="textAreaRight" fmla="*/ 1057680 w 107928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04" h="21600">
                <a:moveTo>
                  <a:pt x="0" y="0"/>
                </a:moveTo>
                <a:lnTo>
                  <a:pt x="69804" y="0"/>
                </a:lnTo>
                <a:lnTo>
                  <a:pt x="69804" y="21600"/>
                </a:lnTo>
                <a:lnTo>
                  <a:pt x="0" y="21600"/>
                </a:lnTo>
                <a:close/>
              </a:path>
              <a:path fill="lightenLess" w="69804" h="21600">
                <a:moveTo>
                  <a:pt x="0" y="0"/>
                </a:moveTo>
                <a:lnTo>
                  <a:pt x="69804" y="0"/>
                </a:lnTo>
                <a:lnTo>
                  <a:pt x="68404" y="1400"/>
                </a:lnTo>
                <a:lnTo>
                  <a:pt x="1400" y="1400"/>
                </a:lnTo>
                <a:close/>
              </a:path>
              <a:path fill="darken" w="69804" h="21600">
                <a:moveTo>
                  <a:pt x="69804" y="0"/>
                </a:moveTo>
                <a:lnTo>
                  <a:pt x="69804" y="21600"/>
                </a:lnTo>
                <a:lnTo>
                  <a:pt x="68404" y="20200"/>
                </a:lnTo>
                <a:lnTo>
                  <a:pt x="68404" y="1400"/>
                </a:lnTo>
                <a:close/>
              </a:path>
              <a:path fill="darkenLess" w="69804" h="21600">
                <a:moveTo>
                  <a:pt x="698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04" y="20200"/>
                </a:lnTo>
                <a:close/>
              </a:path>
              <a:path fill="lighten" w="698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整体感知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0" name="动作按钮: 自定义 75810">
            <a:hlinkClick r:id="rId5" action="ppaction://hlinksldjump"/>
          </p:cNvPr>
          <p:cNvSpPr/>
          <p:nvPr/>
        </p:nvSpPr>
        <p:spPr>
          <a:xfrm>
            <a:off x="4068720" y="6480000"/>
            <a:ext cx="1079640" cy="333720"/>
          </a:xfrm>
          <a:custGeom>
            <a:avLst/>
            <a:gdLst>
              <a:gd name="textAreaLeft" fmla="*/ 21600 w 1079640"/>
              <a:gd name="textAreaRight" fmla="*/ 1058040 w 107964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28" h="21600">
                <a:moveTo>
                  <a:pt x="0" y="0"/>
                </a:moveTo>
                <a:lnTo>
                  <a:pt x="69828" y="0"/>
                </a:lnTo>
                <a:lnTo>
                  <a:pt x="69828" y="21600"/>
                </a:lnTo>
                <a:lnTo>
                  <a:pt x="0" y="21600"/>
                </a:lnTo>
                <a:close/>
              </a:path>
              <a:path fill="lightenLess" w="69828" h="21600">
                <a:moveTo>
                  <a:pt x="0" y="0"/>
                </a:moveTo>
                <a:lnTo>
                  <a:pt x="69828" y="0"/>
                </a:lnTo>
                <a:lnTo>
                  <a:pt x="68428" y="1400"/>
                </a:lnTo>
                <a:lnTo>
                  <a:pt x="1400" y="1400"/>
                </a:lnTo>
                <a:close/>
              </a:path>
              <a:path fill="darken" w="69828" h="21600">
                <a:moveTo>
                  <a:pt x="69828" y="0"/>
                </a:moveTo>
                <a:lnTo>
                  <a:pt x="69828" y="21600"/>
                </a:lnTo>
                <a:lnTo>
                  <a:pt x="68428" y="20200"/>
                </a:lnTo>
                <a:lnTo>
                  <a:pt x="68428" y="1400"/>
                </a:lnTo>
                <a:close/>
              </a:path>
              <a:path fill="darkenLess" w="69828" h="21600">
                <a:moveTo>
                  <a:pt x="69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28" y="20200"/>
                </a:lnTo>
                <a:close/>
              </a:path>
              <a:path fill="lighten" w="69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知识拓展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1" name="动作按钮: 自定义 75811">
            <a:hlinkClick r:id="rId6" action="ppaction://hlinksldjump"/>
          </p:cNvPr>
          <p:cNvSpPr/>
          <p:nvPr/>
        </p:nvSpPr>
        <p:spPr>
          <a:xfrm>
            <a:off x="1668600" y="6480000"/>
            <a:ext cx="1079280" cy="333720"/>
          </a:xfrm>
          <a:custGeom>
            <a:avLst/>
            <a:gdLst>
              <a:gd name="textAreaLeft" fmla="*/ 21600 w 1079280"/>
              <a:gd name="textAreaRight" fmla="*/ 1057680 w 107928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04" h="21600">
                <a:moveTo>
                  <a:pt x="0" y="0"/>
                </a:moveTo>
                <a:lnTo>
                  <a:pt x="69804" y="0"/>
                </a:lnTo>
                <a:lnTo>
                  <a:pt x="69804" y="21600"/>
                </a:lnTo>
                <a:lnTo>
                  <a:pt x="0" y="21600"/>
                </a:lnTo>
                <a:close/>
              </a:path>
              <a:path fill="lightenLess" w="69804" h="21600">
                <a:moveTo>
                  <a:pt x="0" y="0"/>
                </a:moveTo>
                <a:lnTo>
                  <a:pt x="69804" y="0"/>
                </a:lnTo>
                <a:lnTo>
                  <a:pt x="68404" y="1400"/>
                </a:lnTo>
                <a:lnTo>
                  <a:pt x="1400" y="1400"/>
                </a:lnTo>
                <a:close/>
              </a:path>
              <a:path fill="darken" w="69804" h="21600">
                <a:moveTo>
                  <a:pt x="69804" y="0"/>
                </a:moveTo>
                <a:lnTo>
                  <a:pt x="69804" y="21600"/>
                </a:lnTo>
                <a:lnTo>
                  <a:pt x="68404" y="20200"/>
                </a:lnTo>
                <a:lnTo>
                  <a:pt x="68404" y="1400"/>
                </a:lnTo>
                <a:close/>
              </a:path>
              <a:path fill="darkenLess" w="69804" h="21600">
                <a:moveTo>
                  <a:pt x="698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04" y="20200"/>
                </a:lnTo>
                <a:close/>
              </a:path>
              <a:path fill="lighten" w="698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弟子述志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2" name="动作按钮: 自定义 75812">
            <a:hlinkClick r:id="rId7" action="ppaction://hlinksldjump"/>
          </p:cNvPr>
          <p:cNvSpPr/>
          <p:nvPr/>
        </p:nvSpPr>
        <p:spPr>
          <a:xfrm>
            <a:off x="2868480" y="6480000"/>
            <a:ext cx="1079640" cy="333720"/>
          </a:xfrm>
          <a:custGeom>
            <a:avLst/>
            <a:gdLst>
              <a:gd name="textAreaLeft" fmla="*/ 21600 w 1079640"/>
              <a:gd name="textAreaRight" fmla="*/ 1058040 w 107964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28" h="21600">
                <a:moveTo>
                  <a:pt x="0" y="0"/>
                </a:moveTo>
                <a:lnTo>
                  <a:pt x="69828" y="0"/>
                </a:lnTo>
                <a:lnTo>
                  <a:pt x="69828" y="21600"/>
                </a:lnTo>
                <a:lnTo>
                  <a:pt x="0" y="21600"/>
                </a:lnTo>
                <a:close/>
              </a:path>
              <a:path fill="lightenLess" w="69828" h="21600">
                <a:moveTo>
                  <a:pt x="0" y="0"/>
                </a:moveTo>
                <a:lnTo>
                  <a:pt x="69828" y="0"/>
                </a:lnTo>
                <a:lnTo>
                  <a:pt x="68428" y="1400"/>
                </a:lnTo>
                <a:lnTo>
                  <a:pt x="1400" y="1400"/>
                </a:lnTo>
                <a:close/>
              </a:path>
              <a:path fill="darken" w="69828" h="21600">
                <a:moveTo>
                  <a:pt x="69828" y="0"/>
                </a:moveTo>
                <a:lnTo>
                  <a:pt x="69828" y="21600"/>
                </a:lnTo>
                <a:lnTo>
                  <a:pt x="68428" y="20200"/>
                </a:lnTo>
                <a:lnTo>
                  <a:pt x="68428" y="1400"/>
                </a:lnTo>
                <a:close/>
              </a:path>
              <a:path fill="darkenLess" w="69828" h="21600">
                <a:moveTo>
                  <a:pt x="69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28" y="20200"/>
                </a:lnTo>
                <a:close/>
              </a:path>
              <a:path fill="lighten" w="69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孔子评价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3" name="动作按钮: 自定义 75813"/>
          <p:cNvSpPr/>
          <p:nvPr/>
        </p:nvSpPr>
        <p:spPr>
          <a:xfrm>
            <a:off x="5268960" y="6480000"/>
            <a:ext cx="1079280" cy="333720"/>
          </a:xfrm>
          <a:custGeom>
            <a:avLst/>
            <a:gdLst>
              <a:gd name="textAreaLeft" fmla="*/ 21600 w 1079280"/>
              <a:gd name="textAreaRight" fmla="*/ 1057680 w 107928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04" h="21600">
                <a:moveTo>
                  <a:pt x="0" y="0"/>
                </a:moveTo>
                <a:lnTo>
                  <a:pt x="69804" y="0"/>
                </a:lnTo>
                <a:lnTo>
                  <a:pt x="69804" y="21600"/>
                </a:lnTo>
                <a:lnTo>
                  <a:pt x="0" y="21600"/>
                </a:lnTo>
                <a:close/>
              </a:path>
              <a:path fill="lightenLess" w="69804" h="21600">
                <a:moveTo>
                  <a:pt x="0" y="0"/>
                </a:moveTo>
                <a:lnTo>
                  <a:pt x="69804" y="0"/>
                </a:lnTo>
                <a:lnTo>
                  <a:pt x="68404" y="1400"/>
                </a:lnTo>
                <a:lnTo>
                  <a:pt x="1400" y="1400"/>
                </a:lnTo>
                <a:close/>
              </a:path>
              <a:path fill="darken" w="69804" h="21600">
                <a:moveTo>
                  <a:pt x="69804" y="0"/>
                </a:moveTo>
                <a:lnTo>
                  <a:pt x="69804" y="21600"/>
                </a:lnTo>
                <a:lnTo>
                  <a:pt x="68404" y="20200"/>
                </a:lnTo>
                <a:lnTo>
                  <a:pt x="68404" y="1400"/>
                </a:lnTo>
                <a:close/>
              </a:path>
              <a:path fill="darkenLess" w="69804" h="21600">
                <a:moveTo>
                  <a:pt x="698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04" y="20200"/>
                </a:lnTo>
                <a:close/>
              </a:path>
              <a:path fill="lighten" w="698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师生探究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4" name="动作按钮: 自定义 75814"/>
          <p:cNvSpPr/>
          <p:nvPr/>
        </p:nvSpPr>
        <p:spPr>
          <a:xfrm>
            <a:off x="6469200" y="6480000"/>
            <a:ext cx="1079280" cy="333720"/>
          </a:xfrm>
          <a:custGeom>
            <a:avLst/>
            <a:gdLst>
              <a:gd name="textAreaLeft" fmla="*/ 21600 w 1079280"/>
              <a:gd name="textAreaRight" fmla="*/ 1057680 w 107928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04" h="21600">
                <a:moveTo>
                  <a:pt x="0" y="0"/>
                </a:moveTo>
                <a:lnTo>
                  <a:pt x="69804" y="0"/>
                </a:lnTo>
                <a:lnTo>
                  <a:pt x="69804" y="21600"/>
                </a:lnTo>
                <a:lnTo>
                  <a:pt x="0" y="21600"/>
                </a:lnTo>
                <a:close/>
              </a:path>
              <a:path fill="lightenLess" w="69804" h="21600">
                <a:moveTo>
                  <a:pt x="0" y="0"/>
                </a:moveTo>
                <a:lnTo>
                  <a:pt x="69804" y="0"/>
                </a:lnTo>
                <a:lnTo>
                  <a:pt x="68404" y="1400"/>
                </a:lnTo>
                <a:lnTo>
                  <a:pt x="1400" y="1400"/>
                </a:lnTo>
                <a:close/>
              </a:path>
              <a:path fill="darken" w="69804" h="21600">
                <a:moveTo>
                  <a:pt x="69804" y="0"/>
                </a:moveTo>
                <a:lnTo>
                  <a:pt x="69804" y="21600"/>
                </a:lnTo>
                <a:lnTo>
                  <a:pt x="68404" y="20200"/>
                </a:lnTo>
                <a:lnTo>
                  <a:pt x="68404" y="1400"/>
                </a:lnTo>
                <a:close/>
              </a:path>
              <a:path fill="darkenLess" w="69804" h="21600">
                <a:moveTo>
                  <a:pt x="698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04" y="20200"/>
                </a:lnTo>
                <a:close/>
              </a:path>
              <a:path fill="lighten" w="698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课后作业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5" name="动作按钮: 自定义 75815">
            <a:hlinkClick r:id="rId8" action="ppaction://hlinksldjump"/>
          </p:cNvPr>
          <p:cNvSpPr/>
          <p:nvPr/>
        </p:nvSpPr>
        <p:spPr>
          <a:xfrm>
            <a:off x="7669080" y="6480000"/>
            <a:ext cx="1079640" cy="333720"/>
          </a:xfrm>
          <a:custGeom>
            <a:avLst/>
            <a:gdLst>
              <a:gd name="textAreaLeft" fmla="*/ 21600 w 1079640"/>
              <a:gd name="textAreaRight" fmla="*/ 1058040 w 107964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28" h="21600">
                <a:moveTo>
                  <a:pt x="0" y="0"/>
                </a:moveTo>
                <a:lnTo>
                  <a:pt x="69828" y="0"/>
                </a:lnTo>
                <a:lnTo>
                  <a:pt x="69828" y="21600"/>
                </a:lnTo>
                <a:lnTo>
                  <a:pt x="0" y="21600"/>
                </a:lnTo>
                <a:close/>
              </a:path>
              <a:path fill="lightenLess" w="69828" h="21600">
                <a:moveTo>
                  <a:pt x="0" y="0"/>
                </a:moveTo>
                <a:lnTo>
                  <a:pt x="69828" y="0"/>
                </a:lnTo>
                <a:lnTo>
                  <a:pt x="68428" y="1400"/>
                </a:lnTo>
                <a:lnTo>
                  <a:pt x="1400" y="1400"/>
                </a:lnTo>
                <a:close/>
              </a:path>
              <a:path fill="darken" w="69828" h="21600">
                <a:moveTo>
                  <a:pt x="69828" y="0"/>
                </a:moveTo>
                <a:lnTo>
                  <a:pt x="69828" y="21600"/>
                </a:lnTo>
                <a:lnTo>
                  <a:pt x="68428" y="20200"/>
                </a:lnTo>
                <a:lnTo>
                  <a:pt x="68428" y="1400"/>
                </a:lnTo>
                <a:close/>
              </a:path>
              <a:path fill="darkenLess" w="69828" h="21600">
                <a:moveTo>
                  <a:pt x="69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28" y="20200"/>
                </a:lnTo>
                <a:close/>
              </a:path>
              <a:path fill="lighten" w="69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知识链接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文本框 54277"/>
          <p:cNvSpPr/>
          <p:nvPr/>
        </p:nvSpPr>
        <p:spPr>
          <a:xfrm>
            <a:off x="684360" y="620640"/>
            <a:ext cx="4032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    </a:t>
            </a: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子路、曾皙、冉有、公西华侍坐。子曰：“以吾一日长乎尔，毋吾以也。居则曰：‘不吾知也。’如或知尔，则何以哉？”</a:t>
            </a: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    </a:t>
            </a: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子路率尔而对曰：“千乘之国，摄乎大国之间，加之以师旅，因之以饥谨；由也为之，比及三年，可使有勇，且知方也。”</a:t>
            </a: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    </a:t>
            </a: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夫子哂之。</a:t>
            </a: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    “</a:t>
            </a: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求，尔何如？”</a:t>
            </a: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    </a:t>
            </a: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对曰：“方六七十，如五六十，求也为之，比及三年，可使足民。如其礼乐，以俟君子。”</a:t>
            </a: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    “</a:t>
            </a: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赤，尔何如？”</a:t>
            </a: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    </a:t>
            </a: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对曰：“非曰能之，愿学焉。宗庙之事，如会同，端章甫，愿为</a:t>
            </a: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  </a:t>
            </a: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小相焉。”</a:t>
            </a: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    “</a:t>
            </a: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点，尔何如？”</a:t>
            </a: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    </a:t>
            </a: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鼓瑟希，铿尔，舍瑟而作，</a:t>
            </a: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7" name="文本框 54278"/>
          <p:cNvSpPr/>
          <p:nvPr/>
        </p:nvSpPr>
        <p:spPr>
          <a:xfrm>
            <a:off x="4788000" y="692280"/>
            <a:ext cx="403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对曰：“异乎三子者之撰。”</a:t>
            </a: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    </a:t>
            </a: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子曰：“何伤乎？亦各言其志也！”</a:t>
            </a: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    </a:t>
            </a: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曰：“莫春者，春服既成，冠者五六人，童子六七人，浴乎沂，风乎舞雩，咏而归。”</a:t>
            </a: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    </a:t>
            </a: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夫子喟然叹曰：“吾与点也。”</a:t>
            </a: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    </a:t>
            </a: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三子者出，曾皙后。曾皙曰：“夫三子者何如？”</a:t>
            </a: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    </a:t>
            </a: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子曰：“亦各言其志也已矣！”</a:t>
            </a: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    </a:t>
            </a: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曰：“夫子何哂由也？”</a:t>
            </a: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    </a:t>
            </a:r>
            <a:r>
              <a:rPr b="1" lang="zh-CN" sz="2000" spc="-1" strike="noStrike">
                <a:solidFill>
                  <a:srgbClr val="000066"/>
                </a:solidFill>
                <a:latin typeface="方正隶变简体"/>
                <a:ea typeface="方正隶变简体"/>
              </a:rPr>
              <a:t>曰：“为国以礼，其言不让，    是故哂之。唯求则非邦也与？安见方六七十，如五六十而非邦也者？唯赤则非邦也与？宗庙会同，非诸侯而何？赤也为之小，孰能为之大？”</a:t>
            </a: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8" name="直接连接符 54279"/>
          <p:cNvSpPr/>
          <p:nvPr/>
        </p:nvSpPr>
        <p:spPr>
          <a:xfrm>
            <a:off x="4788000" y="620640"/>
            <a:ext cx="0" cy="576108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9" name="动作按钮: 后退或前一项 54281">
            <a:hlinkClick r:id="" action="ppaction://hlinkshowjump?jump=previousslide"/>
          </p:cNvPr>
          <p:cNvSpPr/>
          <p:nvPr/>
        </p:nvSpPr>
        <p:spPr>
          <a:xfrm>
            <a:off x="6877080" y="5950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90" name="动作按钮: 前进或下一项 54282">
            <a:hlinkClick r:id="" action="ppaction://hlinkshowjump?jump=nextslide"/>
          </p:cNvPr>
          <p:cNvSpPr/>
          <p:nvPr/>
        </p:nvSpPr>
        <p:spPr>
          <a:xfrm>
            <a:off x="7308720" y="5950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6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91" name="动作按钮: 上一张 54284">
            <a:hlinkClick r:id="rId2" action="ppaction://hlinksldjump"/>
          </p:cNvPr>
          <p:cNvSpPr/>
          <p:nvPr/>
        </p:nvSpPr>
        <p:spPr>
          <a:xfrm>
            <a:off x="7740720" y="5950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66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892" name="图片 54287" descr="图片1"/>
          <p:cNvPicPr/>
          <p:nvPr/>
        </p:nvPicPr>
        <p:blipFill>
          <a:blip r:embed="rId3"/>
          <a:stretch/>
        </p:blipFill>
        <p:spPr>
          <a:xfrm>
            <a:off x="0" y="2133720"/>
            <a:ext cx="79056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/>
          </p:nvPr>
        </p:nvSpPr>
        <p:spPr>
          <a:xfrm>
            <a:off x="2195280" y="1341000"/>
            <a:ext cx="57704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</a:rPr>
              <a:t>每位弟子的志向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</a:rPr>
              <a:t>孔子的评价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4" name="动作按钮: 后退或前一项 87044">
            <a:hlinkClick r:id="" action="ppaction://hlinkshowjump?jump=previousslide"/>
          </p:cNvPr>
          <p:cNvSpPr/>
          <p:nvPr/>
        </p:nvSpPr>
        <p:spPr>
          <a:xfrm>
            <a:off x="7524720" y="5805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95" name="动作按钮: 前进或下一项 87045">
            <a:hlinkClick r:id="" action="ppaction://hlinkshowjump?jump=nextslide"/>
          </p:cNvPr>
          <p:cNvSpPr/>
          <p:nvPr/>
        </p:nvSpPr>
        <p:spPr>
          <a:xfrm>
            <a:off x="7956720" y="5805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6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96" name="动作按钮: 上一张 87046">
            <a:hlinkClick r:id="rId2" action="ppaction://hlinksldjump"/>
          </p:cNvPr>
          <p:cNvSpPr/>
          <p:nvPr/>
        </p:nvSpPr>
        <p:spPr>
          <a:xfrm>
            <a:off x="8388360" y="5805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66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897" name="图片 87047" descr="图片1"/>
          <p:cNvPicPr/>
          <p:nvPr/>
        </p:nvPicPr>
        <p:blipFill>
          <a:blip r:embed="rId3"/>
          <a:stretch/>
        </p:blipFill>
        <p:spPr>
          <a:xfrm>
            <a:off x="539640" y="2276640"/>
            <a:ext cx="79056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684360" y="883800"/>
            <a:ext cx="7772400" cy="7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曰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“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以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吾一日长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乎尔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毋吾</a:t>
            </a:r>
            <a:r>
              <a:rPr b="1" lang="zh-CN" sz="2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以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居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曰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‘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吾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知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 ’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如或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尔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何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以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哉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  ”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99" name=""/>
          <p:cNvSpPr txBox="1"/>
          <p:nvPr/>
        </p:nvSpPr>
        <p:spPr>
          <a:xfrm>
            <a:off x="537840" y="1700280"/>
            <a:ext cx="806436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以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：介词，因为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乎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：相当于“于”，介词，放在形容词之后，可译为“比”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尔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：你们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以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：动词，认为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居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：在平时、闲居，指平时在家的时候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</a:t>
            </a:r>
            <a:r>
              <a:rPr b="1" lang="zh-CN" sz="2000" spc="-1" strike="noStrike">
                <a:solidFill>
                  <a:srgbClr val="dddddd"/>
                </a:solidFill>
                <a:latin typeface="楷体_GB2312"/>
                <a:ea typeface="楷体_GB2312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“辄”解，常常，总是，就</a:t>
            </a:r>
            <a:r>
              <a:rPr b="1" lang="zh-CN" sz="2000" spc="-1" strike="noStrike">
                <a:solidFill>
                  <a:srgbClr val="dddddd"/>
                </a:solidFill>
                <a:latin typeface="楷体_GB2312"/>
                <a:ea typeface="楷体_GB2312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知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：了解，知道。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：连词，假如，如果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：代词，在这里指人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以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：用，做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何以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：以何，如何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翻译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楷体_GB2312"/>
              </a:rPr>
              <a:t>孔子说：“因为我比你们年纪大一点，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不要</a:t>
            </a:r>
            <a:r>
              <a:rPr b="1" lang="zh-CN" sz="1800" spc="-1" strike="noStrike">
                <a:solidFill>
                  <a:srgbClr val="ff6600"/>
                </a:solidFill>
                <a:latin typeface="Verdana"/>
              </a:rPr>
              <a:t>因为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我年纪大一点（因此）（你们就不说了）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楷体_GB2312"/>
              </a:rPr>
              <a:t>。你们平时总在说：‘没有人知道我。’如果有人知道你们，那么你们打算怎么办呢？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毋吾以也：否定句中的宾语前置句，即“毋以吾也”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不吾知也：否定句中的宾语前置句，即“不知吾也”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则何以哉：疑问句中的宾语前置句，即“则以何哉”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0" name="矩形 134147"/>
          <p:cNvSpPr/>
          <p:nvPr/>
        </p:nvSpPr>
        <p:spPr>
          <a:xfrm>
            <a:off x="691560" y="-27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讲解课文：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684000" y="1590480"/>
            <a:ext cx="71276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子路（由）：</a:t>
            </a:r>
            <a:r>
              <a:rPr b="1" lang="zh-CN" sz="4400" spc="-1" strike="noStrike">
                <a:solidFill>
                  <a:srgbClr val="ff0000"/>
                </a:solidFill>
                <a:latin typeface="Verdana"/>
              </a:rPr>
              <a:t>率尔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而对曰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179280" y="2292120"/>
            <a:ext cx="89647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sz="3600" spc="-1" strike="noStrike">
                <a:solidFill>
                  <a:srgbClr val="000000"/>
                </a:solidFill>
                <a:latin typeface="Verdana"/>
              </a:rPr>
              <a:t>千</a:t>
            </a:r>
            <a:r>
              <a:rPr b="1" sz="3600" spc="-1" strike="noStrike">
                <a:solidFill>
                  <a:srgbClr val="ff0000"/>
                </a:solidFill>
                <a:latin typeface="Verdana"/>
              </a:rPr>
              <a:t>乘</a:t>
            </a:r>
            <a:r>
              <a:rPr b="1" sz="3600" spc="-1" strike="noStrike">
                <a:solidFill>
                  <a:srgbClr val="000000"/>
                </a:solidFill>
                <a:latin typeface="Verdana"/>
              </a:rPr>
              <a:t>之国，</a:t>
            </a:r>
            <a:r>
              <a:rPr b="1" sz="3600" spc="-1" strike="noStrike">
                <a:solidFill>
                  <a:srgbClr val="ff0000"/>
                </a:solidFill>
                <a:latin typeface="Verdana"/>
              </a:rPr>
              <a:t>摄乎</a:t>
            </a:r>
            <a:r>
              <a:rPr b="1" sz="3600" spc="-1" strike="noStrike">
                <a:solidFill>
                  <a:srgbClr val="000000"/>
                </a:solidFill>
                <a:latin typeface="Verdana"/>
              </a:rPr>
              <a:t>大国之间，</a:t>
            </a:r>
            <a:r>
              <a:rPr b="1" sz="3600" spc="-1" strike="noStrike">
                <a:solidFill>
                  <a:srgbClr val="ff0000"/>
                </a:solidFill>
                <a:latin typeface="Verdana"/>
              </a:rPr>
              <a:t>加</a:t>
            </a:r>
            <a:r>
              <a:rPr b="1" sz="3600" spc="-1" strike="noStrike">
                <a:solidFill>
                  <a:srgbClr val="000000"/>
                </a:solidFill>
                <a:latin typeface="Verdana"/>
              </a:rPr>
              <a:t>之以师旅，</a:t>
            </a:r>
            <a:r>
              <a:rPr b="1" sz="3600" spc="-1" strike="noStrike">
                <a:solidFill>
                  <a:srgbClr val="ff0000"/>
                </a:solidFill>
                <a:latin typeface="Verdana"/>
              </a:rPr>
              <a:t>因</a:t>
            </a:r>
            <a:r>
              <a:rPr b="1" sz="3600" spc="-1" strike="noStrike">
                <a:solidFill>
                  <a:srgbClr val="000000"/>
                </a:solidFill>
                <a:latin typeface="Verdana"/>
              </a:rPr>
              <a:t>之以饥谨；由也</a:t>
            </a:r>
            <a:r>
              <a:rPr b="1" sz="3600" spc="-1" strike="noStrike">
                <a:solidFill>
                  <a:srgbClr val="ff0000"/>
                </a:solidFill>
                <a:latin typeface="Verdana"/>
              </a:rPr>
              <a:t>为</a:t>
            </a:r>
            <a:r>
              <a:rPr b="1" sz="3600" spc="-1" strike="noStrike">
                <a:solidFill>
                  <a:srgbClr val="000000"/>
                </a:solidFill>
                <a:latin typeface="Verdana"/>
              </a:rPr>
              <a:t>之，</a:t>
            </a:r>
            <a:r>
              <a:rPr b="1" sz="3600" spc="-1" strike="noStrike">
                <a:solidFill>
                  <a:srgbClr val="ff0000"/>
                </a:solidFill>
                <a:latin typeface="Verdana"/>
              </a:rPr>
              <a:t>比及</a:t>
            </a:r>
            <a:r>
              <a:rPr b="1" sz="3600" spc="-1" strike="noStrike">
                <a:solidFill>
                  <a:srgbClr val="000000"/>
                </a:solidFill>
                <a:latin typeface="Verdana"/>
              </a:rPr>
              <a:t>三年，可使有勇，且知</a:t>
            </a:r>
            <a:r>
              <a:rPr b="1" sz="3600" spc="-1" strike="noStrike">
                <a:solidFill>
                  <a:srgbClr val="ff0000"/>
                </a:solidFill>
                <a:latin typeface="Verdana"/>
              </a:rPr>
              <a:t>方</a:t>
            </a:r>
            <a:r>
              <a:rPr b="1" sz="3600" spc="-1" strike="noStrike">
                <a:solidFill>
                  <a:srgbClr val="000000"/>
                </a:solidFill>
                <a:latin typeface="Verdana"/>
              </a:rPr>
              <a:t>也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3" name="文本框 101381"/>
          <p:cNvSpPr/>
          <p:nvPr/>
        </p:nvSpPr>
        <p:spPr>
          <a:xfrm>
            <a:off x="3059280" y="32846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ff"/>
                </a:solidFill>
                <a:latin typeface="Verdana"/>
              </a:rPr>
              <a:t>夹在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04" name="文本框 101382"/>
          <p:cNvSpPr/>
          <p:nvPr/>
        </p:nvSpPr>
        <p:spPr>
          <a:xfrm>
            <a:off x="6156360" y="335772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ff"/>
                </a:solidFill>
                <a:latin typeface="Verdana"/>
              </a:rPr>
              <a:t>攻打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05" name="文本框 101383"/>
          <p:cNvSpPr/>
          <p:nvPr/>
        </p:nvSpPr>
        <p:spPr>
          <a:xfrm>
            <a:off x="380880" y="44258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ff"/>
                </a:solidFill>
                <a:latin typeface="Verdana"/>
              </a:rPr>
              <a:t>接着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06" name="文本框 101384"/>
          <p:cNvSpPr/>
          <p:nvPr/>
        </p:nvSpPr>
        <p:spPr>
          <a:xfrm>
            <a:off x="4191120" y="44258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ff"/>
                </a:solidFill>
                <a:latin typeface="Verdana"/>
              </a:rPr>
              <a:t>治理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07" name="文本框 101385"/>
          <p:cNvSpPr/>
          <p:nvPr/>
        </p:nvSpPr>
        <p:spPr>
          <a:xfrm>
            <a:off x="5638680" y="44258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ff"/>
                </a:solidFill>
                <a:latin typeface="Verdana"/>
              </a:rPr>
              <a:t>等到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08" name="文本框 101386"/>
          <p:cNvSpPr/>
          <p:nvPr/>
        </p:nvSpPr>
        <p:spPr>
          <a:xfrm>
            <a:off x="1763640" y="5560920"/>
            <a:ext cx="331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ff"/>
                </a:solidFill>
                <a:latin typeface="Verdana"/>
              </a:rPr>
              <a:t>正道，是非准则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09" name="文本框 101389"/>
          <p:cNvSpPr/>
          <p:nvPr/>
        </p:nvSpPr>
        <p:spPr>
          <a:xfrm>
            <a:off x="468360" y="16732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10" name="动作按钮: 后退或前一项 101398">
            <a:hlinkClick r:id="" action="ppaction://hlinkshowjump?jump=previousslide"/>
          </p:cNvPr>
          <p:cNvSpPr/>
          <p:nvPr/>
        </p:nvSpPr>
        <p:spPr>
          <a:xfrm>
            <a:off x="7524720" y="5805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11" name="动作按钮: 前进或下一项 101399">
            <a:hlinkClick r:id="" action="ppaction://hlinkshowjump?jump=nextslide"/>
          </p:cNvPr>
          <p:cNvSpPr/>
          <p:nvPr/>
        </p:nvSpPr>
        <p:spPr>
          <a:xfrm>
            <a:off x="7956720" y="5805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6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12" name="动作按钮: 上一张 101400">
            <a:hlinkClick r:id="rId2" action="ppaction://hlinksldjump"/>
          </p:cNvPr>
          <p:cNvSpPr/>
          <p:nvPr/>
        </p:nvSpPr>
        <p:spPr>
          <a:xfrm>
            <a:off x="8388360" y="5805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66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913" name="图片 101401" descr="图片3"/>
          <p:cNvPicPr/>
          <p:nvPr/>
        </p:nvPicPr>
        <p:blipFill>
          <a:blip r:embed="rId3"/>
          <a:stretch/>
        </p:blipFill>
        <p:spPr>
          <a:xfrm>
            <a:off x="3059280" y="549360"/>
            <a:ext cx="2876400" cy="828720"/>
          </a:xfrm>
          <a:prstGeom prst="rect">
            <a:avLst/>
          </a:prstGeom>
          <a:ln w="0">
            <a:noFill/>
          </a:ln>
        </p:spPr>
      </p:pic>
      <p:sp>
        <p:nvSpPr>
          <p:cNvPr id="1914" name="文本框 101402"/>
          <p:cNvSpPr/>
          <p:nvPr/>
        </p:nvSpPr>
        <p:spPr>
          <a:xfrm>
            <a:off x="3687840" y="2171880"/>
            <a:ext cx="333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ff"/>
                </a:solidFill>
                <a:latin typeface="Times New Roman"/>
              </a:rPr>
              <a:t>轻率匆忙的样子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15" name="动作按钮: 自定义 101403">
            <a:hlinkClick r:id="rId4" action="ppaction://hlinksldjump"/>
          </p:cNvPr>
          <p:cNvSpPr/>
          <p:nvPr/>
        </p:nvSpPr>
        <p:spPr>
          <a:xfrm>
            <a:off x="468360" y="6480000"/>
            <a:ext cx="1079280" cy="333720"/>
          </a:xfrm>
          <a:custGeom>
            <a:avLst/>
            <a:gdLst>
              <a:gd name="textAreaLeft" fmla="*/ 21600 w 1079280"/>
              <a:gd name="textAreaRight" fmla="*/ 1057680 w 107928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04" h="21600">
                <a:moveTo>
                  <a:pt x="0" y="0"/>
                </a:moveTo>
                <a:lnTo>
                  <a:pt x="69804" y="0"/>
                </a:lnTo>
                <a:lnTo>
                  <a:pt x="69804" y="21600"/>
                </a:lnTo>
                <a:lnTo>
                  <a:pt x="0" y="21600"/>
                </a:lnTo>
                <a:close/>
              </a:path>
              <a:path fill="lightenLess" w="69804" h="21600">
                <a:moveTo>
                  <a:pt x="0" y="0"/>
                </a:moveTo>
                <a:lnTo>
                  <a:pt x="69804" y="0"/>
                </a:lnTo>
                <a:lnTo>
                  <a:pt x="68404" y="1400"/>
                </a:lnTo>
                <a:lnTo>
                  <a:pt x="1400" y="1400"/>
                </a:lnTo>
                <a:close/>
              </a:path>
              <a:path fill="darken" w="69804" h="21600">
                <a:moveTo>
                  <a:pt x="69804" y="0"/>
                </a:moveTo>
                <a:lnTo>
                  <a:pt x="69804" y="21600"/>
                </a:lnTo>
                <a:lnTo>
                  <a:pt x="68404" y="20200"/>
                </a:lnTo>
                <a:lnTo>
                  <a:pt x="68404" y="1400"/>
                </a:lnTo>
                <a:close/>
              </a:path>
              <a:path fill="darkenLess" w="69804" h="21600">
                <a:moveTo>
                  <a:pt x="698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04" y="20200"/>
                </a:lnTo>
                <a:close/>
              </a:path>
              <a:path fill="lighten" w="698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整体感知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16" name="动作按钮: 自定义 101404">
            <a:hlinkClick r:id="rId5" action="ppaction://hlinksldjump"/>
          </p:cNvPr>
          <p:cNvSpPr/>
          <p:nvPr/>
        </p:nvSpPr>
        <p:spPr>
          <a:xfrm>
            <a:off x="4068720" y="6480000"/>
            <a:ext cx="1079640" cy="333720"/>
          </a:xfrm>
          <a:custGeom>
            <a:avLst/>
            <a:gdLst>
              <a:gd name="textAreaLeft" fmla="*/ 21600 w 1079640"/>
              <a:gd name="textAreaRight" fmla="*/ 1058040 w 107964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28" h="21600">
                <a:moveTo>
                  <a:pt x="0" y="0"/>
                </a:moveTo>
                <a:lnTo>
                  <a:pt x="69828" y="0"/>
                </a:lnTo>
                <a:lnTo>
                  <a:pt x="69828" y="21600"/>
                </a:lnTo>
                <a:lnTo>
                  <a:pt x="0" y="21600"/>
                </a:lnTo>
                <a:close/>
              </a:path>
              <a:path fill="lightenLess" w="69828" h="21600">
                <a:moveTo>
                  <a:pt x="0" y="0"/>
                </a:moveTo>
                <a:lnTo>
                  <a:pt x="69828" y="0"/>
                </a:lnTo>
                <a:lnTo>
                  <a:pt x="68428" y="1400"/>
                </a:lnTo>
                <a:lnTo>
                  <a:pt x="1400" y="1400"/>
                </a:lnTo>
                <a:close/>
              </a:path>
              <a:path fill="darken" w="69828" h="21600">
                <a:moveTo>
                  <a:pt x="69828" y="0"/>
                </a:moveTo>
                <a:lnTo>
                  <a:pt x="69828" y="21600"/>
                </a:lnTo>
                <a:lnTo>
                  <a:pt x="68428" y="20200"/>
                </a:lnTo>
                <a:lnTo>
                  <a:pt x="68428" y="1400"/>
                </a:lnTo>
                <a:close/>
              </a:path>
              <a:path fill="darkenLess" w="69828" h="21600">
                <a:moveTo>
                  <a:pt x="69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28" y="20200"/>
                </a:lnTo>
                <a:close/>
              </a:path>
              <a:path fill="lighten" w="69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知识拓展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17" name="动作按钮: 自定义 101405">
            <a:hlinkClick r:id="rId6" action="ppaction://hlinksldjump"/>
          </p:cNvPr>
          <p:cNvSpPr/>
          <p:nvPr/>
        </p:nvSpPr>
        <p:spPr>
          <a:xfrm>
            <a:off x="1668600" y="6480000"/>
            <a:ext cx="1079280" cy="333720"/>
          </a:xfrm>
          <a:custGeom>
            <a:avLst/>
            <a:gdLst>
              <a:gd name="textAreaLeft" fmla="*/ 21600 w 1079280"/>
              <a:gd name="textAreaRight" fmla="*/ 1057680 w 107928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04" h="21600">
                <a:moveTo>
                  <a:pt x="0" y="0"/>
                </a:moveTo>
                <a:lnTo>
                  <a:pt x="69804" y="0"/>
                </a:lnTo>
                <a:lnTo>
                  <a:pt x="69804" y="21600"/>
                </a:lnTo>
                <a:lnTo>
                  <a:pt x="0" y="21600"/>
                </a:lnTo>
                <a:close/>
              </a:path>
              <a:path fill="lightenLess" w="69804" h="21600">
                <a:moveTo>
                  <a:pt x="0" y="0"/>
                </a:moveTo>
                <a:lnTo>
                  <a:pt x="69804" y="0"/>
                </a:lnTo>
                <a:lnTo>
                  <a:pt x="68404" y="1400"/>
                </a:lnTo>
                <a:lnTo>
                  <a:pt x="1400" y="1400"/>
                </a:lnTo>
                <a:close/>
              </a:path>
              <a:path fill="darken" w="69804" h="21600">
                <a:moveTo>
                  <a:pt x="69804" y="0"/>
                </a:moveTo>
                <a:lnTo>
                  <a:pt x="69804" y="21600"/>
                </a:lnTo>
                <a:lnTo>
                  <a:pt x="68404" y="20200"/>
                </a:lnTo>
                <a:lnTo>
                  <a:pt x="68404" y="1400"/>
                </a:lnTo>
                <a:close/>
              </a:path>
              <a:path fill="darkenLess" w="69804" h="21600">
                <a:moveTo>
                  <a:pt x="698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04" y="20200"/>
                </a:lnTo>
                <a:close/>
              </a:path>
              <a:path fill="lighten" w="698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弟子述志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18" name="动作按钮: 自定义 101406">
            <a:hlinkClick r:id="rId7" action="ppaction://hlinksldjump"/>
          </p:cNvPr>
          <p:cNvSpPr/>
          <p:nvPr/>
        </p:nvSpPr>
        <p:spPr>
          <a:xfrm>
            <a:off x="2868480" y="6480000"/>
            <a:ext cx="1079640" cy="333720"/>
          </a:xfrm>
          <a:custGeom>
            <a:avLst/>
            <a:gdLst>
              <a:gd name="textAreaLeft" fmla="*/ 21600 w 1079640"/>
              <a:gd name="textAreaRight" fmla="*/ 1058040 w 107964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28" h="21600">
                <a:moveTo>
                  <a:pt x="0" y="0"/>
                </a:moveTo>
                <a:lnTo>
                  <a:pt x="69828" y="0"/>
                </a:lnTo>
                <a:lnTo>
                  <a:pt x="69828" y="21600"/>
                </a:lnTo>
                <a:lnTo>
                  <a:pt x="0" y="21600"/>
                </a:lnTo>
                <a:close/>
              </a:path>
              <a:path fill="lightenLess" w="69828" h="21600">
                <a:moveTo>
                  <a:pt x="0" y="0"/>
                </a:moveTo>
                <a:lnTo>
                  <a:pt x="69828" y="0"/>
                </a:lnTo>
                <a:lnTo>
                  <a:pt x="68428" y="1400"/>
                </a:lnTo>
                <a:lnTo>
                  <a:pt x="1400" y="1400"/>
                </a:lnTo>
                <a:close/>
              </a:path>
              <a:path fill="darken" w="69828" h="21600">
                <a:moveTo>
                  <a:pt x="69828" y="0"/>
                </a:moveTo>
                <a:lnTo>
                  <a:pt x="69828" y="21600"/>
                </a:lnTo>
                <a:lnTo>
                  <a:pt x="68428" y="20200"/>
                </a:lnTo>
                <a:lnTo>
                  <a:pt x="68428" y="1400"/>
                </a:lnTo>
                <a:close/>
              </a:path>
              <a:path fill="darkenLess" w="69828" h="21600">
                <a:moveTo>
                  <a:pt x="69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28" y="20200"/>
                </a:lnTo>
                <a:close/>
              </a:path>
              <a:path fill="lighten" w="69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孔子评价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19" name="动作按钮: 自定义 101407"/>
          <p:cNvSpPr/>
          <p:nvPr/>
        </p:nvSpPr>
        <p:spPr>
          <a:xfrm>
            <a:off x="5268960" y="6480000"/>
            <a:ext cx="1079280" cy="333720"/>
          </a:xfrm>
          <a:custGeom>
            <a:avLst/>
            <a:gdLst>
              <a:gd name="textAreaLeft" fmla="*/ 21600 w 1079280"/>
              <a:gd name="textAreaRight" fmla="*/ 1057680 w 107928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04" h="21600">
                <a:moveTo>
                  <a:pt x="0" y="0"/>
                </a:moveTo>
                <a:lnTo>
                  <a:pt x="69804" y="0"/>
                </a:lnTo>
                <a:lnTo>
                  <a:pt x="69804" y="21600"/>
                </a:lnTo>
                <a:lnTo>
                  <a:pt x="0" y="21600"/>
                </a:lnTo>
                <a:close/>
              </a:path>
              <a:path fill="lightenLess" w="69804" h="21600">
                <a:moveTo>
                  <a:pt x="0" y="0"/>
                </a:moveTo>
                <a:lnTo>
                  <a:pt x="69804" y="0"/>
                </a:lnTo>
                <a:lnTo>
                  <a:pt x="68404" y="1400"/>
                </a:lnTo>
                <a:lnTo>
                  <a:pt x="1400" y="1400"/>
                </a:lnTo>
                <a:close/>
              </a:path>
              <a:path fill="darken" w="69804" h="21600">
                <a:moveTo>
                  <a:pt x="69804" y="0"/>
                </a:moveTo>
                <a:lnTo>
                  <a:pt x="69804" y="21600"/>
                </a:lnTo>
                <a:lnTo>
                  <a:pt x="68404" y="20200"/>
                </a:lnTo>
                <a:lnTo>
                  <a:pt x="68404" y="1400"/>
                </a:lnTo>
                <a:close/>
              </a:path>
              <a:path fill="darkenLess" w="69804" h="21600">
                <a:moveTo>
                  <a:pt x="698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04" y="20200"/>
                </a:lnTo>
                <a:close/>
              </a:path>
              <a:path fill="lighten" w="698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师生探究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20" name="动作按钮: 自定义 101408"/>
          <p:cNvSpPr/>
          <p:nvPr/>
        </p:nvSpPr>
        <p:spPr>
          <a:xfrm>
            <a:off x="6469200" y="6480000"/>
            <a:ext cx="1079280" cy="333720"/>
          </a:xfrm>
          <a:custGeom>
            <a:avLst/>
            <a:gdLst>
              <a:gd name="textAreaLeft" fmla="*/ 21600 w 1079280"/>
              <a:gd name="textAreaRight" fmla="*/ 1057680 w 107928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04" h="21600">
                <a:moveTo>
                  <a:pt x="0" y="0"/>
                </a:moveTo>
                <a:lnTo>
                  <a:pt x="69804" y="0"/>
                </a:lnTo>
                <a:lnTo>
                  <a:pt x="69804" y="21600"/>
                </a:lnTo>
                <a:lnTo>
                  <a:pt x="0" y="21600"/>
                </a:lnTo>
                <a:close/>
              </a:path>
              <a:path fill="lightenLess" w="69804" h="21600">
                <a:moveTo>
                  <a:pt x="0" y="0"/>
                </a:moveTo>
                <a:lnTo>
                  <a:pt x="69804" y="0"/>
                </a:lnTo>
                <a:lnTo>
                  <a:pt x="68404" y="1400"/>
                </a:lnTo>
                <a:lnTo>
                  <a:pt x="1400" y="1400"/>
                </a:lnTo>
                <a:close/>
              </a:path>
              <a:path fill="darken" w="69804" h="21600">
                <a:moveTo>
                  <a:pt x="69804" y="0"/>
                </a:moveTo>
                <a:lnTo>
                  <a:pt x="69804" y="21600"/>
                </a:lnTo>
                <a:lnTo>
                  <a:pt x="68404" y="20200"/>
                </a:lnTo>
                <a:lnTo>
                  <a:pt x="68404" y="1400"/>
                </a:lnTo>
                <a:close/>
              </a:path>
              <a:path fill="darkenLess" w="69804" h="21600">
                <a:moveTo>
                  <a:pt x="698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04" y="20200"/>
                </a:lnTo>
                <a:close/>
              </a:path>
              <a:path fill="lighten" w="698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课后作业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21" name="动作按钮: 自定义 101409">
            <a:hlinkClick r:id="rId8" action="ppaction://hlinksldjump"/>
          </p:cNvPr>
          <p:cNvSpPr/>
          <p:nvPr/>
        </p:nvSpPr>
        <p:spPr>
          <a:xfrm>
            <a:off x="7669080" y="6480000"/>
            <a:ext cx="1079640" cy="333720"/>
          </a:xfrm>
          <a:custGeom>
            <a:avLst/>
            <a:gdLst>
              <a:gd name="textAreaLeft" fmla="*/ 21600 w 1079640"/>
              <a:gd name="textAreaRight" fmla="*/ 1058040 w 107964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69828" h="21600">
                <a:moveTo>
                  <a:pt x="0" y="0"/>
                </a:moveTo>
                <a:lnTo>
                  <a:pt x="69828" y="0"/>
                </a:lnTo>
                <a:lnTo>
                  <a:pt x="69828" y="21600"/>
                </a:lnTo>
                <a:lnTo>
                  <a:pt x="0" y="21600"/>
                </a:lnTo>
                <a:close/>
              </a:path>
              <a:path fill="lightenLess" w="69828" h="21600">
                <a:moveTo>
                  <a:pt x="0" y="0"/>
                </a:moveTo>
                <a:lnTo>
                  <a:pt x="69828" y="0"/>
                </a:lnTo>
                <a:lnTo>
                  <a:pt x="68428" y="1400"/>
                </a:lnTo>
                <a:lnTo>
                  <a:pt x="1400" y="1400"/>
                </a:lnTo>
                <a:close/>
              </a:path>
              <a:path fill="darken" w="69828" h="21600">
                <a:moveTo>
                  <a:pt x="69828" y="0"/>
                </a:moveTo>
                <a:lnTo>
                  <a:pt x="69828" y="21600"/>
                </a:lnTo>
                <a:lnTo>
                  <a:pt x="68428" y="20200"/>
                </a:lnTo>
                <a:lnTo>
                  <a:pt x="68428" y="1400"/>
                </a:lnTo>
                <a:close/>
              </a:path>
              <a:path fill="darkenLess" w="69828" h="21600">
                <a:moveTo>
                  <a:pt x="69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28" y="20200"/>
                </a:lnTo>
                <a:close/>
              </a:path>
              <a:path fill="lighten" w="69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7f00"/>
                </a:solidFill>
                <a:latin typeface="Times New Roman"/>
                <a:ea typeface="华文行楷"/>
              </a:rPr>
              <a:t>知识链接</a:t>
            </a:r>
            <a:endParaRPr b="1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22" name="文本框 101411"/>
          <p:cNvSpPr/>
          <p:nvPr/>
        </p:nvSpPr>
        <p:spPr>
          <a:xfrm>
            <a:off x="972720" y="227664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hèng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87480" y="837720"/>
            <a:ext cx="8969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子路率尔而对曰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:"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千乘之国，摄乎大国之间，加之以师旅，因之以饥馑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也为之，比及三年，可使有勇，且知方也。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"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夫子哂之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 txBox="1"/>
          <p:nvPr/>
        </p:nvSpPr>
        <p:spPr>
          <a:xfrm>
            <a:off x="360000" y="2388960"/>
            <a:ext cx="700200" cy="25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翻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 txBox="1"/>
          <p:nvPr/>
        </p:nvSpPr>
        <p:spPr>
          <a:xfrm>
            <a:off x="1247400" y="2274840"/>
            <a:ext cx="773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子路急忙回答说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:"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一个拥有一千辆兵车的国家，夹在大国之间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加上外国军队的侵犯，接着又遇上饥荒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如果让我治理这个国家，等到三年功夫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就可以使人人勇敢善战，而且还懂得做人的道理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孔子听了，微微一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1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1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9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9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9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9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heng dong</cp:lastModifiedBy>
  <dcterms:modified xsi:type="dcterms:W3CDTF">2020-04-14T03:21:04Z</dcterms:modified>
  <cp:revision>7</cp:revision>
  <dc:subject/>
  <dc:title>PowerPoint 演示文稿</dc:title>
</cp:coreProperties>
</file>