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D2F-50C4-45FE-B980-ED5727A3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827-6547-453A-8D97-51B93064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E2A-3632-4D87-9E07-96B07ECB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022-47CB-4DD1-93CA-851B5E26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5B7-6484-4B93-87F9-AA1CA2BF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895-256E-401D-9E11-100F5E9C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EAE-45C4-40F2-A1A9-00EF96A0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4A8-1A54-4425-B9AE-C0127FBA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133-5C25-49AD-88D6-45339619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8B8-E5B6-4FAF-A28D-DEF2228D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B2A-8D88-4383-9749-450D4613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1A4-3675-420F-887E-AA38290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D276-819F-4027-BD1E-ABADF8CE63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150920" y="291960"/>
            <a:ext cx="6657840" cy="22669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1150920" y="2440080"/>
            <a:ext cx="7343640" cy="392436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4"/>
          <p:cNvSpPr/>
          <p:nvPr/>
        </p:nvSpPr>
        <p:spPr>
          <a:xfrm>
            <a:off x="7281720" y="2822400"/>
            <a:ext cx="2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1351080" y="4437000"/>
            <a:ext cx="47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"/>
          <p:cNvSpPr/>
          <p:nvPr/>
        </p:nvSpPr>
        <p:spPr>
          <a:xfrm>
            <a:off x="7281720" y="4724280"/>
            <a:ext cx="2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890640" y="603360"/>
            <a:ext cx="7362720" cy="48276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"/>
          <p:cNvPicPr/>
          <p:nvPr/>
        </p:nvPicPr>
        <p:blipFill>
          <a:blip r:embed="rId2"/>
          <a:stretch/>
        </p:blipFill>
        <p:spPr>
          <a:xfrm>
            <a:off x="890640" y="5430960"/>
            <a:ext cx="7124760" cy="657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4"/>
          <p:cNvSpPr/>
          <p:nvPr/>
        </p:nvSpPr>
        <p:spPr>
          <a:xfrm>
            <a:off x="2724120" y="543096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6216480" y="5430960"/>
            <a:ext cx="1224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3422520" y="5764320"/>
            <a:ext cx="792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6684840" y="5764320"/>
            <a:ext cx="28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914400" y="480960"/>
            <a:ext cx="7315200" cy="39718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" descr=""/>
          <p:cNvPicPr/>
          <p:nvPr/>
        </p:nvPicPr>
        <p:blipFill>
          <a:blip r:embed="rId2"/>
          <a:stretch/>
        </p:blipFill>
        <p:spPr>
          <a:xfrm>
            <a:off x="984240" y="4533840"/>
            <a:ext cx="7446960" cy="15811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"/>
          <p:cNvSpPr/>
          <p:nvPr/>
        </p:nvSpPr>
        <p:spPr>
          <a:xfrm>
            <a:off x="7029360" y="601560"/>
            <a:ext cx="28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1671480" y="2833560"/>
            <a:ext cx="6558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"/>
          <p:cNvSpPr/>
          <p:nvPr/>
        </p:nvSpPr>
        <p:spPr>
          <a:xfrm>
            <a:off x="1671480" y="3795840"/>
            <a:ext cx="65581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"/>
          <p:cNvSpPr/>
          <p:nvPr/>
        </p:nvSpPr>
        <p:spPr>
          <a:xfrm>
            <a:off x="3286080" y="481500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5"/>
          <p:cNvSpPr/>
          <p:nvPr/>
        </p:nvSpPr>
        <p:spPr>
          <a:xfrm>
            <a:off x="4957920" y="4815000"/>
            <a:ext cx="10429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6"/>
          <p:cNvSpPr/>
          <p:nvPr/>
        </p:nvSpPr>
        <p:spPr>
          <a:xfrm>
            <a:off x="1382760" y="5513400"/>
            <a:ext cx="6846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890640" y="716040"/>
            <a:ext cx="73627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1177920" y="44280"/>
            <a:ext cx="7267680" cy="3543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" descr=""/>
          <p:cNvPicPr/>
          <p:nvPr/>
        </p:nvPicPr>
        <p:blipFill>
          <a:blip r:embed="rId2"/>
          <a:stretch/>
        </p:blipFill>
        <p:spPr>
          <a:xfrm>
            <a:off x="920880" y="3587760"/>
            <a:ext cx="77803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800280" y="685800"/>
            <a:ext cx="7543800" cy="360828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4"/>
          <p:cNvSpPr/>
          <p:nvPr/>
        </p:nvSpPr>
        <p:spPr>
          <a:xfrm>
            <a:off x="1498680" y="3967200"/>
            <a:ext cx="65880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1"/>
          <a:stretch/>
        </p:blipFill>
        <p:spPr>
          <a:xfrm>
            <a:off x="905040" y="685800"/>
            <a:ext cx="7608600" cy="41814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4"/>
          <p:cNvSpPr/>
          <p:nvPr/>
        </p:nvSpPr>
        <p:spPr>
          <a:xfrm>
            <a:off x="1262160" y="1289160"/>
            <a:ext cx="68943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"/>
          <p:cNvSpPr/>
          <p:nvPr/>
        </p:nvSpPr>
        <p:spPr>
          <a:xfrm>
            <a:off x="1373040" y="3921120"/>
            <a:ext cx="7237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804960" y="716040"/>
            <a:ext cx="7534080" cy="48765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4"/>
          <p:cNvSpPr/>
          <p:nvPr/>
        </p:nvSpPr>
        <p:spPr>
          <a:xfrm>
            <a:off x="1236600" y="1390680"/>
            <a:ext cx="70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950760" y="798480"/>
            <a:ext cx="749484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762120" y="865080"/>
            <a:ext cx="7619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内容占位符 3" descr=""/>
          <p:cNvPicPr/>
          <p:nvPr/>
        </p:nvPicPr>
        <p:blipFill>
          <a:blip r:embed="rId1"/>
          <a:stretch/>
        </p:blipFill>
        <p:spPr>
          <a:xfrm>
            <a:off x="706320" y="696960"/>
            <a:ext cx="7524720" cy="35146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4"/>
          <p:cNvSpPr/>
          <p:nvPr/>
        </p:nvSpPr>
        <p:spPr>
          <a:xfrm>
            <a:off x="6823080" y="2021040"/>
            <a:ext cx="287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847800" y="717480"/>
            <a:ext cx="7448400" cy="393372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4"/>
          <p:cNvSpPr/>
          <p:nvPr/>
        </p:nvSpPr>
        <p:spPr>
          <a:xfrm>
            <a:off x="1087560" y="717480"/>
            <a:ext cx="53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"/>
          <p:cNvSpPr/>
          <p:nvPr/>
        </p:nvSpPr>
        <p:spPr>
          <a:xfrm>
            <a:off x="6904080" y="1085760"/>
            <a:ext cx="287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1087560" y="2719440"/>
            <a:ext cx="412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3"/>
          <p:cNvSpPr/>
          <p:nvPr/>
        </p:nvSpPr>
        <p:spPr>
          <a:xfrm>
            <a:off x="6904080" y="3303720"/>
            <a:ext cx="287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内容占位符 3" descr=""/>
          <p:cNvPicPr/>
          <p:nvPr/>
        </p:nvPicPr>
        <p:blipFill>
          <a:blip r:embed="rId1"/>
          <a:stretch/>
        </p:blipFill>
        <p:spPr>
          <a:xfrm>
            <a:off x="984240" y="855720"/>
            <a:ext cx="717552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4"/>
          <p:cNvSpPr/>
          <p:nvPr/>
        </p:nvSpPr>
        <p:spPr>
          <a:xfrm>
            <a:off x="6743880" y="855720"/>
            <a:ext cx="287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内容占位符 1" descr=""/>
          <p:cNvPicPr/>
          <p:nvPr/>
        </p:nvPicPr>
        <p:blipFill>
          <a:blip r:embed="rId1"/>
          <a:stretch/>
        </p:blipFill>
        <p:spPr>
          <a:xfrm>
            <a:off x="654120" y="1343160"/>
            <a:ext cx="7629480" cy="417168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4"/>
          <p:cNvSpPr/>
          <p:nvPr/>
        </p:nvSpPr>
        <p:spPr>
          <a:xfrm>
            <a:off x="1832040" y="1631880"/>
            <a:ext cx="38876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1832040" y="2284560"/>
            <a:ext cx="2555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885960" y="785880"/>
            <a:ext cx="7372080" cy="48276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4"/>
          <p:cNvSpPr/>
          <p:nvPr/>
        </p:nvSpPr>
        <p:spPr>
          <a:xfrm>
            <a:off x="6972480" y="1447920"/>
            <a:ext cx="2887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1076400" y="3670200"/>
            <a:ext cx="71816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6972480" y="4929120"/>
            <a:ext cx="288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887400" y="819000"/>
            <a:ext cx="7551720" cy="522000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4"/>
          <p:cNvSpPr/>
          <p:nvPr/>
        </p:nvSpPr>
        <p:spPr>
          <a:xfrm>
            <a:off x="6983280" y="3154320"/>
            <a:ext cx="289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946080" y="803160"/>
            <a:ext cx="7524720" cy="392292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4"/>
          <p:cNvSpPr/>
          <p:nvPr/>
        </p:nvSpPr>
        <p:spPr>
          <a:xfrm>
            <a:off x="1179360" y="803160"/>
            <a:ext cx="7291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1820880" y="1792440"/>
            <a:ext cx="1295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"/>
          <p:cNvSpPr/>
          <p:nvPr/>
        </p:nvSpPr>
        <p:spPr>
          <a:xfrm>
            <a:off x="3116160" y="2158920"/>
            <a:ext cx="1297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1820880" y="2490840"/>
            <a:ext cx="18352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3656160" y="3073320"/>
            <a:ext cx="129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2427120" y="3749760"/>
            <a:ext cx="1800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"/>
          <p:cNvSpPr/>
          <p:nvPr/>
        </p:nvSpPr>
        <p:spPr>
          <a:xfrm>
            <a:off x="4681440" y="3765600"/>
            <a:ext cx="2232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8"/>
          <p:cNvSpPr/>
          <p:nvPr/>
        </p:nvSpPr>
        <p:spPr>
          <a:xfrm>
            <a:off x="3368520" y="4103640"/>
            <a:ext cx="1871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9"/>
          <p:cNvSpPr/>
          <p:nvPr/>
        </p:nvSpPr>
        <p:spPr>
          <a:xfrm>
            <a:off x="5735520" y="4103640"/>
            <a:ext cx="1908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704880" y="1023840"/>
            <a:ext cx="7734240" cy="481032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4"/>
          <p:cNvSpPr/>
          <p:nvPr/>
        </p:nvSpPr>
        <p:spPr>
          <a:xfrm>
            <a:off x="2620800" y="3301920"/>
            <a:ext cx="1979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7007400" y="3303720"/>
            <a:ext cx="1042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"/>
          <p:cNvSpPr/>
          <p:nvPr/>
        </p:nvSpPr>
        <p:spPr>
          <a:xfrm>
            <a:off x="1076400" y="3600360"/>
            <a:ext cx="576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1057320" y="239760"/>
            <a:ext cx="7372440" cy="22572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" descr=""/>
          <p:cNvPicPr/>
          <p:nvPr/>
        </p:nvPicPr>
        <p:blipFill>
          <a:blip r:embed="rId2"/>
          <a:stretch/>
        </p:blipFill>
        <p:spPr>
          <a:xfrm>
            <a:off x="1143000" y="2496960"/>
            <a:ext cx="7201080" cy="36180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4"/>
          <p:cNvSpPr/>
          <p:nvPr/>
        </p:nvSpPr>
        <p:spPr>
          <a:xfrm>
            <a:off x="1465200" y="4494240"/>
            <a:ext cx="66182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976320" y="743040"/>
            <a:ext cx="7191360" cy="287640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4"/>
          <p:cNvSpPr/>
          <p:nvPr/>
        </p:nvSpPr>
        <p:spPr>
          <a:xfrm>
            <a:off x="2805120" y="2376360"/>
            <a:ext cx="5763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6777000" y="3073320"/>
            <a:ext cx="28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720720" y="838080"/>
            <a:ext cx="7704000" cy="421956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4"/>
          <p:cNvSpPr/>
          <p:nvPr/>
        </p:nvSpPr>
        <p:spPr>
          <a:xfrm>
            <a:off x="4533840" y="2822400"/>
            <a:ext cx="61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5770440" y="2786040"/>
            <a:ext cx="1043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"/>
          <p:cNvSpPr/>
          <p:nvPr/>
        </p:nvSpPr>
        <p:spPr>
          <a:xfrm>
            <a:off x="1271520" y="4092480"/>
            <a:ext cx="67899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8-01-12T05:27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