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C38F-78AA-481D-9153-6A2EC45D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4E8-E757-4A93-9CF8-584A63A7C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CA7-57FB-492C-A84A-88A92E12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5A5-5097-4610-BFA3-C51B5940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F9F-3489-4A4A-AAAF-08E55A32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950-8C1A-41FD-8E80-9C24FA64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E1C-1B6F-4DEC-9EDB-AAB84790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64F-C79B-4F33-9B09-E205EE4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432-A61B-4509-B45A-C1B51D20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894-A337-472E-829A-DC650594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258-E0AF-4CD5-8931-8ED7183C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36E-C511-4223-AA05-F1B81BEF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07F-BEF1-42E6-A504-46F3CA3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066-69E3-4F38-A328-55E393A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D54-EA6C-45C7-A1A6-B6978E6A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2"/>
          <a:stretch/>
        </p:blipFill>
        <p:spPr>
          <a:xfrm>
            <a:off x="-133200" y="-6480"/>
            <a:ext cx="5698800" cy="1176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2700360" y="3573360"/>
            <a:ext cx="457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华文行楷"/>
                <a:ea typeface="华文行楷"/>
              </a:rPr>
              <a:t>初二语文备课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0" y="1989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《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成语误用解析</a:t>
            </a: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》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微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1887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11280" y="189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救活这家濒临倒闭的工厂，新上任的厂领导积极开展市场调查，狠抓产品质量和开发，真可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755640" y="177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：千方百计地盘算，多用作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360" y="2852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乎所有造假者都是这样，随便找几间房子、拉上几个人就开始生产，于是大量的垃圾食品厂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般地冒出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39640" y="4581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：比喻新事物大量出现，褒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55640" y="47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张经理为了改进企业管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制定了许多规章制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900000" y="2637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些年轻的科学家决心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所不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勇气，克服重重困难，去探索大自然的奥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826920" y="1557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：指想法很不切实际，非常奇怪。含讽刺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826920" y="4292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所不为：指什么坏事都敢干，贬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情色彩相反的同义成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440" y="33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836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68360" y="184464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情投意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臭味相投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见机行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风使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侃侃而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夸夸其谈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口若悬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巧舌如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微不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所不至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再接再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变本加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深思熟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绞尽脑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费尽心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山祖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始作俑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昂首阔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趾高气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从容不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故作镇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殚精竭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18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0920" y="333360"/>
            <a:ext cx="280836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6" descr=""/>
          <p:cNvPicPr/>
          <p:nvPr/>
        </p:nvPicPr>
        <p:blipFill>
          <a:blip r:embed="rId1"/>
          <a:stretch/>
        </p:blipFill>
        <p:spPr>
          <a:xfrm>
            <a:off x="2036880" y="1974960"/>
            <a:ext cx="5217840" cy="1542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古人中不乏学习的楷模，悬梁刺股者、秉烛达旦者、闻鸡起舞者，在历史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1280" y="400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轮美奂：轮，高大。奂，众多。形容建筑物高大华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684360" y="1773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：形容书籍极多。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84360" y="242100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博物馆里保存着大量的有艺术价值的石刻作品，上面的各种花鸟虫兽、人物形象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美轮美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468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刊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继续提高稿件的编辑质量，决心向文学刊物的最高水平努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9640" y="1628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：比喻彻底悔改。使用对象是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539640" y="234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翘首西望，海面托着的就是披着银发的苍山。苍山如屏，洱海如镜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611280" y="4005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：人工的精巧胜过天然。形容技艺十分巧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95280" y="260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成语的适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范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要张冠李戴，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395280" y="134928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鳞次栉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等建筑物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凤毛麟角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的是罕见珍贵的人才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一挥而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写字、画画、作文很快就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栩栩如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画作、雕塑中的艺术形象等生动逼真，就像活的一样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豆蔻年华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女子十三四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天伦之乐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泛指家庭的乐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耻下问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于向学问或地位比自己低的人学习，而不觉得不好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1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别具匠心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在技巧和艺术方面具有与众不同的巧妙构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出神入化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技艺达到了绝妙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荡气回肠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文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乐曲十分婉转动人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歌可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值得歌颂、赞美，使人感动流泪。形容英勇悲壮的感人事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入木三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书法极有笔力。现多比喻分析问题很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惟妙惟肖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描写或模仿得非常逼真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4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富丽堂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宏伟豪华，也形容诗文词藻华丽。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鹤发童颜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老年人气色好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189000"/>
            <a:ext cx="2592360" cy="934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6" descr=""/>
          <p:cNvPicPr/>
          <p:nvPr/>
        </p:nvPicPr>
        <p:blipFill>
          <a:blip r:embed="rId1"/>
          <a:stretch/>
        </p:blipFill>
        <p:spPr>
          <a:xfrm>
            <a:off x="1676520" y="197496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11280" y="18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虽然已经是晚上了，但候车大厅里依然人来人往，热闹非凡，大喇叭的广播声、商贩的叫卖声、孩子的哭泣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989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：声音或气息微弱，时断时续；也形容局面危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1280" y="3500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议期间，农科院等单位在会场外摆出了鲜花盆景销售摊。休息时，摊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产品供不应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51577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：形容车辆很多，来往不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852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90792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恰当的一项是 （           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学在即，各种校外培训机构又在广州大大小小的中小学校及幼儿园门前上演“招生秀”。这些培训机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而培训机构的教学质量与广大学子的切身利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所以规范校外培训机构的发展已经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息息相关  刻不容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息息相关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休戚与共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休戚与共  刻不容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92360" y="119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2"/>
          <p:cNvSpPr/>
          <p:nvPr/>
        </p:nvSpPr>
        <p:spPr>
          <a:xfrm>
            <a:off x="395280" y="33336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疼爱自己的孩子，孩子也喜欢他们，一家三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不修这些水利工程，遇到严重的水旱灾害，其后果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8360" y="1268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：泉水干了，鱼吐沫互相润湿。比喻一同在困难的处境里，用微薄的力量互相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95280" y="39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：指无法想象，难以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404640"/>
            <a:ext cx="26272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505480" cy="147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8"/>
          <p:cNvSpPr/>
          <p:nvPr/>
        </p:nvSpPr>
        <p:spPr>
          <a:xfrm>
            <a:off x="324000" y="260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您刚刚乔迁新居，房间宽敞明亮，只是摆设略嫌单调，建议你挂幅油画，一定会使居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蓬荜生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84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蓬荜生辉：谦辞，编蓬草、荆竹为门，形容穷苦人家使寒门增添光辉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68360" y="32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你需要我帮忙，我定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395280" y="414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：大力相助，表示请求或感谢时用。敬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468360" y="26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面，我们就欢迎王市长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指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468360" y="134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：谦辞，抛出砖去，引回玉来。比喻用自己粗浅的、不成熟的意见或文章，引出别人高明的、成熟的意见或作品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468360" y="29210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从小就喜欢画画，常在纸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他画的鸟已是栩栩如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611280" y="4076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：随便书写，字迹如同鸦群一样凌乱，比喻字写得很稚拙或胡乱写作。常用为自谦之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68360" y="333360"/>
            <a:ext cx="2521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359680" cy="1541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39640" y="2602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看到他这种滑稽的表情，坐在他身旁的一名外国记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忍俊不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扑哧一声笑起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9640" y="1484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忍俊不禁：忍不住笑。与“扑哧一声笑起来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539640" y="2565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在敌人监狱中受尽折磨，浑身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50920" y="4005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：浑身受伤，伤痕象鱼鳞一样密。形容受伤很重，与“浑身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84360" y="476280"/>
            <a:ext cx="7920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让人看不懂的店名，能招徕顾客吗？不能，只能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这里有良好的水土条件，又有一个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向上的领导班子，因而人民的生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250920" y="1484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：被内行的人笑话， “大方”是指某种专长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11280" y="443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乐业：安心地住在那儿，喜爱自己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职业。只能说“人民安居乐业”，不能说“生活安居乐业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333360"/>
            <a:ext cx="2737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WordArt 6" descr=""/>
          <p:cNvPicPr/>
          <p:nvPr/>
        </p:nvPicPr>
        <p:blipFill>
          <a:blip r:embed="rId1"/>
          <a:stretch/>
        </p:blipFill>
        <p:spPr>
          <a:xfrm>
            <a:off x="1749600" y="204804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84360" y="83664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这样做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755640" y="170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：对人对事感情冷淡，不放在心上，不能带宾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826920" y="2997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刻苦努力，所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了今天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755640" y="4149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：一下子就完成，只能用于否定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68360" y="76500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 全校同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聆听着科学家精彩的学术报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55640" y="4292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：形容态度和蔼亲切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/>
          <p:cNvSpPr/>
          <p:nvPr/>
        </p:nvSpPr>
        <p:spPr>
          <a:xfrm>
            <a:off x="755640" y="1916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：形容东西太多，眼睛看不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539640" y="3068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用笑容迎接他老人家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目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549360"/>
            <a:ext cx="8964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，最恰当的一项是（         ） 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     端午时节，珠三角各地都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组织龙舟竞赛，广州市也会举办国际龙舟邀请赛。邀请赛当日，竞赛河段封航，起点处的龙舟成队依次排列，等候比赛。一声锣响，早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        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龙舟如离弦之箭，向终点飞驰。河岸上锣鼓喧天，人们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，好不热闹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在眉睫  拍手称快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不及待  欢声雷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在眉睫  欢声雷动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不及待  拍手称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00000" y="83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476360" y="2349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、近义混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360" y="404640"/>
            <a:ext cx="25909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近义混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收到一封国外来信，上面的邮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知被哪个集邮迷撕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395280" y="220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：指没有腿而能行走。侧重指事情、消息等用不着刻意宣传，就迅速流传开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342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仿制古画还有一种，决不置自己的姓名，以假乱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鱼龙混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骗来金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9640" y="472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鱼龙混杂：好人坏人混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24000" y="189000"/>
            <a:ext cx="8424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，人家送礼他都不收。时间长了，他就认为是小事一桩，犯不着太认真，也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以为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468360" y="191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以为然：不认为是对的，表示不同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501480" y="27082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篇游记写得很生动，读了以后仿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设身处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39640" y="41497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身处地：设想自己处在别人的那种境地。指替别人的处境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79280" y="333360"/>
            <a:ext cx="2592360" cy="1150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-468360" y="2708280"/>
            <a:ext cx="8790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、自相矛盾 </a:t>
            </a:r>
            <a:br>
              <a:rPr sz="2400"/>
            </a:br>
            <a:br>
              <a:rPr sz="24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 flipV="1">
            <a:off x="250920" y="5555880"/>
            <a:ext cx="84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0920" y="47628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本来就对那里的情况不熟悉，你却硬要派我去，这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差强人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对工作一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勇挑重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468360" y="1700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差强人意：勉强让人满意，前后矛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68360" y="4149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：指接受任务时拣轻的担子挑，怕挑重担。前后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84360" y="0"/>
            <a:ext cx="777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让分别多年的劳同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精心组织了这次同学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是一张两人的合影，左边是一位英俊的解放军战士，右边是一位文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莘莘学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没有约定就遇见了，与“精心组织”矛盾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755640" y="443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莘莘学子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众多的学生，与定语“一位”矛盾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852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</a:rPr>
              <a:t>练习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79280" y="0"/>
            <a:ext cx="8750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篮球比赛输了，不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怨天尤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而要吸取教训，加紧训练，提高技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份试卷中的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小题他花了十分钟时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才做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小题大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经过大家的努力，我们终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登峰造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在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山顶欣赏到了美好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这个建筑工地管理混乱，建筑材料随意堆放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错落有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被责令限期整改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539640" y="40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句子中画横线的成语使用错误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今年五一黄金周期间，清秀旖旎的瘦西湖风光令国内外游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流连忘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在科技比赛中体现创新精神，许多同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设计了各种造型的航空模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纪念安徒生诞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，国家邮政局发行了一套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赏心悦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徒生童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在纪念反法西斯战争胜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之际，有识之士提醒人们，要警惕日本军国主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死灰复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995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620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69192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依次填入下列句子横线处的词语，最恰当的一项是（    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岭南艺术展开设了雕塑展览专场，展出的大量雕塑作品非常精美，尤其是木雕，以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    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的雕刻技艺吸引了众多参观者。这些作品有的简练粗放，有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其中最为突出的是“三英战吕布”组雕，人物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  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令人惊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具体而微  引人入胜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精雕细刻  引人入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精雕细刻  惟妙惟肖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具体而微  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476360" y="1052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95280" y="54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79280" y="189000"/>
            <a:ext cx="8642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目前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当务之急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制止滥砍滥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事情一件件、一桩桩地紧跟而至，人手反而减少了，让留守的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眼花缭乱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厂家对产品的设计和生产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吹毛求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而产品销路越来越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谁知细雨蒙蒙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连绵不断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刮来秋风瑟瑟，让人遍体生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11280" y="6206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343480" y="5713560"/>
            <a:ext cx="261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79280" y="182520"/>
            <a:ext cx="856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王帆竞选班长成功，就职演说那天，他精心准备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粉墨登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某厅长前不久因违纪受到处分，最近又因腐败丑行而被停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雪上加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他们疼爱孩子，孩子也孝敬他们，一家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相敬如宾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生活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也许是一种取巧的写法，但也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无可非议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因为谁也不能规定作者应该怎样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55640" y="62064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句子中画横线的成语使用正确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篇作文没有中心，东拉西扯，内容空洞，语言贫乏，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叹为观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高处眺望，辽阔的绿色大草原上，几座白色的毡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星罗棋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煞是好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两本成语词典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各得其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本重视溯源，一本例句丰富，特色都很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西子湖畔桃红柳绿，春色迷人，外地游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纷至沓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领略秀美的湖光山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75240" y="692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692360" y="2276640"/>
            <a:ext cx="59148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正确使用成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298764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8" descr=""/>
          <p:cNvPicPr/>
          <p:nvPr/>
        </p:nvPicPr>
        <p:blipFill>
          <a:blip r:embed="rId1"/>
          <a:stretch/>
        </p:blipFill>
        <p:spPr>
          <a:xfrm>
            <a:off x="1530360" y="2048040"/>
            <a:ext cx="5791320" cy="1323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68360" y="18900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部精彩的电视剧播出时，几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万人空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人们在家里守着荧屏，街上显得静悄悄的。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1128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人空巷：家家户户的人都从巷子里出来了，多用来形容庆祝、欢迎等盛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9640" y="29242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初，上海鲜牛奶市场燃起竞相降价的烽火，销售价格甚至低于成本，这对消费者来说倒正好可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火中取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84360" y="458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火中取栗：比喻冒危险给别人出力，自己上了大当，一无所得。带有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684360" y="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疫情过后，恢复生产和正常社会秩序是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事，是一切工作的重中之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826920" y="155736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：指首先受到冲击或遭遇灾难，最容易被误解为“首先、首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826920" y="378936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：原指集市里本无虎，但只要有三个人谎传集市里有虎，听者就会以为真有虎了。后比喻流言惑众，蛊惑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755640" y="2637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应该和朋友合作搞这个课题，要知道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众志成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0" y="189000"/>
            <a:ext cx="31687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11" descr=""/>
          <p:cNvPicPr/>
          <p:nvPr/>
        </p:nvPicPr>
        <p:blipFill>
          <a:blip r:embed="rId1"/>
          <a:stretch/>
        </p:blipFill>
        <p:spPr>
          <a:xfrm>
            <a:off x="1822320" y="2048040"/>
            <a:ext cx="5359680" cy="1396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2:21:12Z</dcterms:created>
  <dc:creator>JSUser</dc:creator>
  <dc:description/>
  <dc:language>en-US</dc:language>
  <cp:lastModifiedBy>DENG</cp:lastModifiedBy>
  <dcterms:modified xsi:type="dcterms:W3CDTF">2020-05-03T09:40:37Z</dcterms:modified>
  <cp:revision>165</cp:revision>
  <dc:subject/>
  <dc:title>幻灯片 1</dc:title>
</cp:coreProperties>
</file>