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6.jpeg" ContentType="image/jpeg"/>
  <Override PartName="/ppt/media/image25.gif" ContentType="image/gif"/>
  <Override PartName="/ppt/media/image24.wmf" ContentType="image/x-wmf"/>
  <Override PartName="/ppt/media/image1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cashreg.wav" ContentType="audio/x-wav"/>
  <Override PartName="/ppt/media/image27.jpeg" ContentType="image/jpeg"/>
  <Override PartName="/ppt/media/image30.wmf" ContentType="image/x-wmf"/>
  <Override PartName="/ppt/media/image5.jpeg" ContentType="image/jpeg"/>
  <Override PartName="/ppt/media/image28.jpeg" ContentType="image/jpeg"/>
  <Override PartName="/ppt/media/image29.wmf" ContentType="image/x-wmf"/>
  <Override PartName="/ppt/media/image19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26.png" ContentType="image/png"/>
  <Override PartName="/ppt/media/carbrake.wav" ContentType="audio/x-wav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11E-EC2A-42E0-91AA-664E20EC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CE5-245E-4013-A86E-FE098323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219-6722-4823-AA0C-BBC237AB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EFA-16C3-4EB9-A146-C4225B60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67B1-9708-4274-92C4-E5E45CDD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DDA0-1C1A-4F7B-8AFA-1B2EDF9E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8667-B4FA-41EC-968F-7FBF4916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E991-6A50-4EAD-8053-7BE0BFE3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C540-33E6-4C4C-A372-7A14892C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8562-FF33-4C2E-9D47-03A2BBD3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4A75-9557-495B-B1A0-23DB7CAA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A92-CBD1-4D8E-B338-69FE01C0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7B7B-A596-4E77-8DA6-A22D54EB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AE35-7B22-4DCA-94D7-9604A79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16FC-EAB7-463C-9C6D-EBA3D154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6E1C-0964-49B5-B42F-69FE7ABB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3A18-CD47-46EB-81AA-3904EEE4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262-D261-4BCB-AFDF-4268302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D85-CABA-4BA3-A676-4DABA32B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49B-523D-4FEA-B5A8-9F73913A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010-B4BD-4D22-B3EC-CBACADA4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A0D-79B8-4339-8461-5C90AB6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C84-9852-4D4F-98B1-B75FEB5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BC0-F5EC-4FDB-8D0D-AD88DC2D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D093-EF1C-406C-8133-2086105F90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79D1-6C27-465E-97F5-B8BAABD66D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325,22,&#12298;&#23665;&#28023;&#32463;&#12299;&#20107;&#20214;&#65306;&#12304;&#35814;&#20889;&#12305;" TargetMode="External"/><Relationship Id="rId2" Type="http://schemas.openxmlformats.org/officeDocument/2006/relationships/hyperlink" Target="325,22,&#12298;&#23665;&#28023;&#32463;&#12299;&#20107;&#20214;&#65306;&#12304;&#35814;&#20889;&#12305;" TargetMode="External"/><Relationship Id="rId3" Type="http://schemas.openxmlformats.org/officeDocument/2006/relationships/hyperlink" Target="325,22,&#12298;&#23665;&#28023;&#32463;&#12299;&#20107;&#20214;&#65306;&#12304;&#35814;&#20889;&#12305;" TargetMode="External"/><Relationship Id="rId4" Type="http://schemas.openxmlformats.org/officeDocument/2006/relationships/hyperlink" Target="325,22,&#12298;&#23665;&#28023;&#32463;&#12299;&#20107;&#20214;&#65306;&#12304;&#35814;&#20889;&#12305;" TargetMode="External"/><Relationship Id="rId5" Type="http://schemas.openxmlformats.org/officeDocument/2006/relationships/hyperlink" Target="325,22,&#12298;&#23665;&#28023;&#32463;&#12299;&#20107;&#20214;&#65306;&#12304;&#35814;&#20889;&#12305;" TargetMode="External"/><Relationship Id="rId6" Type="http://schemas.openxmlformats.org/officeDocument/2006/relationships/hyperlink" Target="325,22,&#12298;&#23665;&#28023;&#32463;&#12299;&#20107;&#20214;&#65306;&#12304;&#35814;&#20889;&#12305;" TargetMode="External"/><Relationship Id="rId7" Type="http://schemas.openxmlformats.org/officeDocument/2006/relationships/hyperlink" Target="325,22,&#12298;&#23665;&#28023;&#32463;&#12299;&#20107;&#20214;&#65306;&#12304;&#35814;&#20889;&#12305;" TargetMode="External"/><Relationship Id="rId8" Type="http://schemas.openxmlformats.org/officeDocument/2006/relationships/hyperlink" Target="325,22,&#12298;&#23665;&#28023;&#32463;&#12299;&#20107;&#20214;&#65306;&#12304;&#35814;&#20889;&#12305;" TargetMode="External"/><Relationship Id="rId9" Type="http://schemas.openxmlformats.org/officeDocument/2006/relationships/hyperlink" Target="277,14,&#24187;&#28783;&#29255; 14" TargetMode="External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349,-1,PRE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baike.so.com/doc/6350575-6564201.html" TargetMode="External"/><Relationship Id="rId2" Type="http://schemas.openxmlformats.org/officeDocument/2006/relationships/hyperlink" Target="http://baike.so.com/doc/4568227-4779263.html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283,27,&#24187;&#28783;&#29255; 27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uxun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3"/>
          <p:cNvSpPr txBox="1"/>
          <p:nvPr/>
        </p:nvSpPr>
        <p:spPr>
          <a:xfrm>
            <a:off x="2928960" y="3214800"/>
            <a:ext cx="309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55640" y="4724280"/>
            <a:ext cx="777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她讲的美女蛇的故事真是神秘莫测，给百草园蒙上一层神秘的面纱。那么，长妈妈是一个什么样的人呢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们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起来看课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1557360"/>
            <a:ext cx="8001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鲁迅先生的散文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从百草园到三味书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里，鲁迅除写了自己的老师寿镜吾先生之外，还写到了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个人，这个人是谁呢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40000" cy="5493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鲁迅其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692280"/>
            <a:ext cx="7561440" cy="79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你简要叙述鲁迅的生平及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iuxue1"/>
          <p:cNvPicPr/>
          <p:nvPr/>
        </p:nvPicPr>
        <p:blipFill>
          <a:blip r:embed="rId1"/>
          <a:stretch/>
        </p:blipFill>
        <p:spPr>
          <a:xfrm>
            <a:off x="108000" y="692280"/>
            <a:ext cx="2736720" cy="341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huwu4"/>
          <p:cNvPicPr/>
          <p:nvPr/>
        </p:nvPicPr>
        <p:blipFill>
          <a:blip r:embed="rId2"/>
          <a:stretch/>
        </p:blipFill>
        <p:spPr>
          <a:xfrm>
            <a:off x="2916360" y="692280"/>
            <a:ext cx="4197240" cy="316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50"/>
          <p:cNvPicPr/>
          <p:nvPr/>
        </p:nvPicPr>
        <p:blipFill>
          <a:blip r:embed="rId3"/>
          <a:stretch/>
        </p:blipFill>
        <p:spPr>
          <a:xfrm>
            <a:off x="7056360" y="1628640"/>
            <a:ext cx="2087640" cy="331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53"/>
          <p:cNvPicPr/>
          <p:nvPr/>
        </p:nvPicPr>
        <p:blipFill>
          <a:blip r:embed="rId4"/>
          <a:stretch/>
        </p:blipFill>
        <p:spPr>
          <a:xfrm>
            <a:off x="0" y="3905280"/>
            <a:ext cx="2916360" cy="295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aiying100"/>
          <p:cNvPicPr/>
          <p:nvPr/>
        </p:nvPicPr>
        <p:blipFill>
          <a:blip r:embed="rId5"/>
          <a:stretch/>
        </p:blipFill>
        <p:spPr>
          <a:xfrm>
            <a:off x="3132000" y="4076640"/>
            <a:ext cx="388944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62120" y="990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79280" y="909720"/>
            <a:ext cx="8458200" cy="3143520"/>
            <a:chOff x="179280" y="909720"/>
            <a:chExt cx="8458200" cy="3143520"/>
          </a:xfrm>
        </p:grpSpPr>
        <p:sp>
          <p:nvSpPr>
            <p:cNvPr id="122" name="Text Box 4"/>
            <p:cNvSpPr/>
            <p:nvPr/>
          </p:nvSpPr>
          <p:spPr>
            <a:xfrm>
              <a:off x="2388960" y="909720"/>
              <a:ext cx="624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鲁迅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8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</a:t>
              </a: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原名周树人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浙江省绍兴市人，伟大的文学家、思想家、革命家。著作有杂文、小说、散文、诗歌等，收在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全集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Picture 5" descr=""/>
            <p:cNvPicPr/>
            <p:nvPr/>
          </p:nvPicPr>
          <p:blipFill>
            <a:blip r:embed="rId1"/>
            <a:stretch/>
          </p:blipFill>
          <p:spPr>
            <a:xfrm>
              <a:off x="179280" y="1010160"/>
              <a:ext cx="2133720" cy="304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08000" y="189000"/>
            <a:ext cx="8929800" cy="477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1918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年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5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月，首次用“鲁迅”的笔名，发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中国现代文学史上第一篇白话小说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狂人日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奠定了新文学运动的 基石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间，陆续创作出版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小说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呐喊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彷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《故事新编》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散文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朝花夕拾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。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散文诗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野草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杂文集《坟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热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《二心集》、《三闲集》、《而已集》、《南腔北调集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华盖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发表的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中篇小说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阿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Q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正传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中国现代文学 史上的不朽杰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自题小像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灵台无计逃神矢，风雨如磐暗故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寄意寒星荃不察，我以我血荐轩辕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2000" y="765000"/>
            <a:ext cx="8567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自嘲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交华盖欲何求，未敢翻身已碰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帽遮颜过闹市，漏船载酒泛中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横眉冷对千夫指，俯首甘为孺子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躲进小楼成一统，管他冬夏与春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94120" y="1428840"/>
            <a:ext cx="103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gē</a:t>
            </a:r>
            <a:r>
              <a:rPr b="1" lang="en-US" sz="40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86920" y="1500120"/>
            <a:ext cx="11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ì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读读写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4"/>
          <p:cNvSpPr/>
          <p:nvPr/>
        </p:nvSpPr>
        <p:spPr>
          <a:xfrm>
            <a:off x="45252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25"/>
          <p:cNvSpPr/>
          <p:nvPr/>
        </p:nvSpPr>
        <p:spPr>
          <a:xfrm>
            <a:off x="231084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26"/>
          <p:cNvSpPr/>
          <p:nvPr/>
        </p:nvSpPr>
        <p:spPr>
          <a:xfrm>
            <a:off x="6195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菩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矩形 27"/>
          <p:cNvSpPr/>
          <p:nvPr/>
        </p:nvSpPr>
        <p:spPr>
          <a:xfrm>
            <a:off x="24768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竹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 28"/>
          <p:cNvSpPr/>
          <p:nvPr/>
        </p:nvSpPr>
        <p:spPr>
          <a:xfrm>
            <a:off x="438228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29"/>
          <p:cNvSpPr/>
          <p:nvPr/>
        </p:nvSpPr>
        <p:spPr>
          <a:xfrm>
            <a:off x="44769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烦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30"/>
          <p:cNvSpPr/>
          <p:nvPr/>
        </p:nvSpPr>
        <p:spPr>
          <a:xfrm>
            <a:off x="683460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憎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 31"/>
          <p:cNvSpPr/>
          <p:nvPr/>
        </p:nvSpPr>
        <p:spPr>
          <a:xfrm>
            <a:off x="68346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土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矩形 32"/>
          <p:cNvSpPr/>
          <p:nvPr/>
        </p:nvSpPr>
        <p:spPr>
          <a:xfrm>
            <a:off x="69084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辫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33"/>
          <p:cNvSpPr/>
          <p:nvPr/>
        </p:nvSpPr>
        <p:spPr>
          <a:xfrm>
            <a:off x="254808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胸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矩形 34"/>
          <p:cNvSpPr/>
          <p:nvPr/>
        </p:nvSpPr>
        <p:spPr>
          <a:xfrm>
            <a:off x="447696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疮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35"/>
          <p:cNvSpPr/>
          <p:nvPr/>
        </p:nvSpPr>
        <p:spPr>
          <a:xfrm>
            <a:off x="726300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诘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179960" y="150012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qí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234480" y="1500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ēngw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82880" y="3143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pú s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860840" y="307188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ú gān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-144720" y="5000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iàn z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834920" y="5000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xiōng p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998520" y="3071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fán su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956760" y="50007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huāng b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454080" y="3071880"/>
            <a:ext cx="19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tǔ fěi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575400" y="492912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jié wèn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-4320" y="14288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āi dào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40120" y="1500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ò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读读写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4"/>
          <p:cNvSpPr/>
          <p:nvPr/>
        </p:nvSpPr>
        <p:spPr>
          <a:xfrm>
            <a:off x="54792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哀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240552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茉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6195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震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27"/>
          <p:cNvSpPr/>
          <p:nvPr/>
        </p:nvSpPr>
        <p:spPr>
          <a:xfrm>
            <a:off x="38340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粗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28"/>
          <p:cNvSpPr/>
          <p:nvPr/>
        </p:nvSpPr>
        <p:spPr>
          <a:xfrm>
            <a:off x="447696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书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6905880" y="3571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守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30"/>
          <p:cNvSpPr/>
          <p:nvPr/>
        </p:nvSpPr>
        <p:spPr>
          <a:xfrm>
            <a:off x="683460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霹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692520" y="1500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shū zhā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469200" y="14288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pī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-186480" y="29289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èn sǒ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13000" y="3000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ū zhu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264000" y="2928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shǒu gu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57320" y="-360"/>
            <a:ext cx="2500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释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4200" y="857160"/>
            <a:ext cx="8205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惶急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诘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惧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震悚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54275"/>
          <p:cNvSpPr/>
          <p:nvPr/>
        </p:nvSpPr>
        <p:spPr>
          <a:xfrm>
            <a:off x="1357200" y="21430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害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54276"/>
          <p:cNvSpPr/>
          <p:nvPr/>
        </p:nvSpPr>
        <p:spPr>
          <a:xfrm>
            <a:off x="1428840" y="28576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身体因恐惧或过度兴奋而颤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54277"/>
          <p:cNvSpPr/>
          <p:nvPr/>
        </p:nvSpPr>
        <p:spPr>
          <a:xfrm>
            <a:off x="1285920" y="15001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追问、责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54278"/>
          <p:cNvSpPr/>
          <p:nvPr/>
        </p:nvSpPr>
        <p:spPr>
          <a:xfrm>
            <a:off x="1357200" y="7858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恐惧、着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539640" y="2709720"/>
            <a:ext cx="745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鲁迅的生活中，阿长是一个很有影响的人物，鲁迅在作品中几次提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阿长是鲁迅家里的一个女工。她连真实姓都不为人知，也不会识字作文，作者却她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连在了一起。那么，她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什么关系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3"/>
          <p:cNvSpPr txBox="1"/>
          <p:nvPr/>
        </p:nvSpPr>
        <p:spPr>
          <a:xfrm rot="21478800">
            <a:off x="107640" y="117360"/>
            <a:ext cx="4803840" cy="477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703510"/>
                <a:gd name="adj2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请认真阅读课文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676520" y="13716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读懂课文了吗？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611280" y="2786040"/>
            <a:ext cx="8065800" cy="1396800"/>
            <a:chOff x="611280" y="2786040"/>
            <a:chExt cx="8065800" cy="1396800"/>
          </a:xfrm>
        </p:grpSpPr>
        <p:sp>
          <p:nvSpPr>
            <p:cNvPr id="177" name="Text Box 4"/>
            <p:cNvSpPr/>
            <p:nvPr/>
          </p:nvSpPr>
          <p:spPr>
            <a:xfrm>
              <a:off x="785160" y="2786040"/>
              <a:ext cx="53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那就请你回答几个问题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611280" y="3601440"/>
              <a:ext cx="806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本文可分为几段？各段都说了写什么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190600" y="-9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http:/www.chinataiwan.org/webportal/pics/108182175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76200" y="509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071720" y="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latin typeface="华文新魏"/>
              </a:rPr>
              <a:t>阿长与《山海经》</a:t>
            </a:r>
            <a:endParaRPr b="0" lang="en-US" sz="1800" spc="1" strike="noStrike">
              <a:ln w="9360">
                <a:solidFill>
                  <a:srgbClr val="ffcc00"/>
                </a:solidFill>
                <a:round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556272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429240" y="2214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鲁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0" y="1000080"/>
            <a:ext cx="885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文可分为四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—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介绍长妈妈的身份及名字的来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—1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写“我”讨厌阿长的事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9—29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写阿长为“我”寻购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我对长妈妈产生“新的敬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抒发了“我”对长妈妈的尊敬、感激、深沉的怀念之情。深化主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08000" y="2422440"/>
            <a:ext cx="90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章围绕阿长写了哪些事情，重点写了什么，从这些事情中，可以看出阿长是怎样的一个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88160" y="765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851ff"/>
                </a:solidFill>
                <a:latin typeface="黑体"/>
                <a:ea typeface="黑体"/>
              </a:rPr>
              <a:t>熟读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03280" y="142920"/>
            <a:ext cx="8640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称呼的由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喜欢“切切察察”的毛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喜欢向母亲告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摆成“大”字的睡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元旦的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规矩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一肚子烦琐的道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给我讲“长毛”的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谋害“我”的隐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给我买来了《山海经》。（重点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ccff"/>
                </a:solidFill>
                <a:latin typeface="Arial"/>
                <a:ea typeface="隶书"/>
              </a:rPr>
              <a:t>“</a:t>
            </a:r>
            <a:r>
              <a:rPr b="1" lang="zh-CN" sz="5400" spc="-1" strike="noStrike">
                <a:solidFill>
                  <a:srgbClr val="ccccff"/>
                </a:solidFill>
                <a:latin typeface="Arial"/>
                <a:ea typeface="隶书"/>
              </a:rPr>
              <a:t>隐鼠”之典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中宋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中宋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鼠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文中，说到隐鼠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类小鼠大抵在地上走动，只有拇指那么大，也不畏惧人，我们那里叫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隐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’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与专住在屋上的伟大者是两种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种隐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时时跑到人面前来，而且缘腿而上，一直爬到膝髁。给放在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桌上，便捡吃些菜渣，舐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碗沿；放在我的书桌上，则从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地游行，看见砚台便舐吃了研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墨汁。这使我非常惊喜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回，隐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缘着长妈妈的腿要爬上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被她一脚踢死了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457200" y="304920"/>
            <a:ext cx="533520" cy="6248160"/>
          </a:xfrm>
          <a:custGeom>
            <a:avLst/>
            <a:gdLst>
              <a:gd name="textAreaLeft" fmla="*/ 340920 w 533520"/>
              <a:gd name="textAreaRight" fmla="*/ 533880 w 533520"/>
              <a:gd name="textAreaTop" fmla="*/ 162360 h 6248160"/>
              <a:gd name="textAreaBottom" fmla="*/ 6085800 h 624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55640" y="333360"/>
            <a:ext cx="7467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人们对阿长的称呼以及称呼的由来和她外形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些不好的习惯。如写她喜欢“切切察察”的毛病、喜欢“告状”、睡觉爱摆“大”字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她懂得的许多“我听不耐烦”的规矩。比如元旦说恭喜话吃福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教给我很多道理。比如：人死了要说“老掉了”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讲述“长毛”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谋害了我的隐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阿长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买《山海经》的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8001000" y="380880"/>
            <a:ext cx="457200" cy="5029200"/>
          </a:xfrm>
          <a:custGeom>
            <a:avLst/>
            <a:gdLst>
              <a:gd name="textAreaLeft" fmla="*/ 0 w 457200"/>
              <a:gd name="textAreaRight" fmla="*/ 164880 w 457200"/>
              <a:gd name="textAreaTop" fmla="*/ 187200 h 5029200"/>
              <a:gd name="textAreaBottom" fmla="*/ 484200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86"/>
                  <a:pt x="10800" y="2572"/>
                </a:cubicBezTo>
                <a:lnTo>
                  <a:pt x="10800" y="8228"/>
                </a:lnTo>
                <a:cubicBezTo>
                  <a:pt x="10800" y="9514"/>
                  <a:pt x="16200" y="10800"/>
                  <a:pt x="21600" y="10800"/>
                </a:cubicBezTo>
                <a:cubicBezTo>
                  <a:pt x="16200" y="10800"/>
                  <a:pt x="10800" y="12086"/>
                  <a:pt x="10800" y="13372"/>
                </a:cubicBezTo>
                <a:lnTo>
                  <a:pt x="10800" y="19028"/>
                </a:lnTo>
                <a:cubicBezTo>
                  <a:pt x="10800" y="20314"/>
                  <a:pt x="5400" y="21600"/>
                  <a:pt x="0" y="2160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8233200" y="243828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略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270840" y="573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详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600" y="1523880"/>
            <a:ext cx="6678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围绕中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详细得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 rot="11015400">
            <a:off x="8522640" y="64828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7493"/>
                </a:moveTo>
                <a:lnTo>
                  <a:pt x="13761" y="7493"/>
                </a:lnTo>
                <a:lnTo>
                  <a:pt x="13761" y="12828"/>
                </a:lnTo>
                <a:cubicBezTo>
                  <a:pt x="13761" y="13751"/>
                  <a:pt x="14561" y="14482"/>
                  <a:pt x="15597" y="14482"/>
                </a:cubicBezTo>
                <a:lnTo>
                  <a:pt x="17260" y="14482"/>
                </a:lnTo>
                <a:cubicBezTo>
                  <a:pt x="18295" y="14482"/>
                  <a:pt x="19096" y="13751"/>
                  <a:pt x="19096" y="12828"/>
                </a:cubicBezTo>
                <a:lnTo>
                  <a:pt x="19096" y="7493"/>
                </a:lnTo>
                <a:lnTo>
                  <a:pt x="17260" y="7493"/>
                </a:lnTo>
                <a:lnTo>
                  <a:pt x="20767" y="3985"/>
                </a:lnTo>
                <a:lnTo>
                  <a:pt x="24440" y="7493"/>
                </a:lnTo>
                <a:lnTo>
                  <a:pt x="22604" y="7493"/>
                </a:lnTo>
                <a:lnTo>
                  <a:pt x="22604" y="12828"/>
                </a:lnTo>
                <a:cubicBezTo>
                  <a:pt x="22604" y="15596"/>
                  <a:pt x="20027" y="18155"/>
                  <a:pt x="17260" y="18155"/>
                </a:cubicBezTo>
                <a:lnTo>
                  <a:pt x="15597" y="18155"/>
                </a:lnTo>
                <a:cubicBezTo>
                  <a:pt x="12829" y="18155"/>
                  <a:pt x="10253" y="15596"/>
                  <a:pt x="10253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0" descr="图片11"/>
          <p:cNvPicPr/>
          <p:nvPr/>
        </p:nvPicPr>
        <p:blipFill>
          <a:blip r:embed="rId1"/>
          <a:stretch/>
        </p:blipFill>
        <p:spPr>
          <a:xfrm>
            <a:off x="7020000" y="3933720"/>
            <a:ext cx="2752560" cy="120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-360" y="-360"/>
            <a:ext cx="8893080" cy="73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略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了阿长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称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来历、“切切察察”的毛病、喜欢告状，摆成“大”字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睡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令人讨厌的种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规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“长毛”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往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谋死隐鼠，吃福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略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那些内容能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</a:rPr>
              <a:t>使人对长妈妈有个初步了解，她的外形特征，真实地反映长妈妈的一些毛病，但这些并不能削弱对阿长妈妈的敬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详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了为“我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山海经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一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详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事，却令人对长妈妈刮目相看，在作者看来“别人不肯做，或不能做的事情，她却能够做成功”，我们可以想到幼小的鲁迅对长妈妈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敬佩和感激之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question"/>
          <p:cNvPicPr/>
          <p:nvPr/>
        </p:nvPicPr>
        <p:blipFill>
          <a:blip r:embed="rId1"/>
          <a:stretch/>
        </p:blipFill>
        <p:spPr>
          <a:xfrm>
            <a:off x="8099280" y="1284120"/>
            <a:ext cx="1009800" cy="42897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3"/>
          <p:cNvSpPr txBox="1"/>
          <p:nvPr/>
        </p:nvSpPr>
        <p:spPr>
          <a:xfrm>
            <a:off x="3205080" y="304920"/>
            <a:ext cx="223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cc"/>
                </a:solidFill>
                <a:latin typeface="隶书"/>
              </a:rPr>
              <a:t>思考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ff66cc"/>
              </a:solidFill>
              <a:latin typeface="隶书"/>
              <a:ea typeface="隶书"/>
            </a:endParaRPr>
          </a:p>
        </p:txBody>
      </p:sp>
      <p:pic>
        <p:nvPicPr>
          <p:cNvPr id="196" name="WordArt 4" descr=""/>
          <p:cNvPicPr/>
          <p:nvPr/>
        </p:nvPicPr>
        <p:blipFill>
          <a:blip r:embed="rId2"/>
          <a:stretch/>
        </p:blipFill>
        <p:spPr>
          <a:xfrm>
            <a:off x="1374840" y="1763640"/>
            <a:ext cx="6134040" cy="383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391520" y="6400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华文中宋"/>
              </a:rPr>
              <a:t>评读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685800" y="457200"/>
            <a:ext cx="304920" cy="5105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66680" y="2282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没有名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喜欢切切察察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喜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告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睡觉时摆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元旦的规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肚子的繁琐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长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1"/>
              </a:rPr>
              <a:t>为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2"/>
              </a:rPr>
              <a:t>“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3"/>
              </a:rPr>
              <a:t>我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4"/>
              </a:rPr>
              <a:t>”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5"/>
              </a:rPr>
              <a:t>买回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黑体"/>
                <a:hlinkClick r:id="rId6"/>
              </a:rPr>
              <a:t>《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7"/>
              </a:rPr>
              <a:t>山海经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黑体"/>
                <a:hlinkClick r:id="rId8"/>
              </a:rPr>
              <a:t>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572160" y="21420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地位低下身世凄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643800" y="1357200"/>
            <a:ext cx="2500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饶舌多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不拘小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封建迷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643800" y="385776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淳朴无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繁文缛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629400" y="521496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热情善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关心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-78480" y="2133720"/>
            <a:ext cx="872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长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340000" y="189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华文中宋"/>
              </a:rPr>
              <a:t>品读人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81080" y="1486080"/>
            <a:ext cx="892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阿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个很不幸而又渴望一生平安的劳动妇女，她没有文化，有点粗俗、迷信，饶舌多事，但心地善良，热心帮助孩子解决疑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71680" y="99972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研读长妈妈买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山海经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的部分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19-29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自然段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内容占位符 3" descr="山海经.jpg"/>
          <p:cNvPicPr/>
          <p:nvPr/>
        </p:nvPicPr>
        <p:blipFill>
          <a:blip r:embed="rId1"/>
          <a:stretch/>
        </p:blipFill>
        <p:spPr>
          <a:xfrm>
            <a:off x="714240" y="2610000"/>
            <a:ext cx="75963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143000"/>
            <a:ext cx="9144000" cy="261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f2f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1"/>
              </a:rPr>
              <a:t>题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阿长”，人名‘鲁迅家的一个女工；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书名。题目为一并列词组，文章即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通过写阿长和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的关系来体现阿长的性格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本文选自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朝花夕拾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朝花夕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散文集，收录鲁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所作回忆性散文十篇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468360" y="468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来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么一回事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样想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想法表现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什么心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828720" y="2276640"/>
            <a:ext cx="7391520" cy="58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并非学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了也无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这表明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阿长心存隔膜乃至轻视。并没有把买书的希望寄托在阿长的身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533520" y="1066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买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反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33520" y="2536920"/>
            <a:ext cx="8167680" cy="228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反应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似乎遇着了一个霹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体都震悚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又使我发生新的敬意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不肯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不能做的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却能够做成功。她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有伟大的神力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谋害隐鼠的怨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完全消灭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真可谓又惊又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感激不尽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583800" y="434340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69800" y="81756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样理解文中说的阿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有伟大的神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69800" y="2279520"/>
            <a:ext cx="8001000" cy="235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这件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不肯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也没有阿长那样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也没有阿长那么热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画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难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跑多少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听多少地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像阿长这么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心费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且阿长不识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居然买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971640" y="42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写叔祖“疏懒”、别人都“不肯真实地回答我”，这同表现阿长有什么关系？请联系课文内容，简要说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857680"/>
            <a:ext cx="739116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后文写“连阿长也来问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怎么一回事”，而她竟然真的买来了作者渴慕已久的书。这同叔祖和其他人的漠不关心形成鲜明的对比，从侧面衬托阿长对“我”极其疼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71640" y="42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阿长买的《山海经》是一部刻印都非常拙劣的本子，但却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最为心爱的宝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其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28800" y="2857680"/>
            <a:ext cx="7391160" cy="1191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阿长买的《山海经》虽然粗拙，但那是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渴慕已久的书，而且由一个意想不到的人买来，当时给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极大的震动，令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获至宝。所以成了“我”最为心爱的宝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0" y="642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阿长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山海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笔墨并不多，为什么不写她是怎么买到的呢？为什么此前此后反倒写了不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0" y="2357280"/>
            <a:ext cx="9144000" cy="253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写怎么买到的，给读者留下一个想象的空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前大量笔墨写叔祖引起我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强烈渴慕，更能说明阿长买到后给我的惊喜与感激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后写我的心情，才能说明阿长怎样令人尊敬而又感激，阿长的热心对“我”的成长有怎样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04920" y="533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重点与难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28760" y="1285920"/>
            <a:ext cx="8381880" cy="582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的记叙线索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57120" y="2000160"/>
            <a:ext cx="8497800" cy="106884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散文的“形散而神不散”说的是：主题集中。写散文时要放得开，但是要受到中心思想的制约，所以还得收得拢。在阅读散文时，要注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抓住文章的线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理清全篇的层次结构和理解全篇思想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2147040" y="4786200"/>
            <a:ext cx="353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本文是以作者对长妈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感情变化为线索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380880" y="380880"/>
            <a:ext cx="44960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读懂阿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219320" y="1523880"/>
            <a:ext cx="7924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透视鲁迅眼中的阿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428760" y="3929040"/>
            <a:ext cx="845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标出表明“我”对阿长感情变化的语句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85840" y="3714840"/>
            <a:ext cx="853416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写知道阿长谋害了“我”的隐鼠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42960" y="6032520"/>
            <a:ext cx="8001000" cy="82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章最后以“仁厚黑暗的地母啊，愿在你怀里永安她的魂灵”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结束，表达了作者                                           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071720" y="214200"/>
            <a:ext cx="7016760" cy="52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阿长的平常举动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28800" y="1357200"/>
            <a:ext cx="7613640" cy="460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阿长所懂得的许多规矩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571680" y="2357280"/>
            <a:ext cx="8001000" cy="82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管在阿长给“我”讲长毛的故事时，“我”也曾                                     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但那后来也“逐渐淡漠”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0" y="4786200"/>
            <a:ext cx="9001080" cy="101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长给“我”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才真正                                              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甚至连“谋害隐鼠的怨恨，从此完全消灭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071960" y="42861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4143240" y="7858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4143240" y="1928880"/>
            <a:ext cx="304920" cy="433440"/>
          </a:xfrm>
          <a:prstGeom prst="downArrow">
            <a:avLst>
              <a:gd name="adj1" fmla="val 50000"/>
              <a:gd name="adj2" fmla="val 3551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4143240" y="32860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4071960" y="5786280"/>
            <a:ext cx="304920" cy="23832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5322240" y="21420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我实在不大佩服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矩形 13"/>
          <p:cNvSpPr/>
          <p:nvPr/>
        </p:nvSpPr>
        <p:spPr>
          <a:xfrm>
            <a:off x="5683320" y="13572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‘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我”也是‘不耐烦的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1716480" y="271476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发生过空前的敬意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6404400" y="37148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感情上是“憎恶”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5708880" y="47862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使我发生新的敬意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矩形 17"/>
          <p:cNvSpPr/>
          <p:nvPr/>
        </p:nvSpPr>
        <p:spPr>
          <a:xfrm>
            <a:off x="4849200" y="63961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对阿长的深切怀念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583800" y="434340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856160" y="1295280"/>
            <a:ext cx="5172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“</a:t>
            </a: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我”对阿长的感情是怎样变化的：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715000" y="4214880"/>
            <a:ext cx="5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7093080" y="2637000"/>
            <a:ext cx="5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029400" y="3714840"/>
            <a:ext cx="21301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完全消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敬意淡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945080" y="2071800"/>
            <a:ext cx="16426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空前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71680" y="3000240"/>
            <a:ext cx="792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5000760" y="471492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714680" y="3857760"/>
            <a:ext cx="59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1071720" y="464328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 flipV="1">
            <a:off x="2286000" y="3643200"/>
            <a:ext cx="685800" cy="1371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3000240" y="3643200"/>
            <a:ext cx="990720" cy="1371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 flipV="1">
            <a:off x="6372360" y="4076640"/>
            <a:ext cx="720720" cy="525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667640" y="364500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8101080" y="2997360"/>
            <a:ext cx="61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560" y="142560"/>
            <a:ext cx="1979640" cy="561960"/>
          </a:xfrm>
          <a:prstGeom prst="rect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阿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2360" y="837720"/>
            <a:ext cx="8209080" cy="5472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阿长（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，后果迅称她为长妈妈，浙江绍兴人，她是鲁迅儿时的保姆。长妈妈的夫家姓余，有一个过继的儿子，是做裁缝的，她有一个女儿，后来招进了一个女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长妈妈只是许多旧式女人中的一个，做了一辈子的老妈子（乡下叫做‘做妈妈’），平时也不回家去，直到临死。”长妈妈患有羊角风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月“初六日雨中放舟至大树港看戏，长妈妈发病，辰刻身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42920" y="105264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先写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不太佩服”、“讨厌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阿长，当长妈妈为我买来书籍时，又对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充满敬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但在结尾处却说“仁厚黑暗的地母啊，愿在你怀里永安她的魂灵”，抒发出一种深沉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怀念之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你是怎样理解作者的感情的？这是什么写法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57120" y="3714840"/>
            <a:ext cx="7977240" cy="180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运用了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写法，是为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突出作者对长妈妈的敬佩和怀念之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先写了她名字的来由，讨厌她的絮叨、对“我”的管束严格、繁多的礼节，其实这一切都是为了反衬后文“我”对她的敬佩和怀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图片10"/>
          <p:cNvPicPr/>
          <p:nvPr/>
        </p:nvPicPr>
        <p:blipFill>
          <a:blip r:embed="rId1"/>
          <a:stretch/>
        </p:blipFill>
        <p:spPr>
          <a:xfrm>
            <a:off x="3000240" y="214200"/>
            <a:ext cx="3391200" cy="83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26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-142920" y="7855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抑后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作文中，采用这种手法，先表达对所描写的事物或人的不满之情。然后，一般来说，总是在一两件小事中，突然转变了看法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在转变过程中，情感自然，才能引起读者的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共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种手法的好处是，能够很好的表达出作者充沛的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感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情节多变，形成波澜起伏，造成鲜明对比，容易使读者在阅读过程中，产生意外的惊喜和惊叹，起到出乎意外的效果，使人物形象更加真实可感，鲜明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图片9"/>
          <p:cNvPicPr/>
          <p:nvPr/>
        </p:nvPicPr>
        <p:blipFill>
          <a:blip r:embed="rId1"/>
          <a:stretch/>
        </p:blipFill>
        <p:spPr>
          <a:xfrm>
            <a:off x="611280" y="1989000"/>
            <a:ext cx="7705800" cy="346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怎样刻画的阿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8920" y="1485720"/>
            <a:ext cx="73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1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选材特点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</a:rPr>
              <a:t>人物描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多样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539640" y="5300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619280" y="479736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写人记事的文章采用恰当的写法可以做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生动传神、事半功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的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5192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作借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95280" y="1270080"/>
            <a:ext cx="7772400" cy="5184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节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善于抓住富有特征性的细节，寥寥几笔，就勾勒出人物的个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）抓住最有特征的细微之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长妈妈夜间在床中间摆成一个“大”字，经旁人提醒以后，依然如故，“一条臂膊还搁在我的颈子上”，表现了长妈妈的粗鲁和不拘小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5192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作借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5280" y="1270080"/>
            <a:ext cx="7772400" cy="5184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）抓住生动形象的语言、动作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吃福橘时：“恭喜恭喜！大家恭喜！真聪明！恭喜恭喜！”她于是十分喜欢似的，笑将起来，同时将一点冰冷的东西，塞在我的嘴里。她希望孩子和自己能够“一年到头，顺顺流流”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是长妈妈对孩子真诚的关爱，虽然封建迷信，但也生动地表现了她的朴实和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00040" y="785520"/>
            <a:ext cx="8083440" cy="545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）抓住体现主旨的外貌、语言描写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写她买来《山海经》时：她穿着新的蓝布衫回来了，一见面，就将一包书递给我，高兴地道：“哥儿，有画儿的‘三哼经’，我给你买来了！”这里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仅看到了一个衣着朴素、满脸笑容的劳动妇女，而且听到了她那亲切自然的语言。“三哼经”恰如其分地表现了她的身份和社会地位。这个细节，说明了为“我”办这件事情的不是学问人，而是连书名都说错的长妈妈，蕴含着长妈妈对“我”的关心和疼爱，同时把阿长和《山海经》连接在一起，表现了设题与构思的新颖巧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468360" y="98100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结：作者从多个层面、多个角度刻画了长妈妈的形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500040" y="2286000"/>
            <a:ext cx="784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阿长是一个很不幸而又渴望一生平安的劳动妇女，她没有文化，有点粗俗、迷信，饶舌多事，但心地善良，热心帮助孩子解决疑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57120" y="1071720"/>
            <a:ext cx="85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到憎恶她的时候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如知道了谋死我那因隐鼠的却是她的时候，就叫她阿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什么要用“憎恶”“谋死”这样的词语呢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28760" y="3357720"/>
            <a:ext cx="784836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</a:t>
            </a:r>
            <a:r>
              <a:rPr b="1" lang="zh-CN" sz="2800" spc="-1" strike="noStrike">
                <a:solidFill>
                  <a:srgbClr val="a851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 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憎恶”是“憎恨，厌恶”的意思，“谋死”是谋杀的意思，这两个词语表现出儿童天真的性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938320" y="2858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语言特色：略带夸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357120" y="1071720"/>
            <a:ext cx="85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而我有一时也对发生过空前的敬意。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里用“空前”来修饰“敬意”，给你什么感觉？你怎么理解“敬意”在文中的具体含义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28760" y="3357720"/>
            <a:ext cx="784836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</a:t>
            </a:r>
            <a:r>
              <a:rPr b="1" lang="zh-CN" sz="2800" spc="-1" strike="noStrike">
                <a:solidFill>
                  <a:srgbClr val="a851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用“空前”来修饰“敬意”，说明这种敬意“我”以前从未有过，让人感到“我”对阿长的印象和态度要发生转变。句子中的“敬意”指在阿长讲了长毛的故事后，作为小孩的“我”惊异于她有这样伟大的神力，但这种“敬意”不同于真正的尊敬，它是“特别的”，只是小孩的无知和好奇使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86040" y="213840"/>
            <a:ext cx="280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山海经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571760"/>
            <a:ext cx="6072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一部地理著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古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第一部神话传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汇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记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精卫填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夸父逐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共工怒触不周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女娲补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后羿射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黄帝擒蚩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等神话传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反映了中华民族的英雄气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143760" y="1447920"/>
            <a:ext cx="274932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357120" y="107172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夜间的伸开手脚，占领全床，那当然是情有可原的了，到当然是情有可原的了，到应该我退让。（作者是否真的认为“情有可原”，“应该我退让”？你的理由是什么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00040" y="3214800"/>
            <a:ext cx="784872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否。这只是一个孩子由于对阿长产生“特别的敬意”，进而产生的一种短暂的想法。随着“我”的这种敬意的逐渐淡薄，直至完全消失，这样的想法也将不复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68000" y="1773000"/>
            <a:ext cx="8420040" cy="465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想像阿长如何千辛万苦地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经过，用文字描述出那时那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假设阿长现在还健在，她读了鲁迅的这篇文章，会对鲁迅说些什么？请紧扣课文内容与人物性格特征，展开想像，赋予人物新的时代特色，代长妈妈与鲁迅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对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12720" y="692280"/>
            <a:ext cx="3960720" cy="765000"/>
          </a:xfrm>
          <a:prstGeom prst="rect">
            <a:avLst/>
          </a:prstGeom>
          <a:solidFill>
            <a:srgbClr val="a85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象创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矩形 3"/>
          <p:cNvSpPr/>
          <p:nvPr/>
        </p:nvSpPr>
        <p:spPr>
          <a:xfrm>
            <a:off x="3790440" y="31431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注意一个细节：阿长连书名也记不清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阿长告假回家，给儿子添了一些东西，也没住多久便回来了。回来时天气不热，却没有风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阿长那臃肿的身体开始冒出密密的汗珠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这时，走到一个分叉路口，右边的那条是去周家的近路。左边那的那条就远了些，还要绕一大段路，奇怪的是阿长没有丝毫的犹豫，擦了擦颈上，额头上的汗，向左边的那条路走去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那件新的蓝布衫渐渐地显示出了深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久，她来到了两家书店门口，阿长停下了脚步，用手帕擦了擦汗，进了书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“有什么需要帮忙吗？”伙计上下打量阿长，疑惑地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“哦，我要买三哼经！”阿长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伙计瞪大了眼睛，疑惑又似确定的说：“三哼经？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阿长的眉毛不禁皱起连忙说“三哼经啊，那种有画的三哼经啊！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伸出手比划着，身上的肉也跟着一颤一颤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伙计不耐烦地摆了摆手：“没有山哼经，没有山哼经，你到别家买吧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只见阿长一脸失望，走出了店门，她来到另一家书店门口，犹豫着，不知道该怎么开口说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件新买的蓝布衫似乎也在烦恼，烦恼着怎么避开那粘乎乎的汗水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这家书店里的伙计见到阿长，连忙走出门，讨好的说：“您里面请，我们这有许多各式各样的书，不知道您要什么书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阿长用手帕擦了擦汗，有些局促的说“山哼经，我要买山哼经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哼经。”这位伙计也是听的一头雾水，“我们这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没有山哼经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阿长用手帕擦了擦又湿又粘的额手，牙齿咬着嘴唇，努力的回想鲁迅儿对她说的话：那种画着人面的兽，九头的蛇，三脚的鸟，生着翅膀的人还有，还有许许多多很奇怪的画得那种三哼经！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伙计皱了皱眉头不过又舒展开了。“您说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吧，我们这有，不贵也就十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56760" y="428400"/>
            <a:ext cx="854388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紧贴着她的蓝布衫终于挣脱了汗水，阿长舒心的笑了“有就好。”她给伙计十文钱，揣着那本好不容易买来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天气依旧不热，却吹了习习的凉风。树上不时的有几只鸟儿欢快叫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cc"/>
                </a:solidFill>
                <a:latin typeface="隶书"/>
                <a:ea typeface="隶书"/>
              </a:rPr>
              <a:t> </a:t>
            </a:r>
            <a:r>
              <a:rPr b="1" i="1" lang="zh-CN" sz="4000" spc="-1" strike="noStrike">
                <a:solidFill>
                  <a:srgbClr val="9900cc"/>
                </a:solidFill>
                <a:latin typeface="幼圆"/>
                <a:ea typeface="幼圆"/>
              </a:rPr>
              <a:t>阿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幼圆"/>
                <a:ea typeface="幼圆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</a:rPr>
              <a:t>哥儿啊，我虽无名无姓，但经你一写，现在也成了名人了，可是你说我无名无姓，生得黄胖而矮倒也罢了，怎么连颈上的灸疮疤也写进去了呢？说我规矩多、烦琐、迷信也罢了，那时谁不迷信啊？可是你，怎么连我睡相不好这种私事都写进去了呢？特别是给你讲长毛故事时，讲的将我们掳去后，让我们脱下裤子站在墙头，大炮就放不出来，你也照实写下来了，你不怕人笑话，我还怕人笑话呢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457200" y="53352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寻找“阿长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752480" y="1600200"/>
            <a:ext cx="721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回想身边的“阿长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457200" y="274320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你觉得阿长像身边的谁？是年迈不识字的老祖母，爱唠叨的母亲，还是爱管闲事的阿姨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图片7"/>
          <p:cNvPicPr/>
          <p:nvPr/>
        </p:nvPicPr>
        <p:blipFill>
          <a:blip r:embed="rId1"/>
          <a:stretch/>
        </p:blipFill>
        <p:spPr>
          <a:xfrm>
            <a:off x="-236520" y="0"/>
            <a:ext cx="9593280" cy="68644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85840" y="500040"/>
            <a:ext cx="835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爱的方式有很多种，也许她们的方式是当时的你所不能理解或接受的。但是，有一天，你读懂了她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84360" y="2708280"/>
            <a:ext cx="73911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请以“读懂身边的爱”为话题，写一篇小短文。（不少于</a:t>
            </a: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300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字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www.chinataiwan.org/webportal/pics/1081821908082.jpg"/>
          <p:cNvPicPr/>
          <p:nvPr/>
        </p:nvPicPr>
        <p:blipFill>
          <a:blip r:embed="rId1"/>
          <a:stretch/>
        </p:blipFill>
        <p:spPr>
          <a:xfrm>
            <a:off x="0" y="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2004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 鳐 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https://w5.sanwen8.cn/mmbiz/gSeTmn4EmpG6gruBGTVmnfBIADtbdKGbc503Y1ic1IWY6VfD9Ulv9Sy62jwc2AqX9Su1Rbj9WZ0n3PG8wK4ofiaA/0?wx_fmt=jpeg"/>
          <p:cNvPicPr/>
          <p:nvPr/>
        </p:nvPicPr>
        <p:blipFill>
          <a:blip r:embed="rId2"/>
          <a:srcRect l="0" t="0" r="0" b="7896"/>
          <a:stretch/>
        </p:blipFill>
        <p:spPr>
          <a:xfrm>
            <a:off x="4214880" y="0"/>
            <a:ext cx="4929120" cy="542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s://w5.sanwen8.cn/mmbiz/gSeTmn4EmpG6gruBGTVmnfBIADtbdKGbb3rZQzxLGoZpFM4rvUbuOW8SyPw8AibMiaUSzgtaOTHlH58wJH5HAsjw/0?wx_fmt=jpeg"/>
          <p:cNvPicPr/>
          <p:nvPr/>
        </p:nvPicPr>
        <p:blipFill>
          <a:blip r:embed="rId1"/>
          <a:srcRect l="0" t="0" r="968" b="10414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s://w5.sanwen8.cn/mmbiz/gSeTmn4EmpG6gruBGTVmnfBIADtbdKGbNDZsm1oRmJMGUmKhrZFdkZ5HHlQWwAtQJ8C1MXms6AYpG53ibDEklmg/0?wx_fmt=jpeg"/>
          <p:cNvPicPr/>
          <p:nvPr/>
        </p:nvPicPr>
        <p:blipFill>
          <a:blip r:embed="rId2"/>
          <a:srcRect l="0" t="0" r="0" b="5988"/>
          <a:stretch/>
        </p:blipFill>
        <p:spPr>
          <a:xfrm>
            <a:off x="4857840" y="0"/>
            <a:ext cx="4286160" cy="4786200"/>
          </a:xfrm>
          <a:prstGeom prst="rect">
            <a:avLst/>
          </a:prstGeom>
          <a:ln w="0">
            <a:noFill/>
          </a:ln>
        </p:spPr>
      </p:pic>
      <p:sp>
        <p:nvSpPr>
          <p:cNvPr id="105" name="矩形 6"/>
          <p:cNvSpPr/>
          <p:nvPr/>
        </p:nvSpPr>
        <p:spPr>
          <a:xfrm>
            <a:off x="4857840" y="50720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海外西经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西方蓐收，左耳有蛇，乘两龙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https://w5.sanwen8.cn/mmbiz/gSeTmn4EmpG6gruBGTVmnfBIADtbdKGbPhzC0DeqXLrDCshwpZ5R5fiaBlUV5b6CPWvMkl2lP5OBevn1HtRvGbw/0?wx_fmt=jpeg"/>
          <p:cNvPicPr/>
          <p:nvPr/>
        </p:nvPicPr>
        <p:blipFill>
          <a:blip r:embed="rId1"/>
          <a:srcRect l="0" t="0" r="0" b="7256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07" name="矩形 5"/>
          <p:cNvSpPr/>
          <p:nvPr/>
        </p:nvSpPr>
        <p:spPr>
          <a:xfrm>
            <a:off x="0" y="5072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海内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：“南祝融，兽身人面，乘两龙”，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海外东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：“东方句芒，鸟身人面，乘两龙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图片1"/>
          <p:cNvPicPr/>
          <p:nvPr/>
        </p:nvPicPr>
        <p:blipFill>
          <a:blip r:embed="rId1"/>
          <a:stretch/>
        </p:blipFill>
        <p:spPr>
          <a:xfrm>
            <a:off x="-212760" y="0"/>
            <a:ext cx="9593280" cy="686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青年鲁迅"/>
          <p:cNvPicPr/>
          <p:nvPr/>
        </p:nvPicPr>
        <p:blipFill>
          <a:blip r:embed="rId2"/>
          <a:stretch/>
        </p:blipFill>
        <p:spPr>
          <a:xfrm>
            <a:off x="4067280" y="549360"/>
            <a:ext cx="481464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鲁迅2"/>
          <p:cNvPicPr/>
          <p:nvPr/>
        </p:nvPicPr>
        <p:blipFill>
          <a:blip r:embed="rId3"/>
          <a:stretch/>
        </p:blipFill>
        <p:spPr>
          <a:xfrm>
            <a:off x="4067280" y="549360"/>
            <a:ext cx="4800600" cy="5715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鲁迅1"/>
          <p:cNvPicPr/>
          <p:nvPr/>
        </p:nvPicPr>
        <p:blipFill>
          <a:blip r:embed="rId4"/>
          <a:stretch/>
        </p:blipFill>
        <p:spPr>
          <a:xfrm>
            <a:off x="4067280" y="549360"/>
            <a:ext cx="481176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622880" y="836640"/>
            <a:ext cx="1277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方正舒体"/>
              </a:rPr>
              <a:t>鲁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2:36:03Z</dcterms:created>
  <dc:creator>Administrator</dc:creator>
  <dc:description/>
  <dc:language>en-US</dc:language>
  <cp:lastModifiedBy>90321</cp:lastModifiedBy>
  <dcterms:modified xsi:type="dcterms:W3CDTF">2020-03-15T09:50:19Z</dcterms:modified>
  <cp:revision>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