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9E0-C46E-4700-89E3-F6C30C37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601-EEAB-4133-874A-F15E0E74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293A5-E4B0-492A-BD77-C7AE092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A0E32-22BD-4890-B0F2-8E87E17C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A2BD0-3F30-4070-943A-7BA58DC4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61090-C4B6-48C6-BBB2-9E688AB9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C8C17-5728-48B0-A9A3-6A8039A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FF8EF-F368-4ED4-8A0F-F85CF2E3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5CC22-E98F-4F83-9A5C-5AB433A3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28F58-4D91-41DA-AD8A-238AAEC1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C7E0C-C30E-4E36-97DE-17E9D9F2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22ACA-C8D6-4097-80BB-76D2B07B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184-9A26-45FE-8173-C915FD0E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2504C-3894-4E37-A204-D5C894BD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40129-1952-43B0-A7DD-CC435B0B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97FB6-8F9D-4C4E-B510-0A613F5E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8EF95-C6FF-4CBE-AEC7-F1CACE2C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912BE-61FF-4A8F-AFA8-B6D2701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8C1A3-FDC7-4467-9B75-15F20E19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D1956-6956-42F6-8539-A252B4A6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2A24E-2265-463E-B21D-64A0AF95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769FA-16F3-4F64-9CC7-45AD44A9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EC69C-98C2-4ACE-94F6-99F5FC47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D95-E32B-47A5-A15C-9AADD1F7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990D9-2F09-4F55-ABD1-A8635A73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05177-256F-45D7-A53A-2243F000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684E3-0994-49CA-AF2C-02212CB8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9EFBC-4BCA-4E8A-96B4-F9F9EA1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51CF1-5D06-4623-9F13-FFA1E9A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AD4C1-9052-4159-B6B8-5652DE0B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C2D86-D76D-4420-984A-EF5D1870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9A429-E67D-4959-8508-691FB98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F5B3E-4E61-495B-AEAA-48699B08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CD92B-B63D-4E7D-8398-DD2A44A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4FC-F8AE-4F62-B607-DCBD90A6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1BCCD-D5C3-4FDC-93B7-A1340CEC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9F2A3-C012-4899-94F9-DA024B9E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8DD31-761E-4CA6-A4AA-EFC8453D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816CC-B58A-453D-A98D-28C0D361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0C187-D4EB-4786-AF3E-E1FFAE63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78CF3-1661-4168-AC3B-AE4168F9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F2AEC-4FC7-4824-B0E3-03E3508E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FB3F2-1608-4560-AAB7-7B1A6A2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2D6E9-E88D-4429-97FB-C15BDD74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67304-AF0F-4121-9634-3CE5EE3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11C2-A835-4FF4-BED0-32CD65E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7BA00-97C6-4E54-AB6E-ED2330A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E22A6-42CF-4CBC-AA31-5FB5BE42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C37E9-B76A-4761-ACE4-B50822C6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7CF89-C496-4AF1-BFB8-7613D06E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BFA6A-26EF-44C3-8E3D-AD073CFD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EAF6B-0E66-4564-971A-56AA9057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E6F76-5882-4421-9B73-8D6E56EE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6AED2-0E73-4C63-9639-277CB3F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87816-19D3-4D18-8DCE-03A7B6D6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2193D-A778-4DCE-8236-2B76ED6F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3C57-2749-4F99-B246-1A019965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620B3-B006-4E43-B9BF-AEDE9502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6D5B0-2122-444B-AABC-51187D6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37355-7B40-4E31-A538-57AB780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44BF2-AD11-4C5C-A7A2-366A14C2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C6A54-FB6A-4B43-9017-4FEABE8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E5623-A7EA-4527-8A8F-E0309D58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52CB4-18AC-4A15-A55C-BE57E36C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44597-925E-4DED-B0A8-E345B0B2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C789C-BD2A-4E28-94F6-E11A5552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0A0EA-CFDF-45DC-BE58-BE97C5A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C7A0-2250-40F0-8478-85DAA94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2C2C2-74DE-4E50-95B6-ED2E5B6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D7B5D-C810-4B8F-A198-08B3F38F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72231-5718-4616-AF9D-E5190B0F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E043E-C5D4-4BDE-A5DD-6C77EE1F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C12A9-A758-41A7-BBE1-1506B3A1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B822C-72DA-4AB8-ABDD-53D6F3E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4570C-CC8F-4487-8045-7CE6073D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D500F-58AC-4BD1-B318-68B13F4C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4CDA1-087F-47CE-A6C0-2832A50C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FEF06-F733-4D3D-A61B-BBF70170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EF9A-C34F-48A1-80ED-19F1AB15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75DF9-73D4-47B3-BD93-8667115F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0A24D-66A5-4714-BD0F-D064E40D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97FCA-5406-4A5E-9C3B-C6621286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A2477-FF34-40A1-AE1B-9E457278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ED1F8-2E8B-4803-8B47-8232EDAF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F058F-3E79-41A1-9A3B-EFD6440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1CC3E-79CD-48A9-857E-FE731020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FE90A-B7B8-4105-804D-20C7B66E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11E86-29D2-4883-8854-E4BB4264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CF105-FA84-4557-9401-CB9579CD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F844-4EDB-4643-A602-A54B8024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F5312-0312-4562-B4A1-2AD53887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55B51-D63E-4D24-9315-1F697674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DEE41-1F35-45BF-B1EC-55A72B03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0C7F0-BA86-4088-AD8A-B0C5FE7B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18C6B-BB40-4B0A-A2C7-96A4858F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6193A-6A03-4B6F-8CA7-FBABCCBF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86EDD-4BB7-484E-8137-8D6ADE5C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6A3C9-3D28-4927-AD67-256BEACA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BEA2C-2D22-44A2-90A4-6D5A60BF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EC724-598C-4155-81A1-8A0D04C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714F-492E-41E6-BDB1-646DF014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E7C07-96B3-42C2-955E-2A4F1A5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EF3B6-6460-469D-85CA-3AA3BD4C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D19F0-A9C9-4806-9CA2-6959B529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C9ADE-B581-4C5A-BE22-DB7C5854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B32AD-5D49-4FCF-8646-B8CD7C04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BD662-01CA-467A-B289-0AC06D3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66526-2648-4B47-B3E2-7E775D74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09748-5DAD-431F-8DDD-C993D9C0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3618F-BA9F-4F4C-AA0A-D006D062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C7CCF-8B1A-4B41-9737-1D06F88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052-E515-430B-BA1D-37DBCB9D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339-6708-4423-AF92-E6A3100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E45B2-ACA9-4DA1-AA0D-69926214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CEFD8-8B68-4007-AFCB-5969D038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A00C8-7A34-4E16-9900-282A451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40A95-6FA5-456B-A4F2-0B45B3EF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B1AC5-3137-4B8D-897E-BD328C9C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E76E-D599-4C9E-9A43-1E6117E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641A-6EF4-48D5-84B9-E0ED9AAA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A85-99EA-4F94-8EC5-2241254D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28FD-54D4-41FD-B79C-8A30E221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02F7-890F-42DC-9462-B91EE301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6A9B-255E-4479-8C8A-1ECBBEB6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50F2-2EE7-4E87-92A1-58E65AEE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76AA-A6D1-482F-B436-7EA72C8B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2F40-42D5-46C0-886D-19F14007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046-CC0D-4172-911C-C0F39BEA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0056-73CF-48BC-B1A8-C2AE62FA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F78D-0ED6-41C8-B6C7-F37D655D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9447-B0EF-4433-B942-B06AFB50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9E72-7847-4465-B2D2-DC05A72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CD79-1754-480F-A239-0270D09A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24CF-423B-4735-BF08-18730BEE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0147-DD6C-48C8-8A15-4A7F9AC1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7844-8255-4D44-ABC1-E32B8AAF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C8A1-8854-4AC1-9E40-6B5D560F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EB92-B36F-4D47-B67D-1EA91E55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B76-D54E-4ED6-BCFF-732E3AE4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B768C-43F0-4227-BBCC-DD631C54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64DC-E265-46BC-A531-9C75BAAA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85943-4F55-4C1F-BD9C-9B6863F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0ECE4-B8AF-4223-920E-73CD2190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6F02-E4B0-48BC-B81A-3698A12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8F14-D6E4-4B02-95E5-9CD3672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27B8C-04AE-4007-BDFE-24731EE1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AD63-48E7-4B1C-B04F-3F64CE14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9DBF-83DE-4015-B410-A0C31B22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8203-D259-4303-8E4A-907012F0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71A-154E-41CA-B2AB-7A721BE3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A9CEE-E745-439D-B20F-E3B8B7D9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D0376-A231-4F00-98A3-CA175459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8805-2A61-463E-9850-B9ED4483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45DC-4F60-4C2B-968E-EA215222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07A0-60E1-4293-AF5C-942F7699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9E2F-7A28-4580-85CC-A424BCDA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F7836-D15A-4880-A9E9-91E3FFE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5DFF-C818-4A88-BFF5-792C2839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9971-2EE2-4FE1-A9B3-70172CC8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E6CD-B810-40B3-9F9C-ACA11079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4E7-24AC-4187-A9BA-C0C89183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C910-5EDC-49B1-8FB4-CE0BB804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B2AB6-2355-4D70-BC62-3F65E568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CB323-EAB3-45CA-BB14-4C66C67E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D63A1-18D7-46BB-85EC-3730894F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4EC8-86D4-4932-B110-4B7D2276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8D31C-81E5-483D-9998-424E950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89EC3-94DC-4461-A671-B811EF34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DF8C-D967-48AD-B002-CBE751F1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044E-3D55-4DC2-AD6E-F556168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2650-494D-45C8-9755-7C58510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D31-1241-4ED1-B40A-DD5B4613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F8AEB-DA33-4F4E-8C5A-E6771B4F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3495B-AEBC-4E17-821C-78DF1679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33692-CCEB-4AF4-AEC7-4A914BBC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0BCE2-0DAC-480B-AB77-76C406ED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66E1B-8D08-4D88-AEBA-828430F1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6E68-0F76-4D91-9C4B-3A2E53EC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DAEC7-87E9-4EBD-9E0C-4B4B1AAA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8927-D6E8-466A-8AE7-E7DD205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FB8EA-3546-454F-A11C-F1B05D3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B0D4-EC8E-4758-9384-38A5F66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424-CA2A-452B-8A29-621E05A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C48B7-76CC-4205-A7EF-AE67E8C4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7BF6E-4697-4941-939F-DAF3121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2D99-FFA2-4F51-9E80-4E038028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0D6C9-EBF6-4D7D-BA87-7015988A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147A3-2721-415D-AA17-51C669F3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7D9CC-A1B5-4964-B2B5-F6143359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022AE-8181-436D-A48F-7888D63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FCD44-F950-41A0-A4F9-073D0DF8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6B64-A79E-460C-8338-20B35766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56496-B86B-4DE8-BE83-3D96EE2B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226-8EC9-4EF9-ABAB-F9FFB23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25B01-6B49-4F79-90C2-A439E4FA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8D48D-645C-4949-8AEA-73C49CC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04A74-BCCE-4149-9B4F-EBEDE57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98CCB-8264-4D90-81DB-B0F74F43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D11B7-4966-4B85-84D6-B5320B06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67E25-FB30-4E36-BA42-703816BF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19C99-9196-49A0-82F2-4A7E2DFC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D0016-72D5-4024-8043-65295F13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EAF8D-247E-4A59-B67A-C5B98FE3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7B78-4D3E-4E20-9E59-11447C92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5A558-58BA-4763-BF4C-ACC565560544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0B1C9-1FA0-4082-BB26-FE257612FFD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0F99A-C1A3-4667-8951-D4C58938DC3C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6517B-D7FF-4F0B-A71F-17E28151F67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F9244-136A-4D4E-B2C3-3243A1271DC9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23179-4B77-4DE6-BFEE-6C7F0F7306B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18ab3"/>
                </a:solidFill>
                <a:latin typeface="Arial"/>
                <a:ea typeface="宋体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18ab3"/>
                </a:solidFill>
                <a:latin typeface="Arial"/>
                <a:ea typeface="宋体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E9FE6-F4EB-4CD2-82FE-0E47C1E6F835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6F61E-BD85-4757-84E5-98DCA01B209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414C6-3256-47B8-8E39-3CF93BF8EF72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B8953-61AA-4DC8-B076-AB6A156EA8D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18ab3"/>
                </a:solidFill>
                <a:latin typeface="Arial"/>
                <a:ea typeface="宋体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18ab3"/>
                </a:solidFill>
                <a:latin typeface="Arial"/>
                <a:ea typeface="宋体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6BABA-E183-412E-8C0A-B8464C8A82A9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09687-E029-4210-86A5-6DD9C182F1B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E6A39-5E63-4CFC-A1D6-526466D4E399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30028-11BF-4D83-B15B-E3F074E0C65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9D49B-2982-48E9-89E5-967496896742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22728-8B80-4809-A5A4-A09A5B0A99B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DAB6D-26AE-4FFD-9D92-ECC9F4B67840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05CA7-5D1D-4E6E-B24C-9509E784655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AAB4C-0DFC-4B36-B6FB-3A11D8F4FAAD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1534A-D3D8-4492-94D0-9641851A6E7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248C9-8217-49AA-AEA0-38C37E670B2E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1DCA9-67BB-4331-827F-FF77725007F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1776B-C367-4191-8484-9B6D0BA4E4F6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74502-8C73-46DA-B808-F73358F3502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806C5-FF6E-472A-BDF6-28DA54F37469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DAF69-7025-4547-93EF-A34E09505B0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CF259-A748-4810-9174-364A05EB2BAC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DF093-A568-4FCE-A3B5-30E1D6B4651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CBF37-36B3-49D9-B7C9-F7504498A07E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3EF4E-1AC2-4DE1-82E1-7965C9B527F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F0D38-CBE7-440E-B8C7-C9F7E15E1905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28C96-3977-4197-A889-2D10FAAD258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5e5e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18a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5F1A6-EB0B-4B68-8D7E-8199FA59ACE0}" type="datetime">
              <a:rPr b="0" lang="en-US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18948-0063-4DD1-A93E-F038A118EA0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标题 1"/>
          <p:cNvSpPr/>
          <p:nvPr/>
        </p:nvSpPr>
        <p:spPr>
          <a:xfrm>
            <a:off x="884160" y="1835280"/>
            <a:ext cx="104234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《</a:t>
            </a: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红楼梦</a:t>
            </a:r>
            <a:r>
              <a:rPr b="0" lang="en-US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》</a:t>
            </a: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整本书阅读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262626"/>
                </a:solidFill>
                <a:latin typeface="华文琥珀"/>
                <a:ea typeface="华文琥珀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715760" y="1195200"/>
            <a:ext cx="32814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entury Gothic"/>
                <a:ea typeface="幼圆"/>
              </a:rPr>
              <a:t>蒋勋谈红楼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444320" y="2259000"/>
            <a:ext cx="9442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宝玉关心每一个人，关心每一种生命的不同处境，他对</a:t>
            </a:r>
            <a:r>
              <a:rPr b="0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任何生命形式，都没有“不喜欢”，都没有恨</a:t>
            </a:r>
            <a:r>
              <a:rPr b="0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。包括地位卑微的丫头、仆人，在他的心目中，都应该是被尊重的对象，都有可以被欣赏的美。他在繁华的人间，看到芸芸众生，似乎每一个人、每一个生命，都像自然中的一朵花，他没有比较，只有欣赏，只有欢喜与赞叹。宝玉，其实是《红楼梦》中的菩萨。宝玉爱每一个人，他的爱都没有执着与占有。《金刚经》说：“</a:t>
            </a:r>
            <a:r>
              <a:rPr b="0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无所住而生其心</a:t>
            </a:r>
            <a:r>
              <a:rPr b="0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。”正是宝玉的本性。《红楼梦》的阅读，因此是</a:t>
            </a:r>
            <a:r>
              <a:rPr b="0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种学习“宽容”的过程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75080" y="830160"/>
            <a:ext cx="8929440" cy="10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  <a:ea typeface="宋体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Century Gothic"/>
                <a:ea typeface="幼圆"/>
              </a:rPr>
              <a:t>周汝昌：《红楼梦》是一部文化小说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5005080" y="2352240"/>
            <a:ext cx="638964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2012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年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5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月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31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日，一代红学大师周汝昌先生去世，终年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95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岁。如今，红楼犹在， 先生驾鹤西去。世间再无周汝昌，无人再懂曹雪芹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《红楼梦》是一部以“重人”“爱人”“唯人”为中心思想的书。它是我们中华文化史上的一部最伟大的著作，以小说的通俗形式，向最广大的人间众生说法。他有悲天悯人的心境，但他并无“救世主”的气味。他如同屈大夫，感叹众芳芜秽之可悲可痛，但他没有那种孤芳自赏、唯我独醒的自我意识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图片 3" descr=""/>
          <p:cNvPicPr/>
          <p:nvPr/>
        </p:nvPicPr>
        <p:blipFill>
          <a:blip r:embed="rId1"/>
          <a:stretch/>
        </p:blipFill>
        <p:spPr>
          <a:xfrm>
            <a:off x="204840" y="2352600"/>
            <a:ext cx="4476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568440" y="228240"/>
            <a:ext cx="1149192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Century Gothic"/>
                <a:ea typeface="幼圆"/>
              </a:rPr>
              <a:t>他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是一个惊人的天才，在他身上，</a:t>
            </a:r>
            <a:r>
              <a:rPr b="1" lang="zh-CN" sz="2400" spc="-1" strike="noStrike">
                <a:solidFill>
                  <a:srgbClr val="ff0000"/>
                </a:solidFill>
                <a:latin typeface="Century Gothic"/>
                <a:ea typeface="幼圆"/>
              </a:rPr>
              <a:t>仪态万方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地体现了我们中华文化的光彩和境界。他是</a:t>
            </a:r>
            <a:r>
              <a:rPr b="1" lang="zh-CN" sz="2400" spc="-1" strike="noStrike">
                <a:solidFill>
                  <a:srgbClr val="ff0000"/>
                </a:solidFill>
                <a:latin typeface="Century Gothic"/>
                <a:ea typeface="幼圆"/>
              </a:rPr>
              <a:t>古今罕见的一个奇妙的“复合构成体”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——大思想家、大诗人、大词曲家、大文豪、大美学家、大社会学家、大心理学家、大民俗学家、大典章制度学家、大园林建筑学家、大服装陈设专家、大音乐家、大医药学家……他的学识极广博，他的素养极高深。这端的是一个奇才绝才。这样一个人写出来的小说，无怪乎有人将它比作</a:t>
            </a:r>
            <a:r>
              <a:rPr b="1" lang="zh-CN" sz="2400" spc="-1" strike="noStrike">
                <a:solidFill>
                  <a:srgbClr val="ff0000"/>
                </a:solidFill>
                <a:latin typeface="Century Gothic"/>
                <a:ea typeface="幼圆"/>
              </a:rPr>
              <a:t>“百科全书”，比作“万花筒”，比作“天仙宝镜”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——在此镜中，我中华之男女老幼一切众生的真实相，毫芒毕现，巨细无遗。这，是何慧眼，是何神力！真令人不可想象，不可思议！虽然雪芹像是只写了一个家庭、一个家族的兴衰荣辱、离合悲欢，却实际是写了</a:t>
            </a:r>
            <a:r>
              <a:rPr b="1" lang="zh-CN" sz="2400" spc="-1" strike="noStrike">
                <a:solidFill>
                  <a:srgbClr val="ff0000"/>
                </a:solidFill>
                <a:latin typeface="Century Gothic"/>
                <a:ea typeface="幼圆"/>
              </a:rPr>
              <a:t>中华民族文化的万紫千红的大观与奇境。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在《红楼梦》中，雪芹以他的彩笔和椽笔，使我们历历如绘、栩栩如生地看到了我们中华人如何生活，如何穿衣吃饭，如何言笑逢迎，如何礼数相接，如何思想感发，如何举止行为。他们的喜悦，他们的悲伤，他们的情趣，他们的遭逢，他们的命运，他们的荷担，他们的头脑，他们的心灵……你可以一一地从《红楼梦》中，从雪芹笔下，寻到最好的、最真的、最美的写照！中华民族面对的</a:t>
            </a:r>
            <a:r>
              <a:rPr b="1" lang="zh-CN" sz="2400" spc="-1" strike="noStrike">
                <a:solidFill>
                  <a:srgbClr val="ff0000"/>
                </a:solidFill>
                <a:latin typeface="Century Gothic"/>
                <a:ea typeface="幼圆"/>
              </a:rPr>
              <a:t>“世变”是“日亟”的</a:t>
            </a:r>
            <a:r>
              <a:rPr b="1" lang="zh-CN" sz="2400" spc="-1" strike="noStrike">
                <a:solidFill>
                  <a:srgbClr val="404040"/>
                </a:solidFill>
                <a:latin typeface="Century Gothic"/>
                <a:ea typeface="幼圆"/>
              </a:rPr>
              <a:t>！中华民族文化的基本光彩与境界，都是不应也不会亡失的——它就铸造在《红楼梦》里。这正有点像东坡所说的：“自其变者而观之，天地曾不能一瞬。自其不变者而观之，则逝者未尝往也。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 txBox="1"/>
          <p:nvPr/>
        </p:nvSpPr>
        <p:spPr>
          <a:xfrm>
            <a:off x="1841400" y="1533600"/>
            <a:ext cx="96631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418ab3"/>
                </a:solidFill>
                <a:latin typeface="Century Gothic"/>
                <a:ea typeface="幼圆"/>
              </a:rPr>
              <a:t>    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   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他自称的“大旨谈情”，此情并非一般男女相恋之情。他</a:t>
            </a:r>
            <a:r>
              <a:rPr b="1" sz="2400" spc="-1" strike="noStrike">
                <a:solidFill>
                  <a:srgbClr val="ff0000"/>
                </a:solidFill>
                <a:latin typeface="Century Gothic"/>
                <a:ea typeface="幼圆"/>
              </a:rPr>
              <a:t>借了他对一大群女子的命运的感叹伤怀，写了他对人与人之间应当如何相待的巨大问题。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他首先提出的“千红一窟（哭）”“万艳同杯（悲）”，这已然明示读者：此书用意，初不在于某男某女一二人之间，而是心目所注，无比广大。他借了男人应当如何对待女子的这一根本态度问题，抒发了人对人的关系的亟待改善的伟思宏愿。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     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因为在历史上，女子一向受到的对待方法与态度是很不美妙的，比假如对待女子的态度能够有所改变，那么人与人的关系，定然能够达到一个崭新的崇高的境界。倘能如此，人生、社会、国家、世界，也就达到了一个理想的境地</a:t>
            </a:r>
            <a:r>
              <a:rPr b="1" sz="2400" spc="-1" strike="noStrike">
                <a:solidFill>
                  <a:srgbClr val="418ab3"/>
                </a:solidFill>
                <a:latin typeface="Century Gothic"/>
                <a:ea typeface="幼圆"/>
              </a:rPr>
              <a:t>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1798200" y="2939760"/>
            <a:ext cx="9705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entury Gothic"/>
                <a:ea typeface="幼圆"/>
              </a:rPr>
              <a:t>三、古典诗词对联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1579320" y="861480"/>
            <a:ext cx="99248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1 </a:t>
            </a: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满纸荒唐言，一把辛酸泪，都云作者痴，谁解其中味。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2 </a:t>
            </a: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世人都晓神仙好，惟有功名忘不了；古今将相在何方，荒冢一堆草没了。世人都晓神仙好，只有金银忘不了；终朝只恨聚无多，及到多时眼闭了。世人都晓神仙好，只有姣妻忘不了；君生日日说恩情，君死又随人去了。世人都晓神仙好，只有儿孙忘不了；痴心父母古来多，孝顺儿孙谁见了。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3 </a:t>
            </a: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一个是阆苑仙葩，一个是美玉无瑕。若说没奇缘，今生偏又遇着他；若说有奇缘，如何心事终虚化？一个枉自嗟呀，一个空劳牵挂。一个是水中月，一个人是镜中花。想眼中能有多少泪珠儿，怎经得秋流到冬，春流到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浮生着甚苦奔忙，盛席华筵终散场。 悲喜千般同幻渺，古今一梦尽荒唐。 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    </a:t>
            </a:r>
            <a:r>
              <a:rPr b="1" lang="zh-CN" sz="2300" spc="-1" strike="noStrike">
                <a:solidFill>
                  <a:srgbClr val="404040"/>
                </a:solidFill>
                <a:latin typeface="Century Gothic"/>
                <a:ea typeface="幼圆"/>
              </a:rPr>
              <a:t>漫言红袖啼痕重，更有情痴抱恨长。 字字看来皆是血，十年辛苦不寻常。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961920" y="231840"/>
            <a:ext cx="1090944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1.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假作真时真亦假 无为有处有还无。 此联在书出两次出现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,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分别在第一回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2.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玉在柜中求善价 钗于奁内待时飞。 第一回《甄干隐梦幻识通灵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,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贾雨村风尘怀秀》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3.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身后有馀忘缩手 眼前无路想回头 第二回《贾夫人仙逝扬州城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,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冷子兴演说荣国府》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       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陋室空堂，</a:t>
            </a:r>
            <a:r>
              <a:rPr b="1" sz="3100" spc="-1" strike="noStrike">
                <a:solidFill>
                  <a:srgbClr val="ff0000"/>
                </a:solidFill>
                <a:latin typeface="Century Gothic"/>
                <a:ea typeface="幼圆"/>
              </a:rPr>
              <a:t>当年笏满床；衰草枯杨，曾为歌舞场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；蛛丝儿结满雕梁，绿纱今又在蓬窗上。说甚么脂正浓、粉正香，如何两鬓又成霜？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       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昨日黄土陇头埋白骨，今宵红绡帐底卧鸳鸯。金满箱，银满箱，转眼乞丐人皆谤；正叹他人命不长，那知自己归来丧？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      </a:t>
            </a:r>
            <a:r>
              <a:rPr b="1" sz="3100" spc="-1" strike="noStrike">
                <a:solidFill>
                  <a:srgbClr val="404040"/>
                </a:solidFill>
                <a:latin typeface="Century Gothic"/>
                <a:ea typeface="幼圆"/>
              </a:rPr>
              <a:t>训有方，保不定日后作强梁。择膏梁，谁承望流落在烟花巷！因嫌纱帽小，致使锁枷扛；昨怜破袄寒，今嫌紫蟒长：</a:t>
            </a:r>
            <a:r>
              <a:rPr b="1" sz="3100" spc="-1" strike="noStrike">
                <a:solidFill>
                  <a:srgbClr val="ff0000"/>
                </a:solidFill>
                <a:latin typeface="Century Gothic"/>
                <a:ea typeface="幼圆"/>
              </a:rPr>
              <a:t>乱哄哄你方唱罢我登场，反认他乡是故乡；甚荒唐，到头来都是为他人作嫁衣裳。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Box 1"/>
          <p:cNvSpPr/>
          <p:nvPr/>
        </p:nvSpPr>
        <p:spPr>
          <a:xfrm>
            <a:off x="2290680" y="746280"/>
            <a:ext cx="7656480" cy="109944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华隶简体"/>
                <a:ea typeface="方正华隶简体"/>
              </a:rPr>
              <a:t>四、整本书阅读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TextBox 1"/>
          <p:cNvSpPr/>
          <p:nvPr/>
        </p:nvSpPr>
        <p:spPr>
          <a:xfrm>
            <a:off x="2590920" y="2584440"/>
            <a:ext cx="5803920" cy="229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华隶简体"/>
                <a:ea typeface="方正华隶简体"/>
              </a:rPr>
              <a:t>曹雪芹及红楼人物谱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ts val="34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手一套，不要简本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ts val="34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提前读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—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回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ts val="34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精读第三回：林黛玉进贾府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ts val="34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查找复印红楼人物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文本框 1"/>
          <p:cNvSpPr/>
          <p:nvPr/>
        </p:nvSpPr>
        <p:spPr>
          <a:xfrm>
            <a:off x="2103480" y="1603440"/>
            <a:ext cx="873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       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曹</a:t>
            </a:r>
            <a:r>
              <a:rPr b="1" sz="2800" spc="-1" strike="noStrike">
                <a:solidFill>
                  <a:srgbClr val="ff0000"/>
                </a:solidFill>
                <a:latin typeface="Century Gothic"/>
                <a:ea typeface="幼圆"/>
              </a:rPr>
              <a:t>霑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 字梦阮 号</a:t>
            </a:r>
            <a:r>
              <a:rPr b="1" sz="2800" spc="-1" strike="noStrike">
                <a:solidFill>
                  <a:srgbClr val="ff0000"/>
                </a:solidFill>
                <a:latin typeface="Century Gothic"/>
                <a:ea typeface="幼圆"/>
              </a:rPr>
              <a:t>雪芹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，又号芹溪、芹圃。曹雪芹满月后数日，六月初三，曹頫奏折：“连日时雨叠沛，四野沾足。”此即曹雪芹名“沾”的机缘，天时地利人和均占 。“沾”字取《诗经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·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小雅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·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信南山》“既优既渥，既沾既足，生我百谷”，有“世沾皇恩”之意。“雪芹”二字出自</a:t>
            </a:r>
            <a:r>
              <a:rPr b="1" sz="2800" spc="-1" strike="noStrike">
                <a:solidFill>
                  <a:srgbClr val="ff0000"/>
                </a:solidFill>
                <a:latin typeface="Century Gothic"/>
                <a:ea typeface="幼圆"/>
              </a:rPr>
              <a:t>苏轼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《东坡八首》之三：“泥芹有宿根，一寸嗟独在；雪芹何时动，春鸠行可脍。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Text Box 4"/>
          <p:cNvSpPr/>
          <p:nvPr/>
        </p:nvSpPr>
        <p:spPr>
          <a:xfrm>
            <a:off x="1936800" y="1082520"/>
            <a:ext cx="944712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673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404040"/>
                </a:solidFill>
                <a:latin typeface="宋体"/>
                <a:ea typeface="宋体"/>
              </a:rPr>
              <a:t>曹雪芹早年在南京江宁织造府亲历了一段锦衣纨绔、富贵风流的生活 。曾祖父曹玺任江宁织造；曾祖母孙氏做过康熙帝的保姆；祖父曹寅做过康熙帝的伴读和御前侍卫，后任江宁织造，兼任两淮巡盐监察御使，极受康熙宠信。雍正六年（</a:t>
            </a:r>
            <a:r>
              <a:rPr b="1" lang="zh-CN" sz="2400" spc="-1" strike="noStrike">
                <a:solidFill>
                  <a:srgbClr val="404040"/>
                </a:solidFill>
                <a:latin typeface="宋体"/>
                <a:ea typeface="宋体"/>
              </a:rPr>
              <a:t>1728</a:t>
            </a:r>
            <a:r>
              <a:rPr b="1" lang="zh-CN" sz="2400" spc="-1" strike="noStrike">
                <a:solidFill>
                  <a:srgbClr val="404040"/>
                </a:solidFill>
                <a:latin typeface="宋体"/>
                <a:ea typeface="宋体"/>
              </a:rPr>
              <a:t>年），曹家因亏空获罪被抄家，曹雪芹随家人迁回北京老宅。后移居北京西郊，靠卖字画和朋友救济为生 。曹家从此一蹶不振，日渐衰微。经历了生活中的重大转折，曹雪芹深感世态炎凉，对封建社会有了更清醒、更深刻的认识。他蔑视权贵，远离官场，过着贫困如洗的艰难日子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ts val="2673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404040"/>
                </a:solidFill>
                <a:latin typeface="宋体"/>
                <a:ea typeface="宋体"/>
              </a:rPr>
              <a:t>曹雪芹素性放达，爱好广泛，对金石、诗书、绘画、园林、中医、织补、工艺、饮食等均有所研究。他以坚韧不拔的毅力，历经多年艰辛，终于创作出极具思想性、艺术性的伟大作品——《红楼梦》。晚年，曹雪芹移居北京西郊。生活更加穷苦，“满径蓬蒿”，“举家食粥酒常赊”。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1476360" y="1108080"/>
            <a:ext cx="99108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Century Gothic"/>
                <a:ea typeface="幼圆"/>
              </a:rPr>
              <a:t>《红楼梦》其百科全书般的广博内容、卓绝超拔的艺术成就、丰富厚重的人文内涵，对提升一个人的整体素养（绝不仅仅是语文素养），有着不可替代的作用。正如</a:t>
            </a:r>
            <a:r>
              <a:rPr b="1" lang="zh-CN" sz="2800" spc="-1" strike="noStrike">
                <a:solidFill>
                  <a:srgbClr val="ff0000"/>
                </a:solidFill>
                <a:latin typeface="Century Gothic"/>
                <a:ea typeface="幼圆"/>
              </a:rPr>
              <a:t>清人所说：开谈不说《红楼梦》，读尽诗书也枉然。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Century Gothic"/>
                <a:ea typeface="幼圆"/>
              </a:rPr>
              <a:t>将艺术扩展到了文学之外的广袤空间，如服饰、化妆、器用、建筑、园林、饮食、医药、戏曲、音乐、美术、游艺等，几乎涵盖了所有人类智慧和劳动的结晶。</a:t>
            </a:r>
            <a:r>
              <a:rPr b="1" lang="zh-CN" sz="2800" spc="-1" strike="noStrike">
                <a:solidFill>
                  <a:srgbClr val="ff0000"/>
                </a:solidFill>
                <a:latin typeface="Century Gothic"/>
                <a:ea typeface="幼圆"/>
              </a:rPr>
              <a:t>《红楼梦》是一部记录并创造了当时文明成果之精华的百科全书</a:t>
            </a:r>
            <a:r>
              <a:rPr b="1" lang="en-US" sz="2800" spc="-1" strike="noStrike">
                <a:solidFill>
                  <a:srgbClr val="404040"/>
                </a:solidFill>
                <a:latin typeface="Century Gothic"/>
                <a:ea typeface="幼圆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文本框 99"/>
          <p:cNvSpPr/>
          <p:nvPr/>
        </p:nvSpPr>
        <p:spPr>
          <a:xfrm>
            <a:off x="1917720" y="2103480"/>
            <a:ext cx="85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《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红楼梦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》有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别名：《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石头记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》《情僧录》《风月宝鉴》和《金陵十二衩》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《红楼梦》有两个版本系统：脂砚斋评点本（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80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）和程伟元活字印本（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20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），程本后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40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一般认为是高鹗补写</a:t>
            </a:r>
            <a:r>
              <a:rPr b="0" lang="zh-CN" sz="3600" spc="-1" strike="noStrike">
                <a:solidFill>
                  <a:srgbClr val="333333"/>
                </a:solidFill>
                <a:latin typeface="Century Gothic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文本框 99"/>
          <p:cNvSpPr/>
          <p:nvPr/>
        </p:nvSpPr>
        <p:spPr>
          <a:xfrm>
            <a:off x="1785960" y="503280"/>
            <a:ext cx="965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4c41"/>
                </a:solidFill>
                <a:latin typeface="微软雅黑"/>
                <a:ea typeface="微软雅黑"/>
              </a:rPr>
              <a:t>【整体把握】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《红楼梦》是章回体长篇小说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5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是序幕，为全书定下骨架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6-18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通过刘姥姥进荣国府、元春省亲、秦可卿之死，写出贾府“烈火烹油、鲜花着锦”般的繁盛景象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9-54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写贾府安享富贵尊荣的生活，这部分有宝黛钗情感发展，有贾府的奢侈生活（凤姐宝钗过生日、清虚观打醮、两宴大观园），有繁华中的矛盾（叔嫂遇鬼、凤姐泼醋、宝玉挨打），也有丫鬟们的情感世界（晴雯不受屈辱、鸳鸯誓死不嫁）等情节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5-78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写贾府由盛转衰，有探春理家、大观园“承包”、茉莉粉蔷薇硝玫瑰露事件、尤二姐之死、抄检大观园、晴雯之死等情节，第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5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是全书转折处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9-120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回写贾府败亡，高鹗续写部分减弱了小说的悲剧性，按雪芹愿意，应是贾家“树倒猢狲散”，落得个“白茫茫一片大地真干净”的结局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文本框 99"/>
          <p:cNvSpPr/>
          <p:nvPr/>
        </p:nvSpPr>
        <p:spPr>
          <a:xfrm>
            <a:off x="1158840" y="1596960"/>
            <a:ext cx="27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要整体把握《红楼梦》，要先做到两点：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熟读前五回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记住两张表（贾府人物关系表、贾府平面地图）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其中前五回是全书的序幕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9" name="图片 1" descr=""/>
          <p:cNvPicPr/>
          <p:nvPr/>
        </p:nvPicPr>
        <p:blipFill>
          <a:blip r:embed="rId1"/>
          <a:stretch/>
        </p:blipFill>
        <p:spPr>
          <a:xfrm>
            <a:off x="4363920" y="1662120"/>
            <a:ext cx="57801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2"/>
          <p:cNvSpPr/>
          <p:nvPr/>
        </p:nvSpPr>
        <p:spPr>
          <a:xfrm>
            <a:off x="0" y="36036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用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女娲补天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木石前盟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两个神话故事作楔子</a:t>
            </a:r>
            <a:r>
              <a:rPr b="1" lang="en-US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为塑造贾宝玉的性格和描写贾宝玉和林黛玉的爱情故事，染上一层浪漫主义色彩。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女祸补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的故事中，作者特意描写了一块无材补天的顽石，这便是随贾宝玉一起降生又为贾宝玉随身佩戴的通灵宝玉。它对贾宝玉的叛逆性格有隐喻作用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木石前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讲这块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无材补天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的顽石与绛珠仙草的关系。顽石在投胎入世之前，曾变为神瑛侍者以甘露灌溉绛珠仙草，使其得以久延岁月，并幻化人形，修成女体，在顽石下世之时，为酬报灌溉之德，也要同去走一遭，把一生所有的眼泪还他。这便是林黛玉。因为这段缘分，林黛玉初见宝玉时才有好生奇怪，像在那里见过的感觉；贾宝玉也觉得这个妹妹曾见过的。至于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还泪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之说，正与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只怕他的病一生也不能好的了。若要好时，除非从此以后总不许见哭声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相照应。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Text Box 3"/>
          <p:cNvSpPr/>
          <p:nvPr/>
        </p:nvSpPr>
        <p:spPr>
          <a:xfrm>
            <a:off x="9169560" y="-100080"/>
            <a:ext cx="22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entury Gothic"/>
                <a:ea typeface="幼圆"/>
              </a:rPr>
              <a:t>第一回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Text Box 2"/>
          <p:cNvSpPr/>
          <p:nvPr/>
        </p:nvSpPr>
        <p:spPr>
          <a:xfrm>
            <a:off x="7632720" y="189000"/>
            <a:ext cx="42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entury Gothic"/>
                <a:ea typeface="幼圆"/>
              </a:rPr>
              <a:t>第二回　第三回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Text Box 3"/>
          <p:cNvSpPr/>
          <p:nvPr/>
        </p:nvSpPr>
        <p:spPr>
          <a:xfrm>
            <a:off x="719280" y="973080"/>
            <a:ext cx="10945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第二回是交代贾府人物。</a:t>
            </a:r>
            <a:r>
              <a:rPr b="1" lang="zh-CN" sz="36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通过冷子兴演说荣国府，简要地介绍了贾府中的人物关系，为读者阅读全书开列了一个简明</a:t>
            </a:r>
            <a:r>
              <a:rPr b="0" lang="zh-CN" sz="3600" spc="-1" strike="noStrike" u="sng">
                <a:solidFill>
                  <a:srgbClr val="f59e00"/>
                </a:solidFill>
                <a:uFillTx/>
                <a:latin typeface="仿宋_GB2312"/>
                <a:ea typeface="仿宋_GB2312"/>
                <a:hlinkClick r:id="rId1" action="ppaction://hlinksldjump"/>
              </a:rPr>
              <a:t>人物表</a:t>
            </a:r>
            <a:r>
              <a:rPr b="1" lang="zh-CN" sz="36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第三回是介绍小说的典型环境。</a:t>
            </a:r>
            <a:r>
              <a:rPr b="1" lang="zh-CN" sz="36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通过</a:t>
            </a:r>
            <a:r>
              <a:rPr b="1" lang="zh-CN" sz="36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林黛玉的耳闻目睹</a:t>
            </a:r>
            <a:r>
              <a:rPr b="1" lang="zh-CN" sz="36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对贾府做了第一次直接描写。</a:t>
            </a:r>
            <a:r>
              <a:rPr b="1" lang="zh-CN" sz="36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林黛玉进府的行踪</a:t>
            </a:r>
            <a:r>
              <a:rPr b="1" lang="zh-CN" sz="36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是这一回中介绍贾府人物、描写贾府环境的线索。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2"/>
          <p:cNvSpPr/>
          <p:nvPr/>
        </p:nvSpPr>
        <p:spPr>
          <a:xfrm>
            <a:off x="74404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entury Gothic"/>
                <a:ea typeface="幼圆"/>
              </a:rPr>
              <a:t>第四回　第五回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Text Box 3"/>
          <p:cNvSpPr/>
          <p:nvPr/>
        </p:nvSpPr>
        <p:spPr>
          <a:xfrm>
            <a:off x="0" y="652320"/>
            <a:ext cx="1219212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第四回展现小说更广阔的社会背景。</a:t>
            </a:r>
            <a:r>
              <a:rPr b="1" lang="zh-CN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通过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葫芦僧判断葫芦案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介绍了贾史王薛四大家族的关系，把贾府置于一个更广阔的社会背景之中来描写，使之更具有典型意义。同时由于薛蟠的案件自然带出薛宝钗进贾府的情节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第五回是全书的总钢。</a:t>
            </a:r>
            <a:r>
              <a:rPr b="1" lang="zh-CN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通过贾宝玉梦游太虚幻境，利用画册、判词及歌曲的形式，含蓄地将</a:t>
            </a:r>
            <a:r>
              <a:rPr b="1" lang="en-US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红楼梦</a:t>
            </a:r>
            <a:r>
              <a:rPr b="1" lang="en-US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众多人物的发展和结局交代</a:t>
            </a:r>
            <a:r>
              <a:rPr b="0" lang="zh-CN" sz="3200" spc="-1" strike="noStrike" u="sng">
                <a:solidFill>
                  <a:srgbClr val="f59e00"/>
                </a:solidFill>
                <a:uFillTx/>
                <a:latin typeface="仿宋_GB2312"/>
                <a:ea typeface="仿宋_GB2312"/>
                <a:hlinkClick r:id="rId1" action="ppaction://hlinksldjump"/>
              </a:rPr>
              <a:t>出来</a:t>
            </a:r>
            <a:r>
              <a:rPr b="1" lang="zh-CN" sz="32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  <a:ea typeface="幼圆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Century Gothic"/>
                <a:ea typeface="幼圆"/>
              </a:rPr>
              <a:t>至此，全书的主要人物、背景，发展脉络、人物传动基本上交代出来，小说的情节发展便在此基础上展开了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Text Box 2"/>
          <p:cNvSpPr/>
          <p:nvPr/>
        </p:nvSpPr>
        <p:spPr>
          <a:xfrm>
            <a:off x="1008000" y="692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贾演－贾代化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Text Box 3"/>
          <p:cNvSpPr/>
          <p:nvPr/>
        </p:nvSpPr>
        <p:spPr>
          <a:xfrm>
            <a:off x="4545000" y="490680"/>
            <a:ext cx="244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AutoShape 4"/>
          <p:cNvSpPr/>
          <p:nvPr/>
        </p:nvSpPr>
        <p:spPr>
          <a:xfrm>
            <a:off x="4367160" y="630360"/>
            <a:ext cx="192240" cy="637920"/>
          </a:xfrm>
          <a:custGeom>
            <a:avLst/>
            <a:gdLst>
              <a:gd name="textAreaLeft" fmla="*/ 122760 w 192240"/>
              <a:gd name="textAreaRight" fmla="*/ 192600 w 192240"/>
              <a:gd name="textAreaTop" fmla="*/ 21960 h 637920"/>
              <a:gd name="textAreaBottom" fmla="*/ 615960 h 63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8400"/>
                </a:lnTo>
                <a:cubicBezTo>
                  <a:pt x="10800" y="9600"/>
                  <a:pt x="5400" y="10800"/>
                  <a:pt x="0" y="10800"/>
                </a:cubicBezTo>
                <a:cubicBezTo>
                  <a:pt x="5400" y="10800"/>
                  <a:pt x="10800" y="12000"/>
                  <a:pt x="10800" y="1320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 Box 5"/>
          <p:cNvSpPr/>
          <p:nvPr/>
        </p:nvSpPr>
        <p:spPr>
          <a:xfrm>
            <a:off x="4559400" y="260280"/>
            <a:ext cx="20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贾　敷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4559400" y="8413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　敬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AutoShape 7"/>
          <p:cNvSpPr/>
          <p:nvPr/>
        </p:nvSpPr>
        <p:spPr>
          <a:xfrm>
            <a:off x="6661080" y="768240"/>
            <a:ext cx="203400" cy="762120"/>
          </a:xfrm>
          <a:custGeom>
            <a:avLst/>
            <a:gdLst>
              <a:gd name="textAreaLeft" fmla="*/ 129960 w 203400"/>
              <a:gd name="textAreaRight" fmla="*/ 203760 w 203400"/>
              <a:gd name="textAreaTop" fmla="*/ 26280 h 762120"/>
              <a:gd name="textAreaBottom" fmla="*/ 7358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8400"/>
                </a:lnTo>
                <a:cubicBezTo>
                  <a:pt x="10800" y="9600"/>
                  <a:pt x="5400" y="10800"/>
                  <a:pt x="0" y="10800"/>
                </a:cubicBezTo>
                <a:cubicBezTo>
                  <a:pt x="5400" y="10800"/>
                  <a:pt x="10800" y="12000"/>
                  <a:pt x="10800" y="1320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7056360" y="189000"/>
            <a:ext cx="21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　珍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Text Box 9"/>
          <p:cNvSpPr/>
          <p:nvPr/>
        </p:nvSpPr>
        <p:spPr>
          <a:xfrm>
            <a:off x="7097760" y="112068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惜春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Text Box 10"/>
          <p:cNvSpPr/>
          <p:nvPr/>
        </p:nvSpPr>
        <p:spPr>
          <a:xfrm>
            <a:off x="9475920" y="768240"/>
            <a:ext cx="21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6b727"/>
                </a:solidFill>
                <a:latin typeface="Times New Roman"/>
                <a:ea typeface="仿宋_GB2312"/>
              </a:rPr>
              <a:t>秦可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Text Box 11"/>
          <p:cNvSpPr/>
          <p:nvPr/>
        </p:nvSpPr>
        <p:spPr>
          <a:xfrm>
            <a:off x="912960" y="3213000"/>
            <a:ext cx="43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贾源－贾代善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6" name="Text Box 12"/>
          <p:cNvSpPr/>
          <p:nvPr/>
        </p:nvSpPr>
        <p:spPr>
          <a:xfrm>
            <a:off x="2351160" y="365616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2b2b2"/>
                </a:solidFill>
                <a:latin typeface="Times New Roman"/>
                <a:ea typeface="仿宋_GB2312"/>
              </a:rPr>
              <a:t>史太君贾　母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7" name="Text Box 13"/>
          <p:cNvSpPr/>
          <p:nvPr/>
        </p:nvSpPr>
        <p:spPr>
          <a:xfrm>
            <a:off x="4967280" y="2170080"/>
            <a:ext cx="650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8" name="Text Box 14"/>
          <p:cNvSpPr/>
          <p:nvPr/>
        </p:nvSpPr>
        <p:spPr>
          <a:xfrm>
            <a:off x="5094360" y="30081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9" name="AutoShape 15"/>
          <p:cNvSpPr/>
          <p:nvPr/>
        </p:nvSpPr>
        <p:spPr>
          <a:xfrm>
            <a:off x="4272120" y="2289240"/>
            <a:ext cx="384120" cy="3382920"/>
          </a:xfrm>
          <a:custGeom>
            <a:avLst/>
            <a:gdLst>
              <a:gd name="textAreaLeft" fmla="*/ 245520 w 384120"/>
              <a:gd name="textAreaRight" fmla="*/ 384480 w 384120"/>
              <a:gd name="textAreaTop" fmla="*/ 117360 h 3382920"/>
              <a:gd name="textAreaBottom" fmla="*/ 326556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5496"/>
                </a:lnTo>
                <a:cubicBezTo>
                  <a:pt x="10800" y="6696"/>
                  <a:pt x="5400" y="7896"/>
                  <a:pt x="0" y="7896"/>
                </a:cubicBezTo>
                <a:cubicBezTo>
                  <a:pt x="5400" y="7896"/>
                  <a:pt x="10800" y="9096"/>
                  <a:pt x="10800" y="10296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 Box 16"/>
          <p:cNvSpPr/>
          <p:nvPr/>
        </p:nvSpPr>
        <p:spPr>
          <a:xfrm>
            <a:off x="4464000" y="20178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　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1" name="Text Box 17"/>
          <p:cNvSpPr/>
          <p:nvPr/>
        </p:nvSpPr>
        <p:spPr>
          <a:xfrm>
            <a:off x="4605480" y="2475000"/>
            <a:ext cx="20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6b727"/>
                </a:solidFill>
                <a:latin typeface="Times New Roman"/>
                <a:ea typeface="仿宋_GB2312"/>
              </a:rPr>
              <a:t>邢夫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2" name="Text Box 18"/>
          <p:cNvSpPr/>
          <p:nvPr/>
        </p:nvSpPr>
        <p:spPr>
          <a:xfrm>
            <a:off x="7169040" y="2017800"/>
            <a:ext cx="345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3" name="AutoShape 19"/>
          <p:cNvSpPr/>
          <p:nvPr/>
        </p:nvSpPr>
        <p:spPr>
          <a:xfrm>
            <a:off x="6678720" y="2004840"/>
            <a:ext cx="185760" cy="1003320"/>
          </a:xfrm>
          <a:custGeom>
            <a:avLst/>
            <a:gdLst>
              <a:gd name="textAreaLeft" fmla="*/ 118800 w 185760"/>
              <a:gd name="textAreaRight" fmla="*/ 186120 w 185760"/>
              <a:gd name="textAreaTop" fmla="*/ 34560 h 1003320"/>
              <a:gd name="textAreaBottom" fmla="*/ 96876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8400"/>
                </a:lnTo>
                <a:cubicBezTo>
                  <a:pt x="10800" y="9600"/>
                  <a:pt x="5400" y="10800"/>
                  <a:pt x="0" y="10800"/>
                </a:cubicBezTo>
                <a:cubicBezTo>
                  <a:pt x="5400" y="10800"/>
                  <a:pt x="10800" y="12000"/>
                  <a:pt x="10800" y="1320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4" name="Text Box 20"/>
          <p:cNvSpPr/>
          <p:nvPr/>
        </p:nvSpPr>
        <p:spPr>
          <a:xfrm>
            <a:off x="7080120" y="178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　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5" name="Text Box 21"/>
          <p:cNvSpPr/>
          <p:nvPr/>
        </p:nvSpPr>
        <p:spPr>
          <a:xfrm>
            <a:off x="7056360" y="2170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6b727"/>
                </a:solidFill>
                <a:latin typeface="Times New Roman"/>
                <a:ea typeface="仿宋_GB2312"/>
              </a:rPr>
              <a:t>王熙凤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6" name="Text Box 22"/>
          <p:cNvSpPr/>
          <p:nvPr/>
        </p:nvSpPr>
        <p:spPr>
          <a:xfrm>
            <a:off x="8989920" y="1628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7" name="Text Box 23"/>
          <p:cNvSpPr/>
          <p:nvPr/>
        </p:nvSpPr>
        <p:spPr>
          <a:xfrm>
            <a:off x="9488520" y="201780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巧　姐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8" name="Text Box 24"/>
          <p:cNvSpPr/>
          <p:nvPr/>
        </p:nvSpPr>
        <p:spPr>
          <a:xfrm>
            <a:off x="7080120" y="2703600"/>
            <a:ext cx="21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迎春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9" name="Text Box 25"/>
          <p:cNvSpPr/>
          <p:nvPr/>
        </p:nvSpPr>
        <p:spPr>
          <a:xfrm>
            <a:off x="456552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　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0" name="Text Box 26"/>
          <p:cNvSpPr/>
          <p:nvPr/>
        </p:nvSpPr>
        <p:spPr>
          <a:xfrm>
            <a:off x="4605480" y="408924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6b727"/>
                </a:solidFill>
                <a:latin typeface="Times New Roman"/>
                <a:ea typeface="仿宋_GB2312"/>
              </a:rPr>
              <a:t>王夫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1" name="Text Box 27"/>
          <p:cNvSpPr/>
          <p:nvPr/>
        </p:nvSpPr>
        <p:spPr>
          <a:xfrm>
            <a:off x="7270920" y="353376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2" name="AutoShape 28"/>
          <p:cNvSpPr/>
          <p:nvPr/>
        </p:nvSpPr>
        <p:spPr>
          <a:xfrm>
            <a:off x="6678720" y="3457440"/>
            <a:ext cx="280800" cy="1711440"/>
          </a:xfrm>
          <a:custGeom>
            <a:avLst/>
            <a:gdLst>
              <a:gd name="textAreaLeft" fmla="*/ 179280 w 280800"/>
              <a:gd name="textAreaRight" fmla="*/ 281160 w 280800"/>
              <a:gd name="textAreaTop" fmla="*/ 59400 h 1711440"/>
              <a:gd name="textAreaBottom" fmla="*/ 1652040 h 171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4458"/>
                </a:lnTo>
                <a:cubicBezTo>
                  <a:pt x="10800" y="5658"/>
                  <a:pt x="5400" y="6858"/>
                  <a:pt x="0" y="6858"/>
                </a:cubicBezTo>
                <a:cubicBezTo>
                  <a:pt x="5400" y="6858"/>
                  <a:pt x="10800" y="8058"/>
                  <a:pt x="10800" y="9258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3" name="Text Box 29"/>
          <p:cNvSpPr/>
          <p:nvPr/>
        </p:nvSpPr>
        <p:spPr>
          <a:xfrm>
            <a:off x="7080120" y="330516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贾　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4" name="Text Box 30"/>
          <p:cNvSpPr/>
          <p:nvPr/>
        </p:nvSpPr>
        <p:spPr>
          <a:xfrm>
            <a:off x="7056360" y="371628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6b727"/>
                </a:solidFill>
                <a:latin typeface="Times New Roman"/>
                <a:ea typeface="仿宋_GB2312"/>
              </a:rPr>
              <a:t>李　纨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5" name="Text Box 31"/>
          <p:cNvSpPr/>
          <p:nvPr/>
        </p:nvSpPr>
        <p:spPr>
          <a:xfrm>
            <a:off x="8481960" y="322092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Text Box 32"/>
          <p:cNvSpPr/>
          <p:nvPr/>
        </p:nvSpPr>
        <p:spPr>
          <a:xfrm>
            <a:off x="9456840" y="3457440"/>
            <a:ext cx="20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　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7" name="Text Box 33"/>
          <p:cNvSpPr/>
          <p:nvPr/>
        </p:nvSpPr>
        <p:spPr>
          <a:xfrm>
            <a:off x="7056360" y="414324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元春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8" name="Text Box 34"/>
          <p:cNvSpPr/>
          <p:nvPr/>
        </p:nvSpPr>
        <p:spPr>
          <a:xfrm>
            <a:off x="7072200" y="452124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宝玉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9" name="Text Box 35"/>
          <p:cNvSpPr/>
          <p:nvPr/>
        </p:nvSpPr>
        <p:spPr>
          <a:xfrm>
            <a:off x="7072200" y="4941720"/>
            <a:ext cx="47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62c44"/>
                </a:solidFill>
                <a:latin typeface="Times New Roman"/>
                <a:ea typeface="幼圆"/>
              </a:rPr>
              <a:t>贾探春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仿宋_GB2312"/>
              </a:rPr>
              <a:t>（赵姨娘生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0" name="Text Box 36"/>
          <p:cNvSpPr/>
          <p:nvPr/>
        </p:nvSpPr>
        <p:spPr>
          <a:xfrm>
            <a:off x="4565520" y="5311800"/>
            <a:ext cx="22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　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1" name="Text Box 37"/>
          <p:cNvSpPr/>
          <p:nvPr/>
        </p:nvSpPr>
        <p:spPr>
          <a:xfrm>
            <a:off x="4605480" y="5743440"/>
            <a:ext cx="25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6b727"/>
                </a:solidFill>
                <a:latin typeface="Times New Roman"/>
                <a:ea typeface="仿宋_GB2312"/>
              </a:rPr>
              <a:t>林如海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2" name="Text Box 38"/>
          <p:cNvSpPr/>
          <p:nvPr/>
        </p:nvSpPr>
        <p:spPr>
          <a:xfrm>
            <a:off x="7062840" y="578160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Text Box 39"/>
          <p:cNvSpPr/>
          <p:nvPr/>
        </p:nvSpPr>
        <p:spPr>
          <a:xfrm>
            <a:off x="6970680" y="552924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林黛玉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Rectangle 40"/>
          <p:cNvSpPr/>
          <p:nvPr/>
        </p:nvSpPr>
        <p:spPr>
          <a:xfrm>
            <a:off x="239760" y="189000"/>
            <a:ext cx="960480" cy="1312920"/>
          </a:xfrm>
          <a:prstGeom prst="rect">
            <a:avLst/>
          </a:prstGeom>
          <a:solidFill>
            <a:srgbClr val="fe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62c44"/>
                </a:solidFill>
                <a:latin typeface="Times New Roman"/>
                <a:ea typeface="华文新魏"/>
              </a:rPr>
              <a:t>宁国公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5" name="Rectangle 41">
            <a:hlinkClick r:id="rId1" action="ppaction://hlinksldjump"/>
          </p:cNvPr>
          <p:cNvSpPr/>
          <p:nvPr/>
        </p:nvSpPr>
        <p:spPr>
          <a:xfrm>
            <a:off x="239760" y="2708280"/>
            <a:ext cx="865080" cy="1312920"/>
          </a:xfrm>
          <a:prstGeom prst="rect">
            <a:avLst/>
          </a:prstGeom>
          <a:solidFill>
            <a:srgbClr val="fe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62c44"/>
                </a:solidFill>
                <a:latin typeface="Times New Roman"/>
                <a:ea typeface="华文新魏"/>
              </a:rPr>
              <a:t>荣国公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6" name="Rectangle 42"/>
          <p:cNvSpPr/>
          <p:nvPr/>
        </p:nvSpPr>
        <p:spPr>
          <a:xfrm>
            <a:off x="9493200" y="33660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贾　蓉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Line 43"/>
          <p:cNvSpPr/>
          <p:nvPr/>
        </p:nvSpPr>
        <p:spPr>
          <a:xfrm>
            <a:off x="8989920" y="22874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Line 44"/>
          <p:cNvSpPr/>
          <p:nvPr/>
        </p:nvSpPr>
        <p:spPr>
          <a:xfrm>
            <a:off x="8883720" y="38005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Line 45"/>
          <p:cNvSpPr/>
          <p:nvPr/>
        </p:nvSpPr>
        <p:spPr>
          <a:xfrm>
            <a:off x="6478560" y="581652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Line 46"/>
          <p:cNvSpPr/>
          <p:nvPr/>
        </p:nvSpPr>
        <p:spPr>
          <a:xfrm>
            <a:off x="8977320" y="8413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1" name="Text Box 47"/>
          <p:cNvSpPr/>
          <p:nvPr/>
        </p:nvSpPr>
        <p:spPr>
          <a:xfrm>
            <a:off x="7056360" y="620640"/>
            <a:ext cx="211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6b727"/>
                </a:solidFill>
                <a:latin typeface="Century Gothic"/>
                <a:ea typeface="仿宋_GB2312"/>
              </a:rPr>
              <a:t>尤　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2" name="Rectangle 48"/>
          <p:cNvSpPr/>
          <p:nvPr/>
        </p:nvSpPr>
        <p:spPr>
          <a:xfrm>
            <a:off x="11279160" y="620640"/>
            <a:ext cx="912960" cy="703440"/>
          </a:xfrm>
          <a:prstGeom prst="rect">
            <a:avLst/>
          </a:prstGeom>
          <a:solidFill>
            <a:srgbClr val="fedee2"/>
          </a:solidFill>
          <a:ln w="28440">
            <a:solidFill>
              <a:srgbClr val="0aaa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隶书"/>
              </a:rPr>
              <a:t>贾府人物关系一览表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4142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2"/>
          <p:cNvSpPr/>
          <p:nvPr/>
        </p:nvSpPr>
        <p:spPr>
          <a:xfrm>
            <a:off x="239760" y="685800"/>
            <a:ext cx="115203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     </a:t>
            </a:r>
            <a:r>
              <a:rPr b="1" lang="en-US" sz="3200" spc="-1" strike="noStrike">
                <a:solidFill>
                  <a:srgbClr val="d60093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林黛玉进贾府</a:t>
            </a:r>
            <a:r>
              <a:rPr b="1" lang="en-US" sz="3200" spc="-1" strike="noStrike">
                <a:solidFill>
                  <a:srgbClr val="d60093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选自</a:t>
            </a:r>
            <a:r>
              <a:rPr b="1" lang="en-US" sz="3200" spc="-1" strike="noStrike">
                <a:solidFill>
                  <a:srgbClr val="d60093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红楼梦</a:t>
            </a:r>
            <a:r>
              <a:rPr b="1" lang="en-US" sz="3200" spc="-1" strike="noStrike">
                <a:solidFill>
                  <a:srgbClr val="d60093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的第三回，课文以林黛玉进贾府为中心事件，以她当天的</a:t>
            </a:r>
            <a:r>
              <a:rPr b="0" lang="zh-CN" sz="3200" spc="-1" strike="noStrike" u="sng">
                <a:solidFill>
                  <a:srgbClr val="f59e00"/>
                </a:solidFill>
                <a:uFillTx/>
                <a:latin typeface="隶书"/>
                <a:ea typeface="隶书"/>
                <a:hlinkClick r:id="rId1" action="ppaction://hlinksldjump"/>
              </a:rPr>
              <a:t>行踪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为线索，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一次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展现了全书的典型环境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贾府的概貌，</a:t>
            </a:r>
            <a:r>
              <a:rPr b="1" lang="zh-CN" sz="3200" spc="-1" strike="noStrike">
                <a:solidFill>
                  <a:srgbClr val="0000ff"/>
                </a:solidFill>
                <a:latin typeface="Century Gothic"/>
                <a:ea typeface="隶书"/>
              </a:rPr>
              <a:t>第一次</a:t>
            </a:r>
            <a:r>
              <a:rPr b="1" lang="zh-CN" sz="3200" spc="-1" strike="noStrike">
                <a:solidFill>
                  <a:srgbClr val="d60093"/>
                </a:solidFill>
                <a:latin typeface="Century Gothic"/>
                <a:ea typeface="隶书"/>
              </a:rPr>
              <a:t>介绍了贾府的一批主要人物，</a:t>
            </a:r>
            <a:r>
              <a:rPr b="1" lang="zh-CN" sz="3200" spc="-1" strike="noStrike">
                <a:solidFill>
                  <a:srgbClr val="0000ff"/>
                </a:solidFill>
                <a:latin typeface="Century Gothic"/>
                <a:ea typeface="隶书"/>
              </a:rPr>
              <a:t>第一次</a:t>
            </a:r>
            <a:r>
              <a:rPr b="1" lang="zh-CN" sz="3200" spc="-1" strike="noStrike">
                <a:solidFill>
                  <a:srgbClr val="d60093"/>
                </a:solidFill>
                <a:latin typeface="Century Gothic"/>
                <a:ea typeface="隶书"/>
              </a:rPr>
              <a:t>描写小说主人公宝黛初次相见时的似曾相识，心灵相通的微妙关系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623880" y="3860640"/>
            <a:ext cx="547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阅读与思考：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7" name="Text Box 4"/>
          <p:cNvSpPr/>
          <p:nvPr/>
        </p:nvSpPr>
        <p:spPr>
          <a:xfrm>
            <a:off x="0" y="4724280"/>
            <a:ext cx="1291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、概述</a:t>
            </a:r>
            <a:r>
              <a:rPr b="1" lang="zh-CN" sz="3600" spc="-1" strike="noStrike">
                <a:solidFill>
                  <a:srgbClr val="660033"/>
                </a:solidFill>
                <a:latin typeface="Century Gothic"/>
                <a:ea typeface="黑体"/>
              </a:rPr>
              <a:t>林黛玉的行踪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、按情节的发展划分结构层次，并概括大意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606760" y="2688840"/>
            <a:ext cx="891216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entury Gothic"/>
                <a:ea typeface="幼圆"/>
              </a:rPr>
              <a:t>一、美学价值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文本框 99"/>
          <p:cNvSpPr/>
          <p:nvPr/>
        </p:nvSpPr>
        <p:spPr>
          <a:xfrm>
            <a:off x="1504800" y="1855800"/>
            <a:ext cx="900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【阅读活动】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1.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简述“木石前盟”的由来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2.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《红楼梦》前几回中，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林黛玉进贾府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、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葫芦僧判断葫芦案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等都具有总纲性质，试就其一作出说明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3. 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认真阅读前五回，结合全书内容，以“我的红楼猜想”为主题，续写一篇在曹雪芹《红楼梦》八十回后人物关系结局的文章，以《高鹗那些错》为题写一篇小论文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文本框 99"/>
          <p:cNvSpPr/>
          <p:nvPr/>
        </p:nvSpPr>
        <p:spPr>
          <a:xfrm>
            <a:off x="1549440" y="1673280"/>
            <a:ext cx="94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      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小说最主要的三个人物是贾宝玉、林黛玉、薛宝钗。宝玉是个不想长大的少年，对成人的世俗世界有着本能的排斥；他心思细腻，善于感知人世间一切温情；他对所有年轻女性都心怀敬意，是自觉的女权主义者，潜意识中有着对个性解放和平等自由的追求。黛玉是“一个诗人气质的少女，一个少女气质的诗人”（蒋和森语），她多愁善感而又坚强不屈，孤标傲世而又温柔体贴，天真聪慧而又心直口快。宝钗容貌丰美，举止娴雅，世事洞明，人情练达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798560" y="587520"/>
            <a:ext cx="89107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4400" spc="-1" strike="noStrike">
                <a:solidFill>
                  <a:srgbClr val="262626"/>
                </a:solidFill>
                <a:latin typeface="隶书"/>
                <a:ea typeface="隶书"/>
              </a:rPr>
              <a:t>小说中的人物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1" name="内容占位符 2"/>
          <p:cNvSpPr/>
          <p:nvPr/>
        </p:nvSpPr>
        <p:spPr>
          <a:xfrm>
            <a:off x="1798560" y="2197080"/>
            <a:ext cx="97902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篇小说人物具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多样性、复杂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时要把握人物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言行及心理活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价人物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结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所处环境、社会背景、人生经历等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人物有自己的评判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有价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文本框 99"/>
          <p:cNvSpPr/>
          <p:nvPr/>
        </p:nvSpPr>
        <p:spPr>
          <a:xfrm>
            <a:off x="1405080" y="1432080"/>
            <a:ext cx="104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第 五回写贾宝玉在太虚幻境游历，读到“金陵十二钗”画册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      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其中正册有（必须熟记）：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林黛玉、薛宝钗、贾元春、贾迎春、贾探春、贾惜春、李纨、妙玉、史湘云、王熙凤、贾巧姐、秦可卿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      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副册书中只提到香菱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1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人，红学界认为另外还应有：薛宝琴、尤二姐、尤三姐、邢岫烟、李纹、李绮、娇杏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     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又副册只提到晴雯、袭人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人，红学界认为另外还应有：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平儿、鸳鸯、金莺儿、紫鹃、玉钏、金钏、司棋、麝月、小红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文本框 99"/>
          <p:cNvSpPr/>
          <p:nvPr/>
        </p:nvSpPr>
        <p:spPr>
          <a:xfrm>
            <a:off x="1488960" y="1536840"/>
            <a:ext cx="905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《红楼梦》写人物不再平面化，不再是好人好到底，坏人坏到底，作者总是如实下来，不做褒贬，每个人物形象都活生生地有血有肉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YaHei UI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《红楼梦》处处有妙趣，比如人物命名，曹雪芹就常利用谐音起一些有深意的名字。如贾家四姐妹，元春、迎春、探春、惜春，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元应探惜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谐音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原应叹息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；在贾府混饭吃的清客相公，则叫詹光、单聘仁、卜固修，就是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沾光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"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善骗人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"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不顾羞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的谐音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文本框 99"/>
          <p:cNvSpPr/>
          <p:nvPr/>
        </p:nvSpPr>
        <p:spPr>
          <a:xfrm>
            <a:off x="2060640" y="1998720"/>
            <a:ext cx="948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【阅读活动】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1.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仔细阅读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冷子兴演说荣国府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"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一章，结合对整部小说的了解，尝试画出比上面的图示更为详细的贾府人物关系图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2.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《红楼梦》中有些人物形象的姓名借助谐音特点表示了作者的某些暗示，试举例两例说明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3.“</a:t>
            </a: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金陵十二钗”正册包括哪些人？为什么？副册、又副册可能包括哪些人？你最喜欢哪一位？能解释一下她的判词吗？请完成下面的“金陵十二衩”身世表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文本框 99"/>
          <p:cNvSpPr/>
          <p:nvPr/>
        </p:nvSpPr>
        <p:spPr>
          <a:xfrm>
            <a:off x="2187720" y="900000"/>
            <a:ext cx="701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               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  <a:ea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entury Gothic"/>
                <a:ea typeface="幼圆"/>
              </a:rPr>
              <a:t>【典型环境】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小说故事主要发生在贾府（重点是荣国府）与大观园中，读者应对这两处的地理平面图略作了解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贾府（荣宁二府）与大观园</a:t>
            </a:r>
            <a:r>
              <a:rPr b="0" lang="zh-CN" sz="1800" spc="-1" strike="noStrike">
                <a:solidFill>
                  <a:srgbClr val="000000"/>
                </a:solidFill>
                <a:latin typeface="Century Gothic"/>
                <a:ea typeface="幼圆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47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文本框 99"/>
          <p:cNvSpPr/>
          <p:nvPr/>
        </p:nvSpPr>
        <p:spPr>
          <a:xfrm>
            <a:off x="1463760" y="1197000"/>
            <a:ext cx="989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【阅读活动】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1.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阅读第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回，在“荣国府平面图”中画出林黛玉的行动轨迹，分析她为什么要这样走这样的路线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2.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阅读第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17-18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回，在“大观园平面图”中画出宝玉、元春所走路线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3.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阅读第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39-41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回，在“大观园平面图”中画出刘姥姥所走路线，想一想，作者为什么要借刘姥姥的视角再次描写大观园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4.</a:t>
            </a:r>
            <a:r>
              <a:rPr b="0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写出大观园中宝玉、黛玉、宝钗、探春、妙玉居所的名字，在“大观园平面图”中找到相应位置，概括每个人的居住环境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64920" y="558360"/>
            <a:ext cx="514044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美与世俗生活的对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936720" y="1436760"/>
            <a:ext cx="105552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中国传统美学里，美既表现为“一种不可捉摸的飘逸，又表现为一种非常脆弱与敏感的特质”。在《红楼梦》中，所谓美，不仅仅是大观园中那些少女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美的外形</a:t>
            </a: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，更多的还包括他们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美的思想</a:t>
            </a: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美的心灵和美的才能</a:t>
            </a: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。如对林黛玉的那种轻灵超然，不染尘埃的艺术形象即代表了这种美的极致，而贾宝玉最倾慕林黛玉的正是这种极致的美。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然而在中国封建社会传统文化中，是从不关注人生的审美价值，从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关注人性的自然发展，而是执著于对功名利禄的追求，生命价值已经本末倒置</a:t>
            </a: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了。人性的纯真已然完全丧失。因此，美与世俗的生活显得那么格格不入，美在世俗生活中遭到了践踏，一切美好都已被世俗“零落成泥辗作尘”了。在《红楼梦》中，林黛玉的悲剧，贾宝玉爱情的毁灭，大观园中“女儿国”的最终消亡，都象征了美的终结。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文本框 99"/>
          <p:cNvSpPr/>
          <p:nvPr/>
        </p:nvSpPr>
        <p:spPr>
          <a:xfrm>
            <a:off x="3446640" y="1096920"/>
            <a:ext cx="51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ff4c41"/>
                </a:solidFill>
                <a:latin typeface="Century Gothic"/>
                <a:ea typeface="幼圆"/>
              </a:rPr>
              <a:t>【内容主题】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9" name="文本框 1"/>
          <p:cNvSpPr/>
          <p:nvPr/>
        </p:nvSpPr>
        <p:spPr>
          <a:xfrm>
            <a:off x="1982880" y="234468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entury Gothic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Century Gothic"/>
                <a:ea typeface="宋体"/>
              </a:rPr>
              <a:t>小说是更真实的历史，《红楼梦》真实展示了作者所处时代的生活场景，其中有礼仪、习俗、饮食穿着、生活起居等琐事细节，具有比史书还重要的研究价值。读《红楼梦》，如果忽视了细节，就无法品味到其中的妙趣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文本框 99"/>
          <p:cNvSpPr/>
          <p:nvPr/>
        </p:nvSpPr>
        <p:spPr>
          <a:xfrm>
            <a:off x="1558800" y="822240"/>
            <a:ext cx="899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entury Gothic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Century Gothic"/>
                <a:ea typeface="幼圆"/>
              </a:rPr>
              <a:t>鲁迅说：“自有《红楼梦》出来以后，传统的思想和写法都打破了。”《红楼梦》的艺术成就表现在网状结构方式、精妙人物描写、精美小说语言三个方面。她采用网状结构，使小说情节像生活本身那样丰富复杂而浑然天成；小说的每一个情节以至细节都不是孤立的，都是作为整体的有机部分而存在的，如惜春出场的第一句话“剃了头作姑子去”，遥遥照应着她最终“独卧青灯古佛旁”的归宿，可谓“伏线千里”。其语言既平淡朴素，又文采斐然，有含蓄蕴藉之美，在白话叙述中又插有诗词曲赋、对联灯谜等，可谓“文备众体”，而这些又是小说有机组成部分，各种文体水乳交融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文本框 99"/>
          <p:cNvSpPr/>
          <p:nvPr/>
        </p:nvSpPr>
        <p:spPr>
          <a:xfrm>
            <a:off x="2060640" y="18748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800" spc="-1" strike="noStrike">
                <a:solidFill>
                  <a:srgbClr val="000000"/>
                </a:solidFill>
                <a:latin typeface="幼圆"/>
                <a:ea typeface="幼圆"/>
              </a:rPr>
              <a:t>关于《红楼梦》的主题思想，</a:t>
            </a:r>
            <a:r>
              <a:rPr b="1" sz="2800" spc="-1" strike="noStrike">
                <a:solidFill>
                  <a:srgbClr val="000000"/>
                </a:solidFill>
                <a:latin typeface="幼圆"/>
                <a:ea typeface="幼圆"/>
              </a:rPr>
              <a:t>200</a:t>
            </a:r>
            <a:r>
              <a:rPr b="1" sz="2800" spc="-1" strike="noStrike">
                <a:solidFill>
                  <a:srgbClr val="000000"/>
                </a:solidFill>
                <a:latin typeface="幼圆"/>
                <a:ea typeface="幼圆"/>
              </a:rPr>
              <a:t>多年来也众说纷纭，有人认为她是封建制度的挽歌，有人认为她是对青春和爱情的歌颂，有人认为她是对女性的颂扬以及对女性悲惨命运的同情……正如鲁迅先生所说，一部《红楼梦》，“经学家看见《易》，道学家看见淫，才子看见缠绵，革命家看见排满，流言家看见宫闱秘事”。不知你又会看出什么？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文本框 99"/>
          <p:cNvSpPr/>
          <p:nvPr/>
        </p:nvSpPr>
        <p:spPr>
          <a:xfrm>
            <a:off x="1762200" y="1755720"/>
            <a:ext cx="962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【阅读活动】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《红楼梦》中，有许多通过梦境或幻觉来表现人物心理、塑造人物形象、暗示情节主题的场面描写，请以《红楼梦中“梦”》为题目，阅读全书，探究全书中究竟描写了多少梦境或幻觉？举几个例子，简要说明这些梦境或幻觉在在小说中的作用。</a:t>
            </a:r>
            <a:r>
              <a:rPr b="1" lang="en-US" sz="2800" spc="-1" strike="noStrike">
                <a:solidFill>
                  <a:srgbClr val="000000"/>
                </a:solidFill>
                <a:latin typeface="Microsoft YaHei UI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从以下两个辩题中任选一个，在班级组织一次辩论会：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在现代社会中，黛玉和宝钗谁更受欢迎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薛宝钗是温柔敦厚、豁达大度，还是工于心计、冷酷自私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幼圆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Microsoft YaHei UI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Box 1"/>
          <p:cNvSpPr/>
          <p:nvPr/>
        </p:nvSpPr>
        <p:spPr>
          <a:xfrm>
            <a:off x="2316240" y="1182600"/>
            <a:ext cx="7494480" cy="109944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华隶简体"/>
                <a:ea typeface="方正华隶简体"/>
              </a:rPr>
              <a:t>五、红楼之隐喻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4" name="TextBox 1"/>
          <p:cNvSpPr/>
          <p:nvPr/>
        </p:nvSpPr>
        <p:spPr>
          <a:xfrm>
            <a:off x="2575080" y="2943360"/>
            <a:ext cx="7235640" cy="155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一座迷宫，其隐喻体现在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姓名、诗词、建筑、服饰等诸多方面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628280" y="609480"/>
            <a:ext cx="7543800" cy="7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名称隐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28640" y="16840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荒山 、无稽崖、青埂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女娲所炼之石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50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茫茫大士、渺渺真人、空空道人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甄士隐（其真名为甄费）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贾雨村（其真名叫贾化）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十里街、仁清巷、葫芦庙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英莲、霍启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红一窟”茶， “万艳同杯”茶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贾敬、贾赦、贾政、贾宝玉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春、迎春、探春、惜春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lnSpc>
                <a:spcPct val="8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甄宝玉、秦钟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1477440" y="340920"/>
            <a:ext cx="1038708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仁清巷——人情巷 　　十里街——势利街 　　贾政、贾敬——假正经 　　潇湘馆——消香馆 　　梨香院——离乡怨 　　蘅芜院——恨无缘 　　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怡红院——遗红怨 　　群芳髓——群芳碎 　　千红一窟——千红一哭 　　万艳同杯——万艳同悲 　　王熙凤：站在冰山山上孤零零的雌凤。 　　（一说“亡西风”或“枉为犀利的女子”）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香菱原名甄英莲“真应怜”甄士隐为：将真事隐去贾雨村“假语村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贾元春，贾迎春，贾探春，贾惜春“原应叹息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贾宝玉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--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假宝玉，甄宝玉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--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真宝玉，薛宝钗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--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宝钗雪里埋，又作插在发髻中的钗，隐指第三者，插在宝玉与黛玉之间的人；甄士隐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--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将真实隐去；贾雨村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--</a:t>
            </a: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加于村人只口述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元春探春惜春惜春隐喻是“原应叹息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甄英莲隐喻“真应怜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李纨隐喻“理纨”李白有诗：闺人理纨素，正是李纨年轻寡居的写照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秦可卿谐音“情可轻”    贾琏谐音“价廉”    贾珍为：假真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entury Gothic"/>
                <a:ea typeface="幼圆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 txBox="1"/>
          <p:nvPr/>
        </p:nvSpPr>
        <p:spPr>
          <a:xfrm>
            <a:off x="5065200" y="1750680"/>
            <a:ext cx="5905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楷体"/>
                <a:ea typeface="楷体"/>
              </a:rPr>
              <a:t>金陵十二钗命运判词</a:t>
            </a:r>
            <a:r>
              <a:rPr b="1" lang="en-US" sz="2400" spc="-1" strike="noStrike">
                <a:solidFill>
                  <a:srgbClr val="40404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404040"/>
                </a:solidFill>
                <a:latin typeface="楷体"/>
                <a:ea typeface="楷体"/>
              </a:rPr>
              <a:t>第</a:t>
            </a:r>
            <a:r>
              <a:rPr b="1" lang="en-US" sz="2400" spc="-1" strike="noStrike">
                <a:solidFill>
                  <a:srgbClr val="404040"/>
                </a:solidFill>
                <a:latin typeface="楷体"/>
                <a:ea typeface="楷体"/>
              </a:rPr>
              <a:t>5</a:t>
            </a:r>
            <a:r>
              <a:rPr b="1" lang="zh-CN" sz="2400" spc="-1" strike="noStrike">
                <a:solidFill>
                  <a:srgbClr val="404040"/>
                </a:solidFill>
                <a:latin typeface="楷体"/>
                <a:ea typeface="楷体"/>
              </a:rPr>
              <a:t>回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 algn="ctr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楷体"/>
                <a:ea typeface="楷体"/>
              </a:rPr>
              <a:t>黛玉、宝钗、湘云、元春、迎春、探春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 algn="ctr">
              <a:lnSpc>
                <a:spcPct val="15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楷体"/>
                <a:ea typeface="楷体"/>
              </a:rPr>
              <a:t>惜春、凤姐、妙玉、巧姐、李纨、秦氏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楷体"/>
                <a:ea typeface="楷体"/>
              </a:rPr>
              <a:t>【</a:t>
            </a:r>
            <a:r>
              <a:rPr b="1" lang="zh-CN" sz="2400" spc="-1" strike="noStrike">
                <a:solidFill>
                  <a:srgbClr val="404040"/>
                </a:solidFill>
                <a:latin typeface="楷体"/>
                <a:ea typeface="楷体"/>
              </a:rPr>
              <a:t>黛钗</a:t>
            </a:r>
            <a:r>
              <a:rPr b="1" lang="en-US" sz="2400" spc="-1" strike="noStrike">
                <a:solidFill>
                  <a:srgbClr val="404040"/>
                </a:solidFill>
                <a:latin typeface="楷体"/>
                <a:ea typeface="楷体"/>
              </a:rPr>
              <a:t>】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楷体"/>
                <a:ea typeface="楷体"/>
              </a:rPr>
              <a:t>可叹停机德，堪怜咏絮才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楷体"/>
                <a:ea typeface="楷体"/>
              </a:rPr>
              <a:t>玉带林中挂，金簪雪里埋。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725480" y="614520"/>
            <a:ext cx="7543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诗词隐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0" name="Picture 5" descr="2689774877464277906"/>
          <p:cNvPicPr/>
          <p:nvPr/>
        </p:nvPicPr>
        <p:blipFill>
          <a:blip r:embed="rId1"/>
          <a:stretch/>
        </p:blipFill>
        <p:spPr>
          <a:xfrm>
            <a:off x="2257560" y="1751040"/>
            <a:ext cx="2808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标题 1"/>
          <p:cNvSpPr/>
          <p:nvPr/>
        </p:nvSpPr>
        <p:spPr>
          <a:xfrm>
            <a:off x="1638360" y="684360"/>
            <a:ext cx="99043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辅助做法</a:t>
            </a:r>
            <a:r>
              <a:rPr b="0" lang="en-US" sz="4400" spc="-1" strike="noStrike">
                <a:solidFill>
                  <a:srgbClr val="262626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：印发</a:t>
            </a:r>
            <a:r>
              <a:rPr b="0" lang="en-US" sz="4400" spc="-1" strike="noStrike">
                <a:solidFill>
                  <a:srgbClr val="262626"/>
                </a:solidFill>
                <a:latin typeface="隶书"/>
                <a:ea typeface="隶书"/>
              </a:rPr>
              <a:t>《</a:t>
            </a: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红楼梦</a:t>
            </a:r>
            <a:r>
              <a:rPr b="0" lang="en-US" sz="4400" spc="-1" strike="noStrike">
                <a:solidFill>
                  <a:srgbClr val="262626"/>
                </a:solidFill>
                <a:latin typeface="隶书"/>
                <a:ea typeface="隶书"/>
              </a:rPr>
              <a:t>》</a:t>
            </a: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研究文章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2" name="文本框 1"/>
          <p:cNvSpPr/>
          <p:nvPr/>
        </p:nvSpPr>
        <p:spPr>
          <a:xfrm>
            <a:off x="2359080" y="2138400"/>
            <a:ext cx="93470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天一篇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参考阅读进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进行阅读提示或点评交流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介绍论文写作的基本格式和要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标题 1"/>
          <p:cNvSpPr/>
          <p:nvPr/>
        </p:nvSpPr>
        <p:spPr>
          <a:xfrm>
            <a:off x="1739880" y="584280"/>
            <a:ext cx="99061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辅助做法</a:t>
            </a:r>
            <a:r>
              <a:rPr b="0" lang="en-US" sz="4400" spc="-1" strike="noStrike">
                <a:solidFill>
                  <a:srgbClr val="262626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：看</a:t>
            </a:r>
            <a:r>
              <a:rPr b="0" lang="en-US" sz="4400" spc="-1" strike="noStrike">
                <a:solidFill>
                  <a:srgbClr val="262626"/>
                </a:solidFill>
                <a:latin typeface="隶书"/>
                <a:ea typeface="隶书"/>
              </a:rPr>
              <a:t>87</a:t>
            </a: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版</a:t>
            </a:r>
            <a:r>
              <a:rPr b="0" lang="en-US" sz="4400" spc="-1" strike="noStrike">
                <a:solidFill>
                  <a:srgbClr val="262626"/>
                </a:solidFill>
                <a:latin typeface="隶书"/>
                <a:ea typeface="隶书"/>
              </a:rPr>
              <a:t>《</a:t>
            </a: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红</a:t>
            </a:r>
            <a:r>
              <a:rPr b="0" lang="en-US" sz="4400" spc="-1" strike="noStrike">
                <a:solidFill>
                  <a:srgbClr val="262626"/>
                </a:solidFill>
                <a:latin typeface="隶书"/>
                <a:ea typeface="隶书"/>
              </a:rPr>
              <a:t>》</a:t>
            </a: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剧集片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4" name="文本框 1"/>
          <p:cNvSpPr/>
          <p:nvPr/>
        </p:nvSpPr>
        <p:spPr>
          <a:xfrm>
            <a:off x="2320920" y="2082960"/>
            <a:ext cx="9325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参考阅读进度节选重点片段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林黛玉进贾府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探宝钗黛玉半含酸、意绵绵日暖玉生香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黛玉葬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黛玉病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507680" y="726840"/>
            <a:ext cx="48834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0000"/>
                </a:solidFill>
                <a:latin typeface="Century Gothic"/>
                <a:ea typeface="幼圆"/>
              </a:rPr>
              <a:t>２．美与美的毁灭</a:t>
            </a: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816120" y="1429920"/>
            <a:ext cx="10688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700" spc="-1" strike="noStrike">
                <a:solidFill>
                  <a:srgbClr val="404040"/>
                </a:solidFill>
                <a:latin typeface="Century Gothic"/>
                <a:ea typeface="幼圆"/>
              </a:rPr>
              <a:t>      </a:t>
            </a:r>
            <a:r>
              <a:rPr b="1" sz="27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大观园中的众多女子都春残花落，香消玉殒，“</a:t>
            </a:r>
            <a:r>
              <a:rPr b="1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千红一哭，万艳同悲</a:t>
            </a:r>
            <a:r>
              <a:rPr b="1" sz="27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”，这是“美和美的毁灭”，是一种悲剧的美。在这种毁灭中，那充满无限风光的“女儿国”，那多姿多彩，优美动人的女孩们美好的形象得到永生。这也正说明在那个焚琴煮鹤的毁灭一切美好东西的社会里，任何善良的人，真诚的人，都没有好的命运。在中国封建专制主义长期统治下，人的一切正常要求，美好情感，都和礼教制度，文化禁锢政策相互水火不容。从这个意义上说，《红楼梦》里所描写的</a:t>
            </a:r>
            <a:r>
              <a:rPr b="1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观园女儿国的美和美的毁灭的悲剧</a:t>
            </a:r>
            <a:r>
              <a:rPr b="1" sz="27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正是客观上对中国封建社会作了最深刻的揭露和最有力的抗争，这或许也是《红楼梦》的最广泛的社会意义和最永恒的美学价值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文本框 1"/>
          <p:cNvSpPr/>
          <p:nvPr/>
        </p:nvSpPr>
        <p:spPr>
          <a:xfrm>
            <a:off x="2863800" y="2089080"/>
            <a:ext cx="396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金陵十二钗判词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楼服饰文化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楼饮食文化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阅读笔记及论文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6" name="标题 1"/>
          <p:cNvSpPr/>
          <p:nvPr/>
        </p:nvSpPr>
        <p:spPr>
          <a:xfrm>
            <a:off x="1630440" y="498600"/>
            <a:ext cx="10206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辅助做法</a:t>
            </a:r>
            <a:r>
              <a:rPr b="1" lang="en-US" sz="3600" spc="-1" strike="noStrike">
                <a:solidFill>
                  <a:srgbClr val="262626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：借助文学社公众号激趣、拓展、分享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标题 1"/>
          <p:cNvSpPr/>
          <p:nvPr/>
        </p:nvSpPr>
        <p:spPr>
          <a:xfrm>
            <a:off x="1685880" y="446040"/>
            <a:ext cx="10206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辅助做法</a:t>
            </a:r>
            <a:r>
              <a:rPr b="1" lang="en-US" sz="3600" spc="-1" strike="noStrike">
                <a:solidFill>
                  <a:srgbClr val="262626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：每周随笔记录阅读心得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8" name="图片 4" descr=""/>
          <p:cNvPicPr/>
          <p:nvPr/>
        </p:nvPicPr>
        <p:blipFill>
          <a:blip r:embed="rId1"/>
          <a:srcRect l="0" t="9413" r="478" b="9437"/>
          <a:stretch/>
        </p:blipFill>
        <p:spPr>
          <a:xfrm>
            <a:off x="2436840" y="1490760"/>
            <a:ext cx="7305480" cy="51465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TextBox 1"/>
          <p:cNvSpPr/>
          <p:nvPr/>
        </p:nvSpPr>
        <p:spPr>
          <a:xfrm>
            <a:off x="1841400" y="617400"/>
            <a:ext cx="9088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阅读成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完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楼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研究论文一篇，字数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500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以上，主题自定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查阅资料，参考借鉴，形成观点。引用别人的话要注明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上交时间：开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Box 1"/>
          <p:cNvSpPr/>
          <p:nvPr/>
        </p:nvSpPr>
        <p:spPr>
          <a:xfrm>
            <a:off x="1879560" y="782640"/>
            <a:ext cx="9699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如何选题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眼中的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黛玉、宝钗之比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说贾宝玉的叛逆 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浅谈黛玉诗词的象征性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葬花辞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赏析   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浅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红楼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的人物描写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喜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王熙凤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几个理由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8.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情节安排的妙处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红楼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的饮食文化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标题 1"/>
          <p:cNvSpPr/>
          <p:nvPr/>
        </p:nvSpPr>
        <p:spPr>
          <a:xfrm>
            <a:off x="1739880" y="488880"/>
            <a:ext cx="10206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辅助做法</a:t>
            </a:r>
            <a:r>
              <a:rPr b="1" lang="en-US" sz="3600" spc="-1" strike="noStrike">
                <a:solidFill>
                  <a:srgbClr val="262626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：以王熙凤人物形象分析为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2" name="Rectangle 3"/>
          <p:cNvSpPr/>
          <p:nvPr/>
        </p:nvSpPr>
        <p:spPr>
          <a:xfrm>
            <a:off x="2894040" y="1792440"/>
            <a:ext cx="20145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点解读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外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才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品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结局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3" name="图片 7" descr=""/>
          <p:cNvPicPr/>
          <p:nvPr/>
        </p:nvPicPr>
        <p:blipFill>
          <a:blip r:embed="rId1"/>
          <a:srcRect l="0" t="0" r="2321" b="2751"/>
          <a:stretch/>
        </p:blipFill>
        <p:spPr>
          <a:xfrm>
            <a:off x="6743880" y="1792440"/>
            <a:ext cx="3360600" cy="4464000"/>
          </a:xfrm>
          <a:prstGeom prst="rect">
            <a:avLst/>
          </a:prstGeom>
          <a:ln w="9360">
            <a:solidFill>
              <a:srgbClr val="62626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标题 1"/>
          <p:cNvSpPr/>
          <p:nvPr/>
        </p:nvSpPr>
        <p:spPr>
          <a:xfrm>
            <a:off x="1712880" y="549360"/>
            <a:ext cx="99061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隶书"/>
                <a:ea typeface="隶书"/>
              </a:rPr>
              <a:t>优秀论文题目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5" name="文本框 1"/>
          <p:cNvSpPr/>
          <p:nvPr/>
        </p:nvSpPr>
        <p:spPr>
          <a:xfrm>
            <a:off x="1712880" y="1562040"/>
            <a:ext cx="9906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生存应学薛宝钗，生活当如林黛玉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主流的文艺女青年——我眼中的林黛玉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浅谈薛宝钗的“中庸之道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浅谈《红楼梦》中的梦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眼中林黛玉的“不完美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刘姥姥的说话艺术看红楼梦语言的性格化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葫芦僧错判葫芦案看清代法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诗词的隐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262626"/>
              </a:solidFill>
              <a:latin typeface="Century Gothic"/>
              <a:ea typeface="幼圆"/>
            </a:endParaRPr>
          </a:p>
        </p:txBody>
      </p:sp>
      <p:pic>
        <p:nvPicPr>
          <p:cNvPr id="1185" name="Picture 2" descr=""/>
          <p:cNvPicPr/>
          <p:nvPr/>
        </p:nvPicPr>
        <p:blipFill>
          <a:blip r:embed="rId1"/>
          <a:stretch/>
        </p:blipFill>
        <p:spPr>
          <a:xfrm>
            <a:off x="2581200" y="887400"/>
            <a:ext cx="68612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52320" y="623880"/>
            <a:ext cx="45450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entury Gothic"/>
                <a:ea typeface="宋体"/>
              </a:rPr>
              <a:t>3.</a:t>
            </a:r>
            <a:r>
              <a:rPr b="0" lang="zh-CN" sz="2900" spc="-1" strike="noStrike">
                <a:solidFill>
                  <a:srgbClr val="ff0000"/>
                </a:solidFill>
                <a:latin typeface="Century Gothic"/>
                <a:ea typeface="幼圆"/>
              </a:rPr>
              <a:t>悲剧与历史的统一</a:t>
            </a: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314360" y="1401840"/>
            <a:ext cx="1019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ts val="3175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1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鲁迅说：“悲剧是把人生最有价值的东西毁灭给人看。”</a:t>
            </a:r>
            <a:r>
              <a:rPr b="1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人的灾难和不平，往往很难被另外的人所感受，理解。但是悲剧艺术将最有价值的东西的毁灭呈现在人的面前，让人看到了美好的，有价值的东西的毁灭，从而唤起同情，引起思想的共鸣，产生一种悲剧的美。这是一种历史的必然，是社会生活中各种因素（包括美与丑）作用的结果。而这种美学的悲剧，更多的强调最终抵抗的无效。《红楼梦》是一部大悲剧，每一个悲剧主体都处在特定的现实社会中，每一个悲剧都是由其主体的价值选择和现实关系得复杂关系造成的，是一种悲剧命运与历史必然相统一的美学意义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entury Gothic"/>
                <a:ea typeface="幼圆"/>
              </a:rPr>
              <a:t>二、名家谈红楼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816200" y="623520"/>
            <a:ext cx="968832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0000"/>
                </a:solidFill>
                <a:latin typeface="Century Gothic"/>
                <a:ea typeface="幼圆"/>
              </a:rPr>
              <a:t>蒋勋：《</a:t>
            </a:r>
            <a:r>
              <a:rPr b="0" lang="zh-CN" sz="29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红楼梦》佛经，处处是慈悲，处处是觉悟</a:t>
            </a:r>
            <a:r>
              <a:rPr b="0" lang="zh-CN" sz="29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。</a:t>
            </a: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168560" y="2133360"/>
            <a:ext cx="46195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18ab3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本书，可以让你不断看到“自己”，这本书才是一本可以阅读一生的书。《红楼梦》多读几次，回到现实人生，看到身边的亲人朋友，原来也都在《红楼梦》中，每个人背负着自己的宿命，走向自己的命运。或许，我们会有一种真正的同情，也不再随便说：喜欢什么人，或不喜欢什么人。这几年，细读《红楼梦》，有一种领悟，觉得《红楼梦》其实是一本“佛经”。我是把《红楼梦》当“佛经”来读的，因为处处都是慈悲，也处处都是觉悟。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1" name="图片 5" descr=""/>
          <p:cNvPicPr/>
          <p:nvPr/>
        </p:nvPicPr>
        <p:blipFill>
          <a:blip r:embed="rId1"/>
          <a:stretch/>
        </p:blipFill>
        <p:spPr>
          <a:xfrm>
            <a:off x="6110280" y="23590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1T04:32:00Z</dcterms:created>
  <dc:creator/>
  <dc:description/>
  <dc:language>en-US</dc:language>
  <cp:lastModifiedBy>Windows 用户</cp:lastModifiedBy>
  <dcterms:modified xsi:type="dcterms:W3CDTF">2020-04-16T00:21:49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