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725-9314-42B1-8B6A-9B55F95A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A68-6922-45B2-99B5-5B5EA7C7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ACA7E-CE2C-499A-8869-FE19E7A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419B2-647F-4042-9BC1-1C2C005D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32BC5-811B-4513-9F1F-426B092A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7D8E5-64C8-44BE-B071-197E8E8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9685D-6ABD-4D91-8088-008022D3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D2DF3-66BC-48DC-AE8F-C414DE4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8CD12-4E37-49FD-B1E1-DE73C2D6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D541C-093F-43A9-9E86-5357D219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E82C5-7363-4997-A173-41B5C17D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41FA4-8AA6-4088-9483-7E8C78F8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A2E-837C-495F-8289-269AA493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A4FDA-ECBE-4B26-9616-924E93EC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3B6FF-4A54-45B0-B292-CE7C3123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16203-57D4-4735-AE52-2001D65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792CA-8DA1-4052-B603-9B0D8C31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D8F8D-01CD-4DFB-BB60-3EE295D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991F3-0550-4861-96E9-3FE5DDDC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ADB82-1731-45B1-91C4-E2EF8DC0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5F546-0F30-4969-A4C0-F0CC4DAB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7FA2D-2B9B-4ACB-BC05-0EE55357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42C10-4B92-428B-883F-4FFDE15D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56D-0B62-4FCD-9078-2F2C9E99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FF00F-C128-4570-B033-BC81E23E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CDA31-5614-4710-9978-282FD6BF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D813B-D03F-44F6-82C5-970AB009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3E952-B1AF-4A3E-908E-9D11D467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94028-3373-43B2-9C48-C7DDCD5A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9961B-0380-4A0F-B0BA-FC22FC46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2CC5F-8B28-47EB-A180-4F676953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C5DDA-7AC1-4AB1-8DD9-851E17E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A63F1-2E2A-43C9-958A-AD62208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EEFA0-83E5-40F5-927F-A75B36F5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C0B-0934-4A4F-862B-5A59C9DC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58A22-191C-499C-B36E-6ED0F46C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79A43-5E34-478E-95B3-86B5B853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FEF00-30E4-41B6-9DFF-1E546AB7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425F5-95D2-4BD6-8A66-C156331D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1BEB6-8DE9-4E9D-AD07-357AFE37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8C562-8D79-4B3F-A1F3-DA199242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38EE1-D82B-4D6D-A5F7-B78119BF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69BB6-42FB-4960-8051-2E910539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9616F-86B4-4E20-92DB-42FE64E9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5264C-0027-45BE-9B5E-8C66E422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C391-DCF9-47AD-8326-6DB00C8F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82277-A418-4FA5-A526-F2BD4C35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1DE9B-157B-4878-9B8A-E9CA3313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29F71-7D00-4C96-B539-A37718CF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C3009-E241-41B8-BE21-9FC2FDF0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3D98C-36BA-4FF1-9ABF-486A9351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374D-1F77-479A-A316-C5805E88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EA1F-B0D0-42BB-8A1B-FF76D150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28AE-2522-484C-B011-B7218771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0AF3-19DD-4E93-B281-23C7232E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B635-E479-420E-8FA6-75D8FA89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A5A-BAFD-459B-A2B9-AF3F658D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6128-865B-436D-9270-810C4F75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4214-1405-4285-9F35-696E411B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B82-B673-4B03-9A19-1932FB0A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BE2-20AE-4DF6-9036-3FEC735B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FD5E-8242-4181-85C8-4B8595A7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6ACB-23A9-4AA4-9557-FC2170F0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3958-31BE-46AC-ADD9-383A208A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719A-21B8-4B7B-885E-17C86540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6EBA-62F3-42EF-B2F1-78ED64F8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8ADF-E82C-433E-BB93-66EB0F8C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4DA-E6EF-4507-997D-00B3C30E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B65E-02B5-4B11-A2D4-9E9DC58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AC32-915D-42F7-ABC1-033D7D1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6FC7-CD3C-4697-91F5-16377163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C81B-623B-403D-8F61-3BF721F7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30AA-E5FB-43CB-863E-0B350814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14CFF-C073-4649-85CD-BCE1E107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B3EA-9DE4-4312-959F-F7A98079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B597-2282-40F5-8ACD-A9D8D159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AD8D-987F-4FED-8786-ED89DDCF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DA97-4E65-499F-BC7A-CF3014C9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554-414C-4125-969E-B6699DD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5F56-837D-47E1-9765-07ECE15E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0AAE-8FD4-4CC2-9BFA-E5D4195B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49F51-E8E6-4A1A-B6CD-AEBD4A36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FA32-E556-4026-AAB0-820F095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E04F-3D61-41C1-B636-6051EFF9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F2756-239C-42BE-BD23-863D117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DBD9-363B-496D-A21D-17612726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4B7C3-2F84-4DED-8FB0-A2F2ECEF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B5D5D-495A-4C47-BF7D-599DB482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2C97F-4FB8-456E-B2F1-0E66DE40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72A-E119-4430-A883-CBB9870A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09C16-287B-4AFA-BE9B-8C9435C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6F635-8606-49AA-B8EB-5ADF0F8F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CDCDC-A6EC-4B70-8045-7ACAA7CC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F7FF7-69EA-40E0-9E2F-00715BE5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CF384-8BEB-440F-95F3-B616EBBD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6EDD6-7E33-4BA0-9E2B-66EC6829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86251-6A2A-4234-A4E1-C6D30F3B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3C981-5908-4A83-A8BE-2D8C36AD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A6176-FDA6-447A-8246-80A7A1FA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A389-25B6-42C8-B2DD-3941744E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BA0-3A38-4B09-898C-41897E6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ED0C-0EAB-4E19-9331-A6E41625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745F-A47F-47A4-B7A3-80ECF12E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F3C0-5F8D-4E5C-9A5C-024D3D12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1597-CC65-4157-BB5F-B4198343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A8A4F-603E-4C9B-B5DD-FD49FE73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18C4-D5EC-4869-BC99-7856C979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80C5-229A-4225-A39C-8821C3A5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48840-5EC9-42A9-AF17-3C31FC2C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7F0D-A57F-45B1-A045-711AC1A3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6F5CB-8A47-4CA6-8A56-BB3ED936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6A2-02A5-4764-A87D-4182EC6A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AAD0F-F9D3-4794-9108-0607C4C3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2110-0976-4503-A043-1EB324E7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492C4-1D05-4E19-9BE3-0D4652D2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80A9F-5F13-4DBA-B4C0-908FFF1B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3BC98-F116-47A5-B5AD-EB1BF311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5475-178A-4B04-AA5A-9A2DEB04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D2291-FEDD-408D-9321-C935DB4E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FAC87-25B6-43ED-8C59-5512DD0E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F4553-7922-46CC-9BB2-4B89ACDC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F5D08-0C9A-44C5-BC54-2036F349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CC4-584B-48EE-99A5-13CAFF2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3EF92-5CB7-412A-AD8B-2EBFDA6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7B2B7-6422-4A5B-A8A3-56A2716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A4F34-E218-4875-AF1A-0E86D7FC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E27FA-5773-4F4D-8ADA-7C86A258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B1058-BD61-4F74-8923-1762EA18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9B99D-9F0F-45DF-81F4-9C0DB627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88B93-C911-4440-ABC8-DB6464ED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5C77E-4328-4677-8831-2695ECD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E5577-63AF-4DDE-AA3A-EAD81217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5963D-72FD-4C9F-BE67-F729C053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2F3-6461-4D2B-B06F-67F5D34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EE3A1-9F4F-4ABD-BF09-11A0A459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6FB84-E252-4EED-9339-25760A0B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4D08-6E73-44D1-B661-3634BEC3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26CDA-2813-4095-B4B8-3664669C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A3288-FD64-4EAC-95F1-7DA594A3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75DBE-C09E-44B7-A0F3-3131C96F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17AFF-30D7-4EDA-89F9-00B6663F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F8A45-DA8B-4838-B036-997CF33D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3AFB8-8279-4849-A31D-AE64B491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A6AD3-CE54-4350-957F-5D30C591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pic>
        <p:nvPicPr>
          <p:cNvPr id="1" name="矩形 9" descr=""/>
          <p:cNvPicPr/>
          <p:nvPr/>
        </p:nvPicPr>
        <p:blipFill>
          <a:blip r:embed="rId3"/>
          <a:stretch/>
        </p:blipFill>
        <p:spPr>
          <a:xfrm>
            <a:off x="0" y="-208080"/>
            <a:ext cx="9144000" cy="487440"/>
          </a:xfrm>
          <a:prstGeom prst="rect">
            <a:avLst/>
          </a:prstGeom>
          <a:ln w="0">
            <a:noFill/>
          </a:ln>
        </p:spPr>
      </p:pic>
      <p:pic>
        <p:nvPicPr>
          <p:cNvPr id="2" name="矩形 10" descr=""/>
          <p:cNvPicPr/>
          <p:nvPr/>
        </p:nvPicPr>
        <p:blipFill>
          <a:blip r:embed="rId4"/>
          <a:stretch/>
        </p:blipFill>
        <p:spPr>
          <a:xfrm>
            <a:off x="0" y="-166680"/>
            <a:ext cx="4572000" cy="487440"/>
          </a:xfrm>
          <a:prstGeom prst="rect">
            <a:avLst/>
          </a:prstGeom>
          <a:ln w="0">
            <a:noFill/>
          </a:ln>
        </p:spPr>
      </p:pic>
      <p:pic>
        <p:nvPicPr>
          <p:cNvPr id="3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7E7E-DA63-4C23-A10F-8A7BD3CFB96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3"/>
          <p:cNvGrpSpPr/>
          <p:nvPr/>
        </p:nvGrpSpPr>
        <p:grpSpPr>
          <a:xfrm>
            <a:off x="6781680" y="0"/>
            <a:ext cx="2362320" cy="971640"/>
            <a:chOff x="6781680" y="0"/>
            <a:chExt cx="2362320" cy="971640"/>
          </a:xfrm>
        </p:grpSpPr>
        <p:pic>
          <p:nvPicPr>
            <p:cNvPr id="10" name="Picture 22" descr=""/>
            <p:cNvPicPr/>
            <p:nvPr/>
          </p:nvPicPr>
          <p:blipFill>
            <a:blip r:embed="rId6"/>
            <a:stretch/>
          </p:blipFill>
          <p:spPr>
            <a:xfrm>
              <a:off x="6858000" y="0"/>
              <a:ext cx="22860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WordArt 21"/>
            <p:cNvSpPr txBox="1"/>
            <p:nvPr/>
          </p:nvSpPr>
          <p:spPr>
            <a:xfrm>
              <a:off x="6781680" y="152280"/>
              <a:ext cx="2210040" cy="69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随堂</a:t>
              </a:r>
              <a:r>
                <a:rPr b="0" lang="en-US" sz="32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1+1</a:t>
              </a:r>
              <a:endParaRPr b="0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" name="Group 26"/>
          <p:cNvGrpSpPr/>
          <p:nvPr/>
        </p:nvGrpSpPr>
        <p:grpSpPr>
          <a:xfrm>
            <a:off x="6934320" y="5943600"/>
            <a:ext cx="2209680" cy="761760"/>
            <a:chOff x="6934320" y="5943600"/>
            <a:chExt cx="2209680" cy="761760"/>
          </a:xfrm>
        </p:grpSpPr>
        <p:sp>
          <p:nvSpPr>
            <p:cNvPr id="13" name="Rectangle 25"/>
            <p:cNvSpPr/>
            <p:nvPr/>
          </p:nvSpPr>
          <p:spPr>
            <a:xfrm>
              <a:off x="6934320" y="5943600"/>
              <a:ext cx="22096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900cc"/>
                </a:solidFill>
                <a:latin typeface="Cambria"/>
              </a:endParaRPr>
            </a:p>
          </p:txBody>
        </p:sp>
        <p:pic>
          <p:nvPicPr>
            <p:cNvPr id="14" name="Picture 24" descr="4"/>
            <p:cNvPicPr/>
            <p:nvPr/>
          </p:nvPicPr>
          <p:blipFill>
            <a:blip r:embed="rId7"/>
            <a:stretch/>
          </p:blipFill>
          <p:spPr>
            <a:xfrm>
              <a:off x="7047000" y="5973480"/>
              <a:ext cx="202068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8BA2-269F-4CFA-9B56-D8ADCC42E0F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42EE-C136-4827-93A0-B13DC10657A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E930-FC06-4D6D-BFED-2BFA6754DB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8" descr="22222"/>
          <p:cNvPicPr/>
          <p:nvPr/>
        </p:nvPicPr>
        <p:blipFill>
          <a:blip r:embed="rId2"/>
          <a:srcRect l="0" t="0" r="0" b="4884"/>
          <a:stretch/>
        </p:blipFill>
        <p:spPr>
          <a:xfrm>
            <a:off x="0" y="3886200"/>
            <a:ext cx="2343240" cy="29718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7"/>
          <p:cNvSpPr/>
          <p:nvPr/>
        </p:nvSpPr>
        <p:spPr>
          <a:xfrm>
            <a:off x="1371600" y="762120"/>
            <a:ext cx="1905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2474-E012-4AF0-B09A-2A3BA7019E6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4D9C-47E3-46E4-B7A6-B391D95FE42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DEAD-05E1-474C-93B6-4936CF8094D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F47-3BAB-4FE8-8DBD-8E81EB11430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5239-7D5C-407A-A86D-DE81B22D8EF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BBC7-E4A3-476D-B18F-B494A041629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F8D5-EC0B-4A9A-AA75-0CD75A90902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cc"/>
              </a:solidFill>
              <a:latin typeface="Cambr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7FE7-EE8E-433E-9D2D-50D2AC3926A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2666880" y="2134440"/>
            <a:ext cx="46483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0" bIns="209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"/>
                <a:ea typeface="楷体"/>
              </a:rPr>
              <a:t>第一课</a:t>
            </a:r>
            <a:endParaRPr b="0" lang="en-US" sz="4800" spc="-1" strike="noStrike">
              <a:solidFill>
                <a:srgbClr val="9900cc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00cc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楷体"/>
              </a:rPr>
              <a:t>春 </a:t>
            </a:r>
            <a:endParaRPr b="0" lang="en-US" sz="4800" spc="-1" strike="noStrike">
              <a:solidFill>
                <a:srgbClr val="9900c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辞美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请从修辞手法的角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品味下列句子的语言美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东风来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春天的脚步近了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运用了拟人的修辞手法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形象地宣告春天到来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达了喜春之情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切都像刚睡醒的样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欣欣然张开了眼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运用了拟人的修辞手法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形象写出了春回大地、万物复苏的情态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画出了春的轮廓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桃树、杏树、梨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不让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不让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开满了花赶趟儿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运用了拟人的修辞手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动写出了春天竞相开放的情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红的像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粉的像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白的像雪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运用了比喻、排比的修辞手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出了春花争艳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紫千红的情形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散在草丛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像眼睛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像星星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还眨呀眨的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运用了比喻、拟人的修辞手法</a:t>
            </a:r>
            <a:r>
              <a:rPr b="0" lang="zh-CN" sz="26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出野花多</a:t>
            </a:r>
            <a:r>
              <a:rPr b="0" lang="zh-CN" sz="26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闪闪发光、轻轻摆的情景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⑥“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吹面不寒杨柳风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不错的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像母亲的手抚摸着你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运用引用、拟人、比喻的修辞手法</a:t>
            </a:r>
            <a:r>
              <a:rPr b="0" lang="zh-CN" sz="26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突出春风和煦、温暖的特点</a:t>
            </a:r>
            <a:r>
              <a:rPr b="0" lang="zh-CN" sz="26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是从触觉角度写春风的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像牛毛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像花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像细丝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密密地斜织着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人家屋顶上全笼着一层薄烟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运用比喻、排比的修辞手法</a:t>
            </a:r>
            <a:r>
              <a:rPr b="0" lang="zh-CN" sz="26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形象地写出春雨的多、细、密、斜、薄的特点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春天像刚落地的娃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头到脚都是新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它生长着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春天像小姑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花枝招展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笑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走着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春天像健壮的青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铁一般的胳膊和腰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领着我们上前去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个句子都运用了比喻的修辞手法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刚落地的娃娃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现春天的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像新的开始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给人以无限希望；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花枝招展的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姑娘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状写春天的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美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令人喜爱；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健壮的青年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赞美春天充满活力。这三个句子又构成排比句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三句的顺序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从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娃娃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到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姑娘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到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青年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形象地表现了春天的成长过程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赞美了春天蓬勃的生命力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强调了它的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美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充满活力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炼字美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仔细揣摩下列加线词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其表达效果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朗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起来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起来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太阳的脸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起来了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用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朗润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春山光泽；用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涨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春水涣涣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用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红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春日暖人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偷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地从土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嫩嫩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MingLiU_HKSCS"/>
              </a:rPr>
              <a:t>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绿绿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偷偷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二字写出了不经意之间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草已悄悄而出的情景和作者惊喜的感觉。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钻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出了春草破土而出的挤劲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现了春草旺盛的生命力。同时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样写使无意识、无情感的小草也似乎有了意识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了情感。用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嫩嫩的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春草的质地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用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绿绿的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春草的色泽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花下成千成百的蜜蜂嗡嗡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小的蝴蝶飞来飞去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闹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字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呈现出一派热闹景象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  <a:ea typeface="MingLiU_HKSCS"/>
              </a:rPr>
              <a:t>，写出了春天生机勃勃的美好景象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像牛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像花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像细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密密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织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家屋顶上全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着一层薄烟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个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斜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字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说春风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却已含蓄地写出了春风。一个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笼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字准确地写出了这层薄烟的情状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树叶儿却绿得发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小草儿也青得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MingLiU_HKSCS"/>
              </a:rPr>
              <a:t>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你的眼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个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逼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字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写出了在春雨的滋润下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草特别青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韵律美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阅读文章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简要说说文章是如何体现韵律美的吗？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【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交流点拨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】</a:t>
            </a:r>
            <a:r>
              <a:rPr b="0" lang="en-US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①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文中句式以短句为主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节奏明快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适合描写春天的主旋律；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②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运用大量叠字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如嫩嫩的、绿绿的、轻悄悄的、软绵绵的；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楷体_GB2312"/>
              </a:rPr>
              <a:t>③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轻声、儿化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轻盈优美；排比句和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了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字的运用</a:t>
            </a:r>
            <a:r>
              <a:rPr b="0" lang="zh-CN" sz="20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增强了语言的韵味和节奏感。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迁移拓展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请从平时所积累的知识中搜集关于描写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春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诗句。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3300"/>
                </a:solidFill>
                <a:latin typeface="宋体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红豆生南国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来发几枝？（王维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相思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3300"/>
                </a:solidFill>
                <a:latin typeface="宋体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知细叶谁裁出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二月春风似剪刀（贺知章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咏柳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3300"/>
                </a:solidFill>
                <a:latin typeface="宋体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最是一年春好处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绝胜烟柳满皇都（韩愈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早春呈水部张十八员外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3300"/>
                </a:solidFill>
                <a:latin typeface="宋体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几处早莺争暖树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谁家新燕啄春泥（白居易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钱塘湖春行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自主预习 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282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走近作者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朱自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89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48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现代散文家、诗人、学者。原名自华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字佩弦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号秋实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籍浙江绍兴。主要作品有：诗文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踪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散文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欧游杂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文艺论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雅俗共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。其散文代表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荷塘月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被视为现代散文的典范作品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5" name="Picture 6" descr="C:\Users\Administrator\Desktop\新建文件夹 (2)\七上语文人教\1.TIF"/>
          <p:cNvPicPr/>
          <p:nvPr/>
        </p:nvPicPr>
        <p:blipFill>
          <a:blip r:embed="rId1"/>
          <a:stretch/>
        </p:blipFill>
        <p:spPr>
          <a:xfrm>
            <a:off x="5257800" y="1447920"/>
            <a:ext cx="3328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课堂小结 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朱自清先生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诗的笔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绘了生机勃勃、花木争荣的春天画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赞美春天的朝气和活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激励人们在大好春光里奋然前行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年之计在于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学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我们问一声自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恰值青春年少的我们准备好了吗？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板书设计 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4582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自主预习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词梳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准字音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酝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nià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        发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ji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华文新魏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 黄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yù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h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抚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m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散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s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华文新魏"/>
              </a:rPr>
              <a:t>à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拼音写出汉字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              hōnɡ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托                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ǒu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áo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亮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ǎn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转                 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自主预习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609480" y="1526760"/>
            <a:ext cx="77346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所给意思写出相应词语。</a:t>
            </a:r>
            <a:endParaRPr b="0" lang="en-US" sz="26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0" lang="zh-CN" sz="2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欣欣然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欢欢喜喜的样子。</a:t>
            </a:r>
            <a:endParaRPr b="0" lang="en-US" sz="26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0" lang="zh-CN" sz="2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嘹亮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声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晰响亮。</a:t>
            </a:r>
            <a:endParaRPr b="0" lang="en-US" sz="26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0" lang="zh-CN" sz="2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舒活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舒展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动。</a:t>
            </a:r>
            <a:endParaRPr b="0" lang="en-US" sz="26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0" lang="zh-CN" sz="2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呼朋引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呼唤朋友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MingLiU_HKSCS"/>
              </a:rPr>
              <a:t>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招引同伴。</a:t>
            </a:r>
            <a:endParaRPr b="0" lang="en-US" sz="26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5)</a:t>
            </a:r>
            <a:r>
              <a:rPr b="0" lang="zh-CN" sz="26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花枝招展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喻姿态优美。</a:t>
            </a:r>
            <a:endParaRPr b="0" lang="en-US" sz="2600" spc="-1" strike="noStrike">
              <a:solidFill>
                <a:srgbClr val="9900c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自主预习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380880" y="176292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朱自清先生以什么样的心情去迎接春天？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交流点拨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喜悦、渴望的心情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作者在文章的结尾对春天进行了怎样的赞美？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交流点拨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喻春天像刚落地的娃娃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像小姑娘、像健壮的青年。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本文重点描绘了春天哪些美丽的景色？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交流点拨</a:t>
            </a:r>
            <a:r>
              <a:rPr b="0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】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草、春花、春雨、春风、迎春五幅美丽的画图。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合作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认为作者笔下哪幅画景最美？它美在哪里？你能为你最喜欢的画面配上一句古诗吗？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【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交流点拨</a:t>
            </a: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】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草图：这是一幅生机勃勃的画面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令人见之则精神振奋。可配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浅草才能没马蹄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句古诗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②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花图：这是一幅百花争艳的画面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色彩明丽。可配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满园春色关不住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枝红杏出墙来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或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乱花渐欲迷人眼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合作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533520" y="22212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风图：这是一幅轻柔温暖的画面。可配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沾衣欲湿杏花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吹面不寒杨柳风”这句古诗。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雨图：这是一幅绵长、细密、轻柔的画面。可配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随风潜入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润物细无声”这句古诗。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迎春图：这是一幅令人精神抖擞、热爱生活、积极向上的画面。可配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儿童散学归来早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MingLiU_HKSCS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忙趁东风放纸鸢”这句话。</a:t>
            </a:r>
            <a:endParaRPr b="0" lang="en-US" sz="2400" spc="-1" strike="noStrike">
              <a:solidFill>
                <a:srgbClr val="9900c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文本探究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本文结构上有什么特点？梳理课文的思路，归纳各部分内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结构上的特点是总</a:t>
            </a:r>
            <a:r>
              <a:rPr b="0" lang="en-US" sz="2800" spc="-1" strike="noStrike">
                <a:solidFill>
                  <a:srgbClr val="ff3300"/>
                </a:solidFill>
                <a:latin typeface="Cambria"/>
              </a:rPr>
              <a:t>——</a:t>
            </a: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分</a:t>
            </a:r>
            <a:r>
              <a:rPr b="0" lang="en-US" sz="2800" spc="-1" strike="noStrike">
                <a:solidFill>
                  <a:srgbClr val="ff3300"/>
                </a:solidFill>
                <a:latin typeface="Cambria"/>
              </a:rPr>
              <a:t>——</a:t>
            </a: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总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可分三个部分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第一部分（第</a:t>
            </a:r>
            <a:r>
              <a:rPr b="0" lang="en-US" sz="2800" spc="-1" strike="noStrike">
                <a:solidFill>
                  <a:srgbClr val="ff3300"/>
                </a:solidFill>
                <a:latin typeface="Cambria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、</a:t>
            </a:r>
            <a:r>
              <a:rPr b="0" lang="en-US" sz="2800" spc="-1" strike="noStrike">
                <a:solidFill>
                  <a:srgbClr val="ff3300"/>
                </a:solidFill>
                <a:latin typeface="Cambria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）：总写盼春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第二部分（</a:t>
            </a:r>
            <a:r>
              <a:rPr b="0" lang="en-US" sz="2800" spc="-1" strike="noStrike">
                <a:solidFill>
                  <a:srgbClr val="ff3300"/>
                </a:solidFill>
                <a:latin typeface="Cambria"/>
              </a:rPr>
              <a:t>3~7</a:t>
            </a: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）：分别描绘春草、春花、春风、春雨、迎春五幅画。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第三部分（</a:t>
            </a:r>
            <a:r>
              <a:rPr b="0" lang="en-US" sz="2800" spc="-1" strike="noStrike">
                <a:solidFill>
                  <a:srgbClr val="ff3300"/>
                </a:solidFill>
                <a:latin typeface="Cambria"/>
              </a:rPr>
              <a:t>8~10</a:t>
            </a:r>
            <a:r>
              <a:rPr b="0" lang="zh-CN" sz="2800" spc="-1" strike="noStrike">
                <a:solidFill>
                  <a:srgbClr val="ff3300"/>
                </a:solidFill>
                <a:latin typeface="Cambria"/>
              </a:rPr>
              <a:t>）总写赞春，赞美了春的新、美、力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1b36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黑体"/>
                <a:ea typeface="方正水柱_GBK"/>
              </a:rPr>
              <a:t>文本探究</a:t>
            </a:r>
            <a:endParaRPr b="0" lang="en-US" sz="48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0880" y="14479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品味语言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品味课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寻找文章的语言美。用自己喜欢的方式阅读课文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圈画出文章中语言优美的字、词、句、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同桌交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尝试鉴赏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提示：你可以从修辞、炼字、韵律等角度加以探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4T00:43:46Z</dcterms:created>
  <dc:creator>Administrator</dc:creator>
  <dc:description/>
  <dc:language>en-US</dc:language>
  <cp:lastModifiedBy>无所畏</cp:lastModifiedBy>
  <dcterms:modified xsi:type="dcterms:W3CDTF">2020-07-01T07:09:19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  <property fmtid="{D5CDD505-2E9C-101B-9397-08002B2CF9AE}" pid="3" name="Version">
    <vt:r8>1</vt:r8>
  </property>
</Properties>
</file>