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67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68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</p:sldMasterIdLst>
  <p:sldIdLst>
    <p:sldId id="256" r:id="rId86"/>
    <p:sldId id="257" r:id="rId87"/>
    <p:sldId id="258" r:id="rId88"/>
    <p:sldId id="259" r:id="rId89"/>
    <p:sldId id="260" r:id="rId90"/>
    <p:sldId id="261" r:id="rId91"/>
    <p:sldId id="262" r:id="rId92"/>
    <p:sldId id="263" r:id="rId93"/>
    <p:sldId id="264" r:id="rId94"/>
    <p:sldId id="265" r:id="rId95"/>
    <p:sldId id="266" r:id="rId96"/>
    <p:sldId id="267" r:id="rId97"/>
    <p:sldId id="268" r:id="rId98"/>
    <p:sldId id="269" r:id="rId99"/>
    <p:sldId id="270" r:id="rId100"/>
    <p:sldId id="271" r:id="rId101"/>
    <p:sldId id="272" r:id="rId102"/>
    <p:sldId id="273" r:id="rId103"/>
    <p:sldId id="274" r:id="rId104"/>
    <p:sldId id="275" r:id="rId105"/>
    <p:sldId id="276" r:id="rId106"/>
    <p:sldId id="277" r:id="rId107"/>
    <p:sldId id="278" r:id="rId108"/>
    <p:sldId id="279" r:id="rId109"/>
    <p:sldId id="280" r:id="rId110"/>
    <p:sldId id="281" r:id="rId111"/>
    <p:sldId id="282" r:id="rId112"/>
    <p:sldId id="283" r:id="rId113"/>
    <p:sldId id="284" r:id="rId114"/>
    <p:sldId id="285" r:id="rId115"/>
    <p:sldId id="286" r:id="rId116"/>
    <p:sldId id="287" r:id="rId117"/>
    <p:sldId id="288" r:id="rId1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" Target="slides/slide1.xml"/><Relationship Id="rId87" Type="http://schemas.openxmlformats.org/officeDocument/2006/relationships/slide" Target="slides/slide2.xml"/><Relationship Id="rId88" Type="http://schemas.openxmlformats.org/officeDocument/2006/relationships/slide" Target="slides/slide3.xml"/><Relationship Id="rId89" Type="http://schemas.openxmlformats.org/officeDocument/2006/relationships/slide" Target="slides/slide4.xml"/><Relationship Id="rId90" Type="http://schemas.openxmlformats.org/officeDocument/2006/relationships/slide" Target="slides/slide5.xml"/><Relationship Id="rId91" Type="http://schemas.openxmlformats.org/officeDocument/2006/relationships/slide" Target="slides/slide6.xml"/><Relationship Id="rId92" Type="http://schemas.openxmlformats.org/officeDocument/2006/relationships/slide" Target="slides/slide7.xml"/><Relationship Id="rId93" Type="http://schemas.openxmlformats.org/officeDocument/2006/relationships/slide" Target="slides/slide8.xml"/><Relationship Id="rId94" Type="http://schemas.openxmlformats.org/officeDocument/2006/relationships/slide" Target="slides/slide9.xml"/><Relationship Id="rId95" Type="http://schemas.openxmlformats.org/officeDocument/2006/relationships/slide" Target="slides/slide10.xml"/><Relationship Id="rId96" Type="http://schemas.openxmlformats.org/officeDocument/2006/relationships/slide" Target="slides/slide11.xml"/><Relationship Id="rId97" Type="http://schemas.openxmlformats.org/officeDocument/2006/relationships/slide" Target="slides/slide12.xml"/><Relationship Id="rId98" Type="http://schemas.openxmlformats.org/officeDocument/2006/relationships/slide" Target="slides/slide13.xml"/><Relationship Id="rId99" Type="http://schemas.openxmlformats.org/officeDocument/2006/relationships/slide" Target="slides/slide14.xml"/><Relationship Id="rId100" Type="http://schemas.openxmlformats.org/officeDocument/2006/relationships/slide" Target="slides/slide15.xml"/><Relationship Id="rId101" Type="http://schemas.openxmlformats.org/officeDocument/2006/relationships/slide" Target="slides/slide16.xml"/><Relationship Id="rId102" Type="http://schemas.openxmlformats.org/officeDocument/2006/relationships/slide" Target="slides/slide17.xml"/><Relationship Id="rId103" Type="http://schemas.openxmlformats.org/officeDocument/2006/relationships/slide" Target="slides/slide18.xml"/><Relationship Id="rId104" Type="http://schemas.openxmlformats.org/officeDocument/2006/relationships/slide" Target="slides/slide19.xml"/><Relationship Id="rId105" Type="http://schemas.openxmlformats.org/officeDocument/2006/relationships/slide" Target="slides/slide20.xml"/><Relationship Id="rId106" Type="http://schemas.openxmlformats.org/officeDocument/2006/relationships/slide" Target="slides/slide21.xml"/><Relationship Id="rId107" Type="http://schemas.openxmlformats.org/officeDocument/2006/relationships/slide" Target="slides/slide22.xml"/><Relationship Id="rId108" Type="http://schemas.openxmlformats.org/officeDocument/2006/relationships/slide" Target="slides/slide23.xml"/><Relationship Id="rId109" Type="http://schemas.openxmlformats.org/officeDocument/2006/relationships/slide" Target="slides/slide24.xml"/><Relationship Id="rId110" Type="http://schemas.openxmlformats.org/officeDocument/2006/relationships/slide" Target="slides/slide25.xml"/><Relationship Id="rId111" Type="http://schemas.openxmlformats.org/officeDocument/2006/relationships/slide" Target="slides/slide26.xml"/><Relationship Id="rId112" Type="http://schemas.openxmlformats.org/officeDocument/2006/relationships/slide" Target="slides/slide27.xml"/><Relationship Id="rId113" Type="http://schemas.openxmlformats.org/officeDocument/2006/relationships/slide" Target="slides/slide28.xml"/><Relationship Id="rId114" Type="http://schemas.openxmlformats.org/officeDocument/2006/relationships/slide" Target="slides/slide29.xml"/><Relationship Id="rId115" Type="http://schemas.openxmlformats.org/officeDocument/2006/relationships/slide" Target="slides/slide30.xml"/><Relationship Id="rId116" Type="http://schemas.openxmlformats.org/officeDocument/2006/relationships/slide" Target="slides/slide31.xml"/><Relationship Id="rId117" Type="http://schemas.openxmlformats.org/officeDocument/2006/relationships/slide" Target="slides/slide32.xml"/><Relationship Id="rId118" Type="http://schemas.openxmlformats.org/officeDocument/2006/relationships/slide" Target="slides/slide33.xml"/><Relationship Id="rId1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F5F6-C823-4C1B-9159-87DC9558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024C-F3B9-4122-B3D0-1EA60DEF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A1957-2C9C-4C09-989F-206A9951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2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2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B501978-A34B-495C-90F7-530476D5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AD2E4B9-CFC6-4A60-A46E-E914FAE8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1298ED0-C14B-443E-91B9-FAF34C81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2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89F4840-2370-4039-A3C9-36918054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2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3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31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EDB6C6C-EEF5-46C1-A5F9-16C8659D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3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3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3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55D50A1-339F-4310-913E-72F0B74B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46931F1-9FF7-46ED-B7E8-10C7220A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4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4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4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43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AAA2E48-8E4F-4CDB-AB9E-3221AA5D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49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50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6DEDE7C-67BC-4DD2-8307-2B3C6E12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2691B-9219-4B53-A901-8072E5DF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CDC2E-C2FB-4023-B551-15CF5C67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74354-3B67-4A0D-93A2-21EEB819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AC60A-EE5C-4ECF-9623-8C60D0AD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B323A-24A7-48D6-8070-4ED0DF36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A4B2B-3C2D-48BB-95F4-06008671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BCD5B-9C1F-475A-9506-CF37D211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13819-C307-4D29-AD86-76C5D6B1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4D464-6965-4330-9644-226BB08B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73C5-8674-4D96-B8D5-5BD18F65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C33D7-77D4-43DD-A59A-9CFFD86B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6D7EF-00EB-452D-BF34-3F85AE82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71ADF-7D68-44AA-9CB4-8165615B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5788D-0B31-4D73-B31A-1AA88FA4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E8715-54E4-465E-B396-5BF13A80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C1F56-81B3-4ACD-8D62-60D8F79E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C322F-3DD2-40FC-8132-48355625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45170-70CD-4662-9C6A-10572C98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7B79E-1F2B-4182-B313-10A84362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F04B5-8DB5-4E81-BEA4-0C5AD398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63CB-7990-47B4-ABD7-4ABA07A7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D319E-24F6-4D3C-B8AB-564CC629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01224-2214-426D-9365-4CD8DECF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192BD-80E2-4670-9BE4-17FDC6FC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AE33F-B3B6-400D-88CD-7C401F14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8997D-13B8-424F-A660-A680458F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B746C-DC7D-4F8F-8D5F-694BF95C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8BF62-06A7-470F-8CC5-58A5E1A6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E7F58-1AB9-4982-A8B8-2C4BFAC2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9F073-3C42-403D-8E4B-810B2975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EDB53-F205-48D6-9367-1F387065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1815-08B4-41CB-8359-3478BF9B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60742-F220-4181-AA1E-BB1C4DD7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96EB6-F4EB-4773-A78A-7A4B05D1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77E88-8B2B-4C93-BCA2-EC0DF0A2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266A2-E24C-4F0A-BB6A-96E29AE5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71CE4-DD88-4EE2-B4B8-7A20B582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CF7BB-B69D-4DF9-9003-CD836787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99096-1D30-450E-8CDA-33D74984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457AA-D665-4070-8BCA-7253108F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E4893-F89A-4617-BB0D-389679C5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B7587-97E7-48FF-87E8-7A6BA8DD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84B1-4EFE-44B4-BE61-654EA34B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8F2CC-B232-462E-BB02-88BDA449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C7BCF-EBEE-4876-A325-F3E40271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2EDC1-94D2-449D-AD1D-3AAD581E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E6EC4-C308-4932-B73D-5A3C5B73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DFEE3-94B9-4801-9E7A-435E466E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B4C041-3348-433E-BB52-55F69645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C9996E-53C0-4962-8B21-276F2412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6CDDEA-DC79-4466-8540-C28B9970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7EC7BF-ADAF-43B1-9D10-E6BD150E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018A5A-6CEF-47C7-A55B-F38C001D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E137-2426-47F6-97D8-91FC682E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F2BFBD-517F-4ED9-A98F-86743E33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F8C739-347C-4129-B223-66B993A1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EA2FC-92F5-4E9C-A400-08B2538D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EA2661-5971-4135-B059-5806C9C2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1F83DE-4DF7-4466-AD1D-ABE08BBE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15F795-B10E-486B-930F-58F0E31A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1971E5-3250-4AD6-90D4-4E9A69AA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22CBFF-938E-4495-821B-BC1DC35F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89F33F-601C-4774-A4DA-F2E92529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FDC729-DBFC-4DA7-B01A-F0317AC2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A1F1-6BFB-4C41-9693-CF7CBD71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EB9096-0C18-42A3-8E90-129BA2EC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5010A2-6FDC-486A-8291-03A085AF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93D923-C6C8-45CA-A657-1D194BF7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1D26CC-35A0-48D6-A3CF-FF7A4B6A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CDCCA2-93AE-4211-94B6-DEC49F4F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BA3E9B-CE24-4001-9E81-D72E4BC7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70250D-A5E7-495F-AD88-3EE449B1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481899-37CC-4BD6-A80F-A5A76B6E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B6F38D-72DC-4544-98B8-1CA51725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3729FF-38CD-4C10-A632-70A3A783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EDB1-FBDD-4D25-BB1E-91640FE5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6C4C49-CE81-468F-A616-FD87D125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2F7A69-3D00-4C7A-9AB6-55D189AB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5867E3-6DAF-4405-BC47-EDFE6821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E43812-327E-450F-BB60-63D8E5DF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D1EFFE-BC51-4894-A2CA-D0528662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EB342B-D1A5-4A09-9A40-23B765C3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FAF93A-45F5-47A0-92DB-1A92A63F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F0FE04-C9D9-403E-BF6C-1589EF82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4C9B3E-4A67-4CE5-8DB7-25B95408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8D46D4-E2B7-435D-8A8D-847F73CA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D316-A9A1-49BD-8E9D-BD236F0B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C2BFF2-045F-4AFF-BF68-5298649E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A9F2F7-4E32-4226-AD2B-71A68659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AD516F-0288-40A6-972B-18E0E6BD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D203F3-35DB-47DF-8B3F-F1201BC3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60D508-789C-4A49-94F5-D449A7B0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488B7F-0642-4DC2-A604-250EA19A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2CBE9D-5C59-4381-AFAF-0FB49F3B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FC5F61-3A68-4911-9AE4-F0BCD548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58B4C0-57FB-4E0D-A045-B7C8F371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B57AA0-86F8-48D0-9BC6-0A8B375D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983F-B4F3-4F0C-9CEC-80B41FED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978AF7-4EAB-4505-BB1E-112B7AB2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73294F-1F66-46C9-A55D-0082D18A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E6F147-AC86-47DF-9B70-22FDF43F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DDEEF1-604D-4C07-B31B-C9CE4AF4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E535A8-FDDF-4301-8583-BAC2C123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EE3D2E-93BE-45FA-B728-10DA14DF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F91849-DA24-4287-829C-E4617486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049419-EB3A-4273-925A-08AD12FF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FEC799-7B05-46EE-8E81-99FB647B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E8030D-73CF-47C9-9C7F-28D85017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F651-5F0A-4903-8C98-F5FF0DF2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36A2-E14A-4DB5-86FB-2A2E5125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FE06A1-A645-4F32-9F1C-11D7539D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7505CC-D2D7-4F8E-89FE-F8E86B8A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6E8651-E45F-4B61-B0E8-7273B218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9B33B8-D1C3-4C06-8CD0-BFC6327D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2B6F14-87F1-46E7-94E0-DE8061BD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546BC4-1A19-44AE-82B1-2DEFA834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FA28A9-4BBA-4C69-BF89-8EDE0083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6ACEE8-E3C9-4C48-B471-09715A12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03B969-1450-479C-8F45-D5D8CE10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4F4BCD-390E-4426-8831-C0CCF034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5606-5B46-4714-834D-EDF46C38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7D5E83-7C4F-4364-A4ED-BF13A0D6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97338C-F400-4086-B959-31C9D5F2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17106D-0623-4999-BFBF-A6503942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2C5DA8-432F-4733-8A41-45FB3239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5B1615-04AD-4484-B222-C8F381F8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810620-8BA8-4166-A6C9-8CFF2400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CE4EA0-40F4-4F19-B87B-7D19AF49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650247-6499-47B9-A106-A735813D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DCBFA5-388D-443E-A8D4-E8C6DA9A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915051-E167-4AD7-A773-22CAC9B7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9D71-AD6E-4E2E-BE4D-6E5A7A59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2DAE91-1C21-4C05-A445-42EEEF77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8FF099-5ED1-4FAF-AF85-E987087E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3AA5B6-39BD-4EEC-B24F-53A32930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DE7672-B9F9-43AD-AB06-F8E8E227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739A69-DCB0-455C-A4F9-55BBFCD4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B42766-437E-4513-B5DF-AF0CEE7F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AE89DE-1082-42E0-B347-128CABFC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12A33F-033B-4660-A69C-E9F200E1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15F499-59FC-4E8C-9DD1-DE4B66F2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DB5FC2-EDCB-4C16-816B-D2CB1876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B608-2457-47AB-9A0D-2FD02606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7EF155-2486-4731-9740-224FE4BA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51C1CB-516A-4700-85F2-A919AFC3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7CB1DD-373E-4982-B1DA-D1EF755F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2E0CC9-A42A-4205-8CA6-EBA24D7A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23F9CA-EB8B-4AB9-8E4A-97C727F7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EBA3FA-D9B6-43A3-8E8C-3D210E97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150EDB-BC7C-4C26-826E-A179EFD8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D3C3B7-BDF8-465B-9394-EFEFAF6E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2C1F28-1D23-47F9-AC53-140CBE77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0F3566-C628-4AA9-9773-2382A8AE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0AF5-FA30-4CA0-9E20-336B172B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10898A-0E3E-46D9-8465-88253009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A7A378-3675-4AC2-A7D1-44503CC6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7B5A23-F487-43DA-98C5-CD324EC3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F77721-ACF6-4CB0-AE3A-9D068199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E03D81-7A8A-44FD-BADA-4B5EB3E9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2C0020-7A5E-4077-9B9D-DB816A4B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900FCE-9C4E-4E76-B6EB-52D3205A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A7DEB8-3253-4A0E-8760-DE1A2E34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1F015F-37A1-4D1F-A505-E68558BA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DD6302-C323-4985-B168-5A8B8DEC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FC630-4332-45EA-84E2-65538B8D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C155B2-F695-4081-80E4-BD6CA7C3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22A9ED-E30F-4593-9045-FAA7EABD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07DA24-E578-4CF4-BB96-262D7947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42BE2A-0943-4044-B5B5-5E5DB792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223C4C-8A74-4922-B0CF-7EA5E6EF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FBD9C9-06BD-4A0F-AFD9-1796B4C5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D42E3B-C194-4887-9392-D41026E2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019CA3-9864-45CD-96FC-C09A2243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F93F1E-9336-4733-838A-6C29D3BF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680A0F-6BB9-44AB-A08C-7933E512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0A512-A451-4B55-9D71-7F264A63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ADD6EA-4BD2-405A-9271-E9C19A5F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B38F4C-C248-4640-9401-408A9E1E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8CFBF5-3D0F-4720-9E6F-71035321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983B58-F960-4034-9AD6-B1737720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7F2F7B-FC70-4FB3-A75D-BD1DF558B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DD03B6-39F2-4E62-A808-0AEC9873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4D564D-A247-4909-824B-19E784D2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6556B1-9E36-4196-96FD-3B844CAA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673BC8-7F32-41D8-A8E7-6C2047D3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9A7D49-CC0B-4B34-8029-700255E2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746AC-26C8-4E6B-AA8A-0AF575E0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C75898-2E08-4489-A00F-DD89EE91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86486E-24F9-42A2-BAB7-2C665D1D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172FB2-BBC7-4A7B-9E69-54CA8F2D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34A777-F5EC-4318-8FBB-8B36A778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C2415B-6054-4452-B2AE-904743BB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5ED41E-78CF-4A47-B850-8F621388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A8CC22-2B8A-4724-909B-2961F249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72523D-DE0F-43B4-8235-ABF8EBDF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2159AD-27F2-45A5-A7F9-15D9A6B4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8FF60D-6D42-45E0-A51C-F197E446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73D19-0B00-4B78-832B-4ED4F99F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184533-3DE2-4917-B294-D655159F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CA2E95-7219-4682-996B-D5314E32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D2DCF1-3E41-46F8-9EAD-2FA0D9A2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4E5897-F8CA-482B-B804-8A0B0545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22B18B-3EAB-4E09-9549-4F526F59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DEB657-2D39-4BD5-A30B-394CA9E6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2554D4-0FCE-4DF9-9DE2-7B08CBFF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41DD43-B06E-4B08-80E6-A42BC4AA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C5B1DE-56B4-4848-BB3D-59444C7B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4E621F-10A4-4016-A761-F85E3FF3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6074A-CA78-42DA-AA62-166B08D7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56C40B-9D3A-49DC-B42D-556F7B2F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396F1C-DAAE-47CF-A935-7F38CE45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14D86D-86C4-45F9-8217-09B34D24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E99298-86F4-4AEC-9E70-EFE4892F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91947A-D73E-41F9-867B-E3B6DDFF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A155E3-7438-4CB6-8E58-E820B9D5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B48DDE-D4B6-4264-8B80-96DCD547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59FDDC-D476-4CD1-9D6A-E6083A1A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912CF7-7A5C-44C5-A4DB-0A1C834C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8CF052-B854-4C33-8A4F-2DE4F908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B956-48AD-4D77-87C2-006E7FEC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7F3FC-BD80-4DEB-AD32-42E3322C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31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8C8C45-C6EA-4275-A6C9-7AF31457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FB4AF7-AB63-4CDE-9A48-AC2B6C64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5C0A7A-8BBF-4B08-87D0-C3EF42E9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55B754-9865-4218-BE00-AC88D282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4EF237-E1B6-47DB-B2D2-82DB37E1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67029C-6E3A-448B-8EF7-E1D333F3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343FAC-C428-4DCD-818B-3653FA60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23A907F-CFE0-43DF-AA6E-F4D307A1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54D05C-9C8A-424A-889E-2C8E28EB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CF6E78-4742-403E-ACE9-64662100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ACCD0-6452-4F21-A98A-9CDB357A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449AD6-454B-4530-A1E4-6E192418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2BF33D-06F9-4511-B552-DF57DF33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B6B360-CBA2-4FA4-AF0F-886D42EA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859CCE-DEF5-4AFA-B8C0-2870E6E0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7AF586-BE8E-4B63-B47B-415699AF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CCB936-032A-45FE-973A-3C0C526E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B575DC-CA9A-473F-81A3-E823A34B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5FC5E9-99F8-4244-BCC0-071FAC20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F6A6BF-9484-4CA5-8E44-CC266B21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D702F7-7ACA-460B-B638-8E8179D8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E23B5-834E-411F-AC84-F62704A7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32F62F-D802-44CC-A290-A6787F68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0533A3-8D1F-4574-AAA5-0EE79760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BD1C55-E9DC-4E6D-8800-41310D86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00D22A-8963-45FF-B241-E7E00EDD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13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DBD63C-9436-48F1-AB3A-08283FA2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44ECCC-43C5-4E44-803E-E81A17C7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6FEAAD5-CC86-40CB-A6A4-BBD9E404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77EF1C-9293-4CD4-BC1E-EE487318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78CC60-97F0-43EB-B453-B34A8CAC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85079A-2F75-4471-A61B-972C7038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BA7B5-D53B-490A-B36F-504FA182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B1F99A-9AF8-4D1F-8F96-D249B93F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BB77F0-8E06-4796-8A24-51CA0841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D0C3EE-4FD1-40A5-91DD-7C86E0EB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C32A88-5993-40BE-9254-B9E3E3CE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F75862-EB46-40E6-9E2B-4D137878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3EBF51-F83B-4A8A-9FCE-EDA8FD9B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53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54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2AAAFD-D3B5-4A25-8D1D-C02E57FF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34644B-FCE5-4B81-932D-9B62135C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CC819CE-DFC0-4E32-BF7D-661F49B0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C00A32-B719-4859-9349-EDA5AE5D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3111A-B1C9-4095-8354-9361E3EF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5A97EF-7F30-4714-8C8B-2F166BF0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CC5903-C5C3-4198-9EA5-3BB6ECC7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F5C499-973E-4E1D-A283-5995F38A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73BDB8-33E9-462B-98A1-1C9F5CE0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829D428-222B-40A8-B7B3-E00A832A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897FD7-7E90-457B-BEF9-DEE647D9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E4644D-A02F-4E4A-9578-F6C6C110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56DF05D-6A92-4151-AF56-EDE10977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FDF9971-B336-488D-B373-5B474E39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49D885-9D7D-491B-A480-EC869252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F3083-4B4B-49F5-AC14-E320F8E3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8E7FC6-6A39-40F2-9CAE-7D2485D9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8FA65B-2449-4B0E-9DE3-D551A742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24A1E15-0105-422F-AB06-ABB45B76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BFE8CC2-F238-4FD5-9CDA-82CA81E5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62CDFA-80E4-4AB4-90C7-6459EF75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FA42EE-561F-4C3D-8E73-631AC34B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4EA30F-0751-42A6-8AFE-767BF716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FE54E2-9282-4829-9273-14C42F35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B8D6C5-C392-4806-8002-88FB999B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D71846F-2C5C-4F63-AB02-2B318FF7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D9F55-7B38-4B40-81BF-4FA664D4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35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36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CBE2542-CE3C-4B8A-9ABB-F795D485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6AEE1F-5597-4B54-8025-2A08CC04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6A868B-4176-48AE-9F00-ED9C4131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8FEBBEA-8419-4EB0-B49F-F4A1E814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4D9B78-58C5-4D14-B2E3-825BEE25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84C6905-59E9-4CED-981C-741EA6EC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7AC746-F841-46A7-951A-1A75E780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37D8031-A714-4A76-AC9C-4F225D2D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059D58-AB44-4DA6-9BC2-565570C9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7AC13F-5828-4F98-AA53-E80599CB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DEAE6-210B-4EDC-968B-30F06BC3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DAF00FB-F80A-4559-AF28-3F4AE6FA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430604-4605-43C2-B049-4FBFCBA1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76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77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9450FA-A8B3-468F-9C6D-AF8BC26E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908C83A-5D9A-48B5-8493-DA8726CE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600722C-BF6F-486D-A22B-CAEA7F5D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5CA2843-AD59-4646-8038-33F849DB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CC964E8-6DB1-4054-AAA0-10829532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110C459-D3A3-49B1-91C7-CB84AB60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7F14014-166E-4A51-AB59-38856C5B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4493B32-F0DC-4B18-8521-ACA56EEE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60F5B-566D-4A89-A3B8-599AE687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B9F0CC5-7930-43F2-B79E-2EE00537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6910CCA-AA29-4689-908A-C4A19043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1D9F729-231D-4611-AE32-0A39CE28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9F2987-F12A-4703-92F8-1C7233C4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17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18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B00CEC6-35DF-41AD-B023-0EA4D353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F0E4461-6C51-4B7B-8DB6-87C95E02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7DCC876-63CB-4C48-A6CD-B1DCC6E1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D1D40C0-45E3-46B3-8F38-66A1DF09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364A41B-06FB-4DE6-994C-21B178DF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9095B7D-C7C5-4D95-B84C-641F2FAF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42500-0209-4051-9593-A6F9271B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F1CA974-D387-41D7-887A-3FDAFAB8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AF8D060-B74E-4D0A-BC66-64A8F6FF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DF65EA7-391E-48DF-B117-98EC0F0E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FAA8D4F-1D30-46D5-8643-48F73FD1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96539DF-86EA-4431-8834-92C32420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3C6C29C-0823-4A90-9739-E8DD2AE5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58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59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EF084E7-DE6C-4F36-94E5-BDD377BD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D91A4B5-431F-4A0A-9F2D-641B0AE2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BD2035F-7835-4BBA-A08D-25CC0B59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E025EF9-B4B3-4BE2-9245-2F2E42E8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E8A4-6EB7-4C01-BE95-E243CD3B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29A85-772E-4308-8CA4-BACE1011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2F0790-987E-4F3D-AEDD-27C951FB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FF9DBF0-17E7-4D44-9233-B7D17FCD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4E6DBD0-DA74-47BD-9E24-FE162C40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238CF2A-9E3A-4CE0-9F60-397ABF0C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2E02645-F475-4706-A630-E64C552F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425AB0B-48D8-4F82-9858-C61E2C79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BDAEF15-6DC7-426B-AAC8-037F4F8D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4A27ADD-3054-4392-9DBA-8BDA55A5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99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00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9074783-E2AC-4217-BFE2-FD4F1BF2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1EAAFC4-254D-460F-8D0E-E831E51D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A350C-E1F4-401D-8FC7-BEA367DE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8322D9F-8ACA-44E3-9C2E-3FB68B38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39AE3F5-0A99-441B-9A4A-0B03F3A9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B562CB2-68BE-45D6-907F-D410DE0F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AA5865F-609F-4758-A2FF-035E5E06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64B6A90-09E2-4EC0-8EB3-5347D788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8001CF2-A280-47A0-80E8-1F08C9F1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152E633-7199-441E-BF2D-116D00E0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7403AA0-76E0-4CD5-ABED-DB3E3C4F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E874FAF-5665-46CC-BD97-0098D711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7F7381A-CE8E-4EDA-9DF1-36DA7003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2A643-2409-4CCE-B1F2-4D0BDCAA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40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41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C6FB8F0-1384-4CD6-95A0-12DF73C2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543F3EF-ED46-4E48-9974-C38EE55AE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951100C-57EC-40FA-AF94-2CD177AC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656706B-1C96-49E1-82C6-2ADE4588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9A366D8-8BE7-47CB-9B53-8F471D97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E2CC534-0E1F-4FDF-9C6C-3EF709E4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96126BA-0B80-4F05-814A-DBE3E985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71472BA-2784-463D-A21E-B0CF1728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9DEFEEE-EB7E-460C-AC05-3E22F5A5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740B555-E109-4EDC-8FA2-0CD56888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CA360-BACD-4002-B37C-D08ACD11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6700FAB-431F-4EA5-A2AF-A48D8A3E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B221197-3750-4664-A418-8ED7C78A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01CB411-B13E-43C4-9F1E-7C435758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4BB2C03-2D91-4CCD-B27F-C1D0A736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E87B40C-9CFF-48EB-8E49-0BD5AEB2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13A41AE-D9C6-4AFA-83C2-2656AD8E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17E4EC7-DFFF-4EB9-8757-DFBDB254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08A140C-F63A-49F2-B225-C6857547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7E2CD56-89EB-4677-8957-6E79F424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9A0A7E6-37DA-46B7-A1E9-1AEFE052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481EC-D7C7-4B85-89AB-6B2667E4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694167F-389B-4E5C-9030-F618AC20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B425AB8-11EF-451F-8A19-CD030867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F9886AE-04AE-4607-94C2-87FBBB73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16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1DF6FE2-D902-45E2-BCDB-7476311C2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22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23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1A86B5E-3672-4B1D-BA9B-A6069665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B7740AF-BD64-45BC-8D9C-2DE9754E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E68A13E-4802-44B9-91B8-1375B9C2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9E23E60-075D-4B26-A297-CA182B98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27D6F46-9FD2-4A36-99D0-696D15D0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A73C78B-2617-40FD-8DB8-A5F66E70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7CB72-7356-4901-AF51-F9F62DD2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AF0219D-930D-41EA-A839-B71E21D1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A8569BE-53BA-45FA-949C-1DEEE861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BC0294E-9017-4164-A87B-0E444ABE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AA59BC2-6191-40DC-9FA7-E63D8A44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7399532-E9CD-449F-9D79-969C9227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8939760-2563-4096-A85F-F7844540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63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64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5F6A7AD-53CA-4A33-8D9F-0C85B29B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CFE008D-76AC-4178-9C73-D5D60A2C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D0076C9-13C0-4F0B-8ACE-B6DA246F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99BA876-6EB3-4562-965E-92DE6D3F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71D7B-14DA-4256-BEA3-1DF78C9E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0C70F7B-6659-4957-AD0E-5E567083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3509D8B-6EA6-48B0-B3A2-2AE49F18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E37FC9C-989F-4ADA-841F-C31A232D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7C8351E-9BB4-46C3-AB60-B46EDF88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8708867-3B3F-47B2-917A-90634E4A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77884B3-203E-4C94-A0B3-69F01E68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ED7E5AC-7085-4FE0-A965-6D8A00AE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98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19401D5-28BA-477D-8E0A-A2B592BD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04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05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B687F65-79D4-4005-958B-1C02F3A9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26BDFEE-89DB-418A-A9AB-F4A5124C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0DCD7-AFA8-4C44-83FA-E3BC2CAA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1A12826-96BD-4079-8361-BAD29397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C21606B-AFA3-4C6F-A5C1-87D9716C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FD0A63E-B32B-45C3-8956-B64E3655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D543BC4-26AC-4648-BAAA-AD2BF199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6EFF454-7100-4786-93B5-92655638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A73134E-57D9-41DD-B11D-FA14AA8C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A8CFE7D-997A-41E1-881A-D4D2C91C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EFB1F5F-221D-43F4-85F1-791DBF6C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734276C-DE4C-4A2C-8A57-89D24703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496C39E-48AC-422A-8BEA-EFAFB07F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AD123-C737-43BF-9481-479416A5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45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46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BE6B979-E27B-437B-BEBC-B3B3209D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5AD854F-88FB-4DAA-9714-F52B71E4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9545BC2-45DD-49CC-A2EF-079704CE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5F02E76-4F8E-41FD-83A1-05D14DC3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A06017B-9B23-4AFC-B264-A2CCA222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0CC5EA0-43C2-45D9-AD82-DF6F3F42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82F16ED-1956-4E31-B0DE-2ADD8DC4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FBFDD5E-CEBA-47B2-BC9A-5E960DE6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B8253CC-70D9-47E9-A66C-642852A2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A1286B1-16A8-4781-AB88-1079D446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61EF8-AF84-494B-B170-4A09FF7A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3F3B3EA-B941-4B30-B2C6-55BBC63E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80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E3582D3-FE41-41E6-92B9-039CBAA1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86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87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42C6804-066E-4262-BA00-71F06E94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42AE859-AE7F-48D5-93CE-0A631905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48C7694-F392-47E9-8A5B-FCCF530F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73A79F7-1531-462A-A34E-3EB05BE4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D3576FC-1EE3-4D48-BE3D-B962BFD2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1D35CBB-9E69-49F3-B9E0-7312C576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FE8EA55-7974-496A-8BF0-3F51A876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F6B407F-D138-4316-BED1-16E656E6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019F-96AA-4F85-AD63-10102D13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F2223-1DCA-4D22-9AB7-08B0A561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5082013-4070-4FE7-86C3-72DF7F2C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E5C6346-308E-4865-8F37-294D9D25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59A681F-DF8C-45F4-B85D-69A577E8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63A5A8D-2A95-446E-94FA-23452E62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27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28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0707A8C-BA48-494E-9498-F3793DB5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E84A62B-02F5-4122-B016-01F24A93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20E5E48-2672-46D3-90C6-9EE8F88A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B1B62DE-650E-424F-BED8-104CB848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26EE11B-2EA4-430E-B35F-AE9F2258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646A0C0-7855-4565-8D30-F49C8756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3CF82-EE48-4F89-BC6B-03D7CED8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A5373C0-DFA5-4865-9EC8-6C4EFA04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7BD2FCC-52E9-4A0A-AFA3-C38E6E73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7AA7E51-E429-4871-9CA1-4CBF72F7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ED95A98-96E0-4C40-9571-6336AA54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D35EAD0-A685-4480-AFEF-786C3008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D272CB6-AEC8-4001-A97E-67F63A70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68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69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C6D10D5-5C46-48F7-B9AA-FC08F8F9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841CB4E-FFC7-4702-BBA8-5E28B77C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5C330D3-45AD-4BCE-A6C0-BFA3388D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8506455-5212-45C7-839A-382D6730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DD1A1-2096-40C5-B438-4754F3EA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9F6DADC-6C03-4CC4-B1D4-F559851E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246EB3A-55E7-4698-B708-B8526180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08E5955-5117-44A6-BCB4-88094E36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A50594A-E5EE-4621-BAB3-6230AD7F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8715ED5-0E09-497F-9BF6-787BBBEF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9A88418-0E65-48B5-BB83-B98D095A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34D11B1-D2B1-44A0-9C52-0D4E77C4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E094091-0846-4A4A-B335-9ADBCD94D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09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10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AE1AFD3-9DE8-4F77-A6D6-99157BAD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85F9754-0D85-479E-973B-2B2CDD64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8D61B-9299-45E8-9FBD-1C5EAF77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3554EE6-6188-48D1-8B95-68B5ABA8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B6DF953-8225-466C-8C71-6E096278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F2D2D2B-8A96-46CF-A1FF-64C52586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9F634AF-A957-4F2E-9156-343BC8B8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7324580-35E7-42C8-BDC9-6C27B0A6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FFA5E17-9477-4084-A4BE-3EFF2E78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6AD7E41-C1AF-456C-B83C-CE8AF072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8AF468E-687E-4581-A1A6-BF0DC613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3948A67-F04F-40AA-B0CD-EA005605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4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44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241B111-6110-4702-B7D7-2A0D6D94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B8A95-82A2-4DE1-9DA3-EF096EA1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50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51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1554273-504A-4ECC-BD16-92AF2ED1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EA2E2A7-3034-423B-9D51-1E1301AC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0DDE378-0451-4FDA-AEC5-67FF19C7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09BF422-10FE-4617-8D69-6A08A85E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05339DC-79F6-4026-BAE2-CD2780B1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AC866AB-FA77-4D17-99A2-5BBA43F7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DE4F8BB-E574-4542-89C9-3FDCAAF9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6D7AD53-FF45-4DBB-8C56-D3B6D500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3492B06-BADA-4D96-8129-2C5C1294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700C1AA-0B91-4F1A-82D6-5655596E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4C891-C3A5-43D5-AB28-935FED3B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0FD4650-7C00-404D-ACF8-E89BC527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85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5717711-6BC0-4114-94AD-172BAE7D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91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92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B0355FD-9E1B-4A1A-B38E-7134BFC3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BA17F92-790E-4009-8649-85BD4CD6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D1A564C-B058-4E4A-9251-81584556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DF5E2B2-D71D-4EE3-80F2-B6510421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56F74B4-71D2-47FF-8F5F-94D6C624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B26F1CC-2C07-47C6-9B27-397CC101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B1A920A-2BA9-49C5-9A49-4A2AEB5F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D2E46E0-1CD2-487F-A8DF-97D9360D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54870-AA39-430F-83F9-ED131B39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3E6202A-FE56-4C43-94AF-24637F78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8F53D3E-9A60-4713-98BA-A5884092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CAACD27-60E7-4D61-8261-41473F62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26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2B36F3A-8364-4108-AC3D-84D15663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32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33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6A5F14E-E065-4547-BC69-E0F10234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4E3AD8B-DB88-4648-B9D6-622A8E3D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3DEF4F8-37AA-4A98-A1E8-91AE93C8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963F95D-278D-49FB-92DD-76200B7B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8B4B218-1BD3-4363-8A01-0D9B633D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8ADF7C1-9BD6-4B9F-87D4-3BE76D40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8794A-38E2-4B4B-AE54-3AABE484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C5724BC-8097-4A56-9B6E-2AB72FE1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FB4F1E2-07F9-48B2-9B70-BDA169BF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76FD2F8-B472-41BC-AD4E-4A20EAF8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2C9B41D-075A-4E6E-833D-B98D5E7D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73115E2-B864-40F2-BFF8-8BB80A3A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9133481-5693-4F68-9CDB-E2BC0842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73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74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4815396-7155-4EB3-AE36-ACD3A652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54312FD-1A84-491A-BA9F-CEFCB232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351A362-9C77-4A97-A7D0-F8A198A2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06EA963-1324-43FA-96E6-C9ABE639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4C9E0-4632-4833-A784-C1AE7C48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27C5D16-B4EA-423F-AE8B-54ED2CE1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6902386-318C-4A47-AD4F-4A35468C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0B91662-B716-40CE-9423-1E47196D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303043F-4EA5-4F94-89C4-C83A771C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07E772E-E05A-4C06-8A12-55DE5488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7C5371B-6774-428A-AA94-91C73439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513C6FD-DEBC-43B5-9584-617C6021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08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53D4CD7-1A45-4819-99E6-F3C1469A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14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15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1739325-8FD0-4392-81FD-89B51FB3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8A54565-831F-4958-991C-A979215F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A8926-43C7-4C9F-B70D-BF3238A5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C7D58C2-9598-4F17-92E4-09C0234E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2D814C8-570A-465A-ABE8-D04CD933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F1FDDF4-D98C-4D20-BCEC-B3FBB38B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0B2117F-6148-4DE2-9181-B573266A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65B3EC2-90E5-424C-88E2-A7DB7845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856FA2E-D6A2-4FA1-999B-B8424CE3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C8932B5-DAEA-4935-866B-693A68C4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FF87096-68A6-4DDB-97B7-E2D5CBDD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3076027-35B1-42EC-8DC9-37F87212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49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986D66F-F6ED-4F41-8BFA-387B43D3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C7B6-C017-4A43-A4C1-274201D4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9DCD0-36E8-4BAC-B4FC-1752F00A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55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56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71994AF-A48C-4461-895E-ABAC96A80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D733157-6FCC-4F87-91C1-78CCAEF4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4F36C90-6F70-43A9-B52A-8741615B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7AAE857-C266-4FF0-B674-6BDE0D52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B08DAB8-FC40-42AC-9265-DFF1369D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8329CF6-12C3-4F62-8964-3466E50C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BE4C0A3-F80B-4305-8909-3280D341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A611DFF-0C90-4199-A4C3-51308E51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5FC8FD6-AEE9-4050-BD5F-9E3EE5A7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138D8F5-9D9F-458B-BA15-235F49B6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EF19A-F607-4184-83E7-DB64B723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EFD65C7-647E-4EA9-A813-20911313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90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924035C-AA05-4EBC-9DE3-990D2180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96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97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2AA0D8C-7853-4B41-922F-8635C1D7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301AC6E-1EEB-481E-8D28-260AD655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64AA993-304A-41C0-84D3-E31822F0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96EE20B-CE3D-4035-BC3A-DD9374C6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FF824CD-A9F1-4520-940D-9C2BD8A7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F94E301-D15F-4E37-875B-29D892DB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978CD91-4F4B-4C23-BC9A-84295D2C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888F11F-B9AB-4012-963D-8312D1E2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ABC76-A20A-401F-9FA0-C909C5DA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D0D2B72-B153-49E5-8F9B-6A4BCCA2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4437B41-E666-4C1D-A623-6037751E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61AB86A-ED7C-4FAE-B1D9-ADEF1D83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3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31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49A620B-9DED-4A94-A132-704CDB7C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37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38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5A39B66-BF2B-4EF6-A3DA-B17EACFA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64AD35F-44EB-4FB7-9377-9830E429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C38FE43-BF40-4D46-A017-391B1EB4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1A371CE-B0F0-4B5E-82E0-F02DD74E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7434730-B2B7-4F81-B67D-58B3C14F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0C8EA3A-C243-427C-B75F-4E03266F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D6CD9-606F-4C0A-8723-62C7356A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809496A-1BA4-4267-AF63-8BAAF302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07237FF-3812-4B93-8E71-C2D8032B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989BDF5-EC31-431A-80BF-85F47E14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322FD21-C22D-480F-9734-A74F37BB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FE64733-F15D-4694-B76B-D9A5A07B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7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7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72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77A8B7C-D393-4965-8FE4-F72876BC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78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79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586D6D6-B399-4EFA-BE80-702E51B2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2CD4543-4462-45CD-935B-4449581F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1F2474B-2682-46F5-94D5-BC0D432A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222A2AE-8631-4749-AE21-B06533D8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3A7AA-F5BF-4A6C-AB1F-F2EEF7EC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6592239-552C-425E-A7E5-4C0265CF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3A25138-D96A-404C-82D0-6A693D03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962E711-399F-4A00-8209-6C10AFFA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605A667-E2A7-452C-B26C-D0DF28FD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C1E98BF-F81F-47BB-8A56-5E9B57FA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A7E7A45-ED4F-47E2-BB0E-1B18E07A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1BA4808-E68A-4EE6-8080-57CE9E21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13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41C6D6C-D654-42F2-8EEC-CDAD3BED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19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20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67327D7-C961-46F0-8AE5-38704E1C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B452A84-0A70-427E-A8DD-19AF6174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F2DF7-12B5-4069-9309-FBDA89B9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8977058-FAE5-41B7-ABD0-A3DA4B09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3F9258A-9B16-4D58-A750-EFB57CA2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3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A1F9F77-DD4B-4D9B-A0FB-4B8A5DC6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F325FA7-243A-4879-8EC8-A4823E25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72DBA73-AF3C-4929-8E23-FC015EED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14FDE75-D2BA-41AA-9EE5-D5034848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75DA93F-595D-48D5-A253-B1E2528B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A54D946-5961-49A5-B407-C4F57471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68125B7-CEF2-4F3A-B25F-7E1E17B9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54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98CEBB1-0E26-4A0A-8849-B3397C4F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A8357-36CF-42D7-BC55-601C7C42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60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61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A70D624-C06C-4A4C-A488-055B34E2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494A3EE-4C3D-4060-96FD-53F2E7E0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01A4444-47AA-4409-AEE8-9EA268FF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2700401-BE2A-4932-916C-57B011D5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ED3CB89-6902-4839-9DEC-520C8508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DD0F160-276C-4262-A9F4-6C90C86A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B152237-5B77-4FCF-BF10-C2B68432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DFC40D9-4990-4219-8A07-E34E07DF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297F416-79DC-4C41-B0D3-B0C64DB6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29C1BA3-399F-45BF-8046-832AAD8A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F35CE-A142-4D5F-ABBE-C5A38693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ED51F39-5F26-44CC-B94B-ECFF1538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9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95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2AC5C0B-7FA7-48F9-91CC-4DADBF29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01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02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D5B9EFA-B42A-4200-BD57-E763D0DF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8D1012B-9729-47F8-BFD7-6E811B2E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C77299B-5D67-4294-A5C3-725777DA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633A483-EBDC-4D19-874A-1CDF2A49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B3952D9-CCC1-4A6A-AB07-0A2BE1CD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6F3D299-FD41-40AD-AC4F-AED1874E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F374AE7-4C91-4DB9-9877-7439E2E7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FCB1846-0291-4F77-89BD-EE6349DA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FA81B-BDEB-4FC0-8446-D271EA00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5E1F126-FCA9-4969-AFF5-A7D4776A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3CB02F9-B0A3-4909-BE4B-6868F43E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8C6509D-EAF6-439A-AD22-8DC3AEE2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3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36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D56D3B2-0D18-45BC-B529-2B1DD0FC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42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43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DFC7636-D170-472D-97F6-AA46F3A2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C69B491-5AF5-4935-A4FD-53C32A41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2BD18D2-3C69-48D2-93AE-37C01502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11639D3-3834-40CC-A5B0-C9170731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B34C5C4-13F1-4F8E-89C9-65D4EC48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FDE5C58-C6FE-4D1A-B3F9-D4F7273C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6E938-9A64-4D2A-AEDC-17BCE688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9770B27-0AAD-4920-B5A3-E1037C8A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D578147-FB6F-4CC1-B1C7-95774F24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F3F5F9A-A871-4F9A-BC61-B3C8476C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18FC054-5C51-446C-B483-F6C84287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218E60E-488F-4B2A-B32B-EBF8CD35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7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7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77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EB75E53-348B-4E5B-BE90-557D6869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83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84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A243D3E-348D-4CD1-B96A-0F0919EB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AB2140E-DE47-4C46-899A-134A373D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4A8E6C3-78E3-46CD-BAA2-EB72B62B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31E66F5-2413-4B49-8A85-E64AE6B1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B975-DFED-436D-B4EB-E99CB071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0DA32-4A8A-4817-B45D-57F36796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F83C1ED-B7FE-4B85-9135-00D80AE7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7338CFA-1FD7-4BBA-9633-F8CA93DD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F8EF1AA-360E-4588-9ACD-652D0D08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8C5C1B9-6846-443C-B460-123ED55D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8C087F3-6B61-4A55-BA64-ECB94B63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15A0D17-8E36-4406-8321-D0A4E605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4A61E39-7B83-4D89-A860-7ADF0E18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18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F2CBEB5-1F81-4618-B0BF-1C771B47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24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25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2ABD28D-B571-41BA-B4FE-716A1382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4136F3B-BDF5-42D1-AE68-5460AC22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79600-C6ED-4F60-9796-465E0142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2EBD38B-AAD3-469F-B081-5516793B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E3EC108-91AC-4EE0-BF09-27BD7BB8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A056114-E078-4E3F-AF1D-0FE82A40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0EC39B7-7B37-4B04-9A51-CD06346C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038339D-B386-466E-8EDA-7EEE1518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4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0737EFC-D020-4C82-A9E2-77552393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57E8DD6-70C5-4970-ACBF-495BDB75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F90953B-B9BC-4884-A751-138BE0AA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2EE81A4-1208-43CA-BBB1-E5785C2B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5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5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59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0A58968-0A34-4AE9-AB30-0D6FFB4E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7FD10-0044-4231-93F9-B5C0AE12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65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66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CC2D7F0-CDCB-4A7F-974D-E73A8886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8FE1E9D-AFD0-4F49-BAF3-DBB8A2F1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7E73732-7C2E-4D3B-A0C1-6C48ED2D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F4A3641-9535-4AFC-9010-888D14F8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086C709-CF5D-4023-9FC4-BE59C39F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E5589D3-EAF5-4638-88ED-164ABA2C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10B2519-B156-49EF-AE5A-2A55B73E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C25579A-1A3A-45A7-BA4E-E71EC28E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88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C8BCEC7-821D-46D2-BB9D-E332280B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A594BE5-76DA-4275-ADE4-04800FDC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C4400-01E7-4C83-82D3-CCACE6D9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3CC698A-4A78-4C20-8564-314088AA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9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00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9669111-EE5A-4016-9584-BEBCDE06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06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07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DCF8A45-A802-44E6-8F9B-DBB8B84F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8DC3E7C-2B88-4347-974F-46EB6569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B8CAF33-2971-43C3-86A7-6CFD7C11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1B4CB1E-5803-416A-926C-969D5F08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A402003-3710-4F8C-B409-85527C7C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0674181-D6FB-408D-9C25-F24D54DC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59A5BE0-B90E-40EA-8F53-D720EFD0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2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2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1D19066-1617-437F-892D-2A9BC161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2F4A8-F0AF-4C24-BF2E-97FEC39B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412BD14-5FDA-46AC-8E83-836106E8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A89ED83-589B-48CB-AF28-B4B3EDFF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18548B2-01B3-41A2-8495-60F8AC42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3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4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41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EE94787-544D-4932-B4F2-B123BF2A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47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48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F8207E2-FD4E-4197-8F06-B53C2BBC2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3B25038-D510-4341-AA46-D018754A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EEBBE5A-CE56-4975-9CD5-C95DA065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00082D5-D73B-4726-BCDC-A6CC4850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B20F74D-6EA4-4FAE-A4F7-D8444CC7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EE1088C-9775-4964-9226-07FB4EAB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68271-FE36-4618-B64E-C863B9E8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CEC82B0-E854-4B9C-A5FC-EBF94B24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9704E27-8027-495A-9B80-C052AA6B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955C577-CB1C-409A-8975-478058AB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0E39D02-5565-4825-BEEB-D1521960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074D9EA-3F2B-4B3E-8195-6AD3DE7E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82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9B1A38B-A6F0-41A2-870D-4D109EBE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88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89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F12B2BD-CC9D-4DD8-AC8D-B7C2A2D6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58687B0-702B-438A-9A12-E5865D09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C1B4F9C-979F-451A-BFF6-9D8143A8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698FC4F-8B5C-4A0D-BF79-D5D22B8A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A7520-F5F6-42F0-90AE-540AEF05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0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E21BD68-8A40-45CA-8AA0-A95253A3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474AD5A-1467-4E5C-9C62-08F1327F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A82EC07-DF62-480B-8079-C060BF1A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0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0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54B9A7C-A2A4-472C-B9E4-4A154C61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1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11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FD85C0D-E325-4F8E-A6E8-A791168F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26B31BD-50BC-410A-A35E-48F2F5A4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FFC52BA-6167-424E-A1EB-B19D1B76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23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BA9C7A5-18CC-4057-A811-75398FBE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28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29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30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5208EE9-2BEE-4EF9-8361-0208611E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C202B91-FDBE-431B-AD1A-3F1EE5AD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AF1F6-5CDC-41AA-9F23-BF92BABF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8099DB5-BF36-4DC5-889F-36DC9D79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84DD44F-BB62-4891-B038-8BC92D0B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4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3ED2F5E-640E-4CB5-8FB8-7A2E2D86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751A259-845C-4500-A28E-43901D5C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872FF5E-6925-49E2-8691-A6F13497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4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4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4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6C5E043-3AEC-4979-A2D5-C547C381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8235B81-3CFA-4948-97B1-6CDF3218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5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72F864C-30D0-477B-9302-86EFB313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18EAE35-FD73-4BA2-B740-A6454BA7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6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6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6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64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8553A60-2D8F-4F78-84C7-179334A9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8B810-A322-4571-A12D-E1E932D9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69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70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71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BD82A69-7399-446D-BBD3-B738E60D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D00C167-14EB-4894-9AAE-203009CE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9EB3A7C-2254-4AE7-9657-7BAA7985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7334392-5756-423C-B981-9610C2F0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EE51AD0-80CE-48C5-B238-7AF6EA50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7D7CA46-75AA-4ED0-8633-423419DD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DE4F35A-64B2-4E88-A02A-B77FFAD9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8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CA5BA0F-8397-4CD8-9611-56279CD8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93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D7BA197-89A7-4E7B-8B0C-32925E3B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5E31921-D194-4772-B118-4731C5FD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4E0A7-42BD-4DC9-A61F-68A10ECB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DC9DFAE-8AE3-49ED-96D8-7FF84E21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0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0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0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05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C7698EE-585E-4DF2-B26E-EF295133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11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12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73211C3-79AA-4CD2-9F15-0490B86A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F67CD80-1B23-4940-9556-E81C859E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D861979-71E0-4032-9101-FF5B45EC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958FA0C-E10B-4D28-807B-B8312E53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2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294A814-BB0A-4C70-97F7-9A93E9FB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DBEAB2D-C82E-41C2-84DF-4F98FBF1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988D3DD-E361-431F-965D-B3C31B42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3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95568F5-0851-4121-9754-983D00F1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CD1-3BA5-4702-9CC6-15CBB284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B0895-805E-4090-B49C-1AFFB30A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7377301-665D-4AB0-B661-085F723A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830093C-B1EB-42B8-855A-E5F20898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673A253-6405-4EAA-9A20-580F1B51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4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4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4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46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09CAB70-E3CD-47E5-A733-2E423272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51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52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53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45A0BF7-65E6-425A-BC4B-83A1FDC7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99B3112-031D-470F-891C-7A37E205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697C061-5673-4041-B105-FDF546C4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E281D29-2EA6-423B-9F32-66844F86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6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6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FDA91C7-5753-4957-8FB1-2D8B7710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68A1145-7DC5-4F09-B4EE-CDD491EB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A62F5-4E31-49DF-A931-D772742A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6F84360-306A-4EEE-82F0-F0BDDDED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7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7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93E84B5-156E-4787-BCD1-34BA26B7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7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75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CA2A401-3F6D-4494-89B1-6DB07EFB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AE81AE0-A98E-4C00-8F3E-7F365207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E58EA4C-EEB3-4570-BD1B-DF43FC73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87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8DFC194-18CF-43E2-9604-CF0F6E7C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90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91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92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93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94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64135A6-AA5F-49B2-9038-EBEAFE69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7CAD37E-C30C-4E09-9706-D2B215C5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D490AA9-59AC-4E42-8E6F-67595CB6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8010335-9510-4EF0-B4A2-2B1649B4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13B9E-C9AF-45B2-A965-8F9C7AA9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925323F-05AC-4645-B909-71B21741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32797AD-76C1-4D8F-B9FB-97BCD978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C7D7FBB-691F-4A61-93E8-0C889205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1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61C931F-C998-4D1F-AE78-67F21860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16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0DDB6B7-D408-492B-BB99-56BECCB3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ACB5DFD-3515-4BD2-9086-3058A964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2240400-8D82-4D06-947E-123D321E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2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2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28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662B259-CD76-4CAC-9EF3-22385F7B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34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35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40C73C3-7388-48E8-98AE-02FFC489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B18D294-AD87-463D-8C29-768EFCE6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33D55-2D84-4B55-876E-8406E83F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762C72F-51FC-4288-962D-80662998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6BC8D66-30C4-4EF9-98BE-14E99098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ACD8C24-7D00-4F6B-892E-2A526292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E004BC4-463B-4C1E-94D8-37C79E44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05BABFE-9BA1-43EE-91E8-858784E4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2A81547-66A6-4B5A-B5F7-1B0F3FC5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57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3154AC9-75B2-4B65-8574-25C66F0C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F3D7466-FBEB-4B3F-98C1-AF1FB729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3C5DC42-A655-4DB2-96B5-5390A690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69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29327BC-8793-42B1-91F0-61F42D73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5F8CA-B52A-480D-AA73-B587A057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74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75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76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9F8C45C-DDAE-41C9-949B-80CA7335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1E61EBD-34FE-421F-A1A2-6209A22A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83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9289BE4-9E39-493E-AA23-730B2682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E835431-D21D-405B-8308-E2781936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5A7548A-33CE-4015-ADD4-3339EF51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A07B0F5-107B-4414-A28B-C1BC16D6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27D4A48-5B51-4EA5-AC2A-4C1C8E81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9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9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4932D64-4D6A-454E-82B2-0F7F7684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9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98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B3921C0-A65B-4184-9B27-D61CC405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0003144-4C74-4ABE-938A-81CA9CF7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7DE4A-783A-4460-A6C7-B61B3094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A4675A3-2A68-4BD1-B817-A96180D1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D0B963E-C7D3-4007-909C-2A1CD262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15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16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17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D487F24-8E9C-404D-BD68-4DB3BBD3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839DD20-D99D-4336-9D45-9C7B89BC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AAF0107-5A7F-4656-A278-24024128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12A4FE4-0F4F-4EB7-A806-C3E5F9F6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2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7C46085-2676-4FC6-BBC9-DC01BA3D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5C9D5A4-C03D-4E36-B728-A2932AC2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14BEEB2-A540-47F0-B7A1-FF67C541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A284CDC-DA31-41AA-A1CE-1EF5A139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A47D1-AD3D-47F5-9B2F-8972D107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3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39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E62CF2B-8244-40B9-A6EC-DBF2B375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92013F1-FE40-404E-BC21-A5FA05B6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53558ED-FFC8-4EDB-8970-B2E545CB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4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5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51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8104137-264A-4597-822A-FC031FE9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56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57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58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F385383-BF02-4AD6-A732-1EF16897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3F2A6B4-29C9-467A-8E8C-5B9C92A7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8DF3B4B-C076-40A7-99C2-CECDD7B2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5B3204F-20DB-4D51-A005-4B1EBC3D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7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DED7269-264E-4156-8DBE-AC5B9712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3716141-6B4B-4BAF-9A70-EA6F9537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F5A80-4F28-43BD-92A6-7F55911B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5891AD9-59D1-4E51-B989-2006F819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7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4BA77BF-E069-4649-813D-70F6B3EF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7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7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80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A91A0E1-12DF-499C-BD53-125EA497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B755822-542C-4FE8-9EEA-76922C66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952C8BA-61A2-4B52-AD1F-A50B3124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8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9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9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92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F976F88-25BB-4555-9AD0-EFFE8DDF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9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95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96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97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98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99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B228356-6272-42AD-AFC2-A3175CE0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4E55437-79C5-4995-8426-CB3C1F8F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F366DEA-41B0-4179-95BA-7CC6064C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DC7350F-880C-4420-98A1-13D89EC8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2B79F-0D39-45F3-9CC5-80B23361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8B1B749-B069-467D-9D58-DB4E4E39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F56B72B-8F8E-4B2E-B329-7AA5DCEF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E9F7717-3C81-45EB-BEBA-A25FBC4E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1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1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CFDD69E-948E-4D9D-A820-4C5AFBFF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B6149BC-737B-42AF-AD34-C1F9EB46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01FCBDD-A90E-42C0-AFB8-6DD3A1EC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E1EA873-2873-43F3-B767-7DAE7125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3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3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3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33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A0D67B7-C381-4963-9FEA-2E0A6BFE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37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38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39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40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B44EB26-BD90-45FE-86B7-377E9941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7CA1B73-1BFC-4AE5-9D6F-3A87AAA0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908CE-DFE5-4991-81CF-D091BB6D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C613FE4-D28D-413B-BB6B-63EC77F8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5932990-2AEA-4354-AEC0-6EF90EEE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10DB721-7B5B-45A2-B2F8-87000FDC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FA48F27-E01F-4362-B116-F5E99F5C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A8D3087-8AB9-4205-9819-85113C76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5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5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62FCE10-C734-4A18-A958-AEC564DD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6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62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F7CBE12C-0EE3-48DD-A2D4-F64EAB95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6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6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7B0FFF9-4E14-4F19-972F-7FE4A28D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F499C5D-97F0-4532-AEC6-7A6A44CB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7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7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7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74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B35A48B-2B03-41A8-B0EE-A4124FCB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DD9F-EE63-4FF7-A67E-722A1DC0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AAAAE-7D77-4AAE-9807-910374DF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7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77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78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79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80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81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4E3E25E-0DC3-4C64-950A-5DFE71D41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15B5A6E-7D6E-421D-99DF-A089774E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88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1EE533C-2C95-40A3-BD37-8BDD19E5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4F81A0B-548B-4155-8E85-A68F07A8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9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9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36026C3-D454-4A2D-A8CF-7B59BE60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164CE3A-8497-44C8-83DB-8DE9A76C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7894733-5F8E-4AD4-93C8-FC944ABA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9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9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9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E96CA22-A3B1-4E0D-A3B4-3E9BF84A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0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0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03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CB49A61-6840-42AD-9290-79283AB0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0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0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0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82CF8858-FB4C-4F8A-A0A0-6C814AB1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60D39-A4CB-490F-BA56-478EA4AF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8EAFA8C-BFF2-498A-988E-E08817F3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1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1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15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17E42F8-1B02-4121-B93C-BFBBF7E05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18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19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20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21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22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FAD0EE1-03C1-4753-9233-08164F06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FFB22D6-5496-4399-B857-8EF05439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9DC6B253-1DB3-4C3A-9551-6D671971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47625AE-1ABA-4D1B-823E-F22DBCFE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67D2D5E-E536-48A7-82EF-37C28318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BFDF7E6-D3A9-477E-BED8-96483019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337B59E-9D3B-4E8C-9225-E71D98B3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3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3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4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9CB41E7-2A1C-4EC6-81F2-3651FCCC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4B9BF-BC59-492E-B026-14C678B1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4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44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3C355F5-5BEB-4198-A742-1B1754DC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4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2890ACE-6F7F-4A21-8264-D8E89D25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7CDBC32-C330-47D4-BBB6-73F8E842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5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5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5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56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3DF6AD0-E58D-49F4-B89A-7843CB1E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5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59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60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61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62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63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9D99F40D-A4F7-4113-9D40-3CF42994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AD232346-D863-434D-A0EE-4717E090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17890C7-4FC7-414D-A936-C79C67FA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DCF11CF-E547-4997-AA3F-49BCB9AE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A577F0F-C872-4389-A41D-0803ADDD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414EB67-EE11-44C2-AA34-255A521F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3F2E6-DAF4-4276-99BE-35646E3A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17A8726-8EF3-4091-935A-212BB618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7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8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8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0A20A3B-666D-4277-83B3-86C77941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85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B692E96-6F9C-4353-84A7-5D56C0DB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8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8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8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8392516-0B09-499B-B37E-8F8032E9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F13C49C-69DB-46B4-9E86-4DFC0AEF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9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9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9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97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52F2E3C-6A00-48DA-9FAB-8686EBB8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02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03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04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218BCE7-09AE-40A0-B461-17BA0B56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5810F55-2D80-435D-A6CC-97E1A3CA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11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F904D22-2D53-43CC-8666-12E40118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1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2C24233-AD25-476E-9FA6-D9EBED5A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39794-8475-42A4-A311-895C7C26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1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2186E58-7D1B-4785-85D8-CC076AB2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9400A88-D182-42FB-B6EB-506F51A2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28C0999-AC32-479F-BED4-C8D9AB86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2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2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D42E96B-45A2-490A-8B5B-26178030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2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2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26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FC911F5-963D-4EBA-8726-3FEE4215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2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2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3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C6A2D10-86B5-4B44-B567-EF21485B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78928D83-0C49-4B18-8D43-FEC0D971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37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38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6082274-51EA-4762-90D7-1CE19E2F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4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41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42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43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44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45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7D928234-6484-44B1-8FFB-F36A6A88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498FD9A-C33A-4B1B-A89C-DB1CE5B6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D856B-5753-4FCF-9516-7D21E4E0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52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A738117-18AC-42D2-8BB1-3C60D404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7369B6F-A6EC-4A2D-B099-15206556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687826CE-779E-441F-AEB0-8CBF5114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BD0F790-E520-4D2F-AD91-9F1D6EC9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3E34775-96D3-499F-91FA-A1A8C3B2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6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6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A10B350-D773-459E-9B26-DFA33EB2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67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CE233E8-02E3-4D98-AEBF-D25F179B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7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7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030F040-A5EB-476A-98EE-F56D85B2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076696E-C3D9-4EBE-91D0-2361E352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7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78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79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50C607E-DA19-458A-B7FD-B2E27383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8FC48-3DCF-42CB-9301-911DE246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84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85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86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0674625-FF12-4E6D-BFD7-EFB4FFD0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5B3D2FE-20F7-40ED-AC27-C51384B6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93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40BCAE2-7576-4925-8981-F49DAF43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F2D8BF0-EF0C-4322-A4B5-F0B292A9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9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D6CD1C1-5478-4E28-9887-D45030F1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76AFB8C-6C70-4449-B072-C8556070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0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E6A31C0-207B-4047-9294-4C03F8D5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0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0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0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504FFAC-3456-463C-B430-DB646479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0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07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08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89667FF-5DE4-4E93-86E4-D5190E51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11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12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99E426F-4C48-434A-A071-51E0DB51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1D50C-0B36-473E-970B-D4728987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F2F48B2-6057-466F-8D39-330FE380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1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1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19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20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0B6AEDB-CBE7-4667-B64B-35AACBF9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24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25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26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27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073554E-2754-4B13-B2E1-A368AC09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3B1DABF-1010-4D0C-8A1E-228F401C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34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7136489-C269-421C-BC61-66400BE7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C46850F-758D-4417-AD41-D1005904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3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3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792E06E-CBC0-4E28-BDB2-099611D1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F88074D-058B-493E-B411-7843F200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D3A5DE9-6C9B-470C-AD81-268EFBE8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4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44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45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FAF625BC-4FDC-4A85-BEF0-BBB0DBEF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2E032-6A19-4621-ABC0-02A24A1D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49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F1BF1DE-200C-41E1-A2C8-D65B374A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52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53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0A629B6-2668-4800-981C-C42CC7B0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FFC223C-C9AE-437A-A0BA-71CBD64E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5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5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60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61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1A735092-B060-4043-81D7-ACC5753B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66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67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68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1DAC3FE-B4BA-4E08-8AD8-4E89D91D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18BD2E2-BDB6-4DB1-B1D2-2CA06B40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BBA054F-DA93-4184-812C-82954B53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5D32CBF-C254-4D3C-8367-CCD4BA09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7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8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F77C4AC-7246-4736-8AF9-8D803578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D26C6F0-4DC0-4467-8B76-93E02977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72CD9-AB6C-4B6E-84C6-8B049B45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69595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CCA0D11-964B-4715-9AA4-B42A78EE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8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85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86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10A4DC6-1063-4132-958C-9B714C7C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8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89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90" name="PlaceHolder 4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7200978-036F-412E-9C36-A16AAC7E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92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93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94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2176525-93CA-41E8-BE8C-F259931C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97" name="PlaceHolder 3"/>
          <p:cNvSpPr>
            <a:spLocks noGrp="1"/>
          </p:cNvSpPr>
          <p:nvPr>
            <p:ph/>
          </p:nvPr>
        </p:nvSpPr>
        <p:spPr>
          <a:xfrm>
            <a:off x="468000" y="3920760"/>
            <a:ext cx="82184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CFE2D6D-EBEA-4A6A-AB4E-AB64FCA8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99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00" name="PlaceHolder 3"/>
          <p:cNvSpPr>
            <a:spLocks noGrp="1"/>
          </p:cNvSpPr>
          <p:nvPr>
            <p:ph/>
          </p:nvPr>
        </p:nvSpPr>
        <p:spPr>
          <a:xfrm>
            <a:off x="4679280" y="13953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01" name="PlaceHolder 4"/>
          <p:cNvSpPr>
            <a:spLocks noGrp="1"/>
          </p:cNvSpPr>
          <p:nvPr>
            <p:ph/>
          </p:nvPr>
        </p:nvSpPr>
        <p:spPr>
          <a:xfrm>
            <a:off x="46800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02" name="PlaceHolder 5"/>
          <p:cNvSpPr>
            <a:spLocks noGrp="1"/>
          </p:cNvSpPr>
          <p:nvPr>
            <p:ph/>
          </p:nvPr>
        </p:nvSpPr>
        <p:spPr>
          <a:xfrm>
            <a:off x="4679280" y="3920760"/>
            <a:ext cx="4010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8FDBB7D-FF74-4E3F-9B42-AC395EFD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05" name="PlaceHolder 3"/>
          <p:cNvSpPr>
            <a:spLocks noGrp="1"/>
          </p:cNvSpPr>
          <p:nvPr>
            <p:ph/>
          </p:nvPr>
        </p:nvSpPr>
        <p:spPr>
          <a:xfrm>
            <a:off x="324684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06" name="PlaceHolder 4"/>
          <p:cNvSpPr>
            <a:spLocks noGrp="1"/>
          </p:cNvSpPr>
          <p:nvPr>
            <p:ph/>
          </p:nvPr>
        </p:nvSpPr>
        <p:spPr>
          <a:xfrm>
            <a:off x="6025320" y="13953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07" name="PlaceHolder 5"/>
          <p:cNvSpPr>
            <a:spLocks noGrp="1"/>
          </p:cNvSpPr>
          <p:nvPr>
            <p:ph/>
          </p:nvPr>
        </p:nvSpPr>
        <p:spPr>
          <a:xfrm>
            <a:off x="46800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08" name="PlaceHolder 6"/>
          <p:cNvSpPr>
            <a:spLocks noGrp="1"/>
          </p:cNvSpPr>
          <p:nvPr>
            <p:ph/>
          </p:nvPr>
        </p:nvSpPr>
        <p:spPr>
          <a:xfrm>
            <a:off x="324684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09" name="PlaceHolder 7"/>
          <p:cNvSpPr>
            <a:spLocks noGrp="1"/>
          </p:cNvSpPr>
          <p:nvPr>
            <p:ph/>
          </p:nvPr>
        </p:nvSpPr>
        <p:spPr>
          <a:xfrm>
            <a:off x="6025320" y="3920760"/>
            <a:ext cx="26460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8306B98-FD80-4AD1-9410-9C59BD0D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8D07681-EDF7-4224-B1BC-FC35B80D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16" name="PlaceHolder 2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710FA07-F2F1-4642-951B-BE63E99C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A6BAAD6-974C-4C23-8E83-0385F445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81.xml"/><Relationship Id="rId4" Type="http://schemas.openxmlformats.org/officeDocument/2006/relationships/slideLayout" Target="../slideLayouts/slideLayout782.xml"/><Relationship Id="rId5" Type="http://schemas.openxmlformats.org/officeDocument/2006/relationships/slideLayout" Target="../slideLayouts/slideLayout783.xml"/><Relationship Id="rId6" Type="http://schemas.openxmlformats.org/officeDocument/2006/relationships/slideLayout" Target="../slideLayouts/slideLayout784.xml"/><Relationship Id="rId7" Type="http://schemas.openxmlformats.org/officeDocument/2006/relationships/slideLayout" Target="../slideLayouts/slideLayout785.xml"/><Relationship Id="rId8" Type="http://schemas.openxmlformats.org/officeDocument/2006/relationships/slideLayout" Target="../slideLayouts/slideLayout786.xml"/><Relationship Id="rId9" Type="http://schemas.openxmlformats.org/officeDocument/2006/relationships/slideLayout" Target="../slideLayouts/slideLayout787.xml"/><Relationship Id="rId10" Type="http://schemas.openxmlformats.org/officeDocument/2006/relationships/slideLayout" Target="../slideLayouts/slideLayout788.xml"/><Relationship Id="rId11" Type="http://schemas.openxmlformats.org/officeDocument/2006/relationships/slideLayout" Target="../slideLayouts/slideLayout789.xml"/><Relationship Id="rId12" Type="http://schemas.openxmlformats.org/officeDocument/2006/relationships/slideLayout" Target="../slideLayouts/slideLayout790.xml"/><Relationship Id="rId13" Type="http://schemas.openxmlformats.org/officeDocument/2006/relationships/slideLayout" Target="../slideLayouts/slideLayout791.xml"/><Relationship Id="rId14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93.xml"/><Relationship Id="rId4" Type="http://schemas.openxmlformats.org/officeDocument/2006/relationships/slideLayout" Target="../slideLayouts/slideLayout794.xml"/><Relationship Id="rId5" Type="http://schemas.openxmlformats.org/officeDocument/2006/relationships/slideLayout" Target="../slideLayouts/slideLayout795.xml"/><Relationship Id="rId6" Type="http://schemas.openxmlformats.org/officeDocument/2006/relationships/slideLayout" Target="../slideLayouts/slideLayout796.xml"/><Relationship Id="rId7" Type="http://schemas.openxmlformats.org/officeDocument/2006/relationships/slideLayout" Target="../slideLayouts/slideLayout797.xml"/><Relationship Id="rId8" Type="http://schemas.openxmlformats.org/officeDocument/2006/relationships/slideLayout" Target="../slideLayouts/slideLayout798.xml"/><Relationship Id="rId9" Type="http://schemas.openxmlformats.org/officeDocument/2006/relationships/slideLayout" Target="../slideLayouts/slideLayout799.xml"/><Relationship Id="rId10" Type="http://schemas.openxmlformats.org/officeDocument/2006/relationships/slideLayout" Target="../slideLayouts/slideLayout800.xml"/><Relationship Id="rId11" Type="http://schemas.openxmlformats.org/officeDocument/2006/relationships/slideLayout" Target="../slideLayouts/slideLayout801.xml"/><Relationship Id="rId12" Type="http://schemas.openxmlformats.org/officeDocument/2006/relationships/slideLayout" Target="../slideLayouts/slideLayout802.xml"/><Relationship Id="rId13" Type="http://schemas.openxmlformats.org/officeDocument/2006/relationships/slideLayout" Target="../slideLayouts/slideLayout803.xml"/><Relationship Id="rId14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05.xml"/><Relationship Id="rId4" Type="http://schemas.openxmlformats.org/officeDocument/2006/relationships/slideLayout" Target="../slideLayouts/slideLayout806.xml"/><Relationship Id="rId5" Type="http://schemas.openxmlformats.org/officeDocument/2006/relationships/slideLayout" Target="../slideLayouts/slideLayout807.xml"/><Relationship Id="rId6" Type="http://schemas.openxmlformats.org/officeDocument/2006/relationships/slideLayout" Target="../slideLayouts/slideLayout808.xml"/><Relationship Id="rId7" Type="http://schemas.openxmlformats.org/officeDocument/2006/relationships/slideLayout" Target="../slideLayouts/slideLayout809.xml"/><Relationship Id="rId8" Type="http://schemas.openxmlformats.org/officeDocument/2006/relationships/slideLayout" Target="../slideLayouts/slideLayout810.xml"/><Relationship Id="rId9" Type="http://schemas.openxmlformats.org/officeDocument/2006/relationships/slideLayout" Target="../slideLayouts/slideLayout811.xml"/><Relationship Id="rId10" Type="http://schemas.openxmlformats.org/officeDocument/2006/relationships/slideLayout" Target="../slideLayouts/slideLayout812.xml"/><Relationship Id="rId11" Type="http://schemas.openxmlformats.org/officeDocument/2006/relationships/slideLayout" Target="../slideLayouts/slideLayout813.xml"/><Relationship Id="rId12" Type="http://schemas.openxmlformats.org/officeDocument/2006/relationships/slideLayout" Target="../slideLayouts/slideLayout814.xml"/><Relationship Id="rId13" Type="http://schemas.openxmlformats.org/officeDocument/2006/relationships/slideLayout" Target="../slideLayouts/slideLayout815.xml"/><Relationship Id="rId14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17.xml"/><Relationship Id="rId4" Type="http://schemas.openxmlformats.org/officeDocument/2006/relationships/slideLayout" Target="../slideLayouts/slideLayout818.xml"/><Relationship Id="rId5" Type="http://schemas.openxmlformats.org/officeDocument/2006/relationships/slideLayout" Target="../slideLayouts/slideLayout819.xml"/><Relationship Id="rId6" Type="http://schemas.openxmlformats.org/officeDocument/2006/relationships/slideLayout" Target="../slideLayouts/slideLayout820.xml"/><Relationship Id="rId7" Type="http://schemas.openxmlformats.org/officeDocument/2006/relationships/slideLayout" Target="../slideLayouts/slideLayout821.xml"/><Relationship Id="rId8" Type="http://schemas.openxmlformats.org/officeDocument/2006/relationships/slideLayout" Target="../slideLayouts/slideLayout822.xml"/><Relationship Id="rId9" Type="http://schemas.openxmlformats.org/officeDocument/2006/relationships/slideLayout" Target="../slideLayouts/slideLayout823.xml"/><Relationship Id="rId10" Type="http://schemas.openxmlformats.org/officeDocument/2006/relationships/slideLayout" Target="../slideLayouts/slideLayout824.xml"/><Relationship Id="rId11" Type="http://schemas.openxmlformats.org/officeDocument/2006/relationships/slideLayout" Target="../slideLayouts/slideLayout825.xml"/><Relationship Id="rId12" Type="http://schemas.openxmlformats.org/officeDocument/2006/relationships/slideLayout" Target="../slideLayouts/slideLayout826.xml"/><Relationship Id="rId13" Type="http://schemas.openxmlformats.org/officeDocument/2006/relationships/slideLayout" Target="../slideLayouts/slideLayout827.xml"/><Relationship Id="rId14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29.xml"/><Relationship Id="rId4" Type="http://schemas.openxmlformats.org/officeDocument/2006/relationships/slideLayout" Target="../slideLayouts/slideLayout830.xml"/><Relationship Id="rId5" Type="http://schemas.openxmlformats.org/officeDocument/2006/relationships/slideLayout" Target="../slideLayouts/slideLayout831.xml"/><Relationship Id="rId6" Type="http://schemas.openxmlformats.org/officeDocument/2006/relationships/slideLayout" Target="../slideLayouts/slideLayout832.xml"/><Relationship Id="rId7" Type="http://schemas.openxmlformats.org/officeDocument/2006/relationships/slideLayout" Target="../slideLayouts/slideLayout833.xml"/><Relationship Id="rId8" Type="http://schemas.openxmlformats.org/officeDocument/2006/relationships/slideLayout" Target="../slideLayouts/slideLayout834.xml"/><Relationship Id="rId9" Type="http://schemas.openxmlformats.org/officeDocument/2006/relationships/slideLayout" Target="../slideLayouts/slideLayout835.xml"/><Relationship Id="rId10" Type="http://schemas.openxmlformats.org/officeDocument/2006/relationships/slideLayout" Target="../slideLayouts/slideLayout836.xml"/><Relationship Id="rId11" Type="http://schemas.openxmlformats.org/officeDocument/2006/relationships/slideLayout" Target="../slideLayouts/slideLayout837.xml"/><Relationship Id="rId12" Type="http://schemas.openxmlformats.org/officeDocument/2006/relationships/slideLayout" Target="../slideLayouts/slideLayout838.xml"/><Relationship Id="rId13" Type="http://schemas.openxmlformats.org/officeDocument/2006/relationships/slideLayout" Target="../slideLayouts/slideLayout839.xml"/><Relationship Id="rId14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89.xml"/><Relationship Id="rId4" Type="http://schemas.openxmlformats.org/officeDocument/2006/relationships/slideLayout" Target="../slideLayouts/slideLayout890.xml"/><Relationship Id="rId5" Type="http://schemas.openxmlformats.org/officeDocument/2006/relationships/slideLayout" Target="../slideLayouts/slideLayout891.xml"/><Relationship Id="rId6" Type="http://schemas.openxmlformats.org/officeDocument/2006/relationships/slideLayout" Target="../slideLayouts/slideLayout892.xml"/><Relationship Id="rId7" Type="http://schemas.openxmlformats.org/officeDocument/2006/relationships/slideLayout" Target="../slideLayouts/slideLayout893.xml"/><Relationship Id="rId8" Type="http://schemas.openxmlformats.org/officeDocument/2006/relationships/slideLayout" Target="../slideLayouts/slideLayout894.xml"/><Relationship Id="rId9" Type="http://schemas.openxmlformats.org/officeDocument/2006/relationships/slideLayout" Target="../slideLayouts/slideLayout895.xml"/><Relationship Id="rId10" Type="http://schemas.openxmlformats.org/officeDocument/2006/relationships/slideLayout" Target="../slideLayouts/slideLayout896.xml"/><Relationship Id="rId11" Type="http://schemas.openxmlformats.org/officeDocument/2006/relationships/slideLayout" Target="../slideLayouts/slideLayout897.xml"/><Relationship Id="rId12" Type="http://schemas.openxmlformats.org/officeDocument/2006/relationships/slideLayout" Target="../slideLayouts/slideLayout898.xml"/><Relationship Id="rId13" Type="http://schemas.openxmlformats.org/officeDocument/2006/relationships/slideLayout" Target="../slideLayouts/slideLayout899.xml"/><Relationship Id="rId14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85.xml"/><Relationship Id="rId4" Type="http://schemas.openxmlformats.org/officeDocument/2006/relationships/slideLayout" Target="../slideLayouts/slideLayout986.xml"/><Relationship Id="rId5" Type="http://schemas.openxmlformats.org/officeDocument/2006/relationships/slideLayout" Target="../slideLayouts/slideLayout987.xml"/><Relationship Id="rId6" Type="http://schemas.openxmlformats.org/officeDocument/2006/relationships/slideLayout" Target="../slideLayouts/slideLayout988.xml"/><Relationship Id="rId7" Type="http://schemas.openxmlformats.org/officeDocument/2006/relationships/slideLayout" Target="../slideLayouts/slideLayout989.xml"/><Relationship Id="rId8" Type="http://schemas.openxmlformats.org/officeDocument/2006/relationships/slideLayout" Target="../slideLayouts/slideLayout990.xml"/><Relationship Id="rId9" Type="http://schemas.openxmlformats.org/officeDocument/2006/relationships/slideLayout" Target="../slideLayouts/slideLayout991.xml"/><Relationship Id="rId10" Type="http://schemas.openxmlformats.org/officeDocument/2006/relationships/slideLayout" Target="../slideLayouts/slideLayout992.xml"/><Relationship Id="rId11" Type="http://schemas.openxmlformats.org/officeDocument/2006/relationships/slideLayout" Target="../slideLayouts/slideLayout993.xml"/><Relationship Id="rId12" Type="http://schemas.openxmlformats.org/officeDocument/2006/relationships/slideLayout" Target="../slideLayouts/slideLayout994.xml"/><Relationship Id="rId13" Type="http://schemas.openxmlformats.org/officeDocument/2006/relationships/slideLayout" Target="../slideLayouts/slideLayout995.xml"/><Relationship Id="rId14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97.xml"/><Relationship Id="rId4" Type="http://schemas.openxmlformats.org/officeDocument/2006/relationships/slideLayout" Target="../slideLayouts/slideLayout998.xml"/><Relationship Id="rId5" Type="http://schemas.openxmlformats.org/officeDocument/2006/relationships/slideLayout" Target="../slideLayouts/slideLayout999.xml"/><Relationship Id="rId6" Type="http://schemas.openxmlformats.org/officeDocument/2006/relationships/slideLayout" Target="../slideLayouts/slideLayout1000.xml"/><Relationship Id="rId7" Type="http://schemas.openxmlformats.org/officeDocument/2006/relationships/slideLayout" Target="../slideLayouts/slideLayout1001.xml"/><Relationship Id="rId8" Type="http://schemas.openxmlformats.org/officeDocument/2006/relationships/slideLayout" Target="../slideLayouts/slideLayout1002.xml"/><Relationship Id="rId9" Type="http://schemas.openxmlformats.org/officeDocument/2006/relationships/slideLayout" Target="../slideLayouts/slideLayout1003.xml"/><Relationship Id="rId10" Type="http://schemas.openxmlformats.org/officeDocument/2006/relationships/slideLayout" Target="../slideLayouts/slideLayout1004.xml"/><Relationship Id="rId11" Type="http://schemas.openxmlformats.org/officeDocument/2006/relationships/slideLayout" Target="../slideLayouts/slideLayout1005.xml"/><Relationship Id="rId12" Type="http://schemas.openxmlformats.org/officeDocument/2006/relationships/slideLayout" Target="../slideLayouts/slideLayout1006.xml"/><Relationship Id="rId13" Type="http://schemas.openxmlformats.org/officeDocument/2006/relationships/slideLayout" Target="../slideLayouts/slideLayout1007.xml"/><Relationship Id="rId14" Type="http://schemas.openxmlformats.org/officeDocument/2006/relationships/slideLayout" Target="../slideLayouts/slideLayout100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0D9F-53F5-42A2-A2E2-8F67B89225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D3A5-20FD-4D3C-A682-731B0B9C35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3EE3-0E89-41A0-943D-7576014167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155D-6E44-4065-9984-286547B568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058B-6799-42A2-B4AC-0CA683D8AA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9AF4-C6BB-472E-BC5E-29CF98C11F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CA4F-FE46-4CD4-9DCB-3DB32005C3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93B4-FFF7-45BE-A89C-C9B751CC92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965E-1E57-44C8-840D-B962279695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1B8E-1042-46E5-9B7C-60DB63155E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511D-8B33-438A-8A4A-4A6E4AD64C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299E-D584-47DF-8C15-B813B92B92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8CBD-BE6B-478A-B0D4-324A4F6AC7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5F87-9261-4EE0-A130-E27964F6F3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16F6-E06D-49F4-9646-99F50DBD7D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35B4-A378-4464-98F1-F6A494256E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0528-020A-4BA3-AA12-108F5B00F8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7DB4-B15E-4AED-BE48-930B7E312D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0C85-7EA1-4050-8FAA-59A6A04D52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5572-E02E-4A8E-8258-193354C426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CC8D-D266-4F1A-977C-73B3866180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4EFA-CA39-494F-864A-66251B2F59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图片2"/>
          <p:cNvPicPr/>
          <p:nvPr/>
        </p:nvPicPr>
        <p:blipFill>
          <a:blip r:embed="rId3"/>
          <a:stretch/>
        </p:blipFill>
        <p:spPr>
          <a:xfrm>
            <a:off x="0" y="0"/>
            <a:ext cx="9515520" cy="7153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D92A-5B78-4535-BE0C-F3AC56526E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A10E-B96B-48DA-8699-C54820D75E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7DE2-DE4E-4671-B634-434937DEDB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D834-2B61-471E-A6C5-7A5427E4F9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7829-0346-46DF-81C4-337894157B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68A6-5E6E-4839-A1DA-99BCA82E79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A0CE-D159-4FE6-B4B4-669F373485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F315-99AC-4C17-90B6-EB6453DBFF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A5DA-F404-4A97-B587-4C10D688BA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 type="dt" idx="1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F56F-15A8-4634-A258-5A8F827E3C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 type="dt" idx="1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68E3-1159-4479-8C27-F7E75D85DD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CD4B-45A0-4ECD-B1D5-AAC0D7D54B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 type="dt" idx="1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 type="ftr" idx="1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48FA-9A16-43C5-BD0B-10C835F55C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 type="dt" idx="1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 type="ftr" idx="1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9A59-5B68-4468-8516-23F2C7CFD3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 type="dt" idx="1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 type="ftr" idx="1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D707-F7BE-4583-80CE-CF40B793D1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 type="dt" idx="1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 type="ftr" idx="1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2562-21A2-4D79-9329-C497D0B613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dt" idx="1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ftr" idx="1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6346-FCCC-4E6C-B3AE-A28A9BF8B2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 type="dt" idx="1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 type="ftr" idx="1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1AEE-54D3-407B-A30F-12522DB134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A802-E1D4-403C-B994-0EB0E01FF1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 type="dt" idx="1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 type="ftr" idx="1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9410-8E46-48ED-8628-497CC5987B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 type="dt" idx="1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 type="ftr" idx="1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EAA9-2822-4DD8-BCE8-81C4149D2E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 type="dt" idx="1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 type="ftr" idx="1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4649-2D62-49F0-8CCA-92F5C93D68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5F13-CFDA-4FC4-B554-39E614A493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 type="dt" idx="1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 type="ftr" idx="1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D87C-5333-4C0F-B6C8-83596DB7D5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 type="dt" idx="1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 type="ftr" idx="1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BA6F-77C5-4695-B182-1EE2982712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 type="dt" idx="1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4"/>
          <p:cNvSpPr>
            <a:spLocks noGrp="1"/>
          </p:cNvSpPr>
          <p:nvPr>
            <p:ph type="ftr" idx="15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14C6-05D7-4F47-80FF-9C4D6A23DC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 type="dt" idx="15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 type="ftr" idx="15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5"/>
          <p:cNvSpPr>
            <a:spLocks noGrp="1"/>
          </p:cNvSpPr>
          <p:nvPr>
            <p:ph type="sldNum" idx="15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CE8F-3D5B-4877-AF6B-E63A72F142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 type="dt" idx="16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4"/>
          <p:cNvSpPr>
            <a:spLocks noGrp="1"/>
          </p:cNvSpPr>
          <p:nvPr>
            <p:ph type="ftr" idx="16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76B5-5662-4D03-BB99-ED6AD167F3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 type="dt" idx="1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 type="ftr" idx="16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35A6-F9B9-42D1-B646-4556F66DF4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 type="dt" idx="1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 type="ftr" idx="16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 type="sldNum" idx="16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5E18-7672-4866-81A6-F45EA5B03E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 type="dt" idx="16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4"/>
          <p:cNvSpPr>
            <a:spLocks noGrp="1"/>
          </p:cNvSpPr>
          <p:nvPr>
            <p:ph type="ftr" idx="17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1C76-84F9-41C7-82AB-51A02839E6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 type="dt" idx="17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4"/>
          <p:cNvSpPr>
            <a:spLocks noGrp="1"/>
          </p:cNvSpPr>
          <p:nvPr>
            <p:ph type="ftr" idx="17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5"/>
          <p:cNvSpPr>
            <a:spLocks noGrp="1"/>
          </p:cNvSpPr>
          <p:nvPr>
            <p:ph type="sldNum" idx="17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568D-D0D7-425D-8DCA-1DA8D2B61E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387" name="PlaceHolder 3"/>
          <p:cNvSpPr>
            <a:spLocks noGrp="1"/>
          </p:cNvSpPr>
          <p:nvPr>
            <p:ph type="dt" idx="17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4"/>
          <p:cNvSpPr>
            <a:spLocks noGrp="1"/>
          </p:cNvSpPr>
          <p:nvPr>
            <p:ph type="ftr" idx="17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5"/>
          <p:cNvSpPr>
            <a:spLocks noGrp="1"/>
          </p:cNvSpPr>
          <p:nvPr>
            <p:ph type="sldNum" idx="17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3C66-F74E-4542-BAD9-9D5EA493E2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D0FB-46DB-480B-9103-0B4DF54197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 type="dt" idx="17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 type="ftr" idx="17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5"/>
          <p:cNvSpPr>
            <a:spLocks noGrp="1"/>
          </p:cNvSpPr>
          <p:nvPr>
            <p:ph type="sldNum" idx="18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9456-BFC5-444F-BC9C-EC7306EB92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 type="dt" idx="18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PlaceHolder 4"/>
          <p:cNvSpPr>
            <a:spLocks noGrp="1"/>
          </p:cNvSpPr>
          <p:nvPr>
            <p:ph type="ftr" idx="18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PlaceHolder 5"/>
          <p:cNvSpPr>
            <a:spLocks noGrp="1"/>
          </p:cNvSpPr>
          <p:nvPr>
            <p:ph type="sldNum" idx="18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BCF7-0F11-4C8C-A0D2-E0340F0AAF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 type="dt" idx="18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PlaceHolder 4"/>
          <p:cNvSpPr>
            <a:spLocks noGrp="1"/>
          </p:cNvSpPr>
          <p:nvPr>
            <p:ph type="ftr" idx="18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PlaceHolder 5"/>
          <p:cNvSpPr>
            <a:spLocks noGrp="1"/>
          </p:cNvSpPr>
          <p:nvPr>
            <p:ph type="sldNum" idx="18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1163-C995-4F10-9638-7DF1A81547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 type="dt" idx="1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PlaceHolder 4"/>
          <p:cNvSpPr>
            <a:spLocks noGrp="1"/>
          </p:cNvSpPr>
          <p:nvPr>
            <p:ph type="ftr" idx="18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PlaceHolder 5"/>
          <p:cNvSpPr>
            <a:spLocks noGrp="1"/>
          </p:cNvSpPr>
          <p:nvPr>
            <p:ph type="sldNum" idx="18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FFAC-43B5-4E11-BF81-01315F9F62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92" name="PlaceHolder 3"/>
          <p:cNvSpPr>
            <a:spLocks noGrp="1"/>
          </p:cNvSpPr>
          <p:nvPr>
            <p:ph type="dt" idx="19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PlaceHolder 4"/>
          <p:cNvSpPr>
            <a:spLocks noGrp="1"/>
          </p:cNvSpPr>
          <p:nvPr>
            <p:ph type="ftr" idx="19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PlaceHolder 5"/>
          <p:cNvSpPr>
            <a:spLocks noGrp="1"/>
          </p:cNvSpPr>
          <p:nvPr>
            <p:ph type="sldNum" idx="19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A378-6A50-4AC9-89C1-78BE9BB93A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 type="dt" idx="19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 type="ftr" idx="19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 type="sldNum" idx="19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3347-3A13-4986-90BE-54D7AF8E2F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674" name="PlaceHolder 3"/>
          <p:cNvSpPr>
            <a:spLocks noGrp="1"/>
          </p:cNvSpPr>
          <p:nvPr>
            <p:ph type="dt" idx="19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PlaceHolder 4"/>
          <p:cNvSpPr>
            <a:spLocks noGrp="1"/>
          </p:cNvSpPr>
          <p:nvPr>
            <p:ph type="ftr" idx="19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PlaceHolder 5"/>
          <p:cNvSpPr>
            <a:spLocks noGrp="1"/>
          </p:cNvSpPr>
          <p:nvPr>
            <p:ph type="sldNum" idx="19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E182-93D1-4FEF-B8B3-40BEEA63B6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3"/>
    <p:sldLayoutId id="2147484495" r:id="rId4"/>
    <p:sldLayoutId id="2147484496" r:id="rId5"/>
    <p:sldLayoutId id="2147484497" r:id="rId6"/>
    <p:sldLayoutId id="2147484498" r:id="rId7"/>
    <p:sldLayoutId id="2147484499" r:id="rId8"/>
    <p:sldLayoutId id="2147484500" r:id="rId9"/>
    <p:sldLayoutId id="2147484501" r:id="rId10"/>
    <p:sldLayoutId id="2147484502" r:id="rId11"/>
    <p:sldLayoutId id="2147484503" r:id="rId12"/>
    <p:sldLayoutId id="2147484504" r:id="rId13"/>
    <p:sldLayoutId id="2147484505" r:id="rId14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15" name="PlaceHolder 3"/>
          <p:cNvSpPr>
            <a:spLocks noGrp="1"/>
          </p:cNvSpPr>
          <p:nvPr>
            <p:ph type="dt" idx="19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PlaceHolder 4"/>
          <p:cNvSpPr>
            <a:spLocks noGrp="1"/>
          </p:cNvSpPr>
          <p:nvPr>
            <p:ph type="ftr" idx="20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PlaceHolder 5"/>
          <p:cNvSpPr>
            <a:spLocks noGrp="1"/>
          </p:cNvSpPr>
          <p:nvPr>
            <p:ph type="sldNum" idx="20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76BE-E1A4-40F8-9D59-DA68F85792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3"/>
    <p:sldLayoutId id="2147484508" r:id="rId4"/>
    <p:sldLayoutId id="2147484509" r:id="rId5"/>
    <p:sldLayoutId id="2147484510" r:id="rId6"/>
    <p:sldLayoutId id="2147484511" r:id="rId7"/>
    <p:sldLayoutId id="2147484512" r:id="rId8"/>
    <p:sldLayoutId id="2147484513" r:id="rId9"/>
    <p:sldLayoutId id="2147484514" r:id="rId10"/>
    <p:sldLayoutId id="2147484515" r:id="rId11"/>
    <p:sldLayoutId id="2147484516" r:id="rId12"/>
    <p:sldLayoutId id="2147484517" r:id="rId13"/>
    <p:sldLayoutId id="2147484518" r:id="rId14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 type="dt" idx="20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 type="ftr" idx="20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PlaceHolder 5"/>
          <p:cNvSpPr>
            <a:spLocks noGrp="1"/>
          </p:cNvSpPr>
          <p:nvPr>
            <p:ph type="sldNum" idx="20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0DEF-E67D-458C-AB88-7488E8C364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3"/>
    <p:sldLayoutId id="2147484521" r:id="rId4"/>
    <p:sldLayoutId id="2147484522" r:id="rId5"/>
    <p:sldLayoutId id="2147484523" r:id="rId6"/>
    <p:sldLayoutId id="2147484524" r:id="rId7"/>
    <p:sldLayoutId id="2147484525" r:id="rId8"/>
    <p:sldLayoutId id="2147484526" r:id="rId9"/>
    <p:sldLayoutId id="2147484527" r:id="rId10"/>
    <p:sldLayoutId id="2147484528" r:id="rId11"/>
    <p:sldLayoutId id="2147484529" r:id="rId12"/>
    <p:sldLayoutId id="2147484530" r:id="rId13"/>
    <p:sldLayoutId id="2147484531" r:id="rId14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 type="dt" idx="20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 type="ftr" idx="20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PlaceHolder 5"/>
          <p:cNvSpPr>
            <a:spLocks noGrp="1"/>
          </p:cNvSpPr>
          <p:nvPr>
            <p:ph type="sldNum" idx="20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E1E6-3125-4A17-ACC4-3CF38951FA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3"/>
    <p:sldLayoutId id="2147484534" r:id="rId4"/>
    <p:sldLayoutId id="2147484535" r:id="rId5"/>
    <p:sldLayoutId id="2147484536" r:id="rId6"/>
    <p:sldLayoutId id="2147484537" r:id="rId7"/>
    <p:sldLayoutId id="2147484538" r:id="rId8"/>
    <p:sldLayoutId id="2147484539" r:id="rId9"/>
    <p:sldLayoutId id="2147484540" r:id="rId10"/>
    <p:sldLayoutId id="2147484541" r:id="rId11"/>
    <p:sldLayoutId id="2147484542" r:id="rId12"/>
    <p:sldLayoutId id="2147484543" r:id="rId13"/>
    <p:sldLayoutId id="2147484544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图片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8CF5-9395-4977-9072-6623AFB67A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38" name="PlaceHolder 3"/>
          <p:cNvSpPr>
            <a:spLocks noGrp="1"/>
          </p:cNvSpPr>
          <p:nvPr>
            <p:ph type="dt" idx="20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PlaceHolder 4"/>
          <p:cNvSpPr>
            <a:spLocks noGrp="1"/>
          </p:cNvSpPr>
          <p:nvPr>
            <p:ph type="ftr" idx="20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PlaceHolder 5"/>
          <p:cNvSpPr>
            <a:spLocks noGrp="1"/>
          </p:cNvSpPr>
          <p:nvPr>
            <p:ph type="sldNum" idx="2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59EE-9357-4A73-9C3F-48041FB352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3"/>
    <p:sldLayoutId id="2147484547" r:id="rId4"/>
    <p:sldLayoutId id="2147484548" r:id="rId5"/>
    <p:sldLayoutId id="2147484549" r:id="rId6"/>
    <p:sldLayoutId id="2147484550" r:id="rId7"/>
    <p:sldLayoutId id="2147484551" r:id="rId8"/>
    <p:sldLayoutId id="2147484552" r:id="rId9"/>
    <p:sldLayoutId id="2147484553" r:id="rId10"/>
    <p:sldLayoutId id="2147484554" r:id="rId11"/>
    <p:sldLayoutId id="2147484555" r:id="rId12"/>
    <p:sldLayoutId id="2147484556" r:id="rId13"/>
    <p:sldLayoutId id="2147484557" r:id="rId14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 type="dt" idx="2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PlaceHolder 4"/>
          <p:cNvSpPr>
            <a:spLocks noGrp="1"/>
          </p:cNvSpPr>
          <p:nvPr>
            <p:ph type="ftr" idx="2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PlaceHolder 5"/>
          <p:cNvSpPr>
            <a:spLocks noGrp="1"/>
          </p:cNvSpPr>
          <p:nvPr>
            <p:ph type="sldNum" idx="2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1EF3-0A7F-4CC6-B0B1-F51DB28EE6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 type="dt" idx="2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PlaceHolder 4"/>
          <p:cNvSpPr>
            <a:spLocks noGrp="1"/>
          </p:cNvSpPr>
          <p:nvPr>
            <p:ph type="ftr" idx="2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PlaceHolder 5"/>
          <p:cNvSpPr>
            <a:spLocks noGrp="1"/>
          </p:cNvSpPr>
          <p:nvPr>
            <p:ph type="sldNum" idx="2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7558-87AB-4931-9AA4-036CD748A3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 type="dt" idx="2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PlaceHolder 4"/>
          <p:cNvSpPr>
            <a:spLocks noGrp="1"/>
          </p:cNvSpPr>
          <p:nvPr>
            <p:ph type="ftr" idx="2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PlaceHolder 5"/>
          <p:cNvSpPr>
            <a:spLocks noGrp="1"/>
          </p:cNvSpPr>
          <p:nvPr>
            <p:ph type="sldNum" idx="2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7EDD-A911-436A-A6EA-90FC252DFC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02" name="PlaceHolder 3"/>
          <p:cNvSpPr>
            <a:spLocks noGrp="1"/>
          </p:cNvSpPr>
          <p:nvPr>
            <p:ph type="dt" idx="2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PlaceHolder 4"/>
          <p:cNvSpPr>
            <a:spLocks noGrp="1"/>
          </p:cNvSpPr>
          <p:nvPr>
            <p:ph type="ftr" idx="2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PlaceHolder 5"/>
          <p:cNvSpPr>
            <a:spLocks noGrp="1"/>
          </p:cNvSpPr>
          <p:nvPr>
            <p:ph type="sldNum" idx="2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7A1D-D493-4BE5-AED9-32DC111160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43" name="PlaceHolder 3"/>
          <p:cNvSpPr>
            <a:spLocks noGrp="1"/>
          </p:cNvSpPr>
          <p:nvPr>
            <p:ph type="dt" idx="2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PlaceHolder 4"/>
          <p:cNvSpPr>
            <a:spLocks noGrp="1"/>
          </p:cNvSpPr>
          <p:nvPr>
            <p:ph type="ftr" idx="2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PlaceHolder 5"/>
          <p:cNvSpPr>
            <a:spLocks noGrp="1"/>
          </p:cNvSpPr>
          <p:nvPr>
            <p:ph type="sldNum" idx="2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6DD6-6D71-401F-BA11-76EF6B9704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3"/>
    <p:sldLayoutId id="2147484612" r:id="rId4"/>
    <p:sldLayoutId id="2147484613" r:id="rId5"/>
    <p:sldLayoutId id="2147484614" r:id="rId6"/>
    <p:sldLayoutId id="2147484615" r:id="rId7"/>
    <p:sldLayoutId id="2147484616" r:id="rId8"/>
    <p:sldLayoutId id="2147484617" r:id="rId9"/>
    <p:sldLayoutId id="2147484618" r:id="rId10"/>
    <p:sldLayoutId id="2147484619" r:id="rId11"/>
    <p:sldLayoutId id="2147484620" r:id="rId12"/>
    <p:sldLayoutId id="2147484621" r:id="rId13"/>
    <p:sldLayoutId id="2147484622" r:id="rId14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084" name="PlaceHolder 3"/>
          <p:cNvSpPr>
            <a:spLocks noGrp="1"/>
          </p:cNvSpPr>
          <p:nvPr>
            <p:ph type="dt" idx="2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PlaceHolder 4"/>
          <p:cNvSpPr>
            <a:spLocks noGrp="1"/>
          </p:cNvSpPr>
          <p:nvPr>
            <p:ph type="ftr" idx="2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PlaceHolder 5"/>
          <p:cNvSpPr>
            <a:spLocks noGrp="1"/>
          </p:cNvSpPr>
          <p:nvPr>
            <p:ph type="sldNum" idx="2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29F2-F52C-4758-ACDD-77A519EBBF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25" name="PlaceHolder 3"/>
          <p:cNvSpPr>
            <a:spLocks noGrp="1"/>
          </p:cNvSpPr>
          <p:nvPr>
            <p:ph type="dt" idx="2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PlaceHolder 4"/>
          <p:cNvSpPr>
            <a:spLocks noGrp="1"/>
          </p:cNvSpPr>
          <p:nvPr>
            <p:ph type="ftr" idx="2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PlaceHolder 5"/>
          <p:cNvSpPr>
            <a:spLocks noGrp="1"/>
          </p:cNvSpPr>
          <p:nvPr>
            <p:ph type="sldNum" idx="2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5AED-BACF-4CD6-B0FB-5A5211DE17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 type="dt" idx="2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PlaceHolder 4"/>
          <p:cNvSpPr>
            <a:spLocks noGrp="1"/>
          </p:cNvSpPr>
          <p:nvPr>
            <p:ph type="ftr" idx="2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PlaceHolder 5"/>
          <p:cNvSpPr>
            <a:spLocks noGrp="1"/>
          </p:cNvSpPr>
          <p:nvPr>
            <p:ph type="sldNum" idx="2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AF1E-A14E-43D7-990B-66D62B9EC5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06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07" name="PlaceHolder 3"/>
          <p:cNvSpPr>
            <a:spLocks noGrp="1"/>
          </p:cNvSpPr>
          <p:nvPr>
            <p:ph type="dt" idx="2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PlaceHolder 4"/>
          <p:cNvSpPr>
            <a:spLocks noGrp="1"/>
          </p:cNvSpPr>
          <p:nvPr>
            <p:ph type="ftr" idx="2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PlaceHolder 5"/>
          <p:cNvSpPr>
            <a:spLocks noGrp="1"/>
          </p:cNvSpPr>
          <p:nvPr>
            <p:ph type="sldNum" idx="2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AB82-7A3C-4A68-8035-1D246F6E9F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0769-1D39-48AA-BDDD-DDF64A28B7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 type="dt" idx="2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 type="ftr" idx="2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PlaceHolder 5"/>
          <p:cNvSpPr>
            <a:spLocks noGrp="1"/>
          </p:cNvSpPr>
          <p:nvPr>
            <p:ph type="sldNum" idx="2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801B-58D2-4E98-BD29-4F75D3F903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289" name="PlaceHolder 3"/>
          <p:cNvSpPr>
            <a:spLocks noGrp="1"/>
          </p:cNvSpPr>
          <p:nvPr>
            <p:ph type="dt" idx="2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PlaceHolder 4"/>
          <p:cNvSpPr>
            <a:spLocks noGrp="1"/>
          </p:cNvSpPr>
          <p:nvPr>
            <p:ph type="ftr" idx="2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PlaceHolder 5"/>
          <p:cNvSpPr>
            <a:spLocks noGrp="1"/>
          </p:cNvSpPr>
          <p:nvPr>
            <p:ph type="sldNum" idx="2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D62C-4166-44C2-98A9-A7DC5BE4D5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30" name="PlaceHolder 3"/>
          <p:cNvSpPr>
            <a:spLocks noGrp="1"/>
          </p:cNvSpPr>
          <p:nvPr>
            <p:ph type="dt" idx="2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PlaceHolder 4"/>
          <p:cNvSpPr>
            <a:spLocks noGrp="1"/>
          </p:cNvSpPr>
          <p:nvPr>
            <p:ph type="ftr" idx="24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PlaceHolder 5"/>
          <p:cNvSpPr>
            <a:spLocks noGrp="1"/>
          </p:cNvSpPr>
          <p:nvPr>
            <p:ph type="sldNum" idx="2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55A3-F8E5-4158-A8FA-7753AFAFCA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71" name="PlaceHolder 3"/>
          <p:cNvSpPr>
            <a:spLocks noGrp="1"/>
          </p:cNvSpPr>
          <p:nvPr>
            <p:ph type="dt" idx="2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PlaceHolder 4"/>
          <p:cNvSpPr>
            <a:spLocks noGrp="1"/>
          </p:cNvSpPr>
          <p:nvPr>
            <p:ph type="ftr" idx="2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PlaceHolder 5"/>
          <p:cNvSpPr>
            <a:spLocks noGrp="1"/>
          </p:cNvSpPr>
          <p:nvPr>
            <p:ph type="sldNum" idx="2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2740-A7AC-4A56-A1E5-6EC01E406C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3"/>
    <p:sldLayoutId id="2147484716" r:id="rId4"/>
    <p:sldLayoutId id="2147484717" r:id="rId5"/>
    <p:sldLayoutId id="2147484718" r:id="rId6"/>
    <p:sldLayoutId id="2147484719" r:id="rId7"/>
    <p:sldLayoutId id="2147484720" r:id="rId8"/>
    <p:sldLayoutId id="2147484721" r:id="rId9"/>
    <p:sldLayoutId id="2147484722" r:id="rId10"/>
    <p:sldLayoutId id="2147484723" r:id="rId11"/>
    <p:sldLayoutId id="2147484724" r:id="rId12"/>
    <p:sldLayoutId id="2147484725" r:id="rId13"/>
    <p:sldLayoutId id="2147484726" r:id="rId14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11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12" name="PlaceHolder 3"/>
          <p:cNvSpPr>
            <a:spLocks noGrp="1"/>
          </p:cNvSpPr>
          <p:nvPr>
            <p:ph type="dt" idx="25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PlaceHolder 4"/>
          <p:cNvSpPr>
            <a:spLocks noGrp="1"/>
          </p:cNvSpPr>
          <p:nvPr>
            <p:ph type="ftr" idx="2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PlaceHolder 5"/>
          <p:cNvSpPr>
            <a:spLocks noGrp="1"/>
          </p:cNvSpPr>
          <p:nvPr>
            <p:ph type="sldNum" idx="2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5C9E-64BB-474B-B4E9-1DB85F8D8A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3"/>
    <p:sldLayoutId id="2147484729" r:id="rId4"/>
    <p:sldLayoutId id="2147484730" r:id="rId5"/>
    <p:sldLayoutId id="2147484731" r:id="rId6"/>
    <p:sldLayoutId id="2147484732" r:id="rId7"/>
    <p:sldLayoutId id="2147484733" r:id="rId8"/>
    <p:sldLayoutId id="2147484734" r:id="rId9"/>
    <p:sldLayoutId id="2147484735" r:id="rId10"/>
    <p:sldLayoutId id="2147484736" r:id="rId11"/>
    <p:sldLayoutId id="2147484737" r:id="rId12"/>
    <p:sldLayoutId id="2147484738" r:id="rId13"/>
    <p:sldLayoutId id="2147484739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BD8F-ABEF-48A0-99EB-7DFBB0EE51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0065;&#24833;.flv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0065;&#24833;.flv" TargetMode="External"/><Relationship Id="rId3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8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5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&#20061;&#19979;/&#31532;&#19968;&#21333;&#20803;/&#12304;&#24576;&#26087;&#22909;&#22768;&#38899;&#12305;&#20043;&#25105;&#30340;&#20013;&#22269;&#24515;.flv" TargetMode="External"/><Relationship Id="rId3" Type="http://schemas.openxmlformats.org/officeDocument/2006/relationships/hyperlink" Target="file:///../../&#20061;&#19979;/&#31532;&#19968;&#21333;&#20803;/&#12304;&#24576;&#26087;&#22909;&#22768;&#38899;&#12305;&#20043;&#25105;&#30340;&#20013;&#22269;&#24515;.flv" TargetMode="External"/><Relationship Id="rId4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矩形 12289"/>
          <p:cNvSpPr txBox="1"/>
          <p:nvPr/>
        </p:nvSpPr>
        <p:spPr>
          <a:xfrm>
            <a:off x="2411280" y="1341360"/>
            <a:ext cx="403884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28440">
                  <a:solidFill>
                    <a:srgbClr val="17406d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乡  愁</a:t>
            </a:r>
            <a:endParaRPr b="0" lang="en-US" sz="9600" spc="1" strike="noStrike">
              <a:ln w="28440">
                <a:solidFill>
                  <a:srgbClr val="17406d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452" name=""/>
          <p:cNvSpPr/>
          <p:nvPr/>
        </p:nvSpPr>
        <p:spPr>
          <a:xfrm>
            <a:off x="1692360" y="4869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安阳市殷都区水冶镇一中  李瑞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/>
          <p:nvPr/>
        </p:nvSpPr>
        <p:spPr>
          <a:xfrm>
            <a:off x="6659640" y="3284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余光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WordArt 2"/>
          <p:cNvSpPr txBox="1"/>
          <p:nvPr/>
        </p:nvSpPr>
        <p:spPr>
          <a:xfrm>
            <a:off x="1523880" y="2092320"/>
            <a:ext cx="60962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28440">
                  <a:solidFill>
                    <a:srgbClr val="ff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倾听乡愁</a:t>
            </a:r>
            <a:endParaRPr b="0" lang="en-US" sz="7200" spc="1" strike="noStrike">
              <a:ln w="28440">
                <a:solidFill>
                  <a:srgbClr val="ff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矩形 20481"/>
          <p:cNvSpPr/>
          <p:nvPr/>
        </p:nvSpPr>
        <p:spPr>
          <a:xfrm>
            <a:off x="4356000" y="0"/>
            <a:ext cx="4608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后来啊</a:t>
            </a:r>
            <a:br>
              <a:rPr sz="2800"/>
            </a:b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乡愁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一方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矮矮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坟墓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外头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母亲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里头</a:t>
            </a:r>
            <a:br>
              <a:rPr sz="2800"/>
            </a:b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而现在</a:t>
            </a:r>
            <a:br>
              <a:rPr sz="2800"/>
            </a:b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乡愁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一湾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浅浅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海峡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这头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陆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那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文本框 20482"/>
          <p:cNvSpPr/>
          <p:nvPr/>
        </p:nvSpPr>
        <p:spPr>
          <a:xfrm>
            <a:off x="-23760" y="1484280"/>
            <a:ext cx="4970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候</a:t>
            </a:r>
            <a:br>
              <a:rPr sz="2800"/>
            </a:b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乡愁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一枚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小小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邮票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这头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母亲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那头</a:t>
            </a:r>
            <a:br>
              <a:rPr sz="2800"/>
            </a:b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大后</a:t>
            </a:r>
            <a:br>
              <a:rPr sz="2800"/>
            </a:b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乡愁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一张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窄窄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船票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这头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娘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那头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文本框 20483"/>
          <p:cNvSpPr/>
          <p:nvPr/>
        </p:nvSpPr>
        <p:spPr>
          <a:xfrm>
            <a:off x="2987640" y="260280"/>
            <a:ext cx="316872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f49100"/>
                </a:solidFill>
                <a:uFillTx/>
                <a:latin typeface="Times New Roman"/>
                <a:ea typeface="隶书"/>
                <a:hlinkClick r:id="rId2"/>
              </a:rPr>
              <a:t>乡      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直接连接符 20484"/>
          <p:cNvSpPr/>
          <p:nvPr/>
        </p:nvSpPr>
        <p:spPr>
          <a:xfrm>
            <a:off x="4500720" y="1268280"/>
            <a:ext cx="1440" cy="513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直接连接符 20485"/>
          <p:cNvSpPr/>
          <p:nvPr/>
        </p:nvSpPr>
        <p:spPr>
          <a:xfrm>
            <a:off x="4789440" y="1268280"/>
            <a:ext cx="0" cy="513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椭圆 20486"/>
          <p:cNvSpPr/>
          <p:nvPr/>
        </p:nvSpPr>
        <p:spPr>
          <a:xfrm>
            <a:off x="3995640" y="6093000"/>
            <a:ext cx="1295640" cy="4572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6" name="酷小我大制作-乡愁-余光中.mp3" descr=""/>
          <p:cNvPicPr/>
          <p:nvPr/>
        </p:nvPicPr>
        <p:blipFill>
          <a:blip r:embed="rId3"/>
          <a:stretch/>
        </p:blipFill>
        <p:spPr>
          <a:xfrm>
            <a:off x="7164360" y="87480"/>
            <a:ext cx="1363680" cy="125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3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矩形 20481"/>
          <p:cNvSpPr/>
          <p:nvPr/>
        </p:nvSpPr>
        <p:spPr>
          <a:xfrm>
            <a:off x="4356000" y="0"/>
            <a:ext cx="4608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后来啊</a:t>
            </a:r>
            <a:br>
              <a:rPr sz="2800"/>
            </a:b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乡愁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一方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矮矮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坟墓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外头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母亲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里头</a:t>
            </a:r>
            <a:br>
              <a:rPr sz="2800"/>
            </a:b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而现在</a:t>
            </a:r>
            <a:br>
              <a:rPr sz="2800"/>
            </a:b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乡愁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一湾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浅浅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海峡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这头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陆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那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文本框 20482"/>
          <p:cNvSpPr/>
          <p:nvPr/>
        </p:nvSpPr>
        <p:spPr>
          <a:xfrm>
            <a:off x="-23760" y="1484280"/>
            <a:ext cx="4970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候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乡愁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一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小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邮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这头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母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那头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大后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乡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一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窄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船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这头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那头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文本框 20483"/>
          <p:cNvSpPr/>
          <p:nvPr/>
        </p:nvSpPr>
        <p:spPr>
          <a:xfrm>
            <a:off x="2987640" y="260280"/>
            <a:ext cx="316872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f49100"/>
                </a:solidFill>
                <a:uFillTx/>
                <a:latin typeface="Times New Roman"/>
                <a:ea typeface="隶书"/>
                <a:hlinkClick r:id="rId2"/>
              </a:rPr>
              <a:t>乡      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直接连接符 20484"/>
          <p:cNvSpPr/>
          <p:nvPr/>
        </p:nvSpPr>
        <p:spPr>
          <a:xfrm>
            <a:off x="4500720" y="1268280"/>
            <a:ext cx="1440" cy="513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直接连接符 20485"/>
          <p:cNvSpPr/>
          <p:nvPr/>
        </p:nvSpPr>
        <p:spPr>
          <a:xfrm>
            <a:off x="4789440" y="1268280"/>
            <a:ext cx="0" cy="513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椭圆 20486"/>
          <p:cNvSpPr/>
          <p:nvPr/>
        </p:nvSpPr>
        <p:spPr>
          <a:xfrm>
            <a:off x="3995640" y="6093000"/>
            <a:ext cx="1295640" cy="4572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WordArt 2"/>
          <p:cNvSpPr txBox="1"/>
          <p:nvPr/>
        </p:nvSpPr>
        <p:spPr>
          <a:xfrm>
            <a:off x="1600200" y="2209680"/>
            <a:ext cx="5715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品味乡愁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Text Box 3"/>
          <p:cNvSpPr/>
          <p:nvPr/>
        </p:nvSpPr>
        <p:spPr>
          <a:xfrm>
            <a:off x="609480" y="12193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Text Box 5"/>
          <p:cNvSpPr/>
          <p:nvPr/>
        </p:nvSpPr>
        <p:spPr>
          <a:xfrm>
            <a:off x="765000" y="111240"/>
            <a:ext cx="801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0709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70709"/>
                </a:solidFill>
                <a:latin typeface="Times New Roman"/>
              </a:rPr>
              <a:t>、从哪几个词语可以看出来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Times New Roman"/>
              </a:rPr>
              <a:t>“乡愁”一直萦绕</a:t>
            </a:r>
            <a:r>
              <a:rPr b="1" lang="zh-CN" sz="3600" spc="-1" strike="noStrike">
                <a:solidFill>
                  <a:srgbClr val="070709"/>
                </a:solidFill>
                <a:latin typeface="Times New Roman"/>
              </a:rPr>
              <a:t>在心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Text Box 6"/>
          <p:cNvSpPr/>
          <p:nvPr/>
        </p:nvSpPr>
        <p:spPr>
          <a:xfrm>
            <a:off x="2362320" y="1555920"/>
            <a:ext cx="678168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小时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长大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后来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现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Text Box 7"/>
          <p:cNvSpPr/>
          <p:nvPr/>
        </p:nvSpPr>
        <p:spPr>
          <a:xfrm>
            <a:off x="0" y="41148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Text Box 3"/>
          <p:cNvSpPr/>
          <p:nvPr/>
        </p:nvSpPr>
        <p:spPr>
          <a:xfrm>
            <a:off x="380880" y="9144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Text Box 4"/>
          <p:cNvSpPr/>
          <p:nvPr/>
        </p:nvSpPr>
        <p:spPr>
          <a:xfrm>
            <a:off x="380880" y="213372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Text Box 5"/>
          <p:cNvSpPr/>
          <p:nvPr/>
        </p:nvSpPr>
        <p:spPr>
          <a:xfrm>
            <a:off x="1162080" y="1981080"/>
            <a:ext cx="81532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小时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求学在外思念母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长大后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新婚离别思念娇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后   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生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死隔绝哀思难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现   在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国土分裂忧思绵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Text Box 6"/>
          <p:cNvSpPr/>
          <p:nvPr/>
        </p:nvSpPr>
        <p:spPr>
          <a:xfrm>
            <a:off x="990720" y="380880"/>
            <a:ext cx="75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070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70709"/>
                </a:solidFill>
                <a:latin typeface="Times New Roman"/>
              </a:rPr>
              <a:t>、这四个人生阶段又因什么而愁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Text Box 7"/>
          <p:cNvSpPr/>
          <p:nvPr/>
        </p:nvSpPr>
        <p:spPr>
          <a:xfrm>
            <a:off x="4191120" y="1646280"/>
            <a:ext cx="4566960" cy="1008360"/>
          </a:xfrm>
          <a:prstGeom prst="rect">
            <a:avLst/>
          </a:prstGeom>
          <a:solidFill>
            <a:srgbClr val="db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母子离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Text Box 8"/>
          <p:cNvSpPr/>
          <p:nvPr/>
        </p:nvSpPr>
        <p:spPr>
          <a:xfrm>
            <a:off x="4191120" y="2722680"/>
            <a:ext cx="4572000" cy="1008360"/>
          </a:xfrm>
          <a:prstGeom prst="rect">
            <a:avLst/>
          </a:prstGeom>
          <a:solidFill>
            <a:srgbClr val="db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夫妻离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Text Box 9"/>
          <p:cNvSpPr/>
          <p:nvPr/>
        </p:nvSpPr>
        <p:spPr>
          <a:xfrm>
            <a:off x="4253040" y="3860640"/>
            <a:ext cx="4572000" cy="1008360"/>
          </a:xfrm>
          <a:prstGeom prst="rect">
            <a:avLst/>
          </a:prstGeom>
          <a:solidFill>
            <a:srgbClr val="db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丧母哀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Text Box 10"/>
          <p:cNvSpPr/>
          <p:nvPr/>
        </p:nvSpPr>
        <p:spPr>
          <a:xfrm>
            <a:off x="4253040" y="4956120"/>
            <a:ext cx="4572000" cy="1008360"/>
          </a:xfrm>
          <a:prstGeom prst="rect">
            <a:avLst/>
          </a:prstGeom>
          <a:solidFill>
            <a:srgbClr val="db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思归浓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Text Box 11"/>
          <p:cNvSpPr/>
          <p:nvPr/>
        </p:nvSpPr>
        <p:spPr>
          <a:xfrm>
            <a:off x="914400" y="2438280"/>
            <a:ext cx="3276720" cy="1008360"/>
          </a:xfrm>
          <a:prstGeom prst="rect">
            <a:avLst/>
          </a:prstGeom>
          <a:solidFill>
            <a:srgbClr val="db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生离之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Text Box 12"/>
          <p:cNvSpPr/>
          <p:nvPr/>
        </p:nvSpPr>
        <p:spPr>
          <a:xfrm>
            <a:off x="216720" y="1249200"/>
            <a:ext cx="789840" cy="3383280"/>
          </a:xfrm>
          <a:prstGeom prst="rect">
            <a:avLst/>
          </a:prstGeom>
          <a:solidFill>
            <a:srgbClr val="db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02694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a02694"/>
                </a:solidFill>
                <a:latin typeface="Times New Roman"/>
              </a:rPr>
              <a:t>家    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Text Box 13"/>
          <p:cNvSpPr/>
          <p:nvPr/>
        </p:nvSpPr>
        <p:spPr>
          <a:xfrm>
            <a:off x="900000" y="3860640"/>
            <a:ext cx="3353040" cy="1008360"/>
          </a:xfrm>
          <a:prstGeom prst="rect">
            <a:avLst/>
          </a:prstGeom>
          <a:solidFill>
            <a:srgbClr val="db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死别之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Text Box 14"/>
          <p:cNvSpPr/>
          <p:nvPr/>
        </p:nvSpPr>
        <p:spPr>
          <a:xfrm>
            <a:off x="493560" y="3789360"/>
            <a:ext cx="549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Text Box 15"/>
          <p:cNvSpPr/>
          <p:nvPr/>
        </p:nvSpPr>
        <p:spPr>
          <a:xfrm>
            <a:off x="216000" y="4632480"/>
            <a:ext cx="850680" cy="2158920"/>
          </a:xfrm>
          <a:prstGeom prst="rect">
            <a:avLst/>
          </a:prstGeom>
          <a:solidFill>
            <a:srgbClr val="db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02694"/>
                </a:solidFill>
                <a:latin typeface="Times New Roman"/>
              </a:rPr>
              <a:t>国   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3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Rectangle 3"/>
          <p:cNvSpPr/>
          <p:nvPr/>
        </p:nvSpPr>
        <p:spPr>
          <a:xfrm>
            <a:off x="1563840" y="266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0709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70709"/>
                </a:solidFill>
                <a:latin typeface="Times New Roman"/>
              </a:rPr>
              <a:t>、诗人把“乡愁”寄托在哪里？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Text Box 4"/>
          <p:cNvSpPr/>
          <p:nvPr/>
        </p:nvSpPr>
        <p:spPr>
          <a:xfrm>
            <a:off x="108000" y="194796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托物寄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Text Box 5"/>
          <p:cNvSpPr/>
          <p:nvPr/>
        </p:nvSpPr>
        <p:spPr>
          <a:xfrm>
            <a:off x="3780000" y="1557360"/>
            <a:ext cx="50292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邮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船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坟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海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AutoShape 7"/>
          <p:cNvSpPr/>
          <p:nvPr/>
        </p:nvSpPr>
        <p:spPr>
          <a:xfrm>
            <a:off x="558720" y="2954160"/>
            <a:ext cx="1800360" cy="1203480"/>
          </a:xfrm>
          <a:prstGeom prst="upArrowCallout">
            <a:avLst>
              <a:gd name="adj1" fmla="val 37402"/>
              <a:gd name="adj2" fmla="val 37399"/>
              <a:gd name="adj3" fmla="val 16625"/>
              <a:gd name="adj4" fmla="val 66660"/>
            </a:avLst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WordArt 8"/>
          <p:cNvSpPr txBox="1"/>
          <p:nvPr/>
        </p:nvSpPr>
        <p:spPr>
          <a:xfrm>
            <a:off x="453960" y="3362400"/>
            <a:ext cx="2170080" cy="11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意象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526" name="Rectangle 10"/>
          <p:cNvSpPr/>
          <p:nvPr/>
        </p:nvSpPr>
        <p:spPr>
          <a:xfrm>
            <a:off x="4335480" y="5778360"/>
            <a:ext cx="485640" cy="901800"/>
          </a:xfrm>
          <a:prstGeom prst="rect">
            <a:avLst/>
          </a:prstGeom>
          <a:solidFill>
            <a:srgbClr val="dbeff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乡愁是一种抽象情感，作者通过具体可感的事物来表达这种欲说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的情感，使抽象的情感具体、形象，营造了忧伤的意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文本框 1"/>
          <p:cNvSpPr/>
          <p:nvPr/>
        </p:nvSpPr>
        <p:spPr>
          <a:xfrm>
            <a:off x="5651640" y="3755880"/>
            <a:ext cx="356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意象在诗歌中有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Text Box 3"/>
          <p:cNvSpPr/>
          <p:nvPr/>
        </p:nvSpPr>
        <p:spPr>
          <a:xfrm>
            <a:off x="609480" y="12193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Text Box 5"/>
          <p:cNvSpPr/>
          <p:nvPr/>
        </p:nvSpPr>
        <p:spPr>
          <a:xfrm>
            <a:off x="68400" y="317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0709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70709"/>
                </a:solidFill>
                <a:latin typeface="Times New Roman"/>
              </a:rPr>
              <a:t>、请你说说诗人通过这些意象抒发了什么情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Text Box 6"/>
          <p:cNvSpPr/>
          <p:nvPr/>
        </p:nvSpPr>
        <p:spPr>
          <a:xfrm>
            <a:off x="755640" y="2349360"/>
            <a:ext cx="7345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渴望与亲人团聚，渴望祖国早日统一，以结束分离的痛苦的强烈愿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416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6fc6"/>
                </a:solidFill>
                <a:latin typeface="Arial"/>
                <a:ea typeface="微软雅黑"/>
              </a:rPr>
              <a:t>日积月累，学 以 致 用</a:t>
            </a:r>
            <a:r>
              <a:rPr b="1" lang="en-US" sz="2800" spc="-1" strike="noStrike">
                <a:solidFill>
                  <a:srgbClr val="0f6fc6"/>
                </a:solidFill>
                <a:latin typeface="Arial"/>
                <a:ea typeface="微软雅黑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0f6fc6"/>
                </a:solidFill>
                <a:latin typeface="Arial"/>
                <a:ea typeface="微软雅黑"/>
              </a:rPr>
              <a:t>         </a:t>
            </a:r>
            <a:r>
              <a:rPr b="1" lang="zh-CN" sz="2800" spc="-1" strike="noStrike">
                <a:solidFill>
                  <a:srgbClr val="0f6fc6"/>
                </a:solidFill>
                <a:latin typeface="Arial"/>
                <a:ea typeface="微软雅黑"/>
              </a:rPr>
              <a:t>请你说说下列诗句中的意象是什么？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 type="subTitle"/>
          </p:nvPr>
        </p:nvSpPr>
        <p:spPr>
          <a:xfrm>
            <a:off x="1692360" y="1699920"/>
            <a:ext cx="7200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浮云终日行，游子久不至。 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浮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） </a:t>
            </a:r>
            <a:endParaRPr b="0" lang="en-US" sz="2400" spc="-1" strike="noStrike">
              <a:solidFill>
                <a:srgbClr val="0f6fc6"/>
              </a:solidFill>
              <a:latin typeface="Arial"/>
            </a:endParaRPr>
          </a:p>
          <a:p>
            <a:pPr marL="85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江南几度梅花发，人在天涯鬓已斑。 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梅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）</a:t>
            </a:r>
            <a:endParaRPr b="0" lang="en-US" sz="2400" spc="-1" strike="noStrike">
              <a:solidFill>
                <a:srgbClr val="0f6fc6"/>
              </a:solidFill>
              <a:latin typeface="Arial"/>
            </a:endParaRPr>
          </a:p>
          <a:p>
            <a:pPr marL="85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平时最识江湖味，听得秋声忆故乡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秋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) </a:t>
            </a:r>
            <a:endParaRPr b="0" lang="en-US" sz="2400" spc="-1" strike="noStrike">
              <a:solidFill>
                <a:srgbClr val="0f6fc6"/>
              </a:solidFill>
              <a:latin typeface="Arial"/>
            </a:endParaRPr>
          </a:p>
          <a:p>
            <a:pPr marL="85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悠悠天宇旷，切切故乡情。 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天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）</a:t>
            </a:r>
            <a:endParaRPr b="0" lang="en-US" sz="2400" spc="-1" strike="noStrike">
              <a:solidFill>
                <a:srgbClr val="0f6fc6"/>
              </a:solidFill>
              <a:latin typeface="Arial"/>
            </a:endParaRPr>
          </a:p>
          <a:p>
            <a:pPr marL="85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蜀国曾闻子规鸟，宣城又见杜鹃花。</a:t>
            </a:r>
            <a:endParaRPr b="0" lang="en-US" sz="2400" spc="-1" strike="noStrike">
              <a:solidFill>
                <a:srgbClr val="0f6fc6"/>
              </a:solidFill>
              <a:latin typeface="Arial"/>
            </a:endParaRPr>
          </a:p>
          <a:p>
            <a:pPr marL="85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一叫一回肠一断，三春三月忆三巴。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子规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）</a:t>
            </a:r>
            <a:endParaRPr b="0" lang="en-US" sz="2400" spc="-1" strike="noStrike">
              <a:solidFill>
                <a:srgbClr val="0f6fc6"/>
              </a:solidFill>
              <a:latin typeface="Arial"/>
            </a:endParaRPr>
          </a:p>
          <a:p>
            <a:pPr marL="85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6fc6"/>
              </a:solidFill>
              <a:latin typeface="Arial"/>
            </a:endParaRPr>
          </a:p>
          <a:p>
            <a:pPr marL="85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6fc6"/>
              </a:solidFill>
              <a:latin typeface="Arial"/>
            </a:endParaRPr>
          </a:p>
          <a:p>
            <a:pPr marL="85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533" name="矩形 1"/>
          <p:cNvSpPr/>
          <p:nvPr/>
        </p:nvSpPr>
        <p:spPr>
          <a:xfrm>
            <a:off x="5364000" y="1628640"/>
            <a:ext cx="1582920" cy="50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矩形 3"/>
          <p:cNvSpPr/>
          <p:nvPr/>
        </p:nvSpPr>
        <p:spPr>
          <a:xfrm>
            <a:off x="6659640" y="2276640"/>
            <a:ext cx="172872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矩形 4"/>
          <p:cNvSpPr/>
          <p:nvPr/>
        </p:nvSpPr>
        <p:spPr>
          <a:xfrm>
            <a:off x="6443640" y="2924280"/>
            <a:ext cx="122400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矩形 5"/>
          <p:cNvSpPr/>
          <p:nvPr/>
        </p:nvSpPr>
        <p:spPr>
          <a:xfrm>
            <a:off x="5364000" y="3500280"/>
            <a:ext cx="1297080" cy="50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矩形 6"/>
          <p:cNvSpPr/>
          <p:nvPr/>
        </p:nvSpPr>
        <p:spPr>
          <a:xfrm>
            <a:off x="6588000" y="4653000"/>
            <a:ext cx="145908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3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3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3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3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3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9595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6fc6"/>
                </a:solidFill>
                <a:latin typeface="Arial"/>
              </a:rPr>
              <a:t>羁旅乡愁诗辨别关键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539" name=""/>
          <p:cNvSpPr txBox="1"/>
          <p:nvPr/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57400">
              <a:lnSpc>
                <a:spcPct val="110000"/>
              </a:lnSpc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f6fc6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f6fc6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f6fc6"/>
                </a:solidFill>
                <a:latin typeface="Arial"/>
              </a:rPr>
              <a:t>羁旅类诗词中有一些关键的字词，如“孤”“悲”“无情”“怜”“空”“独”“故园”“相思”等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lnSpc>
                <a:spcPct val="80000"/>
              </a:lnSpc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6fc6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f6fc6"/>
                </a:solidFill>
                <a:latin typeface="Arial"/>
              </a:rPr>
              <a:t>羁旅诗中使用频率比较高的意象有：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lnSpc>
                <a:spcPct val="80000"/>
              </a:lnSpc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6fc6"/>
                </a:solidFill>
                <a:latin typeface="Arial"/>
              </a:rPr>
              <a:t>        ①</a:t>
            </a:r>
            <a:r>
              <a:rPr b="1" lang="zh-CN" sz="2800" spc="-1" strike="noStrike">
                <a:solidFill>
                  <a:srgbClr val="0f6fc6"/>
                </a:solidFill>
                <a:latin typeface="Arial"/>
              </a:rPr>
              <a:t>望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f6fc6"/>
                </a:solidFill>
                <a:latin typeface="Arial"/>
              </a:rPr>
              <a:t>怀远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lnSpc>
                <a:spcPct val="80000"/>
              </a:lnSpc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6fc6"/>
                </a:solidFill>
                <a:latin typeface="Arial"/>
              </a:rPr>
              <a:t>        ②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鸿雁</a:t>
            </a:r>
            <a:r>
              <a:rPr b="1" lang="zh-CN" sz="2800" spc="-1" strike="noStrike">
                <a:solidFill>
                  <a:srgbClr val="0f6fc6"/>
                </a:solidFill>
                <a:latin typeface="Arial"/>
              </a:rPr>
              <a:t>传书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lnSpc>
                <a:spcPct val="80000"/>
              </a:lnSpc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6fc6"/>
                </a:solidFill>
                <a:latin typeface="Arial"/>
              </a:rPr>
              <a:t>        ③</a:t>
            </a:r>
            <a:r>
              <a:rPr b="1" lang="zh-CN" sz="2800" spc="-1" strike="noStrike">
                <a:solidFill>
                  <a:srgbClr val="0f6fc6"/>
                </a:solidFill>
                <a:latin typeface="Arial"/>
              </a:rPr>
              <a:t>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柳</a:t>
            </a:r>
            <a:r>
              <a:rPr b="1" lang="zh-CN" sz="2800" spc="-1" strike="noStrike">
                <a:solidFill>
                  <a:srgbClr val="0f6fc6"/>
                </a:solidFill>
                <a:latin typeface="Arial"/>
              </a:rPr>
              <a:t>送别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lnSpc>
                <a:spcPct val="80000"/>
              </a:lnSpc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6fc6"/>
                </a:solidFill>
                <a:latin typeface="Arial"/>
              </a:rPr>
              <a:t>        ④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杜鹃</a:t>
            </a:r>
            <a:r>
              <a:rPr b="1" lang="zh-CN" sz="2800" spc="-1" strike="noStrike">
                <a:solidFill>
                  <a:srgbClr val="0f6fc6"/>
                </a:solidFill>
                <a:latin typeface="Arial"/>
              </a:rPr>
              <a:t>啼血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lnSpc>
                <a:spcPct val="80000"/>
              </a:lnSpc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lnSpc>
                <a:spcPct val="80000"/>
              </a:lnSpc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"/>
          <p:cNvSpPr txBox="1"/>
          <p:nvPr/>
        </p:nvSpPr>
        <p:spPr>
          <a:xfrm>
            <a:off x="311040" y="1432080"/>
            <a:ext cx="865368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f6fc6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f6fc6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f6fc6"/>
                </a:solidFill>
                <a:latin typeface="Arial"/>
              </a:rPr>
              <a:t>月是故乡明，水是故乡甜，中华民族是最恋家的民族。这种情结折射到文学作品中，体现出的是浓浓的乡情、乡愁。同学们，你知道哪些抒发乡愁的古诗，请与大家分享一下。  </a:t>
            </a:r>
            <a:r>
              <a:rPr b="1" lang="zh-CN" sz="2400" spc="-1" strike="noStrike">
                <a:solidFill>
                  <a:srgbClr val="0f6fc6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f6fc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f6fc6"/>
              </a:solidFill>
              <a:latin typeface="Arial"/>
            </a:endParaRPr>
          </a:p>
          <a:p>
            <a:pPr marL="8568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6fc6"/>
              </a:solidFill>
              <a:latin typeface="Arial"/>
            </a:endParaRPr>
          </a:p>
          <a:p>
            <a:pPr marL="8568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6fc6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WordArt 2"/>
          <p:cNvSpPr txBox="1"/>
          <p:nvPr/>
        </p:nvSpPr>
        <p:spPr>
          <a:xfrm>
            <a:off x="1824120" y="2295360"/>
            <a:ext cx="5715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讨论乡愁</a:t>
            </a:r>
            <a:endParaRPr b="0" lang="en-US" sz="60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1" name="PlaceHolder 1"/>
          <p:cNvSpPr>
            <a:spLocks noGrp="1"/>
          </p:cNvSpPr>
          <p:nvPr>
            <p:ph type="title"/>
          </p:nvPr>
        </p:nvSpPr>
        <p:spPr>
          <a:xfrm>
            <a:off x="520200" y="457200"/>
            <a:ext cx="817740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0709"/>
                </a:solidFill>
                <a:latin typeface="Times New Roman"/>
              </a:rPr>
              <a:t>小组合作探究：</a:t>
            </a:r>
            <a:br>
              <a:rPr sz="3600"/>
            </a:br>
            <a:r>
              <a:rPr b="1" lang="zh-CN" sz="2800" spc="-1" strike="noStrike">
                <a:solidFill>
                  <a:srgbClr val="0f6fc6"/>
                </a:solidFill>
                <a:latin typeface="Arial"/>
              </a:rPr>
              <a:t>“小小的”、“窄窄的”、“矮矮的”、“浅浅的”几个词分别改成“大大的”、“宽宽的”、“高高的”、“深深的”不是更能表现乡愁的浓重吗？对此，你是怎样理解的？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542" name=""/>
          <p:cNvSpPr txBox="1"/>
          <p:nvPr/>
        </p:nvSpPr>
        <p:spPr>
          <a:xfrm>
            <a:off x="468360" y="23320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57400">
              <a:lnSpc>
                <a:spcPct val="90000"/>
              </a:lnSpc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lnSpc>
                <a:spcPct val="90000"/>
              </a:lnSpc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f6fc6"/>
                </a:solidFill>
                <a:latin typeface="Arial"/>
              </a:rPr>
              <a:t>明确：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lnSpc>
                <a:spcPct val="90000"/>
              </a:lnSpc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f6fc6"/>
                </a:solidFill>
                <a:latin typeface="Arial"/>
              </a:rPr>
              <a:t>运用叠词，反衬乡愁之浓郁，增强诗歌表现力。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lnSpc>
                <a:spcPct val="90000"/>
              </a:lnSpc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邮票的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小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、船票的“窄”、坟墓的“矮”、海峡的“浅”，跟母子分别、夫妻分离、生死相隔、同胞相去的凝重的愁思恰好形成了强烈而又鲜明的对比，更突显出“愁”之深之重。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lnSpc>
                <a:spcPct val="90000"/>
              </a:lnSpc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lnSpc>
                <a:spcPct val="90000"/>
              </a:lnSpc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lnSpc>
                <a:spcPct val="90000"/>
              </a:lnSpc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3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3000"/>
                                        <p:tgtEl>
                                          <p:spTgt spid="3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Text Box 3"/>
          <p:cNvSpPr/>
          <p:nvPr/>
        </p:nvSpPr>
        <p:spPr>
          <a:xfrm>
            <a:off x="609480" y="12193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Text Box 5"/>
          <p:cNvSpPr/>
          <p:nvPr/>
        </p:nvSpPr>
        <p:spPr>
          <a:xfrm>
            <a:off x="334800" y="352440"/>
            <a:ext cx="84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70709"/>
                </a:solidFill>
                <a:latin typeface="Times New Roman"/>
              </a:rPr>
              <a:t>小组合作探究：请你说说本诗在构思上有什么特点？（提示：可以从意境、结构、语言形式、节奏等方面考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Text Box 6"/>
          <p:cNvSpPr/>
          <p:nvPr/>
        </p:nvSpPr>
        <p:spPr>
          <a:xfrm>
            <a:off x="104760" y="1844640"/>
            <a:ext cx="903924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本诗用意象渲染出忧伤的氛围，营造了凄美的意境。（意境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全诗都采用“乡愁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…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与“我在这（外）头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/…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在那（里）头”的句式，句式整齐，四节诗歌，结构大同小异，一咏三叹，反复吟唱。 （结构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同一位置上词的重复和叠词的运用，使全诗如泣如诉；数量词的运用，增添了一种抑扬顿挫的旋律美，增强了诗的音韵美。 （音乐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Text Box 68"/>
          <p:cNvSpPr/>
          <p:nvPr/>
        </p:nvSpPr>
        <p:spPr>
          <a:xfrm>
            <a:off x="228600" y="1219320"/>
            <a:ext cx="2133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大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  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  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PlaceHolder 1"/>
          <p:cNvSpPr>
            <a:spLocks noGrp="1"/>
          </p:cNvSpPr>
          <p:nvPr>
            <p:ph type="title"/>
          </p:nvPr>
        </p:nvSpPr>
        <p:spPr>
          <a:xfrm>
            <a:off x="2971800" y="609480"/>
            <a:ext cx="2819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乡  愁</a:t>
            </a:r>
            <a:endParaRPr b="0" lang="en-US" sz="66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548" name="Text Box 52"/>
          <p:cNvSpPr/>
          <p:nvPr/>
        </p:nvSpPr>
        <p:spPr>
          <a:xfrm>
            <a:off x="2514600" y="1219320"/>
            <a:ext cx="12193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邮票船票坟墓海峡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300"/>
                                        <p:tgtEl>
                                          <p:spTgt spid="3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300"/>
                                        <p:tgtEl>
                                          <p:spTgt spid="3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Text Box 2"/>
          <p:cNvSpPr/>
          <p:nvPr/>
        </p:nvSpPr>
        <p:spPr>
          <a:xfrm>
            <a:off x="228600" y="1219320"/>
            <a:ext cx="2133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大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  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  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PlaceHolder 1"/>
          <p:cNvSpPr>
            <a:spLocks noGrp="1"/>
          </p:cNvSpPr>
          <p:nvPr>
            <p:ph type="title"/>
          </p:nvPr>
        </p:nvSpPr>
        <p:spPr>
          <a:xfrm>
            <a:off x="2971800" y="609480"/>
            <a:ext cx="2819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乡  愁</a:t>
            </a:r>
            <a:endParaRPr b="0" lang="en-US" sz="66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551" name="Text Box 4"/>
          <p:cNvSpPr/>
          <p:nvPr/>
        </p:nvSpPr>
        <p:spPr>
          <a:xfrm>
            <a:off x="2514600" y="1219320"/>
            <a:ext cx="12193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邮票船票坟墓海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Text Box 12"/>
          <p:cNvSpPr/>
          <p:nvPr/>
        </p:nvSpPr>
        <p:spPr>
          <a:xfrm>
            <a:off x="3505320" y="16002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小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含情依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300"/>
                                        <p:tgtEl>
                                          <p:spTgt spid="3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Text Box 2"/>
          <p:cNvSpPr/>
          <p:nvPr/>
        </p:nvSpPr>
        <p:spPr>
          <a:xfrm>
            <a:off x="228600" y="1219320"/>
            <a:ext cx="2133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大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  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  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2971800" y="609480"/>
            <a:ext cx="2819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乡  愁</a:t>
            </a:r>
            <a:endParaRPr b="0" lang="en-US" sz="66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555" name="Text Box 4"/>
          <p:cNvSpPr/>
          <p:nvPr/>
        </p:nvSpPr>
        <p:spPr>
          <a:xfrm>
            <a:off x="2514600" y="1219320"/>
            <a:ext cx="12193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邮票船票坟墓海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Text Box 12"/>
          <p:cNvSpPr/>
          <p:nvPr/>
        </p:nvSpPr>
        <p:spPr>
          <a:xfrm>
            <a:off x="3505320" y="16002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小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含情依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Text Box 13"/>
          <p:cNvSpPr/>
          <p:nvPr/>
        </p:nvSpPr>
        <p:spPr>
          <a:xfrm>
            <a:off x="3505320" y="25909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窄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思殷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Text Box 14"/>
          <p:cNvSpPr/>
          <p:nvPr/>
        </p:nvSpPr>
        <p:spPr>
          <a:xfrm>
            <a:off x="3505320" y="35053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矮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哀痛深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300"/>
                                        <p:tgtEl>
                                          <p:spTgt spid="3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Text Box 2"/>
          <p:cNvSpPr/>
          <p:nvPr/>
        </p:nvSpPr>
        <p:spPr>
          <a:xfrm>
            <a:off x="228600" y="1219320"/>
            <a:ext cx="2133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大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  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  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Text Box 4"/>
          <p:cNvSpPr/>
          <p:nvPr/>
        </p:nvSpPr>
        <p:spPr>
          <a:xfrm>
            <a:off x="2514600" y="1219320"/>
            <a:ext cx="12193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邮票船票坟墓海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Text Box 5"/>
          <p:cNvSpPr/>
          <p:nvPr/>
        </p:nvSpPr>
        <p:spPr>
          <a:xfrm>
            <a:off x="3505320" y="16002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小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含情依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Text Box 6"/>
          <p:cNvSpPr/>
          <p:nvPr/>
        </p:nvSpPr>
        <p:spPr>
          <a:xfrm>
            <a:off x="3505320" y="25909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窄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思殷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Text Box 7"/>
          <p:cNvSpPr/>
          <p:nvPr/>
        </p:nvSpPr>
        <p:spPr>
          <a:xfrm>
            <a:off x="3505320" y="35053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矮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哀痛深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Text Box 8"/>
          <p:cNvSpPr/>
          <p:nvPr/>
        </p:nvSpPr>
        <p:spPr>
          <a:xfrm>
            <a:off x="3505320" y="4495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浅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乡愁浓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Text Box 9"/>
          <p:cNvSpPr/>
          <p:nvPr/>
        </p:nvSpPr>
        <p:spPr>
          <a:xfrm>
            <a:off x="6705720" y="1600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母子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Text Box 10"/>
          <p:cNvSpPr/>
          <p:nvPr/>
        </p:nvSpPr>
        <p:spPr>
          <a:xfrm>
            <a:off x="6705720" y="25909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夫妻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Text Box 11"/>
          <p:cNvSpPr/>
          <p:nvPr/>
        </p:nvSpPr>
        <p:spPr>
          <a:xfrm>
            <a:off x="6705720" y="35053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生死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Text Box 12"/>
          <p:cNvSpPr/>
          <p:nvPr/>
        </p:nvSpPr>
        <p:spPr>
          <a:xfrm>
            <a:off x="6732720" y="450864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故乡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矩形 30734"/>
          <p:cNvSpPr txBox="1"/>
          <p:nvPr/>
        </p:nvSpPr>
        <p:spPr>
          <a:xfrm>
            <a:off x="3060720" y="549360"/>
            <a:ext cx="29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乡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Text Box 2"/>
          <p:cNvSpPr/>
          <p:nvPr/>
        </p:nvSpPr>
        <p:spPr>
          <a:xfrm>
            <a:off x="228600" y="1219320"/>
            <a:ext cx="2133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大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  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  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Text Box 4"/>
          <p:cNvSpPr/>
          <p:nvPr/>
        </p:nvSpPr>
        <p:spPr>
          <a:xfrm>
            <a:off x="2514600" y="1219320"/>
            <a:ext cx="12193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邮票船票坟墓海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Text Box 5"/>
          <p:cNvSpPr/>
          <p:nvPr/>
        </p:nvSpPr>
        <p:spPr>
          <a:xfrm>
            <a:off x="3505320" y="16002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小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含情依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Text Box 6"/>
          <p:cNvSpPr/>
          <p:nvPr/>
        </p:nvSpPr>
        <p:spPr>
          <a:xfrm>
            <a:off x="3505320" y="25909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窄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思殷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Text Box 7"/>
          <p:cNvSpPr/>
          <p:nvPr/>
        </p:nvSpPr>
        <p:spPr>
          <a:xfrm>
            <a:off x="3505320" y="35053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矮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哀痛深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Text Box 8"/>
          <p:cNvSpPr/>
          <p:nvPr/>
        </p:nvSpPr>
        <p:spPr>
          <a:xfrm>
            <a:off x="3505320" y="4495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浅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乡愁浓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Text Box 9"/>
          <p:cNvSpPr/>
          <p:nvPr/>
        </p:nvSpPr>
        <p:spPr>
          <a:xfrm>
            <a:off x="6705720" y="1600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母子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Text Box 10"/>
          <p:cNvSpPr/>
          <p:nvPr/>
        </p:nvSpPr>
        <p:spPr>
          <a:xfrm>
            <a:off x="6705720" y="25909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夫妻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Text Box 11"/>
          <p:cNvSpPr/>
          <p:nvPr/>
        </p:nvSpPr>
        <p:spPr>
          <a:xfrm>
            <a:off x="6705720" y="35053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生死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Text Box 12"/>
          <p:cNvSpPr/>
          <p:nvPr/>
        </p:nvSpPr>
        <p:spPr>
          <a:xfrm>
            <a:off x="6732720" y="450864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故乡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立方体 30731"/>
          <p:cNvSpPr/>
          <p:nvPr/>
        </p:nvSpPr>
        <p:spPr>
          <a:xfrm>
            <a:off x="2124000" y="5157720"/>
            <a:ext cx="1440000" cy="1152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f6fc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意境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矩形 30734"/>
          <p:cNvSpPr txBox="1"/>
          <p:nvPr/>
        </p:nvSpPr>
        <p:spPr>
          <a:xfrm>
            <a:off x="3060720" y="549360"/>
            <a:ext cx="29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乡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Text Box 2"/>
          <p:cNvSpPr/>
          <p:nvPr/>
        </p:nvSpPr>
        <p:spPr>
          <a:xfrm>
            <a:off x="228600" y="1219320"/>
            <a:ext cx="2133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大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  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  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Text Box 4"/>
          <p:cNvSpPr/>
          <p:nvPr/>
        </p:nvSpPr>
        <p:spPr>
          <a:xfrm>
            <a:off x="2514600" y="1219320"/>
            <a:ext cx="12193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邮票船票坟墓海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Text Box 5"/>
          <p:cNvSpPr/>
          <p:nvPr/>
        </p:nvSpPr>
        <p:spPr>
          <a:xfrm>
            <a:off x="3505320" y="16002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小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含情依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Text Box 6"/>
          <p:cNvSpPr/>
          <p:nvPr/>
        </p:nvSpPr>
        <p:spPr>
          <a:xfrm>
            <a:off x="3505320" y="25909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窄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思殷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Text Box 7"/>
          <p:cNvSpPr/>
          <p:nvPr/>
        </p:nvSpPr>
        <p:spPr>
          <a:xfrm>
            <a:off x="3505320" y="35053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矮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哀痛深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Text Box 8"/>
          <p:cNvSpPr/>
          <p:nvPr/>
        </p:nvSpPr>
        <p:spPr>
          <a:xfrm>
            <a:off x="3492360" y="45086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浅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乡愁浓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Text Box 9"/>
          <p:cNvSpPr/>
          <p:nvPr/>
        </p:nvSpPr>
        <p:spPr>
          <a:xfrm>
            <a:off x="6705720" y="1600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母子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Text Box 10"/>
          <p:cNvSpPr/>
          <p:nvPr/>
        </p:nvSpPr>
        <p:spPr>
          <a:xfrm>
            <a:off x="6705720" y="25909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夫妻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Text Box 11"/>
          <p:cNvSpPr/>
          <p:nvPr/>
        </p:nvSpPr>
        <p:spPr>
          <a:xfrm>
            <a:off x="6705720" y="35053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生死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Text Box 12"/>
          <p:cNvSpPr/>
          <p:nvPr/>
        </p:nvSpPr>
        <p:spPr>
          <a:xfrm>
            <a:off x="6732720" y="450864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故乡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立方体 30731"/>
          <p:cNvSpPr/>
          <p:nvPr/>
        </p:nvSpPr>
        <p:spPr>
          <a:xfrm>
            <a:off x="2124000" y="5157720"/>
            <a:ext cx="1440000" cy="1152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f6fc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意境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立方体 30732"/>
          <p:cNvSpPr/>
          <p:nvPr/>
        </p:nvSpPr>
        <p:spPr>
          <a:xfrm>
            <a:off x="4140360" y="5157720"/>
            <a:ext cx="1295280" cy="10796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f6fc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结构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矩形 30734"/>
          <p:cNvSpPr txBox="1"/>
          <p:nvPr/>
        </p:nvSpPr>
        <p:spPr>
          <a:xfrm>
            <a:off x="3060720" y="549360"/>
            <a:ext cx="29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乡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Text Box 2"/>
          <p:cNvSpPr/>
          <p:nvPr/>
        </p:nvSpPr>
        <p:spPr>
          <a:xfrm>
            <a:off x="228600" y="1219320"/>
            <a:ext cx="2133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大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  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  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Text Box 4"/>
          <p:cNvSpPr/>
          <p:nvPr/>
        </p:nvSpPr>
        <p:spPr>
          <a:xfrm>
            <a:off x="2514600" y="1219320"/>
            <a:ext cx="12193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邮票船票坟墓海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Text Box 5"/>
          <p:cNvSpPr/>
          <p:nvPr/>
        </p:nvSpPr>
        <p:spPr>
          <a:xfrm>
            <a:off x="3505320" y="16002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小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含情依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Text Box 6"/>
          <p:cNvSpPr/>
          <p:nvPr/>
        </p:nvSpPr>
        <p:spPr>
          <a:xfrm>
            <a:off x="3505320" y="25909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窄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思殷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Text Box 7"/>
          <p:cNvSpPr/>
          <p:nvPr/>
        </p:nvSpPr>
        <p:spPr>
          <a:xfrm>
            <a:off x="3505320" y="35053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矮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哀痛深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Text Box 8"/>
          <p:cNvSpPr/>
          <p:nvPr/>
        </p:nvSpPr>
        <p:spPr>
          <a:xfrm>
            <a:off x="3505320" y="4495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浅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乡愁浓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Text Box 9"/>
          <p:cNvSpPr/>
          <p:nvPr/>
        </p:nvSpPr>
        <p:spPr>
          <a:xfrm>
            <a:off x="6705720" y="1600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母子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Text Box 10"/>
          <p:cNvSpPr/>
          <p:nvPr/>
        </p:nvSpPr>
        <p:spPr>
          <a:xfrm>
            <a:off x="6705720" y="25909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夫妻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Text Box 11"/>
          <p:cNvSpPr/>
          <p:nvPr/>
        </p:nvSpPr>
        <p:spPr>
          <a:xfrm>
            <a:off x="6705720" y="35053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生死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Text Box 12"/>
          <p:cNvSpPr/>
          <p:nvPr/>
        </p:nvSpPr>
        <p:spPr>
          <a:xfrm>
            <a:off x="6732720" y="450864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故乡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立方体 30731"/>
          <p:cNvSpPr/>
          <p:nvPr/>
        </p:nvSpPr>
        <p:spPr>
          <a:xfrm>
            <a:off x="2124000" y="5157720"/>
            <a:ext cx="1440000" cy="1152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f6fc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意境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立方体 30732"/>
          <p:cNvSpPr/>
          <p:nvPr/>
        </p:nvSpPr>
        <p:spPr>
          <a:xfrm>
            <a:off x="4140360" y="5157720"/>
            <a:ext cx="1295280" cy="10796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f6fc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结构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立方体 30733"/>
          <p:cNvSpPr/>
          <p:nvPr/>
        </p:nvSpPr>
        <p:spPr>
          <a:xfrm>
            <a:off x="6012000" y="5157720"/>
            <a:ext cx="1224000" cy="1152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f6fc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音乐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矩形 30734"/>
          <p:cNvSpPr txBox="1"/>
          <p:nvPr/>
        </p:nvSpPr>
        <p:spPr>
          <a:xfrm>
            <a:off x="3060720" y="549360"/>
            <a:ext cx="29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乡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1482840" y="48240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0000"/>
                </a:solidFill>
                <a:latin typeface="Arial"/>
              </a:rPr>
              <a:t>思乡诗句</a:t>
            </a:r>
            <a:endParaRPr b="0" lang="en-US" sz="36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56" name=""/>
          <p:cNvSpPr txBox="1"/>
          <p:nvPr/>
        </p:nvSpPr>
        <p:spPr>
          <a:xfrm>
            <a:off x="1168200" y="1476360"/>
            <a:ext cx="73515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春风又绿江南岸，明月何时照我还？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举头望明月，低头思故乡。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露从今夜白，月是故乡明。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独在异乡为异客，每逢佳节倍思亲。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乡书何处达？归雁洛阳边。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日暮乡关何处是，烟波江上使人愁。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57" name="文本框 11267"/>
          <p:cNvSpPr/>
          <p:nvPr/>
        </p:nvSpPr>
        <p:spPr>
          <a:xfrm>
            <a:off x="540720" y="22766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Text Box 3"/>
          <p:cNvSpPr/>
          <p:nvPr/>
        </p:nvSpPr>
        <p:spPr>
          <a:xfrm>
            <a:off x="468360" y="1916280"/>
            <a:ext cx="8458200" cy="22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在这首诗里，设置了四个时段，将乡愁浓缩为邮票、船票、坟墓、海峡等意象，通过四个时段和空间的变化，逐层推进，使意象次第放大，将乡愁 诠释为亲情、爱情和思乡爱国之情，感情由淡而浓，主题由浅入深，在一咏三叹之中，将乡愁渲染得异常浓烈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WordArt 5"/>
          <p:cNvSpPr txBox="1"/>
          <p:nvPr/>
        </p:nvSpPr>
        <p:spPr>
          <a:xfrm>
            <a:off x="1281240" y="523800"/>
            <a:ext cx="5761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8837" dir="2700000" blurRad="0" rotWithShape="0">
                    <a:srgbClr val="000000">
                      <a:alpha val="40000"/>
                    </a:srgbClr>
                  </a:outerShdw>
                </a:effectLst>
                <a:latin typeface="宋体"/>
              </a:rPr>
              <a:t>构思特点小结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8837" dir="2700000" blurRad="0" rotWithShape="0">
                  <a:srgbClr val="000000">
                    <a:alpha val="4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dissolv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文本框 39937"/>
          <p:cNvSpPr/>
          <p:nvPr/>
        </p:nvSpPr>
        <p:spPr>
          <a:xfrm>
            <a:off x="179280" y="1197000"/>
            <a:ext cx="84963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乡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海外游子深情而美丽的恋歌，试以“乡愁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-----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一句式也来写一写乡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矩形 39938"/>
          <p:cNvSpPr txBox="1"/>
          <p:nvPr/>
        </p:nvSpPr>
        <p:spPr>
          <a:xfrm>
            <a:off x="420840" y="282600"/>
            <a:ext cx="6480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迁移拓展，感受诗歌的创造美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613" name="文本框 39939"/>
          <p:cNvSpPr/>
          <p:nvPr/>
        </p:nvSpPr>
        <p:spPr>
          <a:xfrm>
            <a:off x="1692360" y="2565360"/>
            <a:ext cx="6551640" cy="40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乡愁是一杯浓浓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乡愁是一轮圆圆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乡愁是故乡那湾永远流淌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小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乡愁是那根在灵魂深处流动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乡愁是远走时父亲久久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伫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乡愁是别离时妈妈不断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挥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乡愁是雕刻在记忆中的古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童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乡愁是人一辈子走不出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精神的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3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4" name="PlaceHolder 1"/>
          <p:cNvSpPr>
            <a:spLocks noGrp="1"/>
          </p:cNvSpPr>
          <p:nvPr>
            <p:ph type="title"/>
          </p:nvPr>
        </p:nvSpPr>
        <p:spPr>
          <a:xfrm>
            <a:off x="2268000" y="475920"/>
            <a:ext cx="403236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f6fc6"/>
                </a:solidFill>
                <a:latin typeface="Arial"/>
              </a:rPr>
              <a:t>   </a:t>
            </a:r>
            <a:r>
              <a:rPr b="0" lang="zh-CN" sz="2800" spc="-1" strike="noStrike" u="sng">
                <a:solidFill>
                  <a:srgbClr val="f49100"/>
                </a:solidFill>
                <a:uFillTx/>
                <a:latin typeface="Arial"/>
                <a:hlinkClick r:id="rId2"/>
              </a:rPr>
              <a:t> </a:t>
            </a:r>
            <a:r>
              <a:rPr b="0" lang="zh-CN" sz="3600" spc="-1" strike="noStrike" u="sng">
                <a:solidFill>
                  <a:srgbClr val="f49100"/>
                </a:solidFill>
                <a:uFillTx/>
                <a:latin typeface="Arial"/>
                <a:hlinkClick r:id="rId3"/>
              </a:rPr>
              <a:t>总       结</a:t>
            </a:r>
            <a:endParaRPr b="0" lang="en-US" sz="36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615" name=""/>
          <p:cNvSpPr txBox="1"/>
          <p:nvPr/>
        </p:nvSpPr>
        <p:spPr>
          <a:xfrm>
            <a:off x="900000" y="1700280"/>
            <a:ext cx="71978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f6fc6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f6fc6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f6fc6"/>
                </a:solidFill>
                <a:latin typeface="Arial"/>
              </a:rPr>
              <a:t>故乡、故土是长说不衰的话题。我们对故乡的一山一水、一草一木，都寄托着深厚的情感，同学们，将来不论你走多久，不论你走多远，请永远记住回家的路。</a:t>
            </a:r>
            <a:endParaRPr b="0" lang="en-US" sz="3200" spc="-1" strike="noStrike">
              <a:solidFill>
                <a:srgbClr val="0f6fc6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"/>
          <p:cNvSpPr txBox="1"/>
          <p:nvPr/>
        </p:nvSpPr>
        <p:spPr>
          <a:xfrm>
            <a:off x="539280" y="1557360"/>
            <a:ext cx="8218440" cy="32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f6fc6"/>
                </a:solidFill>
                <a:latin typeface="Arial"/>
              </a:rPr>
              <a:t>七、布置作业：</a:t>
            </a:r>
            <a:endParaRPr b="0" lang="en-US" sz="4000" spc="-1" strike="noStrike">
              <a:solidFill>
                <a:srgbClr val="0f6fc6"/>
              </a:solidFill>
              <a:latin typeface="Arial"/>
            </a:endParaRPr>
          </a:p>
          <a:p>
            <a:pPr marL="85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f6fc6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f6fc6"/>
                </a:solidFill>
                <a:latin typeface="Arial"/>
              </a:rPr>
              <a:t>、课外阅读余光中的其他诗；</a:t>
            </a:r>
            <a:endParaRPr b="0" lang="en-US" sz="4000" spc="-1" strike="noStrike">
              <a:solidFill>
                <a:srgbClr val="0f6fc6"/>
              </a:solidFill>
              <a:latin typeface="Arial"/>
            </a:endParaRPr>
          </a:p>
          <a:p>
            <a:pPr marL="85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f6fc6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f6fc6"/>
                </a:solidFill>
                <a:latin typeface="Arial"/>
              </a:rPr>
              <a:t>、以“亲情、幸福、快乐”为题仿写本诗。</a:t>
            </a:r>
            <a:endParaRPr b="0" lang="en-US" sz="4000" spc="-1" strike="noStrike">
              <a:solidFill>
                <a:srgbClr val="0f6fc6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8" name="标题 13314" descr="余光中"/>
          <p:cNvPicPr/>
          <p:nvPr/>
        </p:nvPicPr>
        <p:blipFill>
          <a:blip r:embed="rId2"/>
          <a:stretch/>
        </p:blipFill>
        <p:spPr>
          <a:xfrm>
            <a:off x="0" y="0"/>
            <a:ext cx="2308320" cy="4075200"/>
          </a:xfrm>
          <a:prstGeom prst="rect">
            <a:avLst/>
          </a:prstGeom>
          <a:ln w="0">
            <a:noFill/>
          </a:ln>
        </p:spPr>
      </p:pic>
      <p:sp>
        <p:nvSpPr>
          <p:cNvPr id="3459" name="文本框 13315"/>
          <p:cNvSpPr/>
          <p:nvPr/>
        </p:nvSpPr>
        <p:spPr>
          <a:xfrm>
            <a:off x="2308320" y="343080"/>
            <a:ext cx="669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余光中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192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生于南京，祖籍福建永春，台湾十大现代诗人之一。已出版诗集、散文、评论和译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余种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代起余光中创作了不少怀乡诗，故而被人们称为“乡愁诗人”。代表作有：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乡愁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》《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乡愁四韵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》《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春天，遂想起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时异地求学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离开大陆前往台湾，从此开始了长达半个多世纪的漂泊生涯。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代初创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乡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余光中时而低首沉思，时而抬头远眺。他说：“随着日子的流失愈多，我的怀乡之情便日重，在离开大陆整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时候，我在台北厦门街的旧居内一挥而就，仅用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便写出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乡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3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文本框 14337"/>
          <p:cNvSpPr/>
          <p:nvPr/>
        </p:nvSpPr>
        <p:spPr>
          <a:xfrm>
            <a:off x="450720" y="1255680"/>
            <a:ext cx="8585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诗歌的朗读技巧，能有感情的朗读诗歌。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理解作者借助意象来表达抽象情感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法。（重点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体会作者强烈的思乡、思国的感情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渴望统一的美好愿望。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点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体会诗歌的意境美、结构美、音乐美。（难点）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文本框 14338"/>
          <p:cNvSpPr/>
          <p:nvPr/>
        </p:nvSpPr>
        <p:spPr>
          <a:xfrm>
            <a:off x="2484360" y="0"/>
            <a:ext cx="432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黑体"/>
              </a:rPr>
              <a:t>学习目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WordArt 2"/>
          <p:cNvSpPr txBox="1"/>
          <p:nvPr/>
        </p:nvSpPr>
        <p:spPr>
          <a:xfrm>
            <a:off x="1676520" y="1981080"/>
            <a:ext cx="5943600" cy="181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感悟乡愁</a:t>
            </a:r>
            <a:endParaRPr b="0" lang="en-US" sz="66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自由朗读</a:t>
            </a:r>
            <a:endParaRPr b="0" lang="en-US" sz="4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64" name="矩形 16386"/>
          <p:cNvSpPr/>
          <p:nvPr/>
        </p:nvSpPr>
        <p:spPr>
          <a:xfrm>
            <a:off x="468360" y="1557360"/>
            <a:ext cx="8496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  </a:t>
            </a:r>
            <a:r>
              <a:rPr b="1" lang="zh-CN" sz="6600" spc="-1" strike="noStrike" u="sng">
                <a:solidFill>
                  <a:srgbClr val="000000"/>
                </a:solidFill>
                <a:uFillTx/>
                <a:latin typeface="Times New Roman"/>
                <a:ea typeface="微软雅黑"/>
              </a:rPr>
              <a:t>①</a:t>
            </a:r>
            <a:r>
              <a:rPr b="1" lang="zh-CN" sz="6600" spc="-1" strike="noStrike" u="sng">
                <a:solidFill>
                  <a:srgbClr val="000000"/>
                </a:solidFill>
                <a:uFillTx/>
                <a:latin typeface="Times New Roman"/>
                <a:ea typeface="微软雅黑"/>
              </a:rPr>
              <a:t>读出节奏；</a:t>
            </a:r>
            <a:br>
              <a:rPr sz="6600"/>
            </a:b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</a:t>
            </a:r>
            <a:r>
              <a:rPr b="1" lang="zh-CN" sz="6600" spc="-1" strike="noStrike" u="sng">
                <a:solidFill>
                  <a:srgbClr val="000000"/>
                </a:solidFill>
                <a:uFillTx/>
                <a:latin typeface="Times New Roman"/>
                <a:ea typeface="微软雅黑"/>
              </a:rPr>
              <a:t> ②读出重音；</a:t>
            </a:r>
            <a:br>
              <a:rPr sz="6600"/>
            </a:b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</a:t>
            </a:r>
            <a:r>
              <a:rPr b="1" lang="zh-CN" sz="6600" spc="-1" strike="noStrike" u="sng">
                <a:solidFill>
                  <a:srgbClr val="000000"/>
                </a:solidFill>
                <a:uFillTx/>
                <a:latin typeface="Times New Roman"/>
                <a:ea typeface="微软雅黑"/>
              </a:rPr>
              <a:t>  ③读出感情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5" name="PlaceHolder 1"/>
          <p:cNvSpPr>
            <a:spLocks noGrp="1"/>
          </p:cNvSpPr>
          <p:nvPr>
            <p:ph type="title"/>
          </p:nvPr>
        </p:nvSpPr>
        <p:spPr>
          <a:xfrm>
            <a:off x="2195280" y="0"/>
            <a:ext cx="4343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f6fc6"/>
                </a:solidFill>
                <a:latin typeface="Arial"/>
                <a:ea typeface="楷体_GB2312"/>
              </a:rPr>
              <a:t>乡   愁</a:t>
            </a:r>
            <a:r>
              <a:rPr b="0" lang="zh-CN" sz="2800" spc="-1" strike="noStrike">
                <a:solidFill>
                  <a:srgbClr val="0f6fc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f6fc6"/>
                </a:solidFill>
                <a:latin typeface="Arial"/>
                <a:ea typeface="楷体_GB2312"/>
              </a:rPr>
              <a:t>余光中</a:t>
            </a:r>
            <a:endParaRPr b="0" lang="en-US" sz="36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66" name=""/>
          <p:cNvSpPr txBox="1"/>
          <p:nvPr/>
        </p:nvSpPr>
        <p:spPr>
          <a:xfrm>
            <a:off x="755280" y="620280"/>
            <a:ext cx="79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4696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小时候</a:t>
            </a:r>
            <a:endParaRPr b="0" lang="en-US" sz="3200" spc="-1" strike="noStrike">
              <a:solidFill>
                <a:srgbClr val="0f6fc6"/>
              </a:solidFill>
              <a:latin typeface="Arial"/>
            </a:endParaRPr>
          </a:p>
          <a:p>
            <a:pPr marL="329040" indent="-24696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乡愁／是一枚／小小的／邮票</a:t>
            </a:r>
            <a:endParaRPr b="0" lang="en-US" sz="3200" spc="-1" strike="noStrike">
              <a:solidFill>
                <a:srgbClr val="0f6fc6"/>
              </a:solidFill>
              <a:latin typeface="Arial"/>
            </a:endParaRPr>
          </a:p>
          <a:p>
            <a:pPr marL="329040" indent="-24696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我／在这头</a:t>
            </a:r>
            <a:endParaRPr b="0" lang="en-US" sz="3200" spc="-1" strike="noStrike">
              <a:solidFill>
                <a:srgbClr val="0f6fc6"/>
              </a:solidFill>
              <a:latin typeface="Arial"/>
            </a:endParaRPr>
          </a:p>
          <a:p>
            <a:pPr marL="329040" indent="-24696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母亲／在那头</a:t>
            </a:r>
            <a:endParaRPr b="0" lang="en-US" sz="3200" spc="-1" strike="noStrike">
              <a:solidFill>
                <a:srgbClr val="0f6fc6"/>
              </a:solidFill>
              <a:latin typeface="Arial"/>
            </a:endParaRPr>
          </a:p>
          <a:p>
            <a:pPr marL="329040" indent="-24696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         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缓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思念</a:t>
            </a:r>
            <a:endParaRPr b="0" lang="en-US" sz="3200" spc="-1" strike="noStrike">
              <a:solidFill>
                <a:srgbClr val="0f6fc6"/>
              </a:solidFill>
              <a:latin typeface="Arial"/>
            </a:endParaRPr>
          </a:p>
          <a:p>
            <a:pPr marL="329040" indent="-24696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长大后</a:t>
            </a:r>
            <a:endParaRPr b="0" lang="en-US" sz="3200" spc="-1" strike="noStrike">
              <a:solidFill>
                <a:srgbClr val="0f6fc6"/>
              </a:solidFill>
              <a:latin typeface="Arial"/>
            </a:endParaRPr>
          </a:p>
          <a:p>
            <a:pPr marL="329040" indent="-24696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乡愁 ／ 是一张／窄窄的／船票</a:t>
            </a:r>
            <a:endParaRPr b="0" lang="en-US" sz="3200" spc="-1" strike="noStrike">
              <a:solidFill>
                <a:srgbClr val="0f6fc6"/>
              </a:solidFill>
              <a:latin typeface="Arial"/>
            </a:endParaRPr>
          </a:p>
          <a:p>
            <a:pPr marL="329040" indent="-24696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我／在这头</a:t>
            </a:r>
            <a:endParaRPr b="0" lang="en-US" sz="3200" spc="-1" strike="noStrike">
              <a:solidFill>
                <a:srgbClr val="0f6fc6"/>
              </a:solidFill>
              <a:latin typeface="Arial"/>
            </a:endParaRPr>
          </a:p>
          <a:p>
            <a:pPr marL="329040" indent="-24696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新娘／在那头</a:t>
            </a:r>
            <a:endParaRPr b="0" lang="en-US" sz="32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67" name="文本框 17411"/>
          <p:cNvSpPr/>
          <p:nvPr/>
        </p:nvSpPr>
        <p:spPr>
          <a:xfrm>
            <a:off x="971640" y="177336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　 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文本框 17412"/>
          <p:cNvSpPr/>
          <p:nvPr/>
        </p:nvSpPr>
        <p:spPr>
          <a:xfrm>
            <a:off x="3851280" y="1701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    　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文本框 17413"/>
          <p:cNvSpPr/>
          <p:nvPr/>
        </p:nvSpPr>
        <p:spPr>
          <a:xfrm>
            <a:off x="5435640" y="177336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　  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文本框 17414"/>
          <p:cNvSpPr/>
          <p:nvPr/>
        </p:nvSpPr>
        <p:spPr>
          <a:xfrm>
            <a:off x="2195640" y="234936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　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文本框 17415"/>
          <p:cNvSpPr/>
          <p:nvPr/>
        </p:nvSpPr>
        <p:spPr>
          <a:xfrm>
            <a:off x="2556000" y="3141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　   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文本框 17416"/>
          <p:cNvSpPr/>
          <p:nvPr/>
        </p:nvSpPr>
        <p:spPr>
          <a:xfrm>
            <a:off x="900000" y="508644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  　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文本框 17417"/>
          <p:cNvSpPr/>
          <p:nvPr/>
        </p:nvSpPr>
        <p:spPr>
          <a:xfrm>
            <a:off x="2124000" y="580536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  　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文本框 17418"/>
          <p:cNvSpPr/>
          <p:nvPr/>
        </p:nvSpPr>
        <p:spPr>
          <a:xfrm>
            <a:off x="5651640" y="508644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　   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文本框 17419"/>
          <p:cNvSpPr/>
          <p:nvPr/>
        </p:nvSpPr>
        <p:spPr>
          <a:xfrm>
            <a:off x="3995640" y="501336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　   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文本框 17420"/>
          <p:cNvSpPr/>
          <p:nvPr/>
        </p:nvSpPr>
        <p:spPr>
          <a:xfrm>
            <a:off x="2556000" y="6381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  　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4343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f6fc6"/>
                </a:solidFill>
                <a:latin typeface="Arial"/>
                <a:ea typeface="楷体_GB2312"/>
              </a:rPr>
              <a:t>乡   愁</a:t>
            </a:r>
            <a:r>
              <a:rPr b="0" lang="zh-CN" sz="4000" spc="-1" strike="noStrike">
                <a:solidFill>
                  <a:srgbClr val="0f6fc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f6fc6"/>
                </a:solidFill>
                <a:latin typeface="Arial"/>
                <a:ea typeface="楷体_GB2312"/>
              </a:rPr>
              <a:t>余光中</a:t>
            </a:r>
            <a:endParaRPr b="0" lang="en-US" sz="36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78" name=""/>
          <p:cNvSpPr txBox="1"/>
          <p:nvPr/>
        </p:nvSpPr>
        <p:spPr>
          <a:xfrm>
            <a:off x="611280" y="764640"/>
            <a:ext cx="7632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5740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来啊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乡愁／是一方／矮矮的／坟墓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／在外头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亲／在里头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6fc6"/>
                </a:solidFill>
                <a:latin typeface="楷体_GB2312"/>
                <a:ea typeface="楷体_GB2312"/>
              </a:rPr>
              <a:t> 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深沉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伤感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现在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乡愁／是一湾／浅浅的／海峡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／在这头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陆／在那头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  <a:p>
            <a:pPr marL="343080" indent="-25740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音调上扬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限思念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3479" name="文本框 18435"/>
          <p:cNvSpPr/>
          <p:nvPr/>
        </p:nvSpPr>
        <p:spPr>
          <a:xfrm>
            <a:off x="2124000" y="306864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   　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文本框 18436"/>
          <p:cNvSpPr/>
          <p:nvPr/>
        </p:nvSpPr>
        <p:spPr>
          <a:xfrm flipV="1">
            <a:off x="1763640" y="23472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 　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文本框 18437"/>
          <p:cNvSpPr/>
          <p:nvPr/>
        </p:nvSpPr>
        <p:spPr>
          <a:xfrm>
            <a:off x="4645080" y="177336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    　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文本框 18438"/>
          <p:cNvSpPr/>
          <p:nvPr/>
        </p:nvSpPr>
        <p:spPr>
          <a:xfrm>
            <a:off x="3276720" y="177336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　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文本框 18439"/>
          <p:cNvSpPr/>
          <p:nvPr/>
        </p:nvSpPr>
        <p:spPr>
          <a:xfrm>
            <a:off x="755640" y="177336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　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文本框 18440"/>
          <p:cNvSpPr/>
          <p:nvPr/>
        </p:nvSpPr>
        <p:spPr>
          <a:xfrm>
            <a:off x="2124000" y="60930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 　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文本框 18441"/>
          <p:cNvSpPr/>
          <p:nvPr/>
        </p:nvSpPr>
        <p:spPr>
          <a:xfrm>
            <a:off x="1835280" y="544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　 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文本框 18442"/>
          <p:cNvSpPr/>
          <p:nvPr/>
        </p:nvSpPr>
        <p:spPr>
          <a:xfrm>
            <a:off x="4716360" y="48690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 　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文本框 18443"/>
          <p:cNvSpPr/>
          <p:nvPr/>
        </p:nvSpPr>
        <p:spPr>
          <a:xfrm>
            <a:off x="3203640" y="4869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 　 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文本框 18444"/>
          <p:cNvSpPr/>
          <p:nvPr/>
        </p:nvSpPr>
        <p:spPr>
          <a:xfrm>
            <a:off x="828720" y="479736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  　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4:33:06Z</dcterms:created>
  <dc:creator>ly</dc:creator>
  <dc:description/>
  <cp:keywords/>
  <dc:language>en-US</dc:language>
  <cp:lastModifiedBy>微软用户</cp:lastModifiedBy>
  <dcterms:modified xsi:type="dcterms:W3CDTF">2020-05-24T06:17:12Z</dcterms:modified>
  <cp:revision>219</cp:revision>
  <dc:subject/>
  <dc:title>走近乡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584</vt:lpwstr>
  </property>
</Properties>
</file>