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2B6-5F14-4D51-8C20-77EE0866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BC4-C32D-4005-AA0A-B382A291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DF87A-8C22-4D7B-8B84-D0CCD0F3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A36F4A7-C0CD-4865-8A0C-76924B6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C3269A8-5F47-423A-86B1-BA7231C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40C77C8-D8F3-42CD-8818-CE566CFB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B17DB4D-CDD2-40FC-8E2F-B751604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2F07BA7-D5FB-4D62-8C70-5E18C37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F33A224-6784-4B31-B509-D2F9373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602DA76-DDDC-4DF4-85F6-910B880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D9BE014-7F58-47BB-B2CF-2FAA31B1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00DA6FD-6609-4A02-BAFA-3991FE69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BA1EA-4832-4618-B686-4E51B26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79B69-1BDD-4A00-B1E2-1494FAD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9CA4A-54E0-45A6-97CB-C7DBBEA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32C3-A0CA-4D27-9B5D-CF2BD8B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FED74-5C4B-4953-91DD-613C1B1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6DBD5-636E-4F8B-8D86-C14CF73A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79E6-1A56-47CB-ACFE-AA5975BE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81E9-6CF0-4A45-9B7B-9E49AE96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7365A-967D-4A84-8F83-392F52D3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522-903D-4297-A19C-8AB26B6F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311F6-2C0D-419A-ACD7-5656FD86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58C8E-7F5A-441C-8240-3C223B35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1E3A6-616E-4F47-B851-9B525EC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726F3-3E92-4591-A7ED-637B4A4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DC217-2359-429D-82BE-68E6817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6B093-9DC7-4182-9CEC-DEF2CF9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2679-3ACE-4706-9CBB-12F8508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E4304-D530-404F-8B13-1BFD5B3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4A86D-7759-4073-A3DC-AB1220F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1B3C-BB3A-475B-AEE3-5F4919C0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05D-B950-4E6E-8500-CBD7ADA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AEA6-7D14-4AE8-B27B-BF435B1E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5F2C9-508A-4CE5-ACE8-05D9A7C0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F5ED8-E743-450D-AC28-36FC589D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B8CBB-8993-4D1C-8352-A71AF9E2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24C58-D1F5-4805-A748-5EAEF78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8582-B556-46E5-8A44-8E26738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17F3-845C-41EC-89F0-CE91586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2FC97-6F15-4D91-9F20-95FE06F1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7ABE8-F678-4263-8BE0-EE9A757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3D140-B56B-4118-8839-4F92F82E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14B-93BA-4F6F-ACD4-4DE6582D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82D2-2FB3-4D0A-9DCA-4FE8D5E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0518-7313-4544-9CDA-C865A688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C4A72-ACC6-4807-9290-39CFB87D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2048B-40A9-46FF-9CE7-F46876D4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993DB-07DC-4132-A8E5-F9DD9A31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A3EC5-491E-4DF8-81AE-A365CBFA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8371A-5147-4388-8C97-99B93BC9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18F81-9690-4128-862A-8F4E39E3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957F2-7463-4432-A50A-3E4317A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30293-1268-4351-9413-20C5FD49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12D0-859E-4906-8B9F-F3EED1C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A1601-FD89-4B08-B5E4-F125B22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B3112-F909-44DB-B616-06C14FB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09026-EA6E-491B-8F7D-89F09DBE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7A380-FF43-4567-9B7F-E8A9A2D7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3E2C2-37C3-410E-BBAD-9E8ECCAA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DE430-2AE4-4120-9A14-07E673CC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F6A01-FC58-4260-BA36-C7A62F93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F5084-E2C2-4009-9E08-1D07DA99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16DBE-7B74-4D43-AAE9-4072A31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E46EB-5A81-4850-BC17-27B80D2C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4B54-6C51-46E4-8F9D-B03A0754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FEC82-073C-430E-9EA6-6DC0417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0D308-F54D-432D-AC65-CE4D44B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D6AC7-9317-4126-B6BA-4EDA82D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AF606-C4A2-4767-A33E-166E9DE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13F58-D2CA-45E3-88F3-A97F4B21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6C3CC-12C6-4E8F-9F77-144CD4CA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52EB5-A728-4CFB-80AF-71CB34BF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41BC4-0679-4CFD-9AE5-810FDE49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81C9B-54D3-4690-9930-2881E85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F8804-E0C7-4334-ACFC-A426CC58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51CC-4610-4E55-9DB6-6C8773B0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963C6-6350-400C-97F9-3F2F4036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0B6B4-6FC7-4E33-A57B-BF01218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344A9-5309-4DA2-94BB-EA043898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D1E6C-BDE5-4E76-9C14-0098C05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76E6A-A394-4D44-90E6-BA71283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0939A-77BE-4553-B927-8FC5988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CFBAD-69DF-48F6-A1C1-2AF9C20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95708-6565-41C1-A684-630E93B6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B9B60-1432-4183-B2DA-7623B378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52CE5-8DD2-4579-A24D-BA96BB5C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59BB-3F66-46A2-BD2F-A0167DD1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83DDE-6496-4CDE-97BD-3C6A903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94120-E6C8-4F9D-9569-D62BAF6E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F8DE7-A330-4FE9-B662-4F52D000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0EDDD-4EF3-4181-A7C4-80B925B3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D8CCA-0681-4120-BF5A-CDA64A43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0BDCD-26B2-4A23-8745-9EA53E6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FB511-17BE-46BC-B73E-70ED2CE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069B3-F507-4830-922E-35322F6F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15EC0-C03E-41EA-B543-A2F6C1C3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5D05C-6D77-4518-B28F-9FFA286B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CD3-AC81-4D09-AE18-484728A1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22C63-5FB3-4800-A575-F6E2C880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D43F8-C08F-40F4-A79B-E6F5035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E48C0-8A81-4E54-AB59-EBF71715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E486D-70DB-4711-9DDA-395A5E4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34A54-77DC-4739-92BD-391000D2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4F953-AD8D-420B-AB91-D1191FD4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4CBCF-CD76-421B-96F3-2DB5F825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2EB53-08C2-4C50-9F8C-E32E105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474A5-5A4A-4C67-93DB-CE31DB3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B36BD-0DB0-4B53-A503-D6E61F3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FFD6-25EC-45F0-A120-59D7F35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9384C-308A-4F99-AA4D-888CBDE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30B95-CC2E-4733-A805-C73022B1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84C20-5BF6-4C49-A0F5-911C3D4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C2C12-9BD1-4046-A9BF-AF15F0BF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52704-2A56-470A-AE7F-B589D1C5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41144-B47C-46A7-87D5-FAA9BBED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21878-F183-4363-8682-58AFEBB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47F96-F334-40D4-BFEB-EC3BBD4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53D6A-2A53-49BB-9956-72A3E877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0CEB5-48F9-4E66-8208-04533F2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150-4547-487E-89D4-C0E7DFD2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AB65-F5A6-4BDF-A147-0458777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C3A5B-F97F-4D5C-9140-55F8C89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7F081-9DAF-412B-8703-653D87F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9B0B1-891D-45C1-835A-B652BBC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8C2F7-6732-4ACA-BE24-B5221D4E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9143F-5BF2-436B-8306-B4138DF3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8B365-A84E-4B5D-B0C9-6AF4B79C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54815-D9AE-4468-A990-0BA85F3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6E410-31AB-4F03-B39B-4FE74A8F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BE858-BD9B-4720-A587-63E9EED0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4CB23-9F93-4E9B-A8AB-0EA47B8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FD2B-66AE-4710-9726-3ABFF9E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DFF58-9D48-4335-A773-59D97B41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85CC2-EBF9-4AB7-83BB-E0957E9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18F26-2AEC-4B97-8DD9-D11CE37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622BE-B268-4903-A64B-AB6142D6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5F20E-F6A5-4E5B-8BAC-DE94EAA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5D1A6-C51F-4F5E-B934-0B7BEC16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C062D-61F4-4846-8BAA-5AC980B8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B286D-C773-4E64-9943-4828355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A8DDE-6EB1-4FEF-9F14-2FAD19D7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4ADC92-CBB5-46AE-B1E5-8846E4CA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1DC1-D580-45EA-9328-0CE619F5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B05DB-54F5-4423-AE63-BFE65F7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E2306-CED5-4F57-8F6F-D99051C2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38923-BAEF-434A-BF0F-256B9AED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0AA55-FD59-4448-9916-CFED24F2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220B4-AA89-4C3D-89BF-3BA2249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9BDC6-5DE2-417D-B53E-CA81E0F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757F6-E89F-4417-B353-C275D19C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D75CD2-ED47-4F40-AF7D-032540B8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44C7B-B13E-482F-9D40-807950BC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E8978-9F94-4310-85BE-05214EE8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952B-A671-480C-BCA2-C9FE9CB5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EE9A0-BE59-4AA4-A775-785481D9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F8159-AA6B-4D9B-9AF3-944688B4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DAE41-EC36-4444-93AD-C1136957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E9090-8BC7-407C-A539-1FA98DF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4C5450-9746-415C-940C-087DBC6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C3360-6FC4-454C-B3CC-5348B47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39BBC-F59D-40E5-A0E3-EB17136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2102F-2A8E-4324-A63B-9D41BA8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177C4-75D9-4419-B384-7A6017B9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09E3E-C970-4FFB-975B-B24BE602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3A2-AA71-4371-B352-405B7441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A26A2-B2FC-40C5-A44B-DA6D3E89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73D52-D738-4971-85FF-B4AFC540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CB033-4B9F-4DBD-8F4A-C92D36ED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1FDEB-A216-4CF2-9716-5EFAEBB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F0089-8FB8-4D80-A028-A5E4040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B5334-9278-452A-A331-FCD0F742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1A037-627D-4109-A13D-E1B5CAE5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6D136-45A3-4F54-B64D-73FD69C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A35574-140B-40C3-8480-ADBD3C23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C17BB-353C-40EA-BFEB-08A59B5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CE5B-B43F-4305-85EF-C9EAFB7B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EC90C-BEF1-42C5-B255-4F788B2E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867BE-30CD-4CDE-9D61-F6BCFB5B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733DB-8C81-4E59-B6FC-083375BC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1BC79F-9B04-4BAA-8141-DA1E8B8F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582DE5-51A7-4DDC-9F23-03583AF9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E4816B-5281-41A9-B35B-4C203B2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33072-7958-4DBB-ACE9-BC37565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92826B-EA60-4E31-A766-3DFC008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E9A4A7-3051-4A0A-9B2B-25A101BD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CB572-6D98-466A-865F-F97F510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238D-464C-4A18-8D01-63C980DF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07487-5062-409C-97C0-BEE2D3A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7C35A-8BCB-4697-B3FE-6235C5B5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C1513A-43FE-4038-9129-435EF25A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F215F-246A-42F8-B7D9-CDFC7E11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77097-6727-464C-8607-A01B0C9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1C8EF9-693C-41E2-B522-9C7051D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E1348-6F86-4EF3-8E53-20F1B989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5BC626-8AA1-46B4-8399-444C8CC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2CDDE-0C1C-49A4-B3A7-7D04D00D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4EB86D-F8A2-4B34-94B6-F9EB1829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32CB-C652-4F60-8CB2-A359480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2AE76-2A88-4395-8376-21AA66E3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8C6FD3-33AE-4C3F-AD1F-35FAB0E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DB14F0-F53A-4FB3-B14A-EBB3BB73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7C47DC-F1F9-46CA-8D4D-D9818D9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F1EDB0-1412-408F-9DB0-76AC9BF8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F3532F-3E75-40D4-A259-FA631D87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781948-3279-449C-B543-7751A616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4DDC0E-4F8F-4023-85F7-22B2F453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B40697-6975-40BD-855E-C21CA011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1B5D99-951A-4BC3-8CA6-47746AF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F2CE-050C-4592-8193-4FC1AC90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F10703-D805-4D28-AFF9-FF45C6C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1D49FD-93C9-4D24-8E77-E34FFE87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E8CDBA-537C-46F7-904B-2ED1242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B8320A-70F9-40A1-B0B7-88123B0B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02123-A689-40EA-B16F-386AC26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9D30F7-3509-4121-AC82-A00DB2F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948B51-F60F-4238-8370-CDB69EF6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F58AC3-8C77-4621-9822-70C28B73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52D5B3-96B3-46AB-B42A-F6000CF8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EB2E0A-6CE9-4F4E-892D-FFBD5741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A850-339F-400C-8659-D27048B4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9FA911-C851-42BC-BA71-97C4CA8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BFD096-EEA4-4214-8FB6-5E38884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0BD949-9C06-467F-846B-B78D4A63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B2D74C-9B23-4A52-B0B9-4651D2D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6923EF-5813-48A0-8FA4-C63A9AC7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D7C73C-F309-499F-803F-6828B22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A5194-8EA2-4162-8975-512E4C2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4CD58A-5A1B-4271-935E-DBDF839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86D4DA-5DBD-4B40-AC4E-28D76792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16F839-0712-4521-86E2-FA610D50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CE0-D7CE-497A-BBD1-1AB1573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9E85-7EF5-4DA4-8A3E-C0DF852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2CA89E-1BEF-48A5-81CD-1A79A4C5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960C07-93DA-4925-81EE-CEAF027D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92EB09-8AB6-4A9F-9CF2-9344B51C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933BD4-59C8-425B-8C1D-701E582E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6F5982-335D-4954-BC75-69A05F58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81D5D4-C99D-4F2E-B71A-76B1D03F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CA488A-C853-4C54-B456-B1DAA770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68F3B-6DE9-450E-ADE0-6FFE935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B2DDCC-2366-4A87-B70F-E8588D4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786873-0623-4E1B-A5F2-D2DE382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F1CC-859B-42C9-94F1-C547699D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2A37E-E922-4D05-BA4A-8CA45C2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6B0617-1468-4C2A-A22F-F243384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26AF2-13CD-434A-BD74-714A843E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7072E0-BE01-4FEB-9768-B4528F5F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ED6C16-F1FE-42D2-8B92-5FFA7CC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28D11C-8733-4C28-AAB2-091FEAA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85C041-5A57-49E3-B12F-3662C2C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DCDE3A-9D5A-439B-A5C6-987FA02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AE7B6B-3E33-4CA9-A31D-F931D26F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27887-EBC6-4E24-AE91-6D8AE36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B813-92A3-4E15-97A5-C44DBB9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664366-1ED9-41AB-A9F2-B353966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C410E5-10CF-411C-B741-63DF554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53AFBA-CF32-49C7-8592-527979EA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B3F5CA-6F24-44A2-9DDD-0A121E0E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5BF238-B18F-4D5F-AECC-70A481D7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A6104B-BCB3-4251-83DB-3F5C2310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3BF95E-75F8-4028-8247-102A5A1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71AFEA-F87C-4373-BBAB-CC6330E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3F0BA2-BDED-41C3-AC4F-D662EFCE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2E7098-67D9-4E2B-A87E-234B4CF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0797-CFE9-4E98-A327-C346517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648D0D-65DA-41E5-82C8-3D918F74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268410-20E8-46F3-9E5B-4FF748E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48E2AC-997D-4A55-833E-1E460E9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AD82B4-A08A-413C-920A-5EAE336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3F495F-8719-46A7-8D6D-CFA9B26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118309-FDE9-4BA8-AC62-4D9AF553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AED147-FBCA-4E5B-83D7-FB5AC1FA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E31F79-0BE7-478D-8F44-AF7C4AAB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15F52B-AE81-4F21-B618-6A4F38C2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A63D90-7E57-4673-82AA-D44B6949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C423-F40E-4ABE-9D76-E482B40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7D6807-5CFA-4D6D-B897-340EB51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E6B96C-756C-49AE-B05D-FA0A595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078FBF-26D7-4BF4-A62B-2375285E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631C9F-08AD-4776-A599-ED2A251A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21045A-7F1C-4EE6-BB82-30A82E8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A701DE-F3C9-4293-AAFD-61C9DAD4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B00B7C-650C-4849-A328-967D6BC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4DFF11-17A8-4FC0-80F6-B28F6250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D4DF1E-33A5-462D-AC26-D7D61FE7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B2E98C-D935-4C0C-918A-B9F291E9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7FF1-95BE-48D7-8086-049E9A7D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930A78-4E80-4C33-AC23-838B6C89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2D5B55-FE97-47A3-9264-0889413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ED68AC-7DC7-4BD7-B167-A1D72428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A7ABF0-E8B0-4788-8443-8745D5B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5884F4-96FD-4CA3-AA00-6F6F74B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A2F0FF-BD21-4DB6-92DD-F817073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143E87-9204-45CF-8C80-B9149497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5D61C3-1B5D-4AC4-A2C0-1220F48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A45478-1121-467A-BE28-0E6822B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0FA376-9BE4-4F02-97B2-44538954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5A7B-0524-44D0-BBEC-C47A2E08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0F814E-A886-452B-AED8-6B9525E5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B1289F-C3ED-43DD-9C08-009A1A0E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AE7D3D-D648-443F-8F64-5DF5F65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1D6E72-677D-40A4-BBF3-A0EFB2F1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0CCFAA-E695-4499-88CF-A8DBE8B7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68431D-EA17-4777-8FFC-3739DA2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68D7FB-EF07-4D70-8065-5C75B8E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19B9B1-5BCC-43D1-A781-35129F8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590E5C-8129-4D75-8CF1-1B4219E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475CB0-4FEA-40D0-98BF-C4E5498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96FD-DADB-46C0-9FAB-5C229CCD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152B99-8691-4090-9E9E-262D0442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792A15-B6AA-4F84-A719-17E91374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75E638-01E1-4D86-B58E-529E1C37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E4DBD4-D937-4C10-8A92-65C8245B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B8B879-5E16-4F6E-A09F-6C59DD8E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208372-A424-459F-A079-4D475B4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145FAB-7240-4251-9991-56CAC60E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9FE53B-11BC-47EC-8204-C945FF8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4B64E8-E91F-4BD1-8C0E-24BFFBF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B3BF56-AB8B-49F7-A150-2C3EFFC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6264-5B06-4308-B5C1-77DF8129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41F862-C2DE-4744-A028-AAD63B50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79652B-4815-482E-923E-1D1FB42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2A7F4-DF6C-49B8-B308-E482578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5B13EB-9FC0-453F-8270-8D1754D3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0025EF-4513-4099-9046-D39F4C2B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D3B9F1-3A72-4050-9D23-771743BE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EB8BAC-C504-4DA2-9633-A6FD941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CD27E1-66A9-4269-8F77-9299252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EA85EE-B303-4399-BA43-E7C49E8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170AB0-D96E-4A17-AF1B-68DD1EF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9C4F-DB6F-4CAB-99D2-34A51FFB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F3CE09-2F46-4C1F-BE5F-E845B00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B463C8-442E-4E21-B4A4-56D22B4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7FEC7F-061D-4746-836C-81F26A6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A6625D-E80D-4432-9EBE-B092A0B9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DA97D0-C562-41BE-9E66-CE2398F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8938B7-14BF-42E8-A469-42D25122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5C20F6-0476-47CF-99A8-8FEA0CF3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F473A6-54EE-4449-863F-2B8BC239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0F178A-DAE1-45F2-867E-30B868F1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9647BB-179D-465A-8CE9-ED82617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789-99A9-4E9A-9492-FB8B494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5B5A-E901-4A44-82F8-8FE2DEA2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5876F3-276D-4DB5-8F23-8E4FD86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1DC415-1F23-41F4-8117-53A5E45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BDB063-F518-458B-BC0B-FC5C4BE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0F0B7A-E2B1-45A5-9332-D59ED7DD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00284F-1018-4D4F-9154-93D35020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099B0B-FC12-42C1-8383-920536A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81C8E3-FC19-48BB-AAAA-36596752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6E3007-748C-476E-8CA2-7E805D17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64D7FE-E80F-4DA6-A76D-F3AA6938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E44826-C9AB-4264-8FDF-9867E81B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317B-764C-4A64-A086-9A0ECE2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ED0486-DA5D-4826-914E-4055DF04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9EE287-6711-4B33-8E8E-F359F063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1520CF-6BAC-4E6D-AD50-EB98C61C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CBABAA-B852-4DE5-A458-9F03581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D2BCC6-C992-4D3A-8282-DA7FCDC5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878507-18CE-435A-B850-2A05636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4F66AE-FF1E-49FC-88EE-FFA1022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DD8433-F17A-4E65-B43E-220EE7C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44D591-51C3-4CFD-85A4-03110816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CB6821-C8A7-4F8D-9E9D-DD3245B4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4FC8-6155-4408-B624-B47ABFA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D65BA2-C655-42A0-A1EF-59DC14F4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3FDAD5-90CE-48F1-BB8B-E5E05C66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F19077-F9B3-4C56-B01B-AD80EE26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62B8CE-8881-4096-88DE-EA7B57F6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24E6FA-092E-4FB6-A91E-5196D5AA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A6ED3E-F0CC-4F3A-96AF-F284905D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F65FAE-3C9B-4EF7-BDE8-10C5342F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5AAE7D-156E-418A-A9CE-2F95EC5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6DA01D-D63C-4DC5-95AC-6809F3F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8D7AE9-D7B9-4D27-B158-93D3F5E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B288-413F-49F8-AE0F-BC2A9FC4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3ECB0B-0821-4008-A5C9-0C7E9F0C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8AD503-181B-405D-9501-C7B69140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46CBBF-BE05-4BE6-936D-626B58D5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511C00-1688-4DC7-BAC2-F67F2135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C7D0DE-9313-4F3A-87B8-609B63CF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06CBC1-00E0-4698-BDA4-050E38C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1BA4C2-29D3-4BF9-AB1B-673469C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E1EA46-0853-41AE-AFC8-657036AD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E6E6F4-0C83-45FC-82C3-BA8D447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6AB40C-F89C-40EC-94B3-2755533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69DE-2886-4EA9-A4FB-63A756BA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CF22B1-B08A-4F79-9E5F-0B01D80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2CBD25-D5FC-4EF9-812F-1B6F84E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6F21A4-E1B0-4DF8-8AF6-CB30801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48A326-5956-400D-B88F-B568A25A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9B9D27-B996-46D5-90E1-26932E69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C3C277-90F1-48A7-BA63-CCF00305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6AAA44-FF4A-49BF-A700-C7B47B3B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0C8CA3-EED7-4E67-899A-27CBB676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CC6E50-C68C-41FD-B1E9-9270FAD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3B9968-41D7-4C81-A45F-568810F2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9C68-A8AB-4122-8463-278EF72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BB6450-6282-4AAF-98F0-4043E74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1F2998-0C0E-41CF-8060-19F7A66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DA89D2-FCBA-43EA-8A3B-7376D48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814048-D538-4037-975E-655A500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1D012C-DED3-4F44-8DA3-6ADD4AE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41BC80-A845-49AA-84EA-1EC534C2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D57C84-B5CF-4A9B-BB35-63857F3C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CDADD2-195F-4EA2-AE9D-1DF2D39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B06E56-28FC-4C8A-A9A0-47C94F3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BA195A-23DD-47F7-B146-38B0AF6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0338-A0D3-487E-B448-5FD4C9BC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37E158-D5FC-4CB5-95ED-9907BAA1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EDBF25-E97F-4235-B709-6D2461D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D47F23-A8E5-4AE6-8B8A-DD081829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6B0313-1022-489F-9896-2AD7E35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7D4B9D-CC7D-405C-9708-069726C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577B3B-7A50-4A70-96B8-F03B3EEC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63DC7B-7E0B-436B-B681-1142907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3C4EF7-B90C-48DB-9D6E-6D7B2FE3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9180C2-DDC9-4476-B6BE-BF55905D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0F8CEC-D522-4666-AEFD-E32D1912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83F6-7732-4A2C-970C-F1958BAF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A5AB24-B99D-45A1-AFD1-002CF1B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67B637-EC24-4781-B0AA-020C82E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5D7EB4-7052-4752-830C-4ED36139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B429E8-11C4-4EBB-B8FB-A6C3133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8AC371-7D65-4307-B5E8-45378CA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96283D-AD94-436B-892D-B77AB1AA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FAD58D-728C-4A57-9D48-77B88B5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9214FC-E7E0-4FE0-B188-EEA55C9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8096DD-C2FC-4DFF-AE43-B8E4F6C8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908830-B972-431C-A57A-9F0D2088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FE48-E9B4-40E1-84DF-70A2EF79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AFD6FE-12C1-4ACC-A759-05559669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9452D9-2F20-4F1A-AE40-1CD872A8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80F917-059D-4044-A68B-68DF228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0A8923-43CF-4618-A9A1-07F05380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43FF1C-CABE-4FB6-848D-55B88FE3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2D14CF-990C-4508-96E6-66832080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D68AAB-9365-41E7-9EEE-2BC95A06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CE5AEB-0A23-4A1F-ABEF-441C872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ED03A3-E7D6-4D06-AC27-82183E9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B6D929-C7F5-4214-85DC-3B9F199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9E3C-7DFC-4537-9BF1-5BD5E486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F5F07B-26DF-4926-8A53-C63DB71C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A292C9-445B-4FFE-94E6-9475D35C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AB8E6F-D5B1-45C9-AAB9-0AACE99B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997F1AC-56A7-4DAF-B76E-A0837B6E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A7E686-F854-4DBB-BD35-242E6156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8B5414-0C78-4689-9BDB-E77537A6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C430BF-E858-4E99-8913-EE53E1B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81D3F5-9D26-4718-B28C-472DBBB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02A281-32DF-47F2-9EE6-E1E4B26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EA239C-2771-48B3-A741-8B38255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466-F885-4252-A672-DC4B177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6A60-6E5B-4E2F-BF9E-15A86EBD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E2FF328-819B-4A52-814B-FFCAC37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E86568-1D38-45DC-BBEA-EDE29F1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C35D55-AC38-41DC-9CB7-8CD6D2F0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549BE8-7239-49FA-8C15-48F11E27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D9D664-6135-4FB7-9AB4-9AA5F471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81A5D6-D0A7-4FF7-A4B5-7B597E5B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51BB86-F7F4-4FC7-B929-9EF83C7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643780-3E5D-46D7-BB91-C8BFE4F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6E489F-6884-4745-995C-885A6D6A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2AD41D-8A40-41B3-A58F-887C3B9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8545-D38D-4F9F-8B13-460BF29A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A6236A9-65D6-4726-A724-CFDD6002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C7F5E1-CDFE-469B-B4DD-4797EB3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169C9A-A05B-473D-8F27-68F9D7A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154EE1-E75D-494D-91F9-8A3FA7A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28FFE4-A12A-49A0-A63F-E894FC5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B67D64-1AE3-4277-835A-E3718646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CA93D2-D93A-4997-BE91-D4CDE71A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41AFE6-AB56-4BE1-86B5-4D4E6C65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8592B3-F242-4F65-917F-49085250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F3DD22-6B3C-4408-AEB1-EF5C91B5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DAE0-44C7-4CD0-B73E-7602F80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B76115-C7D2-4E01-949B-C875738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44D3FB-F82C-4E5B-81C5-F119ECC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241C87-EF1B-4270-8CB0-D16F143B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796A85-1F39-41A6-BC35-57F2BDC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EB4B42-EC3A-411D-944C-0C16C48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579A72-BA9E-44BD-85FB-07E8D58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E7FB40-447F-4FCC-A1C9-EFBF417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4AE7EB-529A-4AC9-8B3A-09CCC1F5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EAF713-6717-4EF8-A967-7FCDF837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809594-E05E-4C71-9DC8-61B32A8C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5060-3559-4BE0-A3AE-A64A839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9653CA-4DC2-4358-ABE9-311AA0A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102294-3E91-4706-829D-82A4FEE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C2392C-6F66-4715-8459-5867CD43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451C1E-DBBB-4F7B-B80F-5DBE7CD0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29FCE3-EE8C-481B-9490-E68C0624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A7BBD20-8C9D-48D7-B1CB-6446E57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84F154-7408-4592-B628-3A79F48B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30C5D4-00FD-413C-838D-5CCE360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6773AB-4981-4DC8-899D-C8727F0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A4EC87-A922-4140-9630-30EB70D8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70D6-49FA-4115-BAED-AD427B9A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BD6D33-A1F7-4466-95E4-0ABA4ECE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D55317-68B9-4A6C-9EFC-1ADFCADB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56D658-202E-4721-8CF3-AB14E0F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165F1A-EA58-4B2D-95F3-D705048E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0B94A1-0B22-4E58-A2F1-0A452624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30C694-305C-4483-A010-F8241AB9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A9B6AE-4F91-4C77-8BA8-4EDDB75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C73FCE-580A-45DF-BD84-C926E13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5191FC-DEBF-4BBE-8940-F5EE09E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E606D5E-A7A7-4359-B2DF-98231B1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643E-35D1-447F-878F-2D40CFF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EF9A8D-7A24-4E82-9FEF-94287F19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0A9CF4-02A0-492C-9CAA-BCF77DF8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8A1781-F03E-499A-9E4F-990E59B5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B49C62-719C-4C33-B37F-71C183CA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F709FA6-D70F-4558-8E6A-138CF45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5745FB-2E20-40E2-8992-653104F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8596F2-6EC9-4BF0-A0C9-3BD1EF71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B2221D-D469-4635-8DEF-AAAB9FC9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2E7E72-1F2D-445F-9597-DC891136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70547E-1B14-4939-B04E-3FA81C8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C7D88-DF3D-4370-8BBD-E658D56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E0A73D-F12E-4D53-8BF1-75511C6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4E713E-9E24-45E4-ADA0-3A8AFAC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AC3982-31E2-4B31-8A42-95FAFD94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36E183-9C42-4149-88AD-3C0626EB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B69F0A-58F4-4ADE-8E5F-B08761F3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2B18CB-6851-4D1B-98D2-B3DA8CCA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F24882-12EB-4B53-9ADE-827954B5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82CEDA-9DFF-4801-94CB-460D15A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05E23A-B159-4329-A8A3-3F1502F0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C57E1B-F1A5-4025-B1D7-4309706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ECE98-73B3-4280-972F-04B15A5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CE1E26-9442-446B-B6A7-50293C0D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2CA81E-6FD7-43AC-A449-6B3E25A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0A4179-A132-458F-81DC-443F8D1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3CA957-741D-4634-98EE-FCD1A75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72CAC87-E238-4C65-B905-9A7FE53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039D7D-ACC6-4138-B60D-3BC0E9B9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980D30-1513-4910-B5B1-F93278C9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0A674C-5C37-40F2-8243-7677B092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CBCD80-EAA8-4F07-B93A-94F1E05F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7F1101-7082-4D49-904A-6A4B7D19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5300-42C7-485B-AFFC-01E41A4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F26DA4-31DA-4836-8E97-225DD73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3C29100-283A-47DB-97ED-DC19C10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D2E8C3-92AA-48A8-991C-A017A0F0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04CF88-829F-411B-9D3C-DE4BA3D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66AFEA-617B-4DCA-A544-B9E0AB2C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6CCFE4-D0D0-4DC1-8F87-1F2A246A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AC1503F-FA45-4849-91FA-97CC900F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A3356F-70D3-40DC-ADDA-DB753242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DDE09F-2BF1-4963-B169-F588994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C5C51F-6BFB-4722-A791-A0585206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8EAD-F296-4DD7-A7B5-FD893D29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1702ED-D6E2-4AC3-B373-040E49F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43E008-F531-4681-9FBF-D4C17376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42BC87-B197-4B0D-8ED7-59965B1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B5B67F9-0513-4F90-8113-73CE7CB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839F37F-C5CA-44A7-8969-A8B8CD2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02ACF6-0343-4F62-A5F8-9E7919F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6CB8A6-885C-42DD-A046-D4E7914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304A19-6D0B-433E-97FB-3C39405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7108AF-83A1-4672-A3FC-851E49C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A973EF-FD7C-4C5B-8F07-FE85F751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7E9-C1BD-4390-89F8-71AA7300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660A-98DD-456D-B9F8-488DFA3F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098C3B-CDD1-40D7-9A2D-97B964D3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A96340-A5E4-4921-A363-3A18C896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983DCD3-1CBE-4818-883E-A836320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31B5C0-0BD1-43E9-B5C1-3939356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51EBED-0E31-4DC8-947B-76968C92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D570CB-8447-4621-8691-EE41965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6583E4B-D3ED-48F7-B780-B1DEBC4F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2C695C5-3218-4C8B-B8E0-6FFB0E7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9C1ECD9-33C6-46EE-AAA4-A14E0E8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2EDF04F-AD66-49A4-92C6-6E857F0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6D1A9-420B-4B09-9555-F7208613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834E11-8A1B-41A9-8730-CEC11D6D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5205C99-5560-4188-ADD1-203CC913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78A15A-CFDB-472E-9EE9-1CE30FB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9A7983-F236-422D-852E-086D6E02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6422B2-55EE-4DA4-87A5-813F41C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88D9AD-621E-40AA-A22C-632B94E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5C61F3-3BD5-475A-BD73-9E099EC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09B43E-3F06-4F2E-B6BD-B1676379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7F022C-F1DA-4214-AD47-F4A48C02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8C2601-8521-470A-A345-2F6BCE9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67364-3040-4935-862C-8575A9B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82E603-657B-45C8-8CCB-1C5F13A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BAEE188-A5C8-4F3A-809C-8DD2B6F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79CE5FE-B018-48F1-A8CC-42B208F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831F97-3A99-4CF4-8960-4DD08A7A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214286-6C47-493F-BF02-1B28398F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9367A49-8890-4EDE-9A88-D0E0A940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F6C7AC1-07F5-4F7B-BDAD-F20E94A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237D55-80DA-4C82-8B18-B4531BA8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F0915A-8445-4ABF-9B75-A6AE348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217037-98F9-49FD-808D-8320FBD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93F2-2597-4800-A531-C1AD9D1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FF3446-FC24-4C0B-9115-CE8A9FA8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AA1760-5F09-4718-8DDA-32FC248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2575ED-B8D8-463A-8A75-6BF7FB3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9AA135F-C0DD-4BD3-B653-822DFF6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C27F57-DFCB-45B0-9C42-418A5AC2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5175B06-8FD8-4F32-BBAC-D578A86B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B54405-6564-429E-8078-1CF7076E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0510DB-18C4-4BFF-AF81-59B32FDC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7747877-081B-4B89-BE9C-9187B56C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894451E-89A0-44BE-8A67-44BF8F3C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CC409-689F-4D27-A1B5-BEC557B1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E22362-347B-409A-8CB8-DB5FAE9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13697C5-0D20-40FF-BCF5-2AA0A25C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FEB9F79-F393-43C6-9E76-15871D6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AF074FE-C08E-496F-BFFF-00F8787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7EC2A7-8B3F-456F-A16E-45BEB42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286ABF5-4B39-4E4F-AEED-1EDFAAF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54E8FE2-F54B-43FF-B693-27F59B0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0A3ABC7-CDF3-4A84-A3D8-CF9271FD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2CECB98-3DAB-45AD-90FE-DD18847D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4BF17E-02C0-430F-8015-F99A1AC0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8FF1-C78D-4A75-8F3C-A696F6D5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C5D58F-B4A0-4B28-A52B-9746D5BF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559301-2BD9-4EAF-8CB0-9298077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A0AF306-2276-4AA2-8645-DBAFB54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693E642-BA37-4383-8CE6-A72A8D8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867CFB-8232-4D31-A9F9-7B5D9AE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8712B2-548A-4D5C-86CD-B200C07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93ECFB-E464-4C41-A768-CD8B2BE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3BC4BA0-9BAF-4F9C-BCDE-280C36C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95108E-4C1D-4AED-8DBE-FD745917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FD4B41-2E70-4ADC-9B1B-8C8E0D39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99FBC-9F8B-461D-A21D-CB2C4C04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88C5B39-4B95-4FB9-955C-B9C809D5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8F58094-5912-407A-B6F3-529B3A77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7FC9E9-874D-479D-AB63-1E98D0C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298AE1-A04B-40AA-A1A1-F79121CC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5C644A-BAD4-4E27-9497-1B9E2CE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80EEDE-A189-47F1-9271-9A498CFD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AAA4605-2E1F-40AB-9C83-2FF36FE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80A354-C060-4066-A6C3-783098C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192783-A9A8-4123-B40C-BB5ED4E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23C193-725B-463B-8E4D-A3E3BF9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6187-DA44-4353-969A-E6ED3D2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FAB4F8-BC66-4662-9E02-947EB17F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151AC11-458F-4E47-ACF2-12597472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9CDA84-A10B-4569-BD82-63E07F84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7722079-9861-40D6-99FD-9EA4F22B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E02273-405D-4EA2-90CF-A5BC0B26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150871-6DF6-4382-B9A2-95DDD01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B34796-E5DE-4118-8745-5FB9B61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012072-09F9-4459-8CE7-B40492ED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D5BEFA-9B89-42CD-902F-C7FDDB29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CC23C05-930E-4F27-873F-AC1ACEB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341C-25B7-405F-8C31-97AD88E7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78481B-A6EA-4FD5-9611-E5D609EC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22AE44A-EC31-4457-8481-F9D1833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153136-404B-4CED-BAE8-1A03A086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14AA6BB-7414-4981-830B-3269609E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B2D8F7D-8499-4518-8E5D-FCB74B48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5C33B41-A15C-4C8A-9983-DFD1211F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E80FE8-04F8-499B-B0DC-B5BCC07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231D10B-603B-433E-9B04-CE0FA50D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D5A3CC9-5B8F-4819-8A1B-2E6F556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DF58C4-DE52-4BF3-8389-3F694C5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D49F-0217-45DF-A864-18E76AB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BCEE3D6-500E-4FB1-BEAD-A01ED3C2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F9149B-20DD-4300-9560-2F7DDA0D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FF937E-17AE-4A31-B1CE-E76D1EF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7828C2F-6518-4245-B07D-3EFA64C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1495ACF-143E-4FAF-B2BA-9DECFC85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C63E6E1-1942-432B-A157-E1685660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F7C3251-6898-4625-BF80-F694C85F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125F661-5436-4596-91C4-1B849A6B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8EDB08-2CFE-4743-9E10-B2B2D7EE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6C19065-A9B6-457F-B212-F72C347B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F7C-7F83-4BC7-9E86-D6881E1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86BB3-E912-4EEE-B638-57507FD6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5392EF-78D6-4E16-8040-5CA521FF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335A92C-F43D-42DD-A2C3-1429BD7A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F5FD686-E7AC-4599-8B7C-F5207FA7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31CDE3D-1ACB-4B7E-A02A-0693E1E1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ED4228C-3C98-43A0-9FD2-AE3B357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239CA2-D25F-4A73-95E7-1E75FE3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861672-B9FB-4EDA-AC9C-7D57E23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4F1013-2905-486E-BE3F-F04B79DD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142FC8D-FE10-4115-A1FF-FCF77DE1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077552-C31A-40C3-A263-F1AC310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AABF7-4FAA-4553-8A39-5F086958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D99A514-B138-4A26-B7B7-0DBA4F2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855B8F-9846-408C-8F4A-4FD42E80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293B31-A5BA-4FA4-A41E-3383E14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6C281F2-76FB-419E-9B75-BFD65F68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12D8EF2-9D50-475E-8D99-30AB1A4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AA7CE86-E289-49C1-961E-29114A9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CCF05CC-5187-4DE7-983F-CCA3490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ED91F97-6B40-4EE0-BE0B-80F2252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E466BA-9071-4006-AC07-42A98433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0358219-27C1-4D8B-BB84-1705C7DA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DF83-76FC-4C1D-9223-2E7A8A9B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EF57105-FD3D-4D36-863B-FA2D979D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F1CF732-29B1-4DF2-B6E2-7E19BD03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9A1A619-F125-463A-A65D-314B89D8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9144BDD-E899-4BF3-9B0B-6D105D0C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75CB919-DBA7-496E-9231-83B08034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CB1ABCB-7B8E-41E4-AA5F-E1AE2F7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9A5CD50-9BFE-4F2B-B213-85A2EFDB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F073539-FA40-46FD-9B25-4CED8A5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4AF8458-346C-4ABE-9834-4114BDF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D7B41B3-0D46-4086-A4E5-BB0AA290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AC26-5543-4AC5-866C-12474690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A928F9-DCF2-4118-9AC3-1AC4CDBF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ACDB9B1-6875-40A7-901E-82BB78D5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2D43A2D-7C06-4624-B037-0CDD1D35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A50E2CC-2563-48D4-A6EE-C62C5D7D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8428B35-332F-4E24-8B39-BF8FF0A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74DB0BB-24BA-4D3E-A7A3-57755E6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A24FD3-87CF-4AE4-AB2D-E6528982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096460-6E79-43DE-B429-6E78CC64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B4AD2BA-CA3E-4266-9016-E168227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FFAC5F-9F2D-43B7-9FB0-98F2E77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794BF-52C8-43EA-857B-6179B27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757BC1-BDE1-4EC8-B0B2-160A078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0976A79-B3F5-4ED3-8458-343AD09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3D6BB5F-9928-48D9-86F2-56939C93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5CF5C83-66CE-40A6-BEB9-28F9254D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B55CF54-8078-472D-A301-A99C5340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A1AA96B-2D89-435A-9E25-66E8A12D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4BAC568-2FF1-4BE7-8C3B-64C8E68D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F78442C-024B-46DD-88E7-E8BBE53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BD26294-B3B2-498D-BE00-9AEA09D3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D3DF86D-3F34-45D6-8343-20893CB3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F289-A462-423A-9824-DD676632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8309D7E-06D0-4E4D-99B2-157E49FD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2503B6B-27B4-45DC-8F61-009503C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38976CA-BF0A-43BC-881E-24B044B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3D73179-EB7A-4BE4-B361-1F91351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E8FDE1-5C39-4856-A16D-97ED5392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A9DD96-AD04-4429-A6A7-9FEB3D77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C74AC27-E7FE-4BAD-9113-58ADAA12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30A3ED5-EE6D-44CC-A174-6D3E85F4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19E0C51-3807-406D-90CC-B006C717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03F8827-C666-4572-92CE-E1CFD2B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0B90-121D-43E5-894D-BE75289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9900E06-1660-447E-BF36-61EFEF00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BB4625C-3B03-4671-A5A8-0AB93AB2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27C669-303C-4BDA-A1CA-DB3521FB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549EAF1-2E91-4BD0-9FE5-FD05919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5961BEB-18B7-48F7-A441-D806D0D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7F9F4F-F6FD-4E8E-94CF-1333CA6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91C502B-6573-493B-BBA5-EDA8286B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38A42BE-89B4-4BFE-B61E-8BC169D5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BE765C0-5BCB-466C-A26C-1EB8D84E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E5AA673-07CC-45C1-A26A-0BF8A025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A577-324D-4E8A-B0B1-7CE60F8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4ABE63-EBE4-491D-A1B9-EE1BC0B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D99A6F2-0256-4760-936C-A130870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B8E1205-8EBA-4A6E-A95B-BFE7FBA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7EB0BA8-6F23-4B37-AD1F-E406B7C5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089DCEC-E2E2-47CB-A55A-5F32122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A8E5E3D-47B6-465B-9237-0BD4F36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828CB02-CF0E-4778-9DDB-E9140BC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D8063C7-318A-437B-B376-7407B94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4772918-49BA-4DC7-81C2-2F293ECD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E2E5568-B6D7-4FA9-94ED-54A13F14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8612A-53A7-4D2D-A510-7034BE44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F8116E2-E820-4AD2-B5A4-0F35A922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7E1E9D1-9201-4E0E-9A8B-2FAB9223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966832B-AE32-410A-B323-45E71851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25033C-D697-4334-9DB6-B59CCF0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B4112EB-35A7-4FB8-8FA9-6288FC38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5B2224C-2846-4DD4-85D4-EA057F0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9F6AAA5-F7E3-4D9A-9892-305C4F9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F71F1A5-975E-4D86-BBC8-6886D72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3D77EF7-13ED-425A-9062-17D33EC0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908681E-2AEA-4C3C-A16E-9CF77A7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7C61-69FD-4BA9-A9C2-E947480C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1113EAC-8209-4CE6-A223-1EBF0FC8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2802A7-18FA-443C-B3D2-E1E3DD63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17AD036-06D7-4C76-9197-0D079B0C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6F49EE-39D1-4BA7-A485-BEA61FEA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9AB17FB-16A7-4214-A1A3-C7DADDC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9D94AB9-B24B-4D03-AB31-E785D4F3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6631C95-13CA-420E-943B-9DBB9683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FC1F2C-D142-43F3-9984-CBDB400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510A2C-8D80-452E-B1C9-5BBA3554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EDBEC39-422E-42BC-93E8-BF1C5C5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D55-079F-40AB-8175-6A5C95A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B8C7-A797-4E5D-A8D7-5C6AF8A4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FD37E8E-18D9-4549-BDC9-347541BE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10C1AB0-F850-4D11-A8C2-001BD91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D1CB071-F482-4233-B24A-BF864E4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1BE601E-18A6-43CF-8F1B-10E80ED2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74572B7-7645-4FF4-A581-C3BD6E0A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DE9B7E5-06DB-4991-8AB9-31B87567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BD5C11B-7C53-4A98-8985-AC25927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DD9D21C-9D15-4176-9DA4-C1B6D85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3B1180B-321F-4D5C-8131-E16A0728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8D81330-B59D-48AF-B987-2730C0CB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8EA4-02C1-4906-8C8F-974E6EE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D4BC7FB-24CE-448E-990A-930E0240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B869F07-E6F1-401D-9738-E75B4C7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24B5E32-1B3E-4C5A-8644-6EA6044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D144711-0E9D-4042-B48E-D1F720C6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CCBB355-157F-4F15-B782-9B3682D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F52B672-F8EA-4E1A-8ABB-E1FC6FAA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A90F5C6-116C-42B2-BB77-5D9CB511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5B15B7B-504A-469D-844F-BA976939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CA5F812-024F-4929-839B-C87A6FED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EDA32B3-FBC5-48A0-B198-2C1B697A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B735-C240-4848-B74F-43CC568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7149673-6F4D-42AB-B677-E4A19AB7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DBD961C-0C7E-437C-80C3-4725FF59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49D5D10-1B10-4600-B3A1-46CB2B2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45217C4-7FF9-4808-A9CE-B2CC3D2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2A04060-7C7D-4066-BEA7-BA3106A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6A9311D-18B6-4608-A101-005B2119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C97750C-A738-44B0-84BF-2C9458F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FC7CE71-2D94-40B1-A42F-B98E2DAD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D70DAEF-F52C-4FAD-87FF-4468476D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CD6E0DF-95D5-4F16-A8D5-4468387A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118C9-9F4F-4D34-AA7A-90897D97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5C640E9-7A72-4DA2-9FE7-A61D97E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9D37249-20F2-45F3-913B-0C48261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5176A81-075E-4A55-A090-81717E64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649CE44-7E85-4254-9645-F194BF6C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A6E2E66-0011-4F53-8E36-906A6E4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7F6320A-856C-45B6-86F1-3F03C90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D7CAAF7-B5E3-4830-B62C-58082A4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57B080B-88CF-4337-96EC-68578E4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F9155FF-68D0-43DC-8B3C-3B8EF6D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AF92DBE-72B8-47F6-AD48-8AF6A6C2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845A-3876-4AF3-A22E-63C7B281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41443DD-4317-4D98-BB74-4A6890A7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8AEC416-C215-42BA-AB7A-FC0CB62C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BFCEEEC-BE1F-49FA-9468-2B68D9D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2DFB775-CE19-469D-9DC7-4F546AD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B3EE329-68E4-4F09-B70D-36680FEF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CC5D104-B2D3-4536-A6C6-D076FF1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83BD3F9-B56F-4E9B-9E0C-EFAB11DF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FF4BE09-65DC-4A1B-B3E7-5D7F97D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687D8B3-6E2E-4C5B-BA21-9C503F3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3D4B83E-5E1F-4B8A-B498-3D070F7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EB6B-8ED3-4547-91C1-18B2496F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F165155-CC8F-4C7D-BBAC-2CE322EC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B28D333-628E-49DF-8AF7-5709A5BF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EEB818C-68CE-493E-8040-BCFE3D48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7C1A658-B305-406F-915C-F60577E3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EF02D9C-B832-446F-A257-88213D13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DE9ACE9-60E1-4683-B9AE-FEA1253B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1C56A89-8998-4B2C-93B5-D8DDF354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0989930-276B-463A-8511-465E1EF5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FCE51E3-1751-4F52-98FC-5277FDCC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F40348B-946C-45B8-AC28-36DBDF39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985B5-C359-446B-B3D2-3CBFBFA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5605470-1561-42D5-87C8-5B1E23E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32B855A-67D0-4924-92E9-BA6F014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083BA04-DEC3-456F-A9AF-142F3458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3F2AC16-2A6F-42EA-ABC3-6EDFFB16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F158311-F96F-46C7-8842-66E0EFF5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544BCEB-7D04-4EFB-8518-D850DC80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6A5F2A-6A12-4B25-903D-92F8C51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56DB079-ADE8-4B01-B3D1-BEB2DFA9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9E6D964-9C37-430E-B04C-CBBA7997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3F7DADA-1B73-4B6D-8FDA-6048F14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1A5DD-C9BB-4632-BF18-793F530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781F277-7BF0-450C-A2EA-BD3DA92A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706F2F6-ECC7-4282-9181-C223337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38B54E6-D924-44A5-964A-2DE1277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61815E9-17AA-4AA1-89BC-752B05A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0121319-04D4-42D8-A3DD-3DF68A71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24BC1E6-89AA-41E9-A4FC-775630A3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6841F52-954E-4856-BBF8-B3225A83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BE5932B-C43B-425C-965A-0F0004F5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E89B6B8-F96B-4610-87E6-DB3AF25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B34B67C-C113-4BB3-80FB-0E90B6EF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088CA-1C4B-4D98-BEC8-5F2203D7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2A77790-C8D6-44D8-B3BF-5C43DA0B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995127F-11C4-4EF8-B3BB-CA5D5FED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6BB5DB0-49C9-44F6-820E-DD53EE2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A5FE53-1337-4FBE-A8B0-671781D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04C1386-FB84-46C0-B45E-CB4736F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F0AF909-CA1E-4BF3-9EE8-2A0E4F9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1FF9E65-8895-4647-B80A-B842B2EA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86F31BD-59B6-4F7B-9FEF-6DA20E24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5A8E98C-A799-41E9-B5CB-51E214AC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E94B50-4BC0-4AED-BF37-E0EFE70C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52073-D509-4C9B-AA1A-95B44748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78C8977-5875-4E6A-91A6-CBE1BE09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72ADBFD-48C6-46C6-B443-31AC41AC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E121F2E-47C9-447F-834D-19CCC473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7100EC2-E336-4FDA-81ED-146AD5C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C829EC-5E3A-47B4-AC41-70AB5EDC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D32C27B-CCE8-44F1-A5B3-5CA407B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2C31C51-1F4B-4570-918D-E311D9E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6CCF705-4A40-48B2-B621-31A04F65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C1B5F2-9DC7-4282-934F-60B43F5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BEB564-10B0-4E3F-989E-89637245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384-2B4C-4AEF-9ED0-FE6480D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1D4C-FAE0-4815-8510-3D67EDB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FFFEA31-C1D3-4BEF-94E0-8B831C88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5EEE6E0-C9BB-4A28-8F9F-2A8C407E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0C789B-C1FF-4B68-90FB-BBD4166D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9663A37-0562-4D63-825E-D3755DF4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1562D42-9C16-4C27-828F-0764F194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99ACC01-77D5-48DE-84A3-6C272322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BF2D87-ACAB-458C-8A5C-6A0B15BD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366A11-B025-4CF8-90A8-FF484A4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66671FB-327D-47A4-B434-FFE4B6B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C609D5A-D4E2-4344-9762-26BE405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480A-F61D-426B-BDB2-A2A2613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F95884-F75E-44B2-9268-FD51D1F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19C233F-150F-40D4-8523-6E3A683C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A0E316B-E691-4613-80DF-21D027EE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435F2F3-81E1-4A46-8C25-D869D5A0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A1DCDB9-A682-4927-A63A-A2466BF8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75E6952-2B51-4EAD-BC75-8C4FA14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3EE7BFF-03FD-4975-87CD-2052C6C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27E1E15-1153-4710-9A78-AF96138F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C32444-990D-4C4D-9BB8-63D0593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210C356-8956-46C6-98B5-C31AFBD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3EBD-7128-42C8-B176-F4BE6F2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ED12546-62FD-4E06-AC8B-9787671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10A8327-5265-4494-B3AD-0838F371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1D28D64-D622-480E-8E9B-34A74CF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7682E14-BFBB-42CC-A2C6-5688642B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67C3B20-8C1F-467A-8AF9-1B03DC75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0D82411-0AF4-4B70-9CCD-7DDFCCAB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DDF3DDA-D2C0-4161-AF0C-D2317444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524F570-40E0-41E3-966F-D78BB99E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35F5FF7-D988-4609-9337-C35597C4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DCC15F7-1ACA-40B2-8136-37306DE8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6D73-0E5C-48BE-9686-50466BE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728E9DC-9A37-44FC-B4A4-FDB19CC9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F29B230-972B-413B-8E48-321B027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BF7FE65-6A71-4363-98C8-F7177EC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A7099B9-1E3A-40F5-8253-BEC3E97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3D255F8-AC31-4229-B71A-7D5F9DE5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8B2958A-D765-420F-9CCB-C205BA1E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391B2A7-6651-45E1-B651-1020CE54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D59BE99-70A5-46EA-8D8E-FC3F0391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856B847-E4BA-4EE9-89B7-45321F7E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C6FF0FD-0F99-4346-85B4-D0B29E2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6F77-CADD-4D6B-9FA4-EFEC88B2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72481C7-B28A-4B33-B4B4-5BFAF45A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3D47D72-B115-473D-A2C2-E2FD1EC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74E7535-0B07-467A-A804-481ACC9F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38CE105-6500-47DD-AB88-DCB6D72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235B88E-5906-4E49-A105-69FDB920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5864449-3889-4D07-A095-DB0874C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A44E1C5-00DF-470A-B1A2-0D127F27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3BF88A6-17F2-4AB0-9499-E830BFFD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AAF3412-6743-4A4E-BFBE-9895FCEF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978CCDA-D9EF-4102-A32D-B160AAC1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10DA1-3BF9-4171-8AEE-7D5E3F31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3C644BA-DA41-4BA0-8F44-6AD6AC9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E22886E-2DAB-43FB-9E07-EAD555AA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A7048CC-8B25-4348-BB0C-4860A14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4F2933D-461E-425E-9937-F8DF6A1B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B66FF6E-4FCA-4E30-89BE-3651FC0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0A8505A-7451-4BB7-9AEF-D06B771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A4418B1-34EA-4FEA-908D-632D51F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7422859-4AA1-4AF5-AEA5-2A27004D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24C0A8C-FA27-4E57-A249-DE61B74F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04E0B0A-2BD8-4459-A020-00D71EC9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3626-31DA-4BD9-AD85-E525A529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7122F76-87C4-4112-8F14-039D7693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F555CE2-16C2-4D5D-A4FD-73F5BDB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DEF8433-ABDB-4171-A239-14AFF6B6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C23C174-9F6B-47A2-A1B0-3A976FD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D3C78D6-CE62-490E-BA0C-79C2090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F5A70B5-7EB1-4F2B-A99D-56EFBAE5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7C71845-5138-4990-AE68-D059EAC1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97C3F2C-4C59-4A2D-93E4-C1BCD4A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B8D894C-D963-4967-A405-A7DAE8E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9CAD511-DB16-4E29-BE70-80D6304C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1E7BA-59DC-4992-9492-D5E78C11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D5729FC-3F1A-4B8D-8C89-CC0959C8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616033E-6C80-4E67-9AED-C642772E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0C87AA7-556D-4906-9179-834F7B34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7F168AB-85F4-404E-AF35-617B445C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015F1E4-73A8-445D-A005-512541AC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D41AC7C-668D-4C79-A82C-5BE2E074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A5C1D86-B519-43EE-A94D-A35BC62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A7945A9-AE1F-4AE3-A37A-D78DB37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885A868-C89D-424B-86FF-5573A15A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6643E66-531E-47FD-8472-0F65864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1F865-AF14-455C-A17B-189252DE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D8AC6D2-1225-413D-9A80-9BCB96B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FAAB3F8-700F-4BBF-91E9-0621701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A7F0850-BDB7-49D0-B5C7-9E7B4D7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0608FB3-8D6B-4488-B396-1D9BC089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3DC500C-C3FF-453D-8C5B-7F11A860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4DE61AA-9549-4A0F-9434-C78B8B4A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64BF97E-DF8A-47A6-B9DD-C8F54551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970690B-A2B3-451A-BAEA-92D6F14B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3F0AA51-71CA-4133-A0F2-BE3B03C3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3170CF8-CA8E-48E7-B20F-B4894EA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2BB60-FEA8-4373-9640-EFF78772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2281C67-B0CE-4A02-842A-7A2DA78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A36C043-5DBC-43B5-964F-49CF0CAB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0FDBAA5-F1A5-4730-B80D-3C34D90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F7FA22D-402D-4247-81F7-E0F3E19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3666BA6-B764-4E93-A836-DC4D7DC5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77388F5-D271-497C-89BB-FCCDCF5A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9310EE4-452D-4313-B435-3E4FCB83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3E781CC-A158-4DD9-9832-1E1A6388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D291120-E73D-41A7-83B4-2F1F6A3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9C05798-BAC8-4A98-A501-DE688CC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19B8-DF1D-4C31-9741-A1A3350EA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19B6-9963-4FA1-A7E1-D2567C9842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4A7-DCEC-425D-8301-F222D9E061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B84F-C980-401D-81DF-664D96C04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58A8-AAE9-464E-8D8F-E8332177B1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791-143E-46CE-B868-CA0BBB66F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E2B2-E2D9-40A5-913C-445DE820D4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3F5-ADE4-4909-A67B-6353327FEC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59F-EB9C-4FC8-90FF-FA1C5345F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297-14E1-422B-8895-BE2442D6C6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D2F7-FB86-4313-BC0D-E493E73B19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11D-2C4C-4415-8D0B-612F1847A7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428-4546-4CBA-AEAA-67B5D845BD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750-73FC-4A2C-B229-A6C479070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49F5-4C0F-4806-817E-23120393B7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8E0-ACB9-49AC-9F7A-D2EE1CBD2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5E3-7028-4C8E-A5F1-5732FD87DC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EB9-61E2-4E6F-9EEC-8CB9E74E5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089E-32BB-46E6-B0B9-F9DD160BA3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989-9495-4470-9103-6EB00557F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2D2-669F-4243-875F-9E2679D18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025-7FF9-48BD-908F-662C124A4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图片2"/>
          <p:cNvPicPr/>
          <p:nvPr/>
        </p:nvPicPr>
        <p:blipFill>
          <a:blip r:embed="rId3"/>
          <a:stretch/>
        </p:blipFill>
        <p:spPr>
          <a:xfrm>
            <a:off x="0" y="0"/>
            <a:ext cx="9515520" cy="7153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73B-EAC1-4EDD-9A6B-8DA7645A5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485-11C4-444E-B19B-1967A0A5F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69B-278E-4C48-9E0B-19DD4CA662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68EE-13D1-4BE8-A144-6D316CAE11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938-0DC2-41DE-B516-85703F7547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9D6-D47F-4565-A2D1-FA2AF98B07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1FC-DE73-41F1-8EEE-C72267DFCD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FF5C-A52B-498F-A36C-52D17A0DE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34B0-28A9-41EC-8995-353B60E6CE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B46-D962-4426-8F4F-8C391FE4DC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033-8D14-4A7A-9D7B-7782766CCA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1791-3CCB-4570-A847-A160E9D9E5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01D-780A-4649-9329-9B96D3EB7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CB62-ADA8-4C42-BA26-0E510DABFE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234-0BD4-432C-BDBE-38456D3C7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FAE-107D-4208-9D1F-6232E37D7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67D7-7B8C-4BD2-B0A8-61E5C6413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C945-3AEA-414E-A0B4-06B728858B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B242-B555-48B5-92B4-68FEC15D2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F5F-9088-4B07-A7C0-5930992401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6764-F22C-46C7-8D1C-8C75FB9DC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C1E-F09F-4576-A2F5-F6F71FAD7C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9B59-3752-4225-B769-3CEF15D8DB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7A0B-6519-4898-9370-3B0703E85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8A9F-6E87-4667-B28A-3D262160AA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00C-8E2E-4504-B45A-D823DBCA9B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2C5-6BC4-4E44-BF52-2004D40419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0DD-BA49-4284-BCFE-4A79C84303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53CD-E6E0-4811-9331-9A029E7CA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BDCD-1D80-4A40-B7F6-BC29E7B3E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7EFB-359B-46F3-8D24-3FA0F0C1B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E55B-8BE3-434E-AEFA-F559452E30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D977-19AF-4BBB-A249-8608AAE5B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1078-E8F1-4BE6-8563-E49D6F88A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7888-64ED-4AD8-986C-4FEE36184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D27-B884-42C3-9538-7313A16A7E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4B6-31BC-4A1D-A2D1-D2DBFA762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3A5-61D9-47D4-9451-1E58A9CD19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028D-C6A0-424A-ABED-034DD2933E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6623-7F1F-4967-81A5-32D4A02693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CA71-7445-43A2-A4F4-38846BA32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DA7-002C-494A-9956-74AC52A8D3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F152-E059-402D-BBF2-45470613B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E277-424C-4DDD-9B19-D47BA537AE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93B7-1527-449F-BAB0-4A5E10A018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D0C0-4FC6-4763-9A43-2F98209DAA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F99-57AB-470C-AD7B-1ED37C0CA8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D6CB-B9B9-405A-B5AE-870B65DE5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4AC-3D06-4FBF-9287-BEE0E4B8A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 type="dt" idx="2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 type="ftr" idx="2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CBC-C787-48C1-8478-5AABF6605F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 type="dt" idx="2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 type="ftr" idx="2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 type="sldNum" idx="2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A61A-C1A3-4F5A-B51E-F17B7ADF8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 type="dt" idx="2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 type="ftr" idx="2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 type="sldNum" idx="2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AAEC-97D1-4711-83B7-6157B41D33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 type="dt" idx="2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 type="ftr" idx="2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5"/>
          <p:cNvSpPr>
            <a:spLocks noGrp="1"/>
          </p:cNvSpPr>
          <p:nvPr>
            <p:ph type="sldNum" idx="2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4B8C-0306-41D5-9965-29B93108B7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 type="dt" idx="2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 type="ftr" idx="2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5"/>
          <p:cNvSpPr>
            <a:spLocks noGrp="1"/>
          </p:cNvSpPr>
          <p:nvPr>
            <p:ph type="sldNum" idx="2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E450-74A9-469B-8738-C734772AE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 type="dt" idx="2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4"/>
          <p:cNvSpPr>
            <a:spLocks noGrp="1"/>
          </p:cNvSpPr>
          <p:nvPr>
            <p:ph type="ftr" idx="2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5"/>
          <p:cNvSpPr>
            <a:spLocks noGrp="1"/>
          </p:cNvSpPr>
          <p:nvPr>
            <p:ph type="sldNum" idx="2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67A0-1154-4212-A5C3-7876B8A11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82F-93A3-4835-96B1-F23907BA5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 type="dt" idx="2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 type="ftr" idx="2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 type="sldNum" idx="2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5A70-63CC-479E-8595-3B795FB840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 type="dt" idx="2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 type="ftr" idx="2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5"/>
          <p:cNvSpPr>
            <a:spLocks noGrp="1"/>
          </p:cNvSpPr>
          <p:nvPr>
            <p:ph type="sldNum" idx="2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0CB-C997-41D8-965D-582DABB24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 type="dt" idx="2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 type="ftr" idx="2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 type="sldNum" idx="2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0D1-90D7-4AC6-851D-50D5FE9D2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 type="dt" idx="2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 type="ftr" idx="2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 type="sldNum" idx="2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1CC8-CBA4-4BCE-84F4-DF2BEBFB01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 type="dt" idx="2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 type="ftr" idx="2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5"/>
          <p:cNvSpPr>
            <a:spLocks noGrp="1"/>
          </p:cNvSpPr>
          <p:nvPr>
            <p:ph type="sldNum" idx="2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C7C9-52F3-4A3E-927B-8EDED3E2A8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A872-FD18-424B-B10D-A86E3E007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0065;&#24833;.fl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0065;&#24833;.flv" TargetMode="External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8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5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20061;&#19979;/&#31532;&#19968;&#21333;&#20803;/&#12304;&#24576;&#26087;&#22909;&#22768;&#38899;&#12305;&#20043;&#25105;&#30340;&#20013;&#22269;&#24515;.flv" TargetMode="External"/><Relationship Id="rId3" Type="http://schemas.openxmlformats.org/officeDocument/2006/relationships/hyperlink" Target="file:///../../&#20061;&#19979;/&#31532;&#19968;&#21333;&#20803;/&#12304;&#24576;&#26087;&#22909;&#22768;&#38899;&#12305;&#20043;&#25105;&#30340;&#20013;&#22269;&#24515;.flv" TargetMode="External"/><Relationship Id="rId4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矩形 12289"/>
          <p:cNvSpPr txBox="1"/>
          <p:nvPr/>
        </p:nvSpPr>
        <p:spPr>
          <a:xfrm>
            <a:off x="2411280" y="1341360"/>
            <a:ext cx="4038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17406d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乡  愁</a:t>
            </a:r>
            <a:endParaRPr b="0" lang="en-US" sz="9600" spc="1" strike="noStrike">
              <a:ln w="28440">
                <a:solidFill>
                  <a:srgbClr val="17406d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52" name=""/>
          <p:cNvSpPr/>
          <p:nvPr/>
        </p:nvSpPr>
        <p:spPr>
          <a:xfrm>
            <a:off x="1692360" y="4869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阳市殷都区水冶镇一中  李瑞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665964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余光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WordArt 2"/>
          <p:cNvSpPr txBox="1"/>
          <p:nvPr/>
        </p:nvSpPr>
        <p:spPr>
          <a:xfrm>
            <a:off x="1523880" y="209232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2844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倾听乡愁</a:t>
            </a:r>
            <a:endParaRPr b="0" lang="en-US" sz="7200" spc="1" strike="noStrike">
              <a:ln w="2844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矩形 20481"/>
          <p:cNvSpPr/>
          <p:nvPr/>
        </p:nvSpPr>
        <p:spPr>
          <a:xfrm>
            <a:off x="4356000" y="0"/>
            <a:ext cx="460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啊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方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矮矮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坟墓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外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里头</a:t>
            </a: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现在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湾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浅浅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海峡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陆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文本框 20482"/>
          <p:cNvSpPr/>
          <p:nvPr/>
        </p:nvSpPr>
        <p:spPr>
          <a:xfrm>
            <a:off x="-23760" y="1484280"/>
            <a:ext cx="497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候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枚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小小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邮票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张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窄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船票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娘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文本框 20483"/>
          <p:cNvSpPr/>
          <p:nvPr/>
        </p:nvSpPr>
        <p:spPr>
          <a:xfrm>
            <a:off x="2987640" y="260280"/>
            <a:ext cx="3168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49100"/>
                </a:solidFill>
                <a:uFillTx/>
                <a:latin typeface="Times New Roman"/>
                <a:ea typeface="隶书"/>
                <a:hlinkClick r:id="rId2"/>
              </a:rPr>
              <a:t>乡      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直接连接符 20484"/>
          <p:cNvSpPr/>
          <p:nvPr/>
        </p:nvSpPr>
        <p:spPr>
          <a:xfrm>
            <a:off x="4500720" y="1268280"/>
            <a:ext cx="144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直接连接符 20485"/>
          <p:cNvSpPr/>
          <p:nvPr/>
        </p:nvSpPr>
        <p:spPr>
          <a:xfrm>
            <a:off x="4789440" y="1268280"/>
            <a:ext cx="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椭圆 20486"/>
          <p:cNvSpPr/>
          <p:nvPr/>
        </p:nvSpPr>
        <p:spPr>
          <a:xfrm>
            <a:off x="3995640" y="6093000"/>
            <a:ext cx="1295640" cy="4572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6" name="酷小我大制作-乡愁-余光中.mp3" descr=""/>
          <p:cNvPicPr/>
          <p:nvPr/>
        </p:nvPicPr>
        <p:blipFill>
          <a:blip r:embed="rId3"/>
          <a:stretch/>
        </p:blipFill>
        <p:spPr>
          <a:xfrm>
            <a:off x="7164360" y="87480"/>
            <a:ext cx="1363680" cy="125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3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矩形 20481"/>
          <p:cNvSpPr/>
          <p:nvPr/>
        </p:nvSpPr>
        <p:spPr>
          <a:xfrm>
            <a:off x="4356000" y="0"/>
            <a:ext cx="460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啊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方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矮矮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坟墓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外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里头</a:t>
            </a: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现在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湾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浅浅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海峡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陆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文本框 20482"/>
          <p:cNvSpPr/>
          <p:nvPr/>
        </p:nvSpPr>
        <p:spPr>
          <a:xfrm>
            <a:off x="-23760" y="1484280"/>
            <a:ext cx="497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候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邮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窄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船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文本框 20483"/>
          <p:cNvSpPr/>
          <p:nvPr/>
        </p:nvSpPr>
        <p:spPr>
          <a:xfrm>
            <a:off x="2987640" y="260280"/>
            <a:ext cx="3168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49100"/>
                </a:solidFill>
                <a:uFillTx/>
                <a:latin typeface="Times New Roman"/>
                <a:ea typeface="隶书"/>
                <a:hlinkClick r:id="rId2"/>
              </a:rPr>
              <a:t>乡      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直接连接符 20484"/>
          <p:cNvSpPr/>
          <p:nvPr/>
        </p:nvSpPr>
        <p:spPr>
          <a:xfrm>
            <a:off x="4500720" y="1268280"/>
            <a:ext cx="144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直接连接符 20485"/>
          <p:cNvSpPr/>
          <p:nvPr/>
        </p:nvSpPr>
        <p:spPr>
          <a:xfrm>
            <a:off x="4789440" y="1268280"/>
            <a:ext cx="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椭圆 20486"/>
          <p:cNvSpPr/>
          <p:nvPr/>
        </p:nvSpPr>
        <p:spPr>
          <a:xfrm>
            <a:off x="3995640" y="6093000"/>
            <a:ext cx="1295640" cy="4572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WordArt 2"/>
          <p:cNvSpPr txBox="1"/>
          <p:nvPr/>
        </p:nvSpPr>
        <p:spPr>
          <a:xfrm>
            <a:off x="1600200" y="220968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品味乡愁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Text Box 3"/>
          <p:cNvSpPr/>
          <p:nvPr/>
        </p:nvSpPr>
        <p:spPr>
          <a:xfrm>
            <a:off x="609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5"/>
          <p:cNvSpPr/>
          <p:nvPr/>
        </p:nvSpPr>
        <p:spPr>
          <a:xfrm>
            <a:off x="765000" y="111240"/>
            <a:ext cx="801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从哪几个词语可以看出来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“乡愁”一直萦绕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在心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6"/>
          <p:cNvSpPr/>
          <p:nvPr/>
        </p:nvSpPr>
        <p:spPr>
          <a:xfrm>
            <a:off x="2362320" y="1555920"/>
            <a:ext cx="67816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时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长大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后来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7"/>
          <p:cNvSpPr/>
          <p:nvPr/>
        </p:nvSpPr>
        <p:spPr>
          <a:xfrm>
            <a:off x="0" y="41148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Text Box 3"/>
          <p:cNvSpPr/>
          <p:nvPr/>
        </p:nvSpPr>
        <p:spPr>
          <a:xfrm>
            <a:off x="38088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4"/>
          <p:cNvSpPr/>
          <p:nvPr/>
        </p:nvSpPr>
        <p:spPr>
          <a:xfrm>
            <a:off x="380880" y="2133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5"/>
          <p:cNvSpPr/>
          <p:nvPr/>
        </p:nvSpPr>
        <p:spPr>
          <a:xfrm>
            <a:off x="1162080" y="1981080"/>
            <a:ext cx="8153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时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求学在外思念母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长大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婚离别思念娇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后   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死隔绝哀思难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现   在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土分裂忧思绵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6"/>
          <p:cNvSpPr/>
          <p:nvPr/>
        </p:nvSpPr>
        <p:spPr>
          <a:xfrm>
            <a:off x="990720" y="38088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这四个人生阶段又因什么而愁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7"/>
          <p:cNvSpPr/>
          <p:nvPr/>
        </p:nvSpPr>
        <p:spPr>
          <a:xfrm>
            <a:off x="4191120" y="1646280"/>
            <a:ext cx="456696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母子离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8"/>
          <p:cNvSpPr/>
          <p:nvPr/>
        </p:nvSpPr>
        <p:spPr>
          <a:xfrm>
            <a:off x="4191120" y="2722680"/>
            <a:ext cx="457200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夫妻离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Text Box 9"/>
          <p:cNvSpPr/>
          <p:nvPr/>
        </p:nvSpPr>
        <p:spPr>
          <a:xfrm>
            <a:off x="4253040" y="3860640"/>
            <a:ext cx="457200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丧母哀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10"/>
          <p:cNvSpPr/>
          <p:nvPr/>
        </p:nvSpPr>
        <p:spPr>
          <a:xfrm>
            <a:off x="4253040" y="4956120"/>
            <a:ext cx="457200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思归浓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Text Box 11"/>
          <p:cNvSpPr/>
          <p:nvPr/>
        </p:nvSpPr>
        <p:spPr>
          <a:xfrm>
            <a:off x="914400" y="2438280"/>
            <a:ext cx="327672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生离之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12"/>
          <p:cNvSpPr/>
          <p:nvPr/>
        </p:nvSpPr>
        <p:spPr>
          <a:xfrm>
            <a:off x="216720" y="1249200"/>
            <a:ext cx="789840" cy="338328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02694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a02694"/>
                </a:solidFill>
                <a:latin typeface="Times New Roman"/>
              </a:rPr>
              <a:t>家    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Text Box 13"/>
          <p:cNvSpPr/>
          <p:nvPr/>
        </p:nvSpPr>
        <p:spPr>
          <a:xfrm>
            <a:off x="900000" y="3860640"/>
            <a:ext cx="335304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死别之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14"/>
          <p:cNvSpPr/>
          <p:nvPr/>
        </p:nvSpPr>
        <p:spPr>
          <a:xfrm>
            <a:off x="493560" y="3789360"/>
            <a:ext cx="549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15"/>
          <p:cNvSpPr/>
          <p:nvPr/>
        </p:nvSpPr>
        <p:spPr>
          <a:xfrm>
            <a:off x="216000" y="4632480"/>
            <a:ext cx="850680" cy="215892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02694"/>
                </a:solidFill>
                <a:latin typeface="Times New Roman"/>
              </a:rPr>
              <a:t>国   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Rectangle 3"/>
          <p:cNvSpPr/>
          <p:nvPr/>
        </p:nvSpPr>
        <p:spPr>
          <a:xfrm>
            <a:off x="1563840" y="266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诗人把“乡愁”寄托在哪里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4"/>
          <p:cNvSpPr/>
          <p:nvPr/>
        </p:nvSpPr>
        <p:spPr>
          <a:xfrm>
            <a:off x="108000" y="194796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托物寄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Text Box 5"/>
          <p:cNvSpPr/>
          <p:nvPr/>
        </p:nvSpPr>
        <p:spPr>
          <a:xfrm>
            <a:off x="3780000" y="1557360"/>
            <a:ext cx="5029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邮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船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坟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海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AutoShape 7"/>
          <p:cNvSpPr/>
          <p:nvPr/>
        </p:nvSpPr>
        <p:spPr>
          <a:xfrm>
            <a:off x="558720" y="2954160"/>
            <a:ext cx="1800360" cy="1203480"/>
          </a:xfrm>
          <a:prstGeom prst="upArrowCallout">
            <a:avLst>
              <a:gd name="adj1" fmla="val 37402"/>
              <a:gd name="adj2" fmla="val 37399"/>
              <a:gd name="adj3" fmla="val 16625"/>
              <a:gd name="adj4" fmla="val 66660"/>
            </a:avLst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WordArt 8"/>
          <p:cNvSpPr txBox="1"/>
          <p:nvPr/>
        </p:nvSpPr>
        <p:spPr>
          <a:xfrm>
            <a:off x="453960" y="3362400"/>
            <a:ext cx="217008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意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526" name="Rectangle 10"/>
          <p:cNvSpPr/>
          <p:nvPr/>
        </p:nvSpPr>
        <p:spPr>
          <a:xfrm>
            <a:off x="4335480" y="5778360"/>
            <a:ext cx="485640" cy="901800"/>
          </a:xfrm>
          <a:prstGeom prst="rect">
            <a:avLst/>
          </a:prstGeom>
          <a:solidFill>
            <a:srgbClr val="dbef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乡愁是一种抽象情感，作者通过具体可感的事物来表达这种欲说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的情感，使抽象的情感具体、形象，营造了忧伤的意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文本框 1"/>
          <p:cNvSpPr/>
          <p:nvPr/>
        </p:nvSpPr>
        <p:spPr>
          <a:xfrm>
            <a:off x="5651640" y="375588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意象在诗歌中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Text Box 3"/>
          <p:cNvSpPr/>
          <p:nvPr/>
        </p:nvSpPr>
        <p:spPr>
          <a:xfrm>
            <a:off x="609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Text Box 5"/>
          <p:cNvSpPr/>
          <p:nvPr/>
        </p:nvSpPr>
        <p:spPr>
          <a:xfrm>
            <a:off x="68400" y="317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70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请你说说诗人通过这些意象抒发了什么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Text Box 6"/>
          <p:cNvSpPr/>
          <p:nvPr/>
        </p:nvSpPr>
        <p:spPr>
          <a:xfrm>
            <a:off x="755640" y="2349360"/>
            <a:ext cx="734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渴望与亲人团聚，渴望祖国早日统一，以结束分离的痛苦的强烈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41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  <a:ea typeface="微软雅黑"/>
              </a:rPr>
              <a:t>日积月累，学 以 致 用</a:t>
            </a:r>
            <a:r>
              <a:rPr b="1" lang="en-US" sz="2800" spc="-1" strike="noStrike">
                <a:solidFill>
                  <a:srgbClr val="0f6fc6"/>
                </a:solidFill>
                <a:latin typeface="Arial"/>
                <a:ea typeface="微软雅黑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f6fc6"/>
                </a:solidFill>
                <a:latin typeface="Arial"/>
                <a:ea typeface="微软雅黑"/>
              </a:rPr>
              <a:t>       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  <a:ea typeface="微软雅黑"/>
              </a:rPr>
              <a:t>请你说说下列诗句中的意象是什么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1692360" y="1699920"/>
            <a:ext cx="720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浮云终日行，游子久不至。 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浮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 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江南几度梅花发，人在天涯鬓已斑。 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梅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平时最识江湖味，听得秋声忆故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秋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) 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悠悠天宇旷，切切故乡情。 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天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蜀国曾闻子规鸟，宣城又见杜鹃花。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一叫一回肠一断，三春三月忆三巴。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子规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33" name="矩形 1"/>
          <p:cNvSpPr/>
          <p:nvPr/>
        </p:nvSpPr>
        <p:spPr>
          <a:xfrm>
            <a:off x="5364000" y="1628640"/>
            <a:ext cx="158292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矩形 3"/>
          <p:cNvSpPr/>
          <p:nvPr/>
        </p:nvSpPr>
        <p:spPr>
          <a:xfrm>
            <a:off x="6659640" y="2276640"/>
            <a:ext cx="172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矩形 4"/>
          <p:cNvSpPr/>
          <p:nvPr/>
        </p:nvSpPr>
        <p:spPr>
          <a:xfrm>
            <a:off x="6443640" y="2924280"/>
            <a:ext cx="122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矩形 5"/>
          <p:cNvSpPr/>
          <p:nvPr/>
        </p:nvSpPr>
        <p:spPr>
          <a:xfrm>
            <a:off x="5364000" y="3500280"/>
            <a:ext cx="129708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矩形 6"/>
          <p:cNvSpPr/>
          <p:nvPr/>
        </p:nvSpPr>
        <p:spPr>
          <a:xfrm>
            <a:off x="6588000" y="4653000"/>
            <a:ext cx="145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959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羁旅乡愁诗辨别关键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39" name=""/>
          <p:cNvSpPr txBox="1"/>
          <p:nvPr/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lnSpc>
                <a:spcPct val="11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羁旅类诗词中有一些关键的字词，如“孤”“悲”“无情”“怜”“空”“独”“故园”“相思”等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羁旅诗中使用频率比较高的意象有：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①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怀远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鸿雁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传书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③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柳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送别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杜鹃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啼血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"/>
          <p:cNvSpPr txBox="1"/>
          <p:nvPr/>
        </p:nvSpPr>
        <p:spPr>
          <a:xfrm>
            <a:off x="311040" y="1432080"/>
            <a:ext cx="86536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f6fc6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月是故乡明，水是故乡甜，中华民族是最恋家的民族。这种情结折射到文学作品中，体现出的是浓浓的乡情、乡愁。同学们，你知道哪些抒发乡愁的古诗，请与大家分享一下。  </a:t>
            </a:r>
            <a:r>
              <a:rPr b="1" lang="zh-CN" sz="24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f6fc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WordArt 2"/>
          <p:cNvSpPr txBox="1"/>
          <p:nvPr/>
        </p:nvSpPr>
        <p:spPr>
          <a:xfrm>
            <a:off x="1824120" y="229536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讨论乡愁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520200" y="457200"/>
            <a:ext cx="8177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小组合作探究：</a:t>
            </a:r>
            <a:br>
              <a:rPr sz="3600"/>
            </a:b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“小小的”、“窄窄的”、“矮矮的”、“浅浅的”几个词分别改成“大大的”、“宽宽的”、“高高的”、“深深的”不是更能表现乡愁的浓重吗？对此，你是怎样理解的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42" name=""/>
          <p:cNvSpPr txBox="1"/>
          <p:nvPr/>
        </p:nvSpPr>
        <p:spPr>
          <a:xfrm>
            <a:off x="468360" y="2332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明确：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运用叠词，反衬乡愁之浓郁，增强诗歌表现力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邮票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船票的“窄”、坟墓的“矮”、海峡的“浅”，跟母子分别、夫妻分离、生死相隔、同胞相去的凝重的愁思恰好形成了强烈而又鲜明的对比，更突显出“愁”之深之重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3000"/>
                                        <p:tgtEl>
                                          <p:spTgt spid="3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Text Box 3"/>
          <p:cNvSpPr/>
          <p:nvPr/>
        </p:nvSpPr>
        <p:spPr>
          <a:xfrm>
            <a:off x="609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Text Box 5"/>
          <p:cNvSpPr/>
          <p:nvPr/>
        </p:nvSpPr>
        <p:spPr>
          <a:xfrm>
            <a:off x="334800" y="352440"/>
            <a:ext cx="84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Times New Roman"/>
              </a:rPr>
              <a:t>小组合作探究：请你说说本诗在构思上有什么特点？（提示：可以从意境、结构、语言形式、节奏等方面考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Text Box 6"/>
          <p:cNvSpPr/>
          <p:nvPr/>
        </p:nvSpPr>
        <p:spPr>
          <a:xfrm>
            <a:off x="104760" y="1844640"/>
            <a:ext cx="9039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本诗用意象渲染出忧伤的氛围，营造了凄美的意境。（意境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全诗都采用“乡愁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“我在这（外）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那（里）头”的句式，句式整齐，四节诗歌，结构大同小异，一咏三叹，反复吟唱。 （结构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同一位置上词的重复和叠词的运用，使全诗如泣如诉；数量词的运用，增添了一种抑扬顿挫的旋律美，增强了诗的音韵美。 （音乐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Text Box 68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  愁</a:t>
            </a:r>
            <a:endParaRPr b="0" lang="en-US" sz="6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48" name="Text Box 52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"/>
                                        <p:tgtEl>
                                          <p:spTgt spid="3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  愁</a:t>
            </a:r>
            <a:endParaRPr b="0" lang="en-US" sz="6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51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Text Box 12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  愁</a:t>
            </a:r>
            <a:endParaRPr b="0" lang="en-US" sz="6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55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12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13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Text Box 14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300"/>
                                        <p:tgtEl>
                                          <p:spTgt spid="3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Text Box 8"/>
          <p:cNvSpPr/>
          <p:nvPr/>
        </p:nvSpPr>
        <p:spPr>
          <a:xfrm>
            <a:off x="35053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Text Box 8"/>
          <p:cNvSpPr/>
          <p:nvPr/>
        </p:nvSpPr>
        <p:spPr>
          <a:xfrm>
            <a:off x="35053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立方体 30731"/>
          <p:cNvSpPr/>
          <p:nvPr/>
        </p:nvSpPr>
        <p:spPr>
          <a:xfrm>
            <a:off x="2124000" y="5157720"/>
            <a:ext cx="1440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境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Text Box 8"/>
          <p:cNvSpPr/>
          <p:nvPr/>
        </p:nvSpPr>
        <p:spPr>
          <a:xfrm>
            <a:off x="3492360" y="4508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立方体 30731"/>
          <p:cNvSpPr/>
          <p:nvPr/>
        </p:nvSpPr>
        <p:spPr>
          <a:xfrm>
            <a:off x="2124000" y="5157720"/>
            <a:ext cx="1440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境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立方体 30732"/>
          <p:cNvSpPr/>
          <p:nvPr/>
        </p:nvSpPr>
        <p:spPr>
          <a:xfrm>
            <a:off x="4140360" y="5157720"/>
            <a:ext cx="1295280" cy="1079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8"/>
          <p:cNvSpPr/>
          <p:nvPr/>
        </p:nvSpPr>
        <p:spPr>
          <a:xfrm>
            <a:off x="35053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立方体 30731"/>
          <p:cNvSpPr/>
          <p:nvPr/>
        </p:nvSpPr>
        <p:spPr>
          <a:xfrm>
            <a:off x="2124000" y="5157720"/>
            <a:ext cx="1440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境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立方体 30732"/>
          <p:cNvSpPr/>
          <p:nvPr/>
        </p:nvSpPr>
        <p:spPr>
          <a:xfrm>
            <a:off x="4140360" y="5157720"/>
            <a:ext cx="1295280" cy="1079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立方体 30733"/>
          <p:cNvSpPr/>
          <p:nvPr/>
        </p:nvSpPr>
        <p:spPr>
          <a:xfrm>
            <a:off x="6012000" y="5157720"/>
            <a:ext cx="1224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音乐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1482840" y="48240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Arial"/>
              </a:rPr>
              <a:t>思乡诗句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1168200" y="1476360"/>
            <a:ext cx="73515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春风又绿江南岸，明月何时照我还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举头望明月，低头思故乡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露从今夜白，月是故乡明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独在异乡为异客，每逢佳节倍思亲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乡书何处达？归雁洛阳边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日暮乡关何处是，烟波江上使人愁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7" name="文本框 11267"/>
          <p:cNvSpPr/>
          <p:nvPr/>
        </p:nvSpPr>
        <p:spPr>
          <a:xfrm>
            <a:off x="540720" y="2276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Text Box 3"/>
          <p:cNvSpPr/>
          <p:nvPr/>
        </p:nvSpPr>
        <p:spPr>
          <a:xfrm>
            <a:off x="468360" y="1916280"/>
            <a:ext cx="845820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这首诗里，设置了四个时段，将乡愁浓缩为邮票、船票、坟墓、海峡等意象，通过四个时段和空间的变化，逐层推进，使意象次第放大，将乡愁 诠释为亲情、爱情和思乡爱国之情，感情由淡而浓，主题由浅入深，在一咏三叹之中，将乡愁渲染得异常浓烈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WordArt 5"/>
          <p:cNvSpPr txBox="1"/>
          <p:nvPr/>
        </p:nvSpPr>
        <p:spPr>
          <a:xfrm>
            <a:off x="1281240" y="52380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8837" dir="2700000" blurRad="0" rotWithShape="0">
                    <a:srgbClr val="000000">
                      <a:alpha val="40000"/>
                    </a:srgbClr>
                  </a:outerShdw>
                </a:effectLst>
                <a:latin typeface="宋体"/>
              </a:rPr>
              <a:t>构思特点小结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8837" dir="2700000" blurRad="0" rotWithShape="0">
                  <a:srgbClr val="000000">
                    <a:alpha val="4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文本框 39937"/>
          <p:cNvSpPr/>
          <p:nvPr/>
        </p:nvSpPr>
        <p:spPr>
          <a:xfrm>
            <a:off x="179280" y="1197000"/>
            <a:ext cx="8496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海外游子深情而美丽的恋歌，试以“乡愁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句式也来写一写乡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矩形 39938"/>
          <p:cNvSpPr txBox="1"/>
          <p:nvPr/>
        </p:nvSpPr>
        <p:spPr>
          <a:xfrm>
            <a:off x="420840" y="282600"/>
            <a:ext cx="6480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迁移拓展，感受诗歌的创造美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13" name="文本框 39939"/>
          <p:cNvSpPr/>
          <p:nvPr/>
        </p:nvSpPr>
        <p:spPr>
          <a:xfrm>
            <a:off x="1692360" y="2565360"/>
            <a:ext cx="65516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一杯浓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一轮圆圆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故乡那湾永远流淌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那根在灵魂深处流动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远走时父亲久久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伫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别离时妈妈不断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挥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雕刻在记忆中的古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人一辈子走不出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精神的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2268000" y="475920"/>
            <a:ext cx="40323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   </a:t>
            </a:r>
            <a:r>
              <a:rPr b="0" lang="zh-CN" sz="28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 </a:t>
            </a:r>
            <a:r>
              <a:rPr b="0" lang="zh-CN" sz="36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总       结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15" name=""/>
          <p:cNvSpPr txBox="1"/>
          <p:nvPr/>
        </p:nvSpPr>
        <p:spPr>
          <a:xfrm>
            <a:off x="900000" y="1700280"/>
            <a:ext cx="71978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f6fc6"/>
                </a:solidFill>
                <a:latin typeface="Arial"/>
              </a:rPr>
              <a:t>故乡、故土是长说不衰的话题。我们对故乡的一山一水、一草一木，都寄托着深厚的情感，同学们，将来不论你走多久，不论你走多远，请永远记住回家的路。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"/>
          <p:cNvSpPr txBox="1"/>
          <p:nvPr/>
        </p:nvSpPr>
        <p:spPr>
          <a:xfrm>
            <a:off x="539280" y="1557360"/>
            <a:ext cx="821844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七、布置作业：</a:t>
            </a:r>
            <a:endParaRPr b="0" lang="en-US" sz="40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、课外阅读余光中的其他诗；</a:t>
            </a:r>
            <a:endParaRPr b="0" lang="en-US" sz="40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、以“亲情、幸福、快乐”为题仿写本诗。</a:t>
            </a:r>
            <a:endParaRPr b="0" lang="en-US" sz="40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标题 13314" descr="余光中"/>
          <p:cNvPicPr/>
          <p:nvPr/>
        </p:nvPicPr>
        <p:blipFill>
          <a:blip r:embed="rId2"/>
          <a:stretch/>
        </p:blipFill>
        <p:spPr>
          <a:xfrm>
            <a:off x="0" y="0"/>
            <a:ext cx="2308320" cy="4075200"/>
          </a:xfrm>
          <a:prstGeom prst="rect">
            <a:avLst/>
          </a:prstGeom>
          <a:ln w="0">
            <a:noFill/>
          </a:ln>
        </p:spPr>
      </p:pic>
      <p:sp>
        <p:nvSpPr>
          <p:cNvPr id="3459" name="文本框 13315"/>
          <p:cNvSpPr/>
          <p:nvPr/>
        </p:nvSpPr>
        <p:spPr>
          <a:xfrm>
            <a:off x="2308320" y="343080"/>
            <a:ext cx="669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余光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19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于南京，祖籍福建永春，台湾十大现代诗人之一。已出版诗集、散文、评论和译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种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起余光中创作了不少怀乡诗，故而被人们称为“乡愁诗人”。代表作有：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乡愁四韵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天，遂想起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时异地求学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离开大陆前往台湾，从此开始了长达半个多世纪的漂泊生涯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初创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余光中时而低首沉思，时而抬头远眺。他说：“随着日子的流失愈多，我的怀乡之情便日重，在离开大陆整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候，我在台北厦门街的旧居内一挥而就，仅用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便写出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文本框 14337"/>
          <p:cNvSpPr/>
          <p:nvPr/>
        </p:nvSpPr>
        <p:spPr>
          <a:xfrm>
            <a:off x="450720" y="1255680"/>
            <a:ext cx="858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诗歌的朗读技巧，能有感情的朗读诗歌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作者借助意象来表达抽象情感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法。（重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作者强烈的思乡、思国的感情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渴望统一的美好愿望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诗歌的意境美、结构美、音乐美。（难点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文本框 14338"/>
          <p:cNvSpPr/>
          <p:nvPr/>
        </p:nvSpPr>
        <p:spPr>
          <a:xfrm>
            <a:off x="2484360" y="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WordArt 2"/>
          <p:cNvSpPr txBox="1"/>
          <p:nvPr/>
        </p:nvSpPr>
        <p:spPr>
          <a:xfrm>
            <a:off x="1676520" y="1981080"/>
            <a:ext cx="5943600" cy="18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感悟乡愁</a:t>
            </a:r>
            <a:endParaRPr b="0" lang="en-US" sz="66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自由朗读</a:t>
            </a:r>
            <a:endParaRPr b="0" lang="en-US" sz="4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4" name="矩形 16386"/>
          <p:cNvSpPr/>
          <p:nvPr/>
        </p:nvSpPr>
        <p:spPr>
          <a:xfrm>
            <a:off x="468360" y="1557360"/>
            <a:ext cx="849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①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读出节奏；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②读出重音；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③读出感情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6fc6"/>
                </a:solidFill>
                <a:latin typeface="Arial"/>
                <a:ea typeface="楷体_GB2312"/>
              </a:rPr>
              <a:t>乡   愁</a:t>
            </a: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f6fc6"/>
                </a:solidFill>
                <a:latin typeface="Arial"/>
                <a:ea typeface="楷体_GB2312"/>
              </a:rPr>
              <a:t>余光中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755280" y="620280"/>
            <a:ext cx="79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小时候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乡愁／是一枚／小小的／邮票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我／在这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母亲／在那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 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缓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思念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长大后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乡愁 ／ 是一张／窄窄的／船票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我／在这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新娘／在那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7" name="文本框 17411"/>
          <p:cNvSpPr/>
          <p:nvPr/>
        </p:nvSpPr>
        <p:spPr>
          <a:xfrm>
            <a:off x="97164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文本框 17412"/>
          <p:cNvSpPr/>
          <p:nvPr/>
        </p:nvSpPr>
        <p:spPr>
          <a:xfrm>
            <a:off x="3851280" y="1701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文本框 17413"/>
          <p:cNvSpPr/>
          <p:nvPr/>
        </p:nvSpPr>
        <p:spPr>
          <a:xfrm>
            <a:off x="543564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文本框 17414"/>
          <p:cNvSpPr/>
          <p:nvPr/>
        </p:nvSpPr>
        <p:spPr>
          <a:xfrm>
            <a:off x="2195640" y="2349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文本框 17415"/>
          <p:cNvSpPr/>
          <p:nvPr/>
        </p:nvSpPr>
        <p:spPr>
          <a:xfrm>
            <a:off x="2556000" y="3141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文本框 17416"/>
          <p:cNvSpPr/>
          <p:nvPr/>
        </p:nvSpPr>
        <p:spPr>
          <a:xfrm>
            <a:off x="900000" y="508644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文本框 17417"/>
          <p:cNvSpPr/>
          <p:nvPr/>
        </p:nvSpPr>
        <p:spPr>
          <a:xfrm>
            <a:off x="2124000" y="58053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文本框 17418"/>
          <p:cNvSpPr/>
          <p:nvPr/>
        </p:nvSpPr>
        <p:spPr>
          <a:xfrm>
            <a:off x="5651640" y="50864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文本框 17419"/>
          <p:cNvSpPr/>
          <p:nvPr/>
        </p:nvSpPr>
        <p:spPr>
          <a:xfrm>
            <a:off x="3995640" y="50133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文本框 17420"/>
          <p:cNvSpPr/>
          <p:nvPr/>
        </p:nvSpPr>
        <p:spPr>
          <a:xfrm>
            <a:off x="2556000" y="6381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4343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f6fc6"/>
                </a:solidFill>
                <a:latin typeface="Arial"/>
                <a:ea typeface="楷体_GB2312"/>
              </a:rPr>
              <a:t>乡   愁</a:t>
            </a:r>
            <a:r>
              <a:rPr b="0" lang="zh-CN" sz="4000" spc="-1" strike="noStrike">
                <a:solidFill>
                  <a:srgbClr val="0f6fc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f6fc6"/>
                </a:solidFill>
                <a:latin typeface="Arial"/>
                <a:ea typeface="楷体_GB2312"/>
              </a:rPr>
              <a:t>余光中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78" name=""/>
          <p:cNvSpPr txBox="1"/>
          <p:nvPr/>
        </p:nvSpPr>
        <p:spPr>
          <a:xfrm>
            <a:off x="611280" y="764640"/>
            <a:ext cx="7632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啊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／是一方／矮矮的／坟墓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／在外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／在里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楷体_GB2312"/>
                <a:ea typeface="楷体_GB2312"/>
              </a:rPr>
              <a:t> 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深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伤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现在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／是一湾／浅浅的／海峡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／在这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陆／在那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音调上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限思念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79" name="文本框 18435"/>
          <p:cNvSpPr/>
          <p:nvPr/>
        </p:nvSpPr>
        <p:spPr>
          <a:xfrm>
            <a:off x="2124000" y="30686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文本框 18436"/>
          <p:cNvSpPr/>
          <p:nvPr/>
        </p:nvSpPr>
        <p:spPr>
          <a:xfrm flipV="1">
            <a:off x="1763640" y="23472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文本框 18437"/>
          <p:cNvSpPr/>
          <p:nvPr/>
        </p:nvSpPr>
        <p:spPr>
          <a:xfrm>
            <a:off x="464508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文本框 18438"/>
          <p:cNvSpPr/>
          <p:nvPr/>
        </p:nvSpPr>
        <p:spPr>
          <a:xfrm>
            <a:off x="327672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文本框 18439"/>
          <p:cNvSpPr/>
          <p:nvPr/>
        </p:nvSpPr>
        <p:spPr>
          <a:xfrm>
            <a:off x="75564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文本框 18440"/>
          <p:cNvSpPr/>
          <p:nvPr/>
        </p:nvSpPr>
        <p:spPr>
          <a:xfrm>
            <a:off x="2124000" y="60930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文本框 18441"/>
          <p:cNvSpPr/>
          <p:nvPr/>
        </p:nvSpPr>
        <p:spPr>
          <a:xfrm>
            <a:off x="1835280" y="544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文本框 18442"/>
          <p:cNvSpPr/>
          <p:nvPr/>
        </p:nvSpPr>
        <p:spPr>
          <a:xfrm>
            <a:off x="4716360" y="48690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文本框 18443"/>
          <p:cNvSpPr/>
          <p:nvPr/>
        </p:nvSpPr>
        <p:spPr>
          <a:xfrm>
            <a:off x="3203640" y="4869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文本框 18444"/>
          <p:cNvSpPr/>
          <p:nvPr/>
        </p:nvSpPr>
        <p:spPr>
          <a:xfrm>
            <a:off x="828720" y="4797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4:33:06Z</dcterms:created>
  <dc:creator>ly</dc:creator>
  <dc:description/>
  <cp:keywords/>
  <dc:language>en-US</dc:language>
  <cp:lastModifiedBy>微软用户</cp:lastModifiedBy>
  <dcterms:modified xsi:type="dcterms:W3CDTF">2020-05-24T06:17:12Z</dcterms:modified>
  <cp:revision>219</cp:revision>
  <dc:subject/>
  <dc:title>走近乡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