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6B8-BB5F-412C-B095-9CC8D4B6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9D0-C98B-46BD-8F12-EC0899A5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DC4AD-30C8-4B9D-B45D-D22D7DAC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7CA3E-707A-4F6C-9FC1-CA331678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2D275-8182-4610-AC98-95E6259D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9D060-6CAD-4C02-BDC9-65249F6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C58D0-21CC-4CCD-8024-1D769ED3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EB0A7-6C3A-40D1-907D-B4C6337E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17846-203B-426A-8788-7264151E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248DD-7FCC-4B9A-A378-E9AA3BFF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5A099-E47D-42DD-9ADA-B681FA31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095E5-8A38-4891-92D2-C0865D0D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E43-D44E-461E-961F-50EB136A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F1CD3-DF9E-491B-BA9A-2FA53F24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C06D0-690E-406B-BF3E-828D609B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3E94C-0284-472E-BB23-51944584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E103F-1F36-467D-9992-F947A0E6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46910-77DA-4EC1-AB48-679030BA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81125-9D52-4370-99CE-91172F1E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772BA-F0E5-4A84-8C8A-7F2076BA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4CD9F-A4AC-499A-AE11-884B021A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12543-D514-4A46-97A5-C184C36A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6F746-F719-4D86-9700-99550813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629-7FE6-46B5-B5A9-76C3709F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28184-7B3A-4F40-87BF-E3582C10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EBC33-0205-41DC-BAFA-9B52F5F6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F563D-2337-4BEE-ABE8-CBC9DD80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967E8-8687-404B-B460-646EA7D8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986F8-3628-4B8D-93DB-FFA40C8B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22554-20FB-4331-A1FF-81E728A2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E0728-FC2F-46DA-926A-91849395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36B63-8C3E-4CDF-9173-DEB93144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6E899-3234-48B0-866F-2DE10BF0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5BF12-4806-4DED-89C2-9DC4FBEE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0B21-8FF0-48D4-98CB-95B856E1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25E1C-7FC5-4DCF-8373-677B19F9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1DAE3-C7EC-4FEA-A327-085CCBFF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7674D-AAFD-4260-B0EF-3D8911E9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D1025-B67D-49AE-8B68-E59D56AE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217E3-27AD-4406-B4D8-A10E04C6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66AF4-3C71-496B-931E-C103D6DE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6D159-8BD6-460C-8716-C45D263C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FC748-956A-4E9E-88E2-65474055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24419-8CEE-4F88-974E-564E8A90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92471-1DA6-4940-A3F3-EEA793B5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3883-2BAD-4883-A534-E7CB4BBA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F2133-F20D-4593-93FB-C43007D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F7102-E21C-4137-BE73-6363084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EFC49-0071-4FD9-B538-49D242B5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C79D6-E473-47F9-BF82-7E970654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DB989-05B8-47C3-A10B-04D6FD04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DAF2-8256-4A39-AC4D-B9F8A5FD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786E-8E98-415F-AA52-70260E92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3641-FCD2-45E3-A603-122EB9C7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6DE7-CE7E-4B79-B842-BFCE3F65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181C-45FC-473D-A4DC-7E90D4B2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3BB-355C-41CB-90E4-5D89DCE4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D13F-6811-4312-B48F-BE93E410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96AB-96CC-40A9-83DE-BFF5D1BE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BFC0-B108-4D6E-89E5-24E4B2A2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E981-6493-4995-8592-575E8D34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4507-F995-4271-8A32-CEA8FBDA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CBB4-8B07-4246-83E8-89D96326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9362-0978-4CB6-85C1-1E36D64B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ED39-1CFC-43AC-AE63-71DB1B32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6B85-73F9-45B6-BAC7-1E33D908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97FE-8BA1-4BC4-A6A3-351E601F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4A6-C48D-4BBC-9A74-8C310583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18E5C-7C2C-41EB-8BFE-AA369E3F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43B2-1734-4C8B-A422-CF271D84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5148-CA36-4AA2-A5B1-82C87C7B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06BF0-EADA-495B-9BBB-8FF401E8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0877-5D45-4477-BA4C-8FCF4708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C727-E2C2-46C9-8F9F-AD3046EF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E12F-BC75-49ED-B851-2A38B10A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93E67-3160-436B-9FF6-8A653868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C3D3A-33EE-44AE-BD5A-9A5D2818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C3A9B-5367-4D10-BF37-A682F460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0C0-D879-429F-B207-C7FF70B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19C3-3DA1-4A68-8C45-F2840769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529F8-AA87-4D4D-9C02-0560F09E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67D3D-3A5C-473B-8831-FDBD89E4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14CA-E638-4E02-94D9-3F05D352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D0C9-233F-46FC-B06B-A0B29FC5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6AE1-6263-4160-9083-D10A95DD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8E90A-601A-4D11-B75C-1CD40343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4750-0110-46F5-9A1B-1FDC6BE6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DE460-D4F5-4476-B32E-8EF20045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F9550-9D0B-4390-B8F0-04558E43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5AA-7FDC-4DD9-A9C7-2C866F72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98AF6-49A3-491D-A4C4-5A66C1E6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78DCE-925B-4B2B-A61E-FC526993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D354B-5A0B-4EB4-83D8-3C44EB4D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68C49-DE0F-49B3-8AD8-603D5AEF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35E0A-25E7-4813-8B9D-47D98A10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5E40A-AF7C-42E3-8482-2344DB01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7BF2D-6FCB-4965-ABE2-9EBD7E4D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DAD1E-7BC5-49ED-9865-26E78312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71CB7-E0EA-4925-A4A4-DA694ABB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AD59F-6F1C-4AA0-B94E-9D279700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F80-F423-4A0C-87E2-031A9097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79DC-90F5-4996-93F3-8AAA3472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992DC-2DC0-4DEC-B307-BC2882EC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DF22A-6CBE-4072-A89D-60637C85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62AA-B891-4D47-A03C-B027BCD6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9EE8D-EDCC-4F66-BD61-6164AE5C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CCE6D-6D73-4142-B046-C781D123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BA3BD-C9DC-42C9-AB09-D2BB6638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B61F5-6E1F-46C0-A7C8-262C98E8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22483-DCCC-4415-8431-C738F48D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06B0A-2A9C-4F93-B4F0-D6F7DB2D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4BF-40AF-47F7-A871-46E42E4D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A6CC4-7285-4421-9FEA-D781D99D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CDD02-5FCE-4E78-90E4-8CB67330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6D67E-540F-4489-9E2E-3AFEFF9C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A12A4-ED9C-4036-84BC-A4E6FE7D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0BC7F-8095-4039-99DB-6E823796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274EB-F527-4E4B-918A-C0A107AA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C2F1-439C-4D2A-A599-ABCB1E77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FAB96-C0D4-4B87-9EA4-37734567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5F140-33CC-4AC5-BEB3-04FD0C7C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03A2C-B144-404E-936D-29266201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227-1E6A-4A22-9997-E68D6454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DA3F5-4005-4C58-B508-574D4B2D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46DFA-0634-448C-9C4C-A267023E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DAD7B-719F-4B18-83C5-AA03FE5E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5AC3F-38CB-427D-8491-463F6710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21F08-4F6A-4E1B-9920-197E01C6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8CE12-82D0-4F14-A00D-25063503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FBF41-67FD-4CE8-93BF-76426852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E98B7-A4F6-4CC4-AD4F-9C022270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F8201-CFFC-4599-8793-CDD5CB00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63E18-85EF-48CE-8167-F519FBC2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76C-5015-4686-A7CB-322534ED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AD21F-BFF6-40A6-A894-801A66FA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2DE46-8CCD-448D-9426-A8002EAA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9278B-F0E6-43B1-9F93-039A3552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9E41E-3FBA-4C40-84A7-9D4DCB38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58D7D-9104-4E17-89D7-D87F60FF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0B2B0-A55F-4E68-B89A-2954DFD8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E04A5-F1A6-479F-9075-5578A143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0BF40-DD42-47D7-B803-7C24F99B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13413-6238-4710-8F91-FA488394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559C3-BDD7-4DA5-BCFE-C75E7755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FCF2-CCA6-4C70-B1EB-DD1FAFCDE7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34FF-EC95-48B9-ADB6-768353D807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6FD6-3F85-4768-9B8E-842910B1EA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B28B-D5B4-4587-8B87-763F273FAD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BFBA-7B56-49AC-AF0D-1A4557A252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CC0D-0A2F-4AE0-AD43-3E3B105C90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FD6-9C22-4348-B3AC-8F356E1222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B43C-9580-4239-B4E8-DEA44FC3F1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88D5-E8E6-49DB-B6D2-ADF6332862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8157-6613-457E-BB91-4699CC7CBC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73B0-409B-416F-9F23-B29EA3DBCC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8a"/>
            </a:gs>
            <a:gs pos="100000">
              <a:srgbClr val="fafa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B9C6-20AB-4D49-837A-85BD01993D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2011052112111735"/>
          <p:cNvPicPr/>
          <p:nvPr/>
        </p:nvPicPr>
        <p:blipFill>
          <a:blip r:embed="rId1"/>
          <a:stretch/>
        </p:blipFill>
        <p:spPr>
          <a:xfrm>
            <a:off x="3124080" y="1066680"/>
            <a:ext cx="4038840" cy="4006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60" name="Rectangle 3"/>
          <p:cNvSpPr/>
          <p:nvPr/>
        </p:nvSpPr>
        <p:spPr>
          <a:xfrm>
            <a:off x="308880" y="-1022400"/>
            <a:ext cx="1399320" cy="84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00"/>
                </a:solidFill>
                <a:latin typeface="Arial"/>
                <a:ea typeface="隶书"/>
              </a:rPr>
              <a:t>天净沙 </a:t>
            </a:r>
            <a:r>
              <a:rPr b="1" lang="en-US" sz="8000" spc="-1" strike="noStrike">
                <a:solidFill>
                  <a:srgbClr val="800000"/>
                </a:solidFill>
                <a:latin typeface="Arial"/>
                <a:ea typeface="隶书"/>
              </a:rPr>
              <a:t>·</a:t>
            </a:r>
            <a:r>
              <a:rPr b="1" lang="zh-CN" sz="8000" spc="-1" strike="noStrike">
                <a:solidFill>
                  <a:srgbClr val="800000"/>
                </a:solidFill>
                <a:latin typeface="Arial"/>
                <a:ea typeface="隶书"/>
              </a:rPr>
              <a:t>秋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4558320" y="5562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隶书"/>
              </a:rPr>
              <a:t>马致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5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0"/>
          <p:cNvSpPr/>
          <p:nvPr/>
        </p:nvSpPr>
        <p:spPr>
          <a:xfrm>
            <a:off x="-228600" y="4572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作业布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2"/>
          <p:cNvSpPr/>
          <p:nvPr/>
        </p:nvSpPr>
        <p:spPr>
          <a:xfrm>
            <a:off x="304920" y="1676520"/>
            <a:ext cx="838188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根据诗歌内容展开合理想象，写一段描述性的文字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字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3"/>
          <p:cNvSpPr/>
          <p:nvPr/>
        </p:nvSpPr>
        <p:spPr>
          <a:xfrm>
            <a:off x="228600" y="1371600"/>
            <a:ext cx="30481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枯树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609480" y="45720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33520" y="167652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、正确、流利、有感情的朗读诗歌并背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二、理解《天净沙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秋思》所描写的景物和蕴含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三、能用自己的语言描绘小曲所展示的画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457200" y="1523880"/>
            <a:ext cx="8077320" cy="192240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马致远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号东篱，元代大都人，是当时著名的元曲作家，被人称为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元曲四大家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”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关汉卿、郑光祖、白朴、马致远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）之一，更被时人美誉为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曲状元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”。因为这首小令，他还被称为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秋思之祖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2771640" y="260280"/>
            <a:ext cx="3168720" cy="825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介绍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2590920" y="228600"/>
            <a:ext cx="3168360" cy="825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关于元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762120" y="1371600"/>
            <a:ext cx="7392960" cy="15562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隶书"/>
              </a:rPr>
              <a:t>“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曲”是一种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继诗和词之后出现的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合乐歌唱的诗歌形式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826920" y="4437000"/>
            <a:ext cx="2665440" cy="82512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曲”分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3924360" y="3933720"/>
            <a:ext cx="431640" cy="1582920"/>
          </a:xfrm>
          <a:custGeom>
            <a:avLst/>
            <a:gdLst>
              <a:gd name="textAreaLeft" fmla="*/ 275760 w 431640"/>
              <a:gd name="textAreaRight" fmla="*/ 432000 w 43164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4643280" y="3645000"/>
            <a:ext cx="1441440" cy="64260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杂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716360" y="5013360"/>
            <a:ext cx="1441440" cy="64260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散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8"/>
          <p:cNvSpPr/>
          <p:nvPr/>
        </p:nvSpPr>
        <p:spPr>
          <a:xfrm>
            <a:off x="6443640" y="4508640"/>
            <a:ext cx="358920" cy="1368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7020000" y="4365720"/>
            <a:ext cx="1441440" cy="764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7086600" y="5410080"/>
            <a:ext cx="1441440" cy="764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套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封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1523880" y="1371600"/>
            <a:ext cx="6912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小令体制短小，只有一只曲子，相当于一首诗或一首短词。例如</a:t>
            </a:r>
            <a:r>
              <a:rPr b="0" lang="en-US" sz="4000" spc="-1" strike="noStrike">
                <a:solidFill>
                  <a:srgbClr val="0033cc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天净沙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·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秋思</a:t>
            </a:r>
            <a:r>
              <a:rPr b="0" lang="en-US" sz="4000" spc="-1" strike="noStrike">
                <a:solidFill>
                  <a:srgbClr val="0033cc"/>
                </a:solidFill>
                <a:latin typeface="隶书"/>
                <a:ea typeface="隶书"/>
              </a:rPr>
              <a:t>》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。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天净沙：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曲牌名                 </a:t>
            </a: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秋  思：</a:t>
            </a:r>
            <a:r>
              <a:rPr b="0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题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735120" y="331920"/>
            <a:ext cx="696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华文楷体"/>
              </a:rPr>
              <a:t>朗读指导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239840" y="1844640"/>
            <a:ext cx="5060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划分节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语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把握感情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4876920" y="2971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慢一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562720" y="4343400"/>
            <a:ext cx="24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凄凉悲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0" y="0"/>
            <a:ext cx="10620360" cy="80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隶书"/>
              </a:rPr>
              <a:t>天净沙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隶书"/>
              </a:rPr>
              <a:t>秋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马致远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枯藤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老树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昏鸦。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小桥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流水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人家。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古道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西风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瘦马。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夕阳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西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断肠人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在</a:t>
            </a:r>
            <a:r>
              <a:rPr b="1" lang="en-US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天涯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i"/>
          <p:cNvPicPr/>
          <p:nvPr/>
        </p:nvPicPr>
        <p:blipFill>
          <a:blip r:embed="rId2"/>
          <a:stretch/>
        </p:blipFill>
        <p:spPr>
          <a:xfrm>
            <a:off x="611280" y="836640"/>
            <a:ext cx="1257120" cy="114300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5"/>
          <p:cNvSpPr/>
          <p:nvPr/>
        </p:nvSpPr>
        <p:spPr>
          <a:xfrm>
            <a:off x="255960" y="1844640"/>
            <a:ext cx="1277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提示：</a:t>
            </a: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注意节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68360" y="26028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读一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天净沙 秋思.mp3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8" name="天净沙.mp3" descr=""/>
          <p:cNvPicPr/>
          <p:nvPr/>
        </p:nvPicPr>
        <p:blipFill>
          <a:blip r:embed="rId4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89052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89052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Arial"/>
              </a:rPr>
              <a:t>整体把握诗意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（描绘画面）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枯藤缠绕着老树，树枝上栖息着黄昏时归巢的乌鸦，小桥下，流水潺潺，旁边有几户人家，在古老荒凉的道路上，秋风萧瑟，一匹疲惫的瘦马驮着我蹒跚前行。夕阳向西缓缓落下，悲伤断肠的人还漂泊在天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3"/>
          <p:cNvSpPr/>
          <p:nvPr/>
        </p:nvSpPr>
        <p:spPr>
          <a:xfrm>
            <a:off x="533520" y="941760"/>
            <a:ext cx="81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作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净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秋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描绘了哪些景物？这些景物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哪句道出了游子的情怀，可以作为点睛之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这首诗歌表达了作者怎样的思想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20-08-23T08:55:46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