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A8B-DE32-499F-B3FD-F99F53AB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D59-1EBC-4D06-B9F0-34740206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03AEA-AF2D-4028-B3F1-C04C6CD6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A3F8B-BDAE-4046-95EE-FB872FBD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8A63F-60F5-4D96-8470-FE2A5162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70FEB-BCEF-4AAA-A93C-F513B12F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7C3BF-FC0D-495A-A317-AAEABB8E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A0B11-CD08-455D-8690-DC181279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DCEE4-5007-430C-98BC-CC36EA9A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705D9-4EC5-42B3-AF28-BA8FFAE3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5E32A-9213-4CED-BB04-8EF324B1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6DDD3-5112-4110-BCC5-149B7114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7C1-9F9E-43D3-9116-9D5F4F3B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9E866-ED68-4FAD-A2F5-96E9A409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8899E-D7E1-4BE2-BA54-4CD257A7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C92CC-2873-460B-804D-626E7ADB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425D1-3425-45F9-BF9F-36F7F0CB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6C0EA-3918-4C9B-9988-4F26C671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CA107-D70A-4ED3-86F1-B3FF2BF2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6021E-972B-467F-ACA1-7A18B054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209AA-8B2C-4B33-959E-C0F8DC6F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50920-46F1-4FFF-BA36-E4037849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0DCCD-557C-49FF-A99D-C5D32D31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1A8-3DF6-42DA-919F-BC12B762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F4ED7-3D58-404F-990B-F68C2415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E0877-5DED-4CCD-A974-F535B09D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A89CF-486F-42E9-8816-046F3EC6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B0BCE-76F8-4E00-816A-3D5EEE1A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AEEEA-17FF-49ED-9260-17859EDC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A5E6F-3A24-4913-B15D-31E8BE0F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6CC8E-F8C3-4BC8-9D00-C23AB180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690FD-FE1C-4357-AD03-6B121373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E412B-08A4-4587-876A-CB33C5DA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3DAF6-DBC6-45EB-B5B4-EDD16005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E1D8-838D-4F76-9393-007906A8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0C908-4CFC-49E2-BA99-F0353BFB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790B3-8A91-4167-8066-FA57E93B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CAB65-7412-4189-81A4-D6B70D84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714CB-64ED-4148-9D65-3B40272F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20F11-B2C7-4D2D-A4DE-4C539176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BD327-8D74-44B0-8A9F-EB73B68E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76679-DCE4-41A7-BFD8-100DBD3D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02683-28BF-4BB9-8F84-17AC5781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041BB-3917-4F77-8C48-ADE95E5B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8D266-5F97-46FB-B16D-B3247F9A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66D6-4CF8-44DD-A869-4E593F89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9466F-B67D-47B9-BD1A-D7542009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C221A-ABEE-4A7C-A2AF-9525056D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0B2B0-9072-4DD8-9660-84AED3E2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32E6E-03B9-41A3-AD57-2F873ED1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B0DE4-AE97-42EF-A91C-4FD1B28C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8B89-A7E5-40A5-8B64-EB08E885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492B-7F8B-442A-9C4C-2B53D30E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78BA-61FE-44AF-AA4C-C240098A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19A2-EFAC-44C1-981B-E78CBB8E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9FCE-1406-42E3-A164-249A7B97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CC0-EC96-4130-834D-31F56B1E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AFF8-D8F7-4C54-BC02-C3052466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810D-A1BE-4794-B525-DBC0692A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B15C-C97D-4B0D-9909-BD7E4377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8090-EF7D-4ADB-B4FD-F09C2533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4F73-06AE-4316-94CF-7F13B092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ADBC-27E5-40C0-9A13-4B5E53A3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3BDC-4272-4AF0-9A3E-B14BFB17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4785-7FE0-4011-8F0F-F7C97FAF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1329A-FD92-4B37-949D-E24BD81D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436F-67E1-4492-B88D-854178C9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B61-5B84-4862-979A-989FDA51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074C-8EC8-4CFF-B67D-A7822FB6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35219-229E-410E-A5E8-87378B0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8E1F-8C0E-4DF1-B418-AAD35225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052E-101B-4D8B-81C1-6C576BF4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94FBA-946C-4B64-902D-53167A7F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818E-9754-4C5C-AD84-842F1F69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B71EF-4DE0-42C4-9A29-30089DAB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048C-5C8D-4F8D-9AD5-62807D99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8C9C-FD45-4659-82FD-8E0BC6DA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93D5-7B2D-45D7-9F5C-5D24EBCE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98C-7740-442E-9B14-32BD60BF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F1867-8A4D-4C49-B00A-D6AFC1B1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108C-9789-4985-B0AF-0502F110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5C76-ADE2-47DF-9D9F-54BEEDE1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DB12F-F411-47E8-A846-2F725A40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DB617-6EDF-4352-A5A9-8AF3FFA3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BECBC-B474-4FEC-B854-283DBEAA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3D9A-F96D-4A05-B6AD-B2DF7BD0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6819-CAB4-4C7C-889B-A2B70D38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C982-595F-4D9B-AE4F-9B23AECE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5FD9F-4982-4EAB-9864-8B4858F8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934-64AD-41AA-B7F4-E27263A0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E28A9-EF9D-49AB-9B2E-A901DCE5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A3C7-1A09-430E-8442-8617F164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5FDF0-6BAD-483C-AC8B-7446891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0CF5-C881-4069-B9DF-FC108DEE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852B9-DC50-41FB-AEEC-6C2AF871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841DD-045A-4FB8-877C-5809C6DE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BD5A0-1307-46E1-82E1-8AB5427A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2BDC4-CA9C-435C-B833-E8906BE0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89C5A-FECE-40FA-AB47-770E54DF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8A426-3E3C-4BFD-AF51-64398BE7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BF3-5DDA-45D2-809C-D539D628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806D4-4F8C-4DF0-BB72-48695358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50AE7-7E6E-4062-8B49-4AE63A86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438C5-853A-4351-8048-C27F8FBB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76707-4907-4B3F-91F7-20EC984F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BE815-8DC3-485A-A0D5-71962711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44A12-113D-4BC0-9378-B911A248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AAD43-12FB-41AC-A6BF-1277C9E7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C7C7-3640-4707-A013-6BD7A0B9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2AC7D-3865-4C6E-BCFA-45AD955D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5CD7-E70E-4E27-95E8-F1868396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C1C-4B30-44E9-991D-CBBB66A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3F638-9A40-463F-B579-834D4E94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9CFC5-57F6-4E15-A58A-4CB29BF5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8366-E7E2-4391-984E-3F3FBFD7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E1391-F9ED-494E-88AE-F061542D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BB252-8889-4A56-A78C-9A9E2FBE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1DB4A-9BFB-4D9A-B86B-2DF6D7F4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2A5B9-141A-4F34-A994-74DC233A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D46F9-6E2E-4922-8ED9-545BF5F6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20D00-67B4-408F-9148-401E8963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0BE3E-1183-44B4-A180-B1D39DFE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67B-C7D3-4862-9310-480027F9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5FB6-C105-4411-9603-C68E3337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85A68-F602-4B29-8230-F5C3AD6F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4C09-E9B8-499B-A5E8-7C7A320C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D6FFC-8BCD-412F-931D-8A6BA0F4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E2E0D-A471-4E8C-9E68-6FEB08EF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D3ED5-058B-4ECA-81EE-46156E69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0C435-27A1-4C04-8E8E-84460BD9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A93A3-AD8F-4B44-8E18-BAEF58AB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36EA4-C77D-47C5-B17F-C086299F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E8DDF-A2FA-4BD0-867F-56FB2220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7FA-6A7A-49F8-9348-793B698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5A898-BF2D-43C5-B28E-AF873993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564A4-2463-4CD2-A2B5-DDD4609A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19571-C5D5-4807-8E49-B79354C8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AD62A-106B-47EB-AB88-37634824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F4D61-FD8A-49E5-B645-D20787E4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91D47-114E-4043-A2AD-1BC0158F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9E31B-B31B-4721-AE92-62A6BB63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3B881-F498-46AF-A68D-F133609C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32091-26CD-4665-A14E-6C7D664F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9E2F9-B658-4405-AFE7-16E8E24E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67B6-5948-4DF7-9E78-4B4ED22A04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2CF8-644E-4297-A69F-0AF746C9E4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5445-7689-4320-90B7-0EF037AD69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7B94-C807-4CC9-91A7-DBA7412AD7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6ABF-1A06-4B3C-82AA-AF7561F851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849E-16F6-4030-9F16-7E20201E61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7D1B-2B71-4DD3-8575-03BDE1BD82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C94C-8CE4-4CC8-B492-D095FFB558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28E1-637B-4C77-9588-4E92CA3859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A616-DCA8-40E5-8E5A-A5474F9DCE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F9B0-F51D-4FAF-B3C6-1629AC56BB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F584-F352-4536-8B99-EFE4F9DA96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2011052112111735"/>
          <p:cNvPicPr/>
          <p:nvPr/>
        </p:nvPicPr>
        <p:blipFill>
          <a:blip r:embed="rId1"/>
          <a:stretch/>
        </p:blipFill>
        <p:spPr>
          <a:xfrm>
            <a:off x="3124080" y="1066680"/>
            <a:ext cx="4038840" cy="4006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60" name="Rectangle 3"/>
          <p:cNvSpPr/>
          <p:nvPr/>
        </p:nvSpPr>
        <p:spPr>
          <a:xfrm>
            <a:off x="308880" y="-1022400"/>
            <a:ext cx="1399320" cy="84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00"/>
                </a:solidFill>
                <a:latin typeface="Arial"/>
                <a:ea typeface="隶书"/>
              </a:rPr>
              <a:t>天净沙 </a:t>
            </a:r>
            <a:r>
              <a:rPr b="1" lang="en-US" sz="8000" spc="-1" strike="noStrike">
                <a:solidFill>
                  <a:srgbClr val="800000"/>
                </a:solidFill>
                <a:latin typeface="Arial"/>
                <a:ea typeface="隶书"/>
              </a:rPr>
              <a:t>·</a:t>
            </a:r>
            <a:r>
              <a:rPr b="1" lang="zh-CN" sz="8000" spc="-1" strike="noStrike">
                <a:solidFill>
                  <a:srgbClr val="800000"/>
                </a:solidFill>
                <a:latin typeface="Arial"/>
                <a:ea typeface="隶书"/>
              </a:rPr>
              <a:t>秋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4558320" y="5562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隶书"/>
              </a:rPr>
              <a:t>马致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5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0"/>
          <p:cNvSpPr/>
          <p:nvPr/>
        </p:nvSpPr>
        <p:spPr>
          <a:xfrm>
            <a:off x="-228600" y="4572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作业布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2"/>
          <p:cNvSpPr/>
          <p:nvPr/>
        </p:nvSpPr>
        <p:spPr>
          <a:xfrm>
            <a:off x="304920" y="1676520"/>
            <a:ext cx="838188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根据诗歌内容展开合理想象，写一段描述性的文字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字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3"/>
          <p:cNvSpPr/>
          <p:nvPr/>
        </p:nvSpPr>
        <p:spPr>
          <a:xfrm>
            <a:off x="228600" y="1371600"/>
            <a:ext cx="30481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枯树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609480" y="45720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33520" y="167652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、正确、流利、有感情的朗读诗歌并背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二、理解《天净沙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秋思》所描写的景物和蕴含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三、能用自己的语言描绘小曲所展示的画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457200" y="1523880"/>
            <a:ext cx="8077320" cy="192240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马致远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号东篱，元代大都人，是当时著名的元曲作家，被人称为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元曲四大家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”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关汉卿、郑光祖、白朴、马致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）之一，更被时人美誉为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曲状元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”。因为这首小令，他还被称为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秋思之祖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2771640" y="260280"/>
            <a:ext cx="3168720" cy="825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介绍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590920" y="228600"/>
            <a:ext cx="3168360" cy="825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关于元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762120" y="1371600"/>
            <a:ext cx="7392960" cy="15562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隶书"/>
              </a:rPr>
              <a:t>“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曲”是一种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继诗和词之后出现的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合乐歌唱的诗歌形式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826920" y="4437000"/>
            <a:ext cx="2665440" cy="82512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曲”分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3924360" y="3933720"/>
            <a:ext cx="431640" cy="1582920"/>
          </a:xfrm>
          <a:custGeom>
            <a:avLst/>
            <a:gdLst>
              <a:gd name="textAreaLeft" fmla="*/ 275760 w 431640"/>
              <a:gd name="textAreaRight" fmla="*/ 432000 w 43164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4643280" y="3645000"/>
            <a:ext cx="1441440" cy="64260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杂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716360" y="5013360"/>
            <a:ext cx="1441440" cy="64260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散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8"/>
          <p:cNvSpPr/>
          <p:nvPr/>
        </p:nvSpPr>
        <p:spPr>
          <a:xfrm>
            <a:off x="6443640" y="4508640"/>
            <a:ext cx="358920" cy="1368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7020000" y="4365720"/>
            <a:ext cx="1441440" cy="764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7086600" y="5410080"/>
            <a:ext cx="1441440" cy="764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套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封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1523880" y="1371600"/>
            <a:ext cx="6912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小令体制短小，只有一只曲子，相当于一首诗或一首短词。例如</a:t>
            </a:r>
            <a:r>
              <a:rPr b="0" lang="en-US" sz="4000" spc="-1" strike="noStrike">
                <a:solidFill>
                  <a:srgbClr val="0033cc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天净沙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·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秋思</a:t>
            </a:r>
            <a:r>
              <a:rPr b="0" lang="en-US" sz="4000" spc="-1" strike="noStrike">
                <a:solidFill>
                  <a:srgbClr val="0033cc"/>
                </a:solidFill>
                <a:latin typeface="隶书"/>
                <a:ea typeface="隶书"/>
              </a:rPr>
              <a:t>》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。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天净沙：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曲牌名                 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秋  思：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题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735120" y="331920"/>
            <a:ext cx="696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华文楷体"/>
              </a:rPr>
              <a:t>朗读指导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239840" y="1844640"/>
            <a:ext cx="5060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划分节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语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把握感情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4876920" y="2971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慢一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562720" y="4343400"/>
            <a:ext cx="24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凄凉悲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0" y="0"/>
            <a:ext cx="10620360" cy="80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隶书"/>
              </a:rPr>
              <a:t>天净沙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隶书"/>
              </a:rPr>
              <a:t>秋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马致远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枯藤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老树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昏鸦。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小桥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流水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人家。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古道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西风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瘦马。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夕阳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西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断肠人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在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天涯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i"/>
          <p:cNvPicPr/>
          <p:nvPr/>
        </p:nvPicPr>
        <p:blipFill>
          <a:blip r:embed="rId2"/>
          <a:stretch/>
        </p:blipFill>
        <p:spPr>
          <a:xfrm>
            <a:off x="611280" y="836640"/>
            <a:ext cx="1257120" cy="11430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5"/>
          <p:cNvSpPr/>
          <p:nvPr/>
        </p:nvSpPr>
        <p:spPr>
          <a:xfrm>
            <a:off x="255960" y="1844640"/>
            <a:ext cx="1277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提示：</a:t>
            </a: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注意节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68360" y="26028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读一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天净沙 秋思.mp3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8" name="天净沙.mp3" descr=""/>
          <p:cNvPicPr/>
          <p:nvPr/>
        </p:nvPicPr>
        <p:blipFill>
          <a:blip r:embed="rId4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89052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89052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Arial"/>
              </a:rPr>
              <a:t>整体把握诗意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（描绘画面）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枯藤缠绕着老树，树枝上栖息着黄昏时归巢的乌鸦，小桥下，流水潺潺，旁边有几户人家，在古老荒凉的道路上，秋风萧瑟，一匹疲惫的瘦马驮着我蹒跚前行。夕阳向西缓缓落下，悲伤断肠的人还漂泊在天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3"/>
          <p:cNvSpPr/>
          <p:nvPr/>
        </p:nvSpPr>
        <p:spPr>
          <a:xfrm>
            <a:off x="533520" y="94176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作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净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秋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描绘了哪些景物？这些景物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哪句道出了游子的情怀，可以作为点睛之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这首诗歌表达了作者怎样的思想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20-08-23T08:55:46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