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CCF-D3B2-4E47-8458-62544702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636-2C82-4D42-84EF-2B93E58A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C13-986B-48C3-B400-3A2AD83D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F2E-C8F8-4277-AB5B-4336D9E9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84A-0BF7-47CB-ACFC-B5B57F0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4E1-B13D-4576-9BCA-F904D14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ED3-9C0D-46BD-AF3A-2C113D3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CE6-9F95-4FD0-B567-7D10795E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7F3-0729-492B-8B0E-3395F642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14F-EDF3-43BD-A28D-70E86A61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343-F70F-4D70-8198-E2B797B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613-8729-444A-AAE3-67D7D5B2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B6C8-B449-4E35-9601-A9EF3CBC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uantoutingzi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995640" y="5157720"/>
            <a:ext cx="46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石潭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，为岩。青树翠蔓，        摇     ，                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0" y="7650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石       底，   岸，  石底        ，为    ，为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0" y="7650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16000" y="765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268360" y="765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48000" y="76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71636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148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300720" y="83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24720" y="83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8459640" y="836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0" y="306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250920" y="2133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Arial"/>
              </a:rPr>
              <a:t>整块石头作为潭底，靠近岸边，有一圈从潭底周围突出水面的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372360" y="21337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为坻、屿、  嵁、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0" y="5300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各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2124000" y="5516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Arial"/>
              </a:rPr>
              <a:t>青葱的树，翠绿的茎蔓，遮盖着、缠绕着、连结着，摇动着，参差不齐，随风飘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40672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4572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50872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6372360" y="306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7308720" y="3068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披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0" y="26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完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140328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75564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介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219564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277164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翻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3419640" y="18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连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相当于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932360" y="1413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露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5867280" y="14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水中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709308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小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8172360" y="1341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0" y="378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不平的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0"/>
          <p:cNvSpPr/>
          <p:nvPr/>
        </p:nvSpPr>
        <p:spPr>
          <a:xfrm>
            <a:off x="2627280" y="3860640"/>
            <a:ext cx="1152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覆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1"/>
          <p:cNvSpPr/>
          <p:nvPr/>
        </p:nvSpPr>
        <p:spPr>
          <a:xfrm flipH="1">
            <a:off x="3492360" y="3573360"/>
            <a:ext cx="64800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2"/>
          <p:cNvSpPr/>
          <p:nvPr/>
        </p:nvSpPr>
        <p:spPr>
          <a:xfrm>
            <a:off x="5148360" y="4437000"/>
            <a:ext cx="1224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3"/>
          <p:cNvSpPr/>
          <p:nvPr/>
        </p:nvSpPr>
        <p:spPr>
          <a:xfrm flipH="1">
            <a:off x="5796000" y="3645000"/>
            <a:ext cx="712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4"/>
          <p:cNvSpPr/>
          <p:nvPr/>
        </p:nvSpPr>
        <p:spPr>
          <a:xfrm>
            <a:off x="3780000" y="4149720"/>
            <a:ext cx="122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5"/>
          <p:cNvSpPr/>
          <p:nvPr/>
        </p:nvSpPr>
        <p:spPr>
          <a:xfrm flipH="1">
            <a:off x="4500720" y="3573360"/>
            <a:ext cx="358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7"/>
          <p:cNvSpPr/>
          <p:nvPr/>
        </p:nvSpPr>
        <p:spPr>
          <a:xfrm>
            <a:off x="6516720" y="3789360"/>
            <a:ext cx="863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9"/>
          <p:cNvSpPr/>
          <p:nvPr/>
        </p:nvSpPr>
        <p:spPr>
          <a:xfrm>
            <a:off x="6877080" y="3429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380360" y="3789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随风飘荡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3860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潭中鱼   百    头，皆        游无所     。日光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影   石上，       不动；        远逝，往来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79280" y="508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与游者相     。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9280" y="1843200"/>
            <a:ext cx="59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9d9"/>
                </a:solidFill>
                <a:latin typeface="Arial"/>
              </a:rPr>
              <a:t>潭中的鱼大约有一百来条，好像都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9d9"/>
                </a:solidFill>
                <a:latin typeface="Arial"/>
              </a:rPr>
              <a:t>空中游动，周围什么也没有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08472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阳光直照到水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9528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的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700360" y="414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呆呆地一动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219640" y="51721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e6e6"/>
                </a:solidFill>
                <a:latin typeface="Arial"/>
              </a:rPr>
              <a:t>又忽然向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e6e6"/>
                </a:solidFill>
                <a:latin typeface="Arial"/>
              </a:rPr>
              <a:t>游去，来来往往，轻快敏捷</a:t>
            </a: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0" y="6165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像和游人一同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47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79640" y="40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708360" y="47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5796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7524720" y="40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79280" y="9079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副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619280" y="907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左右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光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3564000" y="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34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3419640" y="141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在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5580000" y="98100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依靠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6732720" y="9079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8101080" y="907920"/>
            <a:ext cx="129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直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53964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17928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散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2050920" y="28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1619280" y="3500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呆呆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42116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421164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7093080" y="285264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翕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724360" y="3500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轻快敏捷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32400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映在石头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179280" y="50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0" y="55897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226836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1258920" y="5589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逗乐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213372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潭西南    望 ，               ，明灭可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0" y="443700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岸势            互，不可知         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609300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Arial"/>
                <a:ea typeface="黑体"/>
              </a:rPr>
              <a:t>溪岸的形状像犬牙那样交错不齐，不知道它的源泉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35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Arial"/>
                <a:ea typeface="黑体"/>
              </a:rPr>
              <a:t>向小石潭的西南方看去，溪流象北斗七星那样曲折，又象蛇爬行那样弯曲，忽明忽暗，忽隐忽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2411280" y="206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中宋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780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78800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90000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987640" y="1557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北斗星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50872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428472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5292720" y="21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7280" y="314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像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428472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曲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0" y="443700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0" y="5084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147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中宋"/>
              </a:rPr>
              <a:t>犬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1692360" y="5589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像犬牙那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241128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4"/>
          <p:cNvSpPr/>
          <p:nvPr/>
        </p:nvSpPr>
        <p:spPr>
          <a:xfrm>
            <a:off x="2987640" y="5013360"/>
            <a:ext cx="11527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5"/>
          <p:cNvSpPr/>
          <p:nvPr/>
        </p:nvSpPr>
        <p:spPr>
          <a:xfrm>
            <a:off x="4140360" y="5084640"/>
            <a:ext cx="194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8172360" y="278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529272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其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6443640" y="530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它的源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0" y="5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坐潭上，四面竹树         ，        无人，           骨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0" y="2492280"/>
            <a:ext cx="88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       境    清，不    久    ，    记            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995640" y="47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环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564000" y="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环绕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14836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寂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78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寂静空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7020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凄神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630072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使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6877080" y="105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心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7667640" y="981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…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250920" y="2492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悄怆幽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0" y="3213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忧伤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0" y="364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幽静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340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12400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484360" y="2492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2411280" y="357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203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3419640" y="32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过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36400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392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464328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停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5636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372360" y="306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558000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是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694836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之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5148360" y="3645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代词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指小石潭的情景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709308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4"/>
          <p:cNvSpPr/>
          <p:nvPr/>
        </p:nvSpPr>
        <p:spPr>
          <a:xfrm>
            <a:off x="8207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5"/>
          <p:cNvSpPr/>
          <p:nvPr/>
        </p:nvSpPr>
        <p:spPr>
          <a:xfrm>
            <a:off x="0" y="429264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6e6e6"/>
                </a:solidFill>
                <a:latin typeface="隶书"/>
                <a:ea typeface="隶书"/>
              </a:rPr>
              <a:t>真是太寂静幽深了。由于这地方过于冷清，不能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6e6e6"/>
                </a:solidFill>
                <a:latin typeface="隶书"/>
                <a:ea typeface="隶书"/>
              </a:rPr>
              <a:t>时间地停留，于是就把当时的情景记下来便离去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e6e6"/>
                </a:solidFill>
                <a:latin typeface="Arial"/>
                <a:ea typeface="隶书"/>
              </a:rPr>
              <a:t>我坐在潭边，四周有竹子和树林围绕着，静悄悄的没有人迹，使人感到心境凄凉，寒气彻骨</a:t>
            </a:r>
            <a:r>
              <a:rPr b="0" lang="zh-CN" sz="1800" spc="-1" strike="noStrike">
                <a:solidFill>
                  <a:srgbClr val="e6e6e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5092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者：吴武陵，龚古，  弟宗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者，崔氏二        ：   恕己，曰奉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68360" y="242100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同游的人有吴武陵、龚古、我的弟弟宗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5092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跟着来的有姓崔的两个少年，一个叫恕己，一个叫奉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85928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14836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95280" y="3500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435640" y="126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508720" y="184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70836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6112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147636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154764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游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826920" y="3500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97164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66ff33"/>
                </a:solidFill>
                <a:latin typeface="Arial"/>
              </a:rPr>
              <a:t>、重点文言词句把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</a:rPr>
              <a:t>、青树翠蔓，蒙络摇缀，参差披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</a:rPr>
              <a:t>、日光下澈，影布石上。佁然不动，俶尔远逝，往来翕忽。似与游者相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</a:rPr>
              <a:t>、斗折蛇行，明灭可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ffcc"/>
                </a:solidFill>
                <a:latin typeface="Arial"/>
              </a:rPr>
              <a:t>、凄神寒骨，悄怆幽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68360" y="2060640"/>
            <a:ext cx="97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青葱的树，翠绿的茎蔓，遮盖着、缠绕着、摇动着、连接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参差不齐，随风飘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68360" y="3614760"/>
            <a:ext cx="97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阳光直照水底，鱼的影子映照在石头上，呆呆的一动不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忽然又向远处游去，来来往往，轻快敏捷，好像与游人逗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539640" y="4797360"/>
            <a:ext cx="9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（小溪）像北斗一样曲折，像蛇一样蜿蜒，忽隐忽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82560" y="5775480"/>
            <a:ext cx="9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我不禁感到心神凄凉，寒气透骨，寂静极了，幽深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、文言词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⑴“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以”字的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全石以为底     介词  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卷石底以出      连词  相当于“而”，表承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以其境过清       介词  表原因          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⑵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斗折蛇行            斗：像北斗那样   名作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                       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蛇：像蛇那样       名作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犬牙差互            犬牙：像狗的牙齿一样  名作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凄神寒骨             凄：使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凄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                            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寒：使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85800" y="762120"/>
            <a:ext cx="17254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可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清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差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以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24cruderabbit3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可      大约：潭中鱼可百许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可以，能够：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从      由，自：从小丘西行百二十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跟随：隶而从者，崔氏二小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清       清澈：下见小潭，水尤清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冷清：以其境过清，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差       长短不一，形容词：参差披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交错，动词：其岸势犬牙互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以       因为：以其境过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表示“以”前面的成分常是后面动词的状语，可以不译：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卷石底以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乐       以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为乐：心乐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逗乐，嬉戏：似与游乐者相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8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8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8" dur="500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9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9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5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9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4" dur="5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9" dur="500"/>
                                        <p:tgtEl>
                                          <p:spTgt spid="3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2484360" y="260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57200" y="228600"/>
            <a:ext cx="24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彩云"/>
              </a:rPr>
              <a:t>一词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781200" y="124776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0" y="23623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②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鸣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面竹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7621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0" y="3657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③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潭西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记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762120" y="38098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4800600" y="990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4500720" y="167652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为，形成。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4648320" y="2438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玉环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4648320" y="297180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环绕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24280" y="3657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修饰，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72428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承接，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0" y="990720"/>
            <a:ext cx="3809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①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全石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坻，为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0" y="495288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④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潭中鱼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许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灭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久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472428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约，副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4724280" y="5562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0"/>
          <p:cNvSpPr/>
          <p:nvPr/>
        </p:nvSpPr>
        <p:spPr>
          <a:xfrm>
            <a:off x="762120" y="5105520"/>
            <a:ext cx="137880" cy="987480"/>
          </a:xfrm>
          <a:custGeom>
            <a:avLst/>
            <a:gdLst>
              <a:gd name="textAreaLeft" fmla="*/ 88200 w 137880"/>
              <a:gd name="textAreaRight" fmla="*/ 138240 w 1378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828720" y="58784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645080" y="60228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以，能够。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0" y="533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685800" y="7621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0" y="19810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⑥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尤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其境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685800" y="22096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0" y="3141720"/>
            <a:ext cx="4114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⑦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石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境过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685800" y="35812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045040" y="593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4724280" y="457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跟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4724280" y="99072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72428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4724280" y="2438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冷清，凄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4648320" y="3214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”，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648320" y="371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，介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0" y="4876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⑧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披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犬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685800" y="5029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4648320" y="4800600"/>
            <a:ext cx="38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容词，长短不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4648320" y="5410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词，交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4716360" y="4149720"/>
            <a:ext cx="4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pic_30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 rot="5400000">
            <a:off x="-1621080" y="2276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小石潭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行楷"/>
              </a:rPr>
              <a:t>三、课文质疑</a:t>
            </a:r>
            <a:r>
              <a:rPr b="1" lang="en-US" sz="5400" spc="-1" strike="noStrike">
                <a:solidFill>
                  <a:srgbClr val="00ffcc"/>
                </a:solidFill>
                <a:latin typeface="Arial"/>
                <a:ea typeface="华文行楷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215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是按照什么顺序写的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9280" y="35607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课文的写作顺序是（游览顺序）：发现小石潭──潭中景物──小潭源流──潭中气氛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-210240" y="2637000"/>
            <a:ext cx="1399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发现小石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1116000" y="1989000"/>
            <a:ext cx="720720" cy="381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35280" y="1700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2124000" y="234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835280" y="2492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2124000" y="31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83528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2195640" y="407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835280" y="429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2195640" y="49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83528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4"/>
          <p:cNvSpPr/>
          <p:nvPr/>
        </p:nvSpPr>
        <p:spPr>
          <a:xfrm>
            <a:off x="2556000" y="2276640"/>
            <a:ext cx="71280" cy="28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2627280" y="508464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 flipV="1">
            <a:off x="2556000" y="2276640"/>
            <a:ext cx="122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7"/>
          <p:cNvSpPr/>
          <p:nvPr/>
        </p:nvSpPr>
        <p:spPr>
          <a:xfrm>
            <a:off x="2627280" y="350028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3851280" y="191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370836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3708360" y="45813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3"/>
          <p:cNvSpPr/>
          <p:nvPr/>
        </p:nvSpPr>
        <p:spPr>
          <a:xfrm>
            <a:off x="4500720" y="5084640"/>
            <a:ext cx="64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5219640" y="1916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5219640" y="299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6"/>
          <p:cNvSpPr/>
          <p:nvPr/>
        </p:nvSpPr>
        <p:spPr>
          <a:xfrm>
            <a:off x="5219640" y="45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7"/>
          <p:cNvSpPr/>
          <p:nvPr/>
        </p:nvSpPr>
        <p:spPr>
          <a:xfrm>
            <a:off x="5940360" y="2421000"/>
            <a:ext cx="1295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8"/>
          <p:cNvSpPr/>
          <p:nvPr/>
        </p:nvSpPr>
        <p:spPr>
          <a:xfrm flipV="1">
            <a:off x="5940360" y="342900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9"/>
          <p:cNvSpPr/>
          <p:nvPr/>
        </p:nvSpPr>
        <p:spPr>
          <a:xfrm flipV="1">
            <a:off x="5940360" y="3644640"/>
            <a:ext cx="1152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"/>
          <p:cNvSpPr/>
          <p:nvPr/>
        </p:nvSpPr>
        <p:spPr>
          <a:xfrm>
            <a:off x="7164360" y="2852640"/>
            <a:ext cx="1584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2195640" y="476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移步换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2843280" y="587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闻声          见形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4"/>
          <p:cNvSpPr/>
          <p:nvPr/>
        </p:nvSpPr>
        <p:spPr>
          <a:xfrm>
            <a:off x="4140360" y="6308640"/>
            <a:ext cx="1726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中景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2124000" y="191628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48436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4360" y="35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游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V="1">
            <a:off x="2843280" y="227664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775600" y="2637000"/>
            <a:ext cx="7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50072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清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3708360" y="191628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5580000" y="191628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443640" y="1557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4500720" y="3573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动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6516720" y="4005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6588000" y="3284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7596360" y="3645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8"/>
          <p:cNvSpPr/>
          <p:nvPr/>
        </p:nvSpPr>
        <p:spPr>
          <a:xfrm>
            <a:off x="8388360" y="1989000"/>
            <a:ext cx="216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V="1">
            <a:off x="8532720" y="3141360"/>
            <a:ext cx="142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0"/>
          <p:cNvSpPr/>
          <p:nvPr/>
        </p:nvSpPr>
        <p:spPr>
          <a:xfrm>
            <a:off x="8028000" y="2492280"/>
            <a:ext cx="1116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755640" y="4941720"/>
            <a:ext cx="7488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由景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nodeType="clickEffect" fill="hold">
                      <p:stCondLst>
                        <p:cond delay="indefinite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6"/>
          <p:cNvSpPr/>
          <p:nvPr/>
        </p:nvSpPr>
        <p:spPr>
          <a:xfrm>
            <a:off x="324000" y="27082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写小潭源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2843280" y="2781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2987640" y="2349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溪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3060720" y="3041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岸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4572000" y="2538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黑体"/>
              </a:rPr>
              <a:t>斗折蛇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572000" y="3114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cc"/>
                </a:solidFill>
                <a:latin typeface="Arial"/>
                <a:ea typeface="黑体"/>
              </a:rPr>
              <a:t>犬牙差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755640" y="43657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蛇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行、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犬牙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差互：名词作状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2"/>
          <p:cNvSpPr/>
          <p:nvPr/>
        </p:nvSpPr>
        <p:spPr>
          <a:xfrm>
            <a:off x="6443640" y="2749680"/>
            <a:ext cx="576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3"/>
          <p:cNvSpPr/>
          <p:nvPr/>
        </p:nvSpPr>
        <p:spPr>
          <a:xfrm flipV="1">
            <a:off x="6443640" y="3036960"/>
            <a:ext cx="57636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4"/>
          <p:cNvSpPr/>
          <p:nvPr/>
        </p:nvSpPr>
        <p:spPr>
          <a:xfrm>
            <a:off x="7164360" y="26049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-108000" y="1844640"/>
            <a:ext cx="4608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2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9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395280" y="127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写潭中气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843280" y="131436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419640" y="112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气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419640" y="1814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500720" y="1844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凄、悄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</a:rPr>
              <a:t>（悲凉凄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7236000" y="1413000"/>
            <a:ext cx="57456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 flipV="1">
            <a:off x="7236000" y="1915920"/>
            <a:ext cx="5745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7812000" y="134136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5075280" y="2521080"/>
            <a:ext cx="388944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情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95280" y="38908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第五段：记录同游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395280" y="2602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4427640" y="1125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寂寥、幽</a:t>
            </a:r>
            <a:r>
              <a:rPr b="1" lang="zh-CN" sz="2400" spc="-1" strike="noStrike">
                <a:solidFill>
                  <a:srgbClr val="00ffcc"/>
                </a:solidFill>
                <a:latin typeface="Arial"/>
              </a:rPr>
              <a:t>（幽深冷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3"/>
          <p:cNvSpPr/>
          <p:nvPr/>
        </p:nvSpPr>
        <p:spPr>
          <a:xfrm>
            <a:off x="685800" y="152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发现小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20040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2362320" y="228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4038480" y="228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487692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7150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2971800" y="685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动词准确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6248520" y="228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685800" y="1752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2"/>
          <p:cNvSpPr/>
          <p:nvPr/>
        </p:nvSpPr>
        <p:spPr>
          <a:xfrm>
            <a:off x="2340000" y="141300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2411280" y="126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34290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清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2670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2514600" y="205740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游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42670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8"/>
          <p:cNvSpPr/>
          <p:nvPr/>
        </p:nvSpPr>
        <p:spPr>
          <a:xfrm>
            <a:off x="5867280" y="1295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5943600" y="1676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写镜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609480" y="358128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小潭源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1"/>
          <p:cNvSpPr/>
          <p:nvPr/>
        </p:nvSpPr>
        <p:spPr>
          <a:xfrm>
            <a:off x="2340000" y="3357720"/>
            <a:ext cx="264960" cy="1290600"/>
          </a:xfrm>
          <a:custGeom>
            <a:avLst/>
            <a:gdLst>
              <a:gd name="textAreaLeft" fmla="*/ 169200 w 264960"/>
              <a:gd name="textAreaRight" fmla="*/ 265320 w 264960"/>
              <a:gd name="textAreaTop" fmla="*/ 33480 h 1290600"/>
              <a:gd name="textAreaBottom" fmla="*/ 1257120 h 12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743200" y="3200400"/>
            <a:ext cx="13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溪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388620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2627280" y="4221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岸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3851280" y="414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6"/>
          <p:cNvSpPr/>
          <p:nvPr/>
        </p:nvSpPr>
        <p:spPr>
          <a:xfrm>
            <a:off x="5562720" y="3200400"/>
            <a:ext cx="75960" cy="1371600"/>
          </a:xfrm>
          <a:custGeom>
            <a:avLst/>
            <a:gdLst>
              <a:gd name="textAreaLeft" fmla="*/ 0 w 75960"/>
              <a:gd name="textAreaRight" fmla="*/ 2736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56386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609480" y="51055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24382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5486400" y="5105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533520" y="6019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2"/>
          <p:cNvSpPr/>
          <p:nvPr/>
        </p:nvSpPr>
        <p:spPr>
          <a:xfrm>
            <a:off x="7924680" y="304920"/>
            <a:ext cx="304920" cy="5790960"/>
          </a:xfrm>
          <a:custGeom>
            <a:avLst/>
            <a:gdLst>
              <a:gd name="textAreaLeft" fmla="*/ 0 w 304920"/>
              <a:gd name="textAreaRight" fmla="*/ 110160 w 30492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7883280" y="533520"/>
            <a:ext cx="103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Tahoma"/>
              </a:rPr>
              <a:t>抒发在寂寞处境中的悲凉凄苦的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4"/>
          <p:cNvSpPr/>
          <p:nvPr/>
        </p:nvSpPr>
        <p:spPr>
          <a:xfrm>
            <a:off x="1447920" y="7621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5"/>
          <p:cNvSpPr/>
          <p:nvPr/>
        </p:nvSpPr>
        <p:spPr>
          <a:xfrm>
            <a:off x="1447920" y="22860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6"/>
          <p:cNvSpPr/>
          <p:nvPr/>
        </p:nvSpPr>
        <p:spPr>
          <a:xfrm>
            <a:off x="1447920" y="41148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7"/>
          <p:cNvSpPr/>
          <p:nvPr/>
        </p:nvSpPr>
        <p:spPr>
          <a:xfrm>
            <a:off x="1447920" y="55627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Arial"/>
                <a:ea typeface="华文行楷"/>
              </a:rPr>
              <a:t>课文质疑</a:t>
            </a:r>
            <a:r>
              <a:rPr b="1" lang="en-US" sz="5400" spc="-1" strike="noStrike">
                <a:solidFill>
                  <a:srgbClr val="00ffcc"/>
                </a:solidFill>
                <a:latin typeface="Arial"/>
                <a:ea typeface="华文行楷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0" y="1484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住了小石潭的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539640" y="256536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小石潭的特点：幽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0" y="378936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小石潭的整体感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826920" y="458136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作者对小石潭的整体感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幽深冷寂，孤凄悲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5"/>
          <p:cNvSpPr/>
          <p:nvPr/>
        </p:nvSpPr>
        <p:spPr>
          <a:xfrm>
            <a:off x="179280" y="155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．第四段写作者在潭上所见到的景物和自己的感受，描写了小石潭中怎样的气氛？反映了作者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611280" y="306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描写了小石潭幽深冷寂的景色和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0" y="378936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极力描写小石潭的幽静，甚至浸透到人的心灵里去，把景物跟心情结合起来，写出一种境界。在这种境界里，透露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者贬居生活孤凄悲凉的心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这是作者被排挤、受迫害的身世遭遇的反映，我们可以从中体会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封建社会中不得志文人的痛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   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四、问题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文章前面写“心乐之”，后面又写“悄怆幽邃”，一乐一忧似难相容，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24000" y="2205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乐是忧的另一种表现形式。柳宗元参与改革，失败被贬，心中愤懑难平，因而凄苦是他感情的主调，而寄情山水正是为了摆脱这种抑郁的心情；但这种欢乐毕竟是暂时的，一经凄清环境的触发，忧伤悲凉的心情又会流露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潭中气氛：幽深冷寂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孤凄悲凉心境的反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）──寓情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nodeType="clickEffect" fill="hold">
                      <p:stCondLst>
                        <p:cond delay="indefinite"/>
                      </p:stCondLst>
                      <p:childTnLst>
                        <p:par>
                          <p:cTn id="2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4"/>
          <p:cNvSpPr/>
          <p:nvPr/>
        </p:nvSpPr>
        <p:spPr>
          <a:xfrm>
            <a:off x="142920" y="1773360"/>
            <a:ext cx="88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石潭记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永州八记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中的一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这篇散文生动地描写出了小石潭环境景物的幽美冷寂，抒发了作者贬官失意后的孤凄悲凉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语言简练、生动，景物刻画细腻、逼真，全篇充满了诗情画意，表现了作者杰出的写作技巧。因之，成为被历代所传诵的散文名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WordArt 5"/>
          <p:cNvGrpSpPr/>
          <p:nvPr/>
        </p:nvGrpSpPr>
        <p:grpSpPr>
          <a:xfrm>
            <a:off x="249120" y="189000"/>
            <a:ext cx="3676680" cy="1152360"/>
            <a:chOff x="249120" y="189000"/>
            <a:chExt cx="3676680" cy="1152360"/>
          </a:xfrm>
        </p:grpSpPr>
        <p:pic>
          <p:nvPicPr>
            <p:cNvPr id="476" name="WordArt 5" descr=""/>
            <p:cNvPicPr/>
            <p:nvPr/>
          </p:nvPicPr>
          <p:blipFill>
            <a:blip r:embed="rId1"/>
            <a:stretch/>
          </p:blipFill>
          <p:spPr>
            <a:xfrm>
              <a:off x="249120" y="189000"/>
              <a:ext cx="36766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50920" y="189000"/>
              <a:ext cx="3673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228600" y="19044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   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一、基础识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8580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716360" y="1484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16436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4360" y="292428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4328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94836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332000" y="4508640"/>
            <a:ext cx="16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348000" y="4508640"/>
            <a:ext cx="18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012000" y="4508640"/>
            <a:ext cx="128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524720" y="4365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2400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记：古代的一种文体，以叙事为主，也可抒情，可议论，可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95280" y="2565360"/>
            <a:ext cx="813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例如：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桃花源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岳阳楼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满井游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醉翁亭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yuantoutingzi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隶书"/>
              </a:rPr>
              <a:t>请根据小石潭的特点给亭子起个名字，并撰写一副对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   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五、知识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96720" y="5622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bbe0e3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隶书"/>
              </a:rPr>
              <a:t>、试再举例，还有哪些古代作家在作品中也像柳宗元一样表达政治失意、壮志难酬的情怀</a:t>
            </a:r>
            <a:r>
              <a:rPr b="1" lang="zh-CN" sz="3600" spc="-1" strike="noStrike">
                <a:solidFill>
                  <a:srgbClr val="bbe0e3"/>
                </a:solidFill>
                <a:latin typeface="隶书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4"/>
          <p:cNvSpPr/>
          <p:nvPr/>
        </p:nvSpPr>
        <p:spPr>
          <a:xfrm>
            <a:off x="324000" y="501336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中描写游鱼动态的句子是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250920" y="125892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原文填空。（如能默写，就更棒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0" y="233856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高度概括小石潭的氛围，同时抒发作者政治受挫遭贬后忧伤心情的句子是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250920" y="3860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描写游鱼静态的句子是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   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六、课堂反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u=2620439948,4209566932&amp;gp=3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4140360" y="5889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宋体"/>
              </a:rPr>
              <a:t>【</a:t>
            </a:r>
            <a:r>
              <a:rPr b="1" lang="zh-CN" sz="1800" spc="-1" strike="noStrike">
                <a:solidFill>
                  <a:srgbClr val="bbe0e3"/>
                </a:solidFill>
                <a:latin typeface="宋体"/>
              </a:rPr>
              <a:t>柳宗元</a:t>
            </a:r>
            <a:r>
              <a:rPr b="1" lang="en-US" sz="1800" spc="-1" strike="noStrike">
                <a:solidFill>
                  <a:srgbClr val="bbe0e3"/>
                </a:solidFill>
                <a:latin typeface="宋体"/>
              </a:rPr>
              <a:t>】</a:t>
            </a:r>
            <a:r>
              <a:rPr b="1" lang="zh-CN" sz="18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bbe0e3"/>
                </a:solidFill>
                <a:latin typeface="宋体"/>
              </a:rPr>
              <a:t>773—819</a:t>
            </a:r>
            <a:r>
              <a:rPr b="1" lang="zh-CN" sz="1800" spc="-1" strike="noStrike">
                <a:solidFill>
                  <a:srgbClr val="bbe0e3"/>
                </a:solidFill>
                <a:latin typeface="宋体"/>
              </a:rPr>
              <a:t>）</a:t>
            </a:r>
            <a:r>
              <a:rPr b="1" lang="zh-CN" sz="1800" spc="-1" strike="noStrike">
                <a:solidFill>
                  <a:srgbClr val="bbe0e3"/>
                </a:solidFill>
                <a:latin typeface="隶书"/>
                <a:ea typeface="隶书"/>
              </a:rPr>
              <a:t>　唐代文学家。字子厚。河东（今山西永济）人。世称柳河东。贞元九年（</a:t>
            </a:r>
            <a:r>
              <a:rPr b="1" lang="en-US" sz="1800" spc="-1" strike="noStrike">
                <a:solidFill>
                  <a:srgbClr val="bbe0e3"/>
                </a:solidFill>
                <a:latin typeface="隶书"/>
                <a:ea typeface="隶书"/>
              </a:rPr>
              <a:t>793</a:t>
            </a:r>
            <a:r>
              <a:rPr b="1" lang="zh-CN" sz="1800" spc="-1" strike="noStrike">
                <a:solidFill>
                  <a:srgbClr val="bbe0e3"/>
                </a:solidFill>
                <a:latin typeface="隶书"/>
                <a:ea typeface="隶书"/>
              </a:rPr>
              <a:t>）与刘禹锡同榜中进士。任过秘书省校书郎、集贤殿正字、蓝田尉、监察御史里行等职。永贞元年（</a:t>
            </a:r>
            <a:r>
              <a:rPr b="1" lang="en-US" sz="1800" spc="-1" strike="noStrike">
                <a:solidFill>
                  <a:srgbClr val="bbe0e3"/>
                </a:solidFill>
                <a:latin typeface="隶书"/>
                <a:ea typeface="隶书"/>
              </a:rPr>
              <a:t>805</a:t>
            </a:r>
            <a:r>
              <a:rPr b="1" lang="zh-CN" sz="1800" spc="-1" strike="noStrike">
                <a:solidFill>
                  <a:srgbClr val="bbe0e3"/>
                </a:solidFill>
                <a:latin typeface="隶书"/>
                <a:ea typeface="隶书"/>
              </a:rPr>
              <a:t>）参与王叔文政治集团的革新运动，任礼部员外郎。革新失败后被贬为永州司马，十年后改为柳州刺史，死于柳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柳宗元是杰出的思想家，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改革失败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中年、处境悲苦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深入生活、接近百姓、反思历史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成为散文家和诗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他和韩愈是古文运动的两个主要倡导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　　柳宗元的诗，数量较多的是抒写个人抑郁的心情和离乡去国的悲哀。至于刻画自然景物的小诗，如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江雪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渔翁</a:t>
            </a:r>
            <a:r>
              <a:rPr b="1" lang="en-US" sz="18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等，都是脍炙人口的名作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9079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永州八记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包括：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始得西山宴游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钴鉧潭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钴鉧潭西小丘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至小丘西小石潭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袁家渴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石渠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石涧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《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小石城山记</a:t>
            </a: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这里体现了柳宗元的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山水游记寄寓自己的不幸遭遇，倾注怨愤抑郁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0920" y="4508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、唐宋八大家，是唐宋时期八大散文代表作家的合称，即唐代的韩愈、柳宗元和宋代的欧阳修、苏洵、苏轼、苏辙（三苏 ）、王安石、曾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5564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永州八记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与唐宋八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7928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ffcc"/>
                </a:solidFill>
                <a:latin typeface="Arial"/>
                <a:ea typeface="隶书"/>
              </a:rPr>
              <a:t>注意下列黄色字的读音和字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1268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867280" y="1341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0" y="1989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坻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300720" y="206064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771640" y="1989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蔓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0" y="2781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987640" y="2852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参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0" y="342900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116000" y="33577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y</a:t>
            </a: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59280" y="3500280"/>
            <a:ext cx="43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俶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6372360" y="3573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翕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7451640" y="3500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6372360" y="2781360"/>
            <a:ext cx="43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差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08720" y="1268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qu</a:t>
            </a:r>
            <a:r>
              <a:rPr b="1" lang="en-US" sz="4400" spc="-1" strike="noStrike">
                <a:solidFill>
                  <a:srgbClr val="00cc99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971640" y="184464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ch</a:t>
            </a:r>
            <a:r>
              <a:rPr b="1" lang="en-US" sz="5400" spc="-1" strike="noStrike">
                <a:solidFill>
                  <a:srgbClr val="00cc99"/>
                </a:solidFill>
                <a:latin typeface="宋体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40360" y="198900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w</a:t>
            </a:r>
            <a:r>
              <a:rPr b="1" lang="en-US" sz="4400" spc="-1" strike="noStrike">
                <a:solidFill>
                  <a:srgbClr val="00cc99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30872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k</a:t>
            </a:r>
            <a:r>
              <a:rPr b="1" lang="en-US" sz="4800" spc="-1" strike="noStrike">
                <a:solidFill>
                  <a:srgbClr val="00cc99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755640" y="2708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00cc99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4140360" y="278136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cc99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n c</a:t>
            </a:r>
            <a:r>
              <a:rPr b="1" lang="en-US" sz="4400" spc="-1" strike="noStrike">
                <a:solidFill>
                  <a:srgbClr val="00cc99"/>
                </a:solidFill>
                <a:latin typeface="Arial"/>
                <a:ea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924360" y="3429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ch</a:t>
            </a:r>
            <a:r>
              <a:rPr b="1" lang="en-US" sz="4800" spc="-1" strike="noStrike">
                <a:solidFill>
                  <a:srgbClr val="00cc99"/>
                </a:solidFill>
                <a:latin typeface="宋体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524720" y="2708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ī</a:t>
            </a: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00cc99"/>
                </a:solidFill>
                <a:latin typeface="宋体"/>
              </a:rPr>
              <a:t>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758160" y="134136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hu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3203640" y="1268280"/>
            <a:ext cx="20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冽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(       )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4572000" y="1413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4211640" y="134136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l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6659640" y="4292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8"/>
          <p:cNvSpPr/>
          <p:nvPr/>
        </p:nvSpPr>
        <p:spPr>
          <a:xfrm>
            <a:off x="7453800" y="4365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l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3194640" y="422100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悄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4140360" y="414972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chu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0" y="422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邃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5"/>
          <p:cNvSpPr/>
          <p:nvPr/>
        </p:nvSpPr>
        <p:spPr>
          <a:xfrm>
            <a:off x="1042920" y="4365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"/>
          <p:cNvSpPr/>
          <p:nvPr/>
        </p:nvSpPr>
        <p:spPr>
          <a:xfrm>
            <a:off x="0" y="5013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826920" y="5013360"/>
            <a:ext cx="18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00cc99"/>
                </a:solidFill>
                <a:latin typeface="Arial"/>
                <a:ea typeface="Arial"/>
              </a:rPr>
              <a:t>ō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8"/>
          <p:cNvSpPr/>
          <p:nvPr/>
        </p:nvSpPr>
        <p:spPr>
          <a:xfrm>
            <a:off x="3203640" y="501336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澈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(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9"/>
          <p:cNvSpPr/>
          <p:nvPr/>
        </p:nvSpPr>
        <p:spPr>
          <a:xfrm>
            <a:off x="4356000" y="5013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ch</a:t>
            </a:r>
            <a:r>
              <a:rPr b="1" lang="en-US" sz="4800" spc="-1" strike="noStrike">
                <a:solidFill>
                  <a:srgbClr val="00cc99"/>
                </a:solidFill>
                <a:latin typeface="宋体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0920" y="404640"/>
            <a:ext cx="889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280" y="1268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品读课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4000" y="191628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第一二段写作者兴致勃勃畅游小石潭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全石带来的好奇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清澈的水流和飘忽不定的游鱼所带来的快乐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欢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458136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四五段写小石潭周围幽深冷寂的氛围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该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伤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低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   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  <a:ea typeface="隶书"/>
              </a:rPr>
              <a:t>二、整体把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505320" y="1219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-181080" y="1484280"/>
            <a:ext cx="84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疏通文句</a:t>
            </a:r>
            <a:r>
              <a:rPr b="1" lang="en-US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落实字词</a:t>
            </a:r>
            <a:r>
              <a:rPr b="1" lang="en-US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95280" y="292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5280" y="37782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6836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6836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403280" y="342900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整体把握课文的内容</a:t>
            </a:r>
            <a:r>
              <a:rPr b="1" lang="en-US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小丘西行百二十步，隔        ，    水声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321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珮环，心        。   竹    道，    见小潭，水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篁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76720" y="10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竹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443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012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听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851280" y="522936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Arial"/>
              </a:rPr>
              <a:t>砍倒竹子，开辟出一条道路（走过去），下面看见一个小潭，潭水特别清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148428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从小土丘向西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百二十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284720" y="198900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隔着竹林，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了水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280" y="52848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Arial"/>
              </a:rPr>
              <a:t>好像身上带的玉佩、玉环相碰发出的清脆声音，（我的）心情高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8532720" y="404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7093080" y="907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动用法</a:t>
            </a:r>
            <a:r>
              <a:rPr b="1" lang="en-US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…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鸣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619280" y="3141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900000" y="4149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代词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指水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0" y="3645000"/>
            <a:ext cx="1297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 flipH="1">
            <a:off x="1258560" y="3789360"/>
            <a:ext cx="576360" cy="14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 flipH="1">
            <a:off x="2268000" y="3789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284328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84328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370836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378000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738036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7020000" y="3789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特别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788508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清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8101080" y="400536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清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4932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4932360" y="386064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名词作状语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在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3:52:49Z</dcterms:created>
  <dc:creator>cqf</dc:creator>
  <dc:description/>
  <dc:language>en-US</dc:language>
  <cp:lastModifiedBy>shang0980987@163.com</cp:lastModifiedBy>
  <dcterms:modified xsi:type="dcterms:W3CDTF">2021-03-23T01:23:07Z</dcterms:modified>
  <cp:revision>158</cp:revision>
  <dc:subject/>
  <dc:title>幻灯片 1</dc:title>
</cp:coreProperties>
</file>