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E85-4C81-41CD-ABB7-3D9CA86E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D09-3618-474C-8BB5-1FFD19E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72A-21A2-450D-801D-0CD3E65A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BCC-0C51-4056-9D43-0A20D1D5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0E3-E67F-407D-B27C-A1EEE79E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78D-CBE5-4D7B-91DA-AC9EB804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360-B61D-41A6-B24E-42C8C4AE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4ED-1D2B-41DA-9DBC-459BBF3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34E-EDC6-4FB7-B051-471C13D8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CA9-45B6-4FB2-A5D6-111093D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C24-F6D2-4770-97CD-E56CC5AD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33C-6D55-4CD7-BE7E-1526436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97B-F7FB-42D3-92AC-44E074210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303640" y="2092320"/>
            <a:ext cx="4211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口语交际  应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rcRect l="31847" t="0" r="0" b="0"/>
          <a:stretch/>
        </p:blipFill>
        <p:spPr>
          <a:xfrm>
            <a:off x="1574640" y="1131840"/>
            <a:ext cx="266400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262080" y="915840"/>
            <a:ext cx="8619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善于应对，要善于倾听，须从对方的语气、语调中弄懂意思，特别要听清言下之意，分辨对方的态度与情感，否则“应”了也无法“对”。还要快速调动思维，判断对方意思，明确应对方向，选择应对材料和方法，组织语言表达，这些都需随机应变，迅速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解读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262080" y="1382760"/>
            <a:ext cx="8619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语言应当让我们的生活更美好，而不是逞口舌之快。同一个问题，不同的回答会产生不同的味道。留心应对的语言，会让我们的世界更有情趣，让我们的生活更有温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338040" y="30636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分析：课文回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873000" y="782640"/>
            <a:ext cx="862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873000" y="1289160"/>
            <a:ext cx="779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祖母：怕都是孩子们，不可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母亲：若叫大人一同去，他们白天全有工作，要他熬夜，是不合情理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喜：我写包票！船又大；迅哥儿向来不乱跑；我们又都是识水性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祖母和母亲也相信，便不再驳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客观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782640" y="50004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二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873000" y="1289160"/>
            <a:ext cx="779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一公公：双喜，你们这班小鬼，昨天偷了我的豆了罢？又不肯好好的摘，踏坏了不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</a:t>
            </a:r>
            <a:r>
              <a:rPr b="1" lang="en-US" sz="2400" spc="-1" strike="noStrike">
                <a:solidFill>
                  <a:srgbClr val="c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喜：是的。我们请客。我们当初还不要你的呢。你看，你把我的虾吓跑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一公公：请客？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应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巧换概念，转换话题，化解尴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744480" y="83520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鲁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873000" y="1746360"/>
            <a:ext cx="779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八公公骂大家用了船上的盐和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八公公归还去年在岸边拾去的一枝枯桕树，而且当面叫他“八癞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阻止被骂，转换话题，针锋相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744480" y="835200"/>
            <a:ext cx="86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四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太丘与友期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873000" y="1746360"/>
            <a:ext cx="779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问题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非人哉！与人期行，相委而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中不至，则是无信；对子骂父，则是无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效果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友人惭，下车引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分析态度与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阻挡恶意，针锋相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322200" y="522360"/>
            <a:ext cx="86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案例分析：生活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873000" y="1179360"/>
            <a:ext cx="6975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老师接小学三年级的儿子天天放学。天天的同学对天天说：你妈妈好老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你是天天或者方老师，你会怎么回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思路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步，判断对方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步，明确自己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步，用什么技巧达成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38200" y="584280"/>
            <a:ext cx="84898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偷换概念：“老师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天天答：我妈妈是老师，当然要“老”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正面表扬：“关心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抓住我的特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谢谢你，这么关心天天妈妈，这么快就发现了我的特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别解：“老”“辣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更厉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姜是老的辣。我为了让自己更厉害，所以就让自己老一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436680" y="888840"/>
            <a:ext cx="847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移用：“老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“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快乐”“笑”“皱纹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方老师答：我是最爱天天的妈妈，天天是最爱妈妈的孩子，所以我就很快乐，经常笑。笑得多了，皱纹多了，就显得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）转换话题：重点不是“老不老”</a:t>
            </a: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重点是“学问有多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天天答：重点不是我妈妈老不老，重点是我妈妈学问有多高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"/>
                <a:ea typeface="楷体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203040" y="704880"/>
            <a:ext cx="9028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应的方法多种多样。我们只要明确自己的态度与目的，多动脑筋多读书，就可以找到自己比较满意的应对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阅读能丰富自己的词汇量，而用词的准确和巧妙，恰恰是灵活应对的关键。多读一些应对的案例，还可以汲取并积累应对经验，帮助自己在言语环境中迅速找到应对策略。应对的技巧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2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新课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542880" y="1112760"/>
            <a:ext cx="8383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我们的日常生活中，不仅有单向的自我表达，更有交流、问答、讨论，尤其面对别人的调侃、质疑甚至挑衅时，需要我们随机应对。巧妙、正确的应对会化解尴尬或者活跃气氛，生硬、错误的应对则会激化矛盾，甚至导致兵戎相见。这节课，我们就来学习如何应对生活中的各种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493560" y="1677960"/>
            <a:ext cx="8650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可以学习的，如自嘲、归谬、巧换概念、针锋相对、转换话题，还有仿词、移用、别解、谐音、对比、夸张、譬喻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析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812880" y="1973160"/>
            <a:ext cx="772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同学们阅读下面的应对案例，简要分析、评价这些名人采用的应对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544680" y="1228680"/>
            <a:ext cx="8054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孔融十岁的时候就表现出超乎寻常的聪明才智，得到人们的赞许。有一个叫陈韪的官员却当众不以为然地说：“小时了了（聪明），大未必佳。”孔融立即回应道：“想君小时，必当了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357120" y="757080"/>
            <a:ext cx="864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做好应对，首先要准确判断对方的态度。如果对方是一般性的询问，要做出客观的回答；如果是善意的玩笑、诚恳的致歉，可报以善意的幽默、自嘲；如果是恶意的刁难和讽刺，就要选择恰当的方式，给予有力的回应。案例中记叙孔融小时候的一件逸事，是当时名士之间的交往言谈。陈韪显然是轻视孔融，认为他不过是一个乳臭未干的孩童，故意出语刁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357120" y="743040"/>
            <a:ext cx="8640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意为：你现在年龄小，虽然聪明，但别得意太早了，长大后未必就有出息。孔融巧妙地利用陈韪批评他的话来逆推，给予了有力的反击，使陈韪陷入尴尬的境地，这也再一次显示了他的敏捷和机智。正所谓“以其人之道，还治其人之身”“以子之矛，攻子之盾”。至此，孔融年龄虽小但机智异常的特点已表现得淋漓尽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544680" y="1382760"/>
            <a:ext cx="8054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一名英国女士非常喜欢钱锺书的小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围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于是打电话给钱锺书请求见面。钱锺书对她说：“假如你吃了个鸡蛋觉得不错，何必认识那下蛋的母鸡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368280" y="917640"/>
            <a:ext cx="8640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英国女士提出要见钱锺书，钱锺书既没有直接同意，也没有一口回绝，而是运用“类比法”，将自己的作品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围城</a:t>
            </a:r>
            <a:r>
              <a:rPr b="1" lang="en-US" sz="3200" spc="-1" strike="noStrike">
                <a:solidFill>
                  <a:srgbClr val="003399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比作一个不错的“鸡蛋”，将自己比作下那个蛋的“母鸡”，用幽默的自嘲回绝了对方见面的请求，有礼有度，表现了大作家的聪明机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366840" y="1020600"/>
            <a:ext cx="84103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一个年轻的画家拜访德国著名的画家阿道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采尔，向他诉苦说：“我真不明白，为什么我画一幅画只用一会儿工夫，可卖出去要整整一年。”“请倒过来试试吧，”门采尔认真地说，“要是你花一年的工夫去画它，那么只用一天就准能卖掉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250920" y="874800"/>
            <a:ext cx="8642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"/>
                <a:ea typeface="楷体"/>
              </a:rPr>
              <a:t>好的应对是依据语境，快速调动思维，迅速做出反应，做到随机应变、巧妙应对。案例中，年轻画家没有意识到自己画画的能力不够强，只是一味地抱怨画不好卖。门采尔快速调动思维，随机应变，变换了对方话语中的部分词语的语序，就巧妙地回答了年轻画家的问题，既给年轻画家点明了画卖得慢的原因，又指导了他该怎么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709560" y="1382760"/>
            <a:ext cx="7724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沟通与交流的过程中难免产生碰撞和冲突，如何让别人心服口服，话怎么讲才能让人听进去，这是值得我们思考与学习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2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详解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507960" y="1800360"/>
            <a:ext cx="40640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教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知识短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勾画这篇知识短文介绍的“应对”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507960" y="1012680"/>
            <a:ext cx="2935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什么是应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" descr=""/>
          <p:cNvPicPr/>
          <p:nvPr/>
        </p:nvPicPr>
        <p:blipFill>
          <a:blip r:embed="rId1"/>
          <a:srcRect l="6432" t="11041" r="3320" b="20137"/>
          <a:stretch/>
        </p:blipFill>
        <p:spPr>
          <a:xfrm>
            <a:off x="4695840" y="430200"/>
            <a:ext cx="3160800" cy="428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557280" y="1049400"/>
            <a:ext cx="8029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任选一题完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找一个自己应对失败的例子，重新设计应对的语言。 如：好朋友想约你去网吧打游戏，你怎么应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找一个应对成功的例子，分析成功的原因，总结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557280" y="1677960"/>
            <a:ext cx="8029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小组选题完成教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26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语实践”活动二，推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小组课外活动时分别展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荐阅读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嘴杨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"/>
          <p:cNvSpPr/>
          <p:nvPr/>
        </p:nvSpPr>
        <p:spPr>
          <a:xfrm>
            <a:off x="557280" y="1228680"/>
            <a:ext cx="80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处不在，语言魔力无限。语言的背后站着一个怎样的人，需要我们努力去看清。让我们的语言充满温度，传达力量，联结情感！让我们绣口一吐，就是一个有趣的灵魂，一个谦恭的自我，一个文明的中国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新月形 4"/>
          <p:cNvSpPr/>
          <p:nvPr/>
        </p:nvSpPr>
        <p:spPr>
          <a:xfrm>
            <a:off x="1687680" y="1305000"/>
            <a:ext cx="301320" cy="238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03" y="718"/>
                  <a:pt x="4005" y="5080"/>
                  <a:pt x="4005" y="10800"/>
                </a:cubicBezTo>
                <a:cubicBezTo>
                  <a:pt x="4005" y="16520"/>
                  <a:pt x="12803" y="2088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39600" y="281160"/>
            <a:ext cx="1901880" cy="5814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"/>
          <p:cNvGrpSpPr/>
          <p:nvPr/>
        </p:nvGrpSpPr>
        <p:grpSpPr>
          <a:xfrm>
            <a:off x="627120" y="2184480"/>
            <a:ext cx="1192320" cy="730080"/>
            <a:chOff x="627120" y="2184480"/>
            <a:chExt cx="1192320" cy="730080"/>
          </a:xfrm>
        </p:grpSpPr>
        <p:sp>
          <p:nvSpPr>
            <p:cNvPr id="106" name="矩形: 圆角 3"/>
            <p:cNvSpPr/>
            <p:nvPr/>
          </p:nvSpPr>
          <p:spPr>
            <a:xfrm>
              <a:off x="627120" y="2184480"/>
              <a:ext cx="119232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"/>
            <p:cNvSpPr/>
            <p:nvPr/>
          </p:nvSpPr>
          <p:spPr>
            <a:xfrm>
              <a:off x="710640" y="2193840"/>
              <a:ext cx="1108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新月形 6"/>
          <p:cNvSpPr/>
          <p:nvPr/>
        </p:nvSpPr>
        <p:spPr>
          <a:xfrm flipH="1">
            <a:off x="3819600" y="1305000"/>
            <a:ext cx="303120" cy="238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03" y="718"/>
                  <a:pt x="4005" y="5080"/>
                  <a:pt x="4005" y="10800"/>
                </a:cubicBezTo>
                <a:cubicBezTo>
                  <a:pt x="4005" y="16520"/>
                  <a:pt x="12803" y="2088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098800" y="109044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人有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2120760" y="181440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善于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2104920" y="253836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调动思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2120760" y="3268800"/>
            <a:ext cx="190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广泛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4122720" y="1428840"/>
            <a:ext cx="4836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嘲、归谬、巧换概念、针锋相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343400" y="2243160"/>
            <a:ext cx="4594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转换话题、仿词、移用、别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4187880" y="3057480"/>
            <a:ext cx="3946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谐音、对比、夸张、譬喻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1353960" y="1611360"/>
            <a:ext cx="6436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在日常交往中，当有人向我们提问、建议或质疑，采取恰当的方式做出回应，就是应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2033640" y="960480"/>
            <a:ext cx="5684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应对有哪些注意事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233360" y="291960"/>
            <a:ext cx="2359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1233360" y="1628640"/>
            <a:ext cx="72835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99"/>
                </a:solidFill>
                <a:latin typeface="楷体"/>
                <a:ea typeface="楷体"/>
              </a:rPr>
              <a:t>首先要准确判断对方的态度。即认真聆听对方的话语，准确理解其意图，把握其观点态度。其次要掌握一定的应对技巧。如：自嘲、归谬、巧换概念、针锋相对、转换话题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65280" y="1930320"/>
            <a:ext cx="7556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想拿捏好应对用语的分寸，我们还应具体了解“应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331920" y="741240"/>
            <a:ext cx="3108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的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12840" y="378000"/>
            <a:ext cx="8518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回应别人的话；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对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做出自己的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广义的应对包括在聊天、问答、讨论等中的回应，即只要不是单向的自我表达，都可以看作应对；狭义的应对则指面对别人的调侃、质疑、诘问、挑衅时随机应变的话语能力，也就是如何在对话中灵活巧妙地维护尊严、消除矛盾、化解尴尬或活跃气氛等口头表达。简单来说，应对就是对别人所说的话语做出回应，或对别人提出的问题给予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包含两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出话语，我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应、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分为两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懂对方的语言，用好自己的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</a:rPr>
              <a:t>应对具有两个特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对性，及时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522360" y="979560"/>
            <a:ext cx="833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善于应对，需要为人有则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懂得维护公理，坚守自尊，善待他人，才能在应对中做到有礼有节，不卑不亢。如果存心刁难别人，那么不仅不能智慧应对，说不定还会自取其辱。如果把善于应对理解为巧言令色，油嘴滑舌，尖酸刻薄，甚至阿谀逢迎，则更是有失人格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言为心声，面对不同态度与目的的问题方，我们该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"/>
          <p:cNvSpPr/>
          <p:nvPr/>
        </p:nvSpPr>
        <p:spPr>
          <a:xfrm>
            <a:off x="522360" y="338040"/>
            <a:ext cx="3108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spcBef>
                <a:spcPts val="1199"/>
              </a:spcBef>
              <a:buClr>
                <a:srgbClr val="000000"/>
              </a:buClr>
              <a:buFont typeface="宋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对有原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43080" y="912960"/>
          <a:ext cx="8610480" cy="2842920"/>
        </p:xfrm>
        <a:graphic>
          <a:graphicData uri="http://schemas.openxmlformats.org/drawingml/2006/table">
            <a:tbl>
              <a:tblPr/>
              <a:tblGrid>
                <a:gridCol w="1320480"/>
                <a:gridCol w="2387880"/>
                <a:gridCol w="2984400"/>
                <a:gridCol w="1917720"/>
              </a:tblGrid>
              <a:tr h="94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矩形 1"/>
          <p:cNvSpPr/>
          <p:nvPr/>
        </p:nvSpPr>
        <p:spPr>
          <a:xfrm>
            <a:off x="395280" y="1082520"/>
            <a:ext cx="1442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问题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1687680" y="1095480"/>
            <a:ext cx="2757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一般性的询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4559400" y="1095480"/>
            <a:ext cx="23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善意的玩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6977160" y="1082520"/>
            <a:ext cx="2757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恶意的刁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"/>
          <p:cNvSpPr/>
          <p:nvPr/>
        </p:nvSpPr>
        <p:spPr>
          <a:xfrm>
            <a:off x="4046400" y="2011320"/>
            <a:ext cx="3418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善意的幽默、自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395280" y="2011320"/>
            <a:ext cx="1495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应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557280" y="2952720"/>
            <a:ext cx="1496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效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1847880" y="2011320"/>
            <a:ext cx="2241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客观的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"/>
          <p:cNvSpPr/>
          <p:nvPr/>
        </p:nvSpPr>
        <p:spPr>
          <a:xfrm>
            <a:off x="2054160" y="2959200"/>
            <a:ext cx="2239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礼貌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4648320" y="2959200"/>
            <a:ext cx="3417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化解尴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7015320" y="2023920"/>
            <a:ext cx="2241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力的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7156440" y="2959200"/>
            <a:ext cx="2239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阻挡恶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/>
  <dc:description/>
  <cp:keywords/>
  <dc:language>en-US</dc:language>
  <cp:lastModifiedBy>微软用户</cp:lastModifiedBy>
  <dcterms:modified xsi:type="dcterms:W3CDTF">2021-06-08T09:07:16Z</dcterms:modified>
  <cp:revision>740</cp:revision>
  <dc:subject/>
  <dc:title>幻灯片 1</dc:title>
</cp:coreProperties>
</file>