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40F-71FA-4673-892F-E1CC2C84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282-0E1B-477C-8018-C5E0676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578-FE07-471E-8B03-2BEF6656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702-A706-45A5-B04A-5F54310A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66A-18FE-4391-B307-615C2FB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AAD-CCEB-408F-9E61-E4F33B28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F2E-F6A7-447B-B29B-8E7FA4CF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1E6-548C-41E4-9EF4-FABCBC83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010-D6DE-462B-BB0B-08EE237D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3DF-37BD-4CB0-8F7D-4B59415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39-D802-4DC5-9CB4-42FEE49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ABA-B1BD-436B-8B39-AB4A6B1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D6F9-36B0-4D5F-813D-38B4396F77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AF8-F267-4669-91D8-435E52DFB2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2.jpeg"/><Relationship Id="rId24" Type="http://schemas.openxmlformats.org/officeDocument/2006/relationships/image" Target="../media/image12.jpeg"/><Relationship Id="rId25" Type="http://schemas.openxmlformats.org/officeDocument/2006/relationships/image" Target="../media/image12.jpeg"/><Relationship Id="rId26" Type="http://schemas.openxmlformats.org/officeDocument/2006/relationships/image" Target="../media/image12.jpeg"/><Relationship Id="rId27" Type="http://schemas.openxmlformats.org/officeDocument/2006/relationships/image" Target="../media/image12.jpeg"/><Relationship Id="rId28" Type="http://schemas.openxmlformats.org/officeDocument/2006/relationships/image" Target="../media/image12.jpeg"/><Relationship Id="rId29" Type="http://schemas.openxmlformats.org/officeDocument/2006/relationships/image" Target="../media/image12.jpeg"/><Relationship Id="rId30" Type="http://schemas.openxmlformats.org/officeDocument/2006/relationships/image" Target="../media/image12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12.jpeg"/><Relationship Id="rId34" Type="http://schemas.openxmlformats.org/officeDocument/2006/relationships/image" Target="../media/image12.jpeg"/><Relationship Id="rId35" Type="http://schemas.openxmlformats.org/officeDocument/2006/relationships/image" Target="../media/image12.jpeg"/><Relationship Id="rId36" Type="http://schemas.openxmlformats.org/officeDocument/2006/relationships/image" Target="../media/image12.jpeg"/><Relationship Id="rId37" Type="http://schemas.openxmlformats.org/officeDocument/2006/relationships/image" Target="../media/image12.jpeg"/><Relationship Id="rId38" Type="http://schemas.openxmlformats.org/officeDocument/2006/relationships/image" Target="../media/image12.jpeg"/><Relationship Id="rId39" Type="http://schemas.openxmlformats.org/officeDocument/2006/relationships/image" Target="../media/image12.jpeg"/><Relationship Id="rId40" Type="http://schemas.openxmlformats.org/officeDocument/2006/relationships/image" Target="../media/image12.jpeg"/><Relationship Id="rId41" Type="http://schemas.openxmlformats.org/officeDocument/2006/relationships/image" Target="../media/image12.jpeg"/><Relationship Id="rId42" Type="http://schemas.openxmlformats.org/officeDocument/2006/relationships/image" Target="../media/image12.jpeg"/><Relationship Id="rId43" Type="http://schemas.openxmlformats.org/officeDocument/2006/relationships/image" Target="../media/image12.jpeg"/><Relationship Id="rId44" Type="http://schemas.openxmlformats.org/officeDocument/2006/relationships/image" Target="../media/image12.jpeg"/><Relationship Id="rId45" Type="http://schemas.openxmlformats.org/officeDocument/2006/relationships/image" Target="../media/image12.jpeg"/><Relationship Id="rId4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rj"/>
          <p:cNvPicPr/>
          <p:nvPr/>
        </p:nvPicPr>
        <p:blipFill>
          <a:blip r:embed="rId1"/>
          <a:stretch/>
        </p:blipFill>
        <p:spPr>
          <a:xfrm>
            <a:off x="6553080" y="3886200"/>
            <a:ext cx="3200400" cy="3141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539640" y="155736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珙中八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6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班家长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Picture 4" descr="18"/>
          <p:cNvPicPr/>
          <p:nvPr/>
        </p:nvPicPr>
        <p:blipFill>
          <a:blip r:embed="rId2"/>
          <a:stretch/>
        </p:blipFill>
        <p:spPr>
          <a:xfrm>
            <a:off x="5940360" y="189000"/>
            <a:ext cx="266724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qn"/>
          <p:cNvPicPr/>
          <p:nvPr/>
        </p:nvPicPr>
        <p:blipFill>
          <a:blip r:embed="rId3"/>
          <a:stretch/>
        </p:blipFill>
        <p:spPr>
          <a:xfrm>
            <a:off x="0" y="411480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"/>
          <p:cNvPicPr/>
          <p:nvPr/>
        </p:nvPicPr>
        <p:blipFill>
          <a:blip r:embed="rId4"/>
          <a:stretch/>
        </p:blipFill>
        <p:spPr>
          <a:xfrm>
            <a:off x="324000" y="189000"/>
            <a:ext cx="277164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050920" y="4292640"/>
            <a:ext cx="48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2021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年春期期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916360" y="5589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班班主任：黄枝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"/>
          <p:cNvSpPr/>
          <p:nvPr/>
        </p:nvSpPr>
        <p:spPr>
          <a:xfrm>
            <a:off x="228600" y="228600"/>
            <a:ext cx="8591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交友不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初二学生自我意识逐渐发展，他们有了一定的评价能力，一些行为与做法，希望得到老师和同学的理解。但由于他们的思维独立性和批判性还处于萌芽阶段，容易受外界影响。如有些学生有点成绩就盲目自满，认为高人一等，遇挫折时则盲目自卑，垂头丧气，而且他们彼此之间情绪感染性极强，做好事和做坏事都有从众心理，甚至拉帮结派等现象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ff"/>
                </a:solidFill>
                <a:latin typeface="Calibri"/>
              </a:rPr>
              <a:t>透过成绩看问题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态度是否端正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方法是否恰当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时间是否有保障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学习效率是否高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一直在强调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掌握好正确的方法会起到事半功倍的效果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上课遵守规定，不得讲话；提高学习效率，抓紧好学习的每一分钟；今日事今日毕；刻苦勤奋，聪明加踏实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072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Arial"/>
              </a:rPr>
              <a:t>与异性同学正常交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1523880"/>
            <a:ext cx="7543800" cy="415800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青春花季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理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防患未然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引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关注关爱</a:t>
            </a:r>
            <a:r>
              <a:rPr b="1" lang="en-US" sz="6600" spc="-1" strike="noStrike">
                <a:solidFill>
                  <a:srgbClr val="4f81bd"/>
                </a:solidFill>
                <a:latin typeface="Arial"/>
              </a:rPr>
              <a:t>----</a:t>
            </a:r>
            <a:r>
              <a:rPr b="1" lang="zh-CN" sz="6600" spc="-1" strike="noStrike">
                <a:solidFill>
                  <a:srgbClr val="4f81bd"/>
                </a:solidFill>
                <a:latin typeface="Arial"/>
              </a:rPr>
              <a:t>细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早恋期间的学生一般有下列几种表现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1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讲究打扮和发型，在异性面前表现失常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2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上课听讲注意力不集中，心事重重，学习成绩呈下降的趋势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3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沉默不语，不能按时就寝，逃避集体活动；</a:t>
            </a:r>
            <a:br>
              <a:rPr sz="4000"/>
            </a:b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（</a:t>
            </a:r>
            <a:r>
              <a:rPr b="1" lang="en-US" sz="4000" spc="-1" strike="noStrike">
                <a:solidFill>
                  <a:srgbClr val="cc3399"/>
                </a:solidFill>
                <a:latin typeface="Calibri"/>
                <a:ea typeface="黑体"/>
              </a:rPr>
              <a:t>4</a:t>
            </a:r>
            <a:r>
              <a:rPr b="1" lang="zh-CN" sz="4000" spc="-1" strike="noStrike">
                <a:solidFill>
                  <a:srgbClr val="cc3399"/>
                </a:solidFill>
                <a:latin typeface="Calibri"/>
                <a:ea typeface="黑体"/>
              </a:rPr>
              <a:t>）出现不正常的交往或来往书信明显增多。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ai"/>
          <p:cNvPicPr/>
          <p:nvPr/>
        </p:nvPicPr>
        <p:blipFill>
          <a:blip r:embed="rId1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ai"/>
          <p:cNvPicPr/>
          <p:nvPr/>
        </p:nvPicPr>
        <p:blipFill>
          <a:blip r:embed="rId2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ai"/>
          <p:cNvPicPr/>
          <p:nvPr/>
        </p:nvPicPr>
        <p:blipFill>
          <a:blip r:embed="rId3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ai"/>
          <p:cNvPicPr/>
          <p:nvPr/>
        </p:nvPicPr>
        <p:blipFill>
          <a:blip r:embed="rId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cai"/>
          <p:cNvPicPr/>
          <p:nvPr/>
        </p:nvPicPr>
        <p:blipFill>
          <a:blip r:embed="rId32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cai"/>
          <p:cNvPicPr/>
          <p:nvPr/>
        </p:nvPicPr>
        <p:blipFill>
          <a:blip r:embed="rId33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cai"/>
          <p:cNvPicPr/>
          <p:nvPr/>
        </p:nvPicPr>
        <p:blipFill>
          <a:blip r:embed="rId34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cai"/>
          <p:cNvPicPr/>
          <p:nvPr/>
        </p:nvPicPr>
        <p:blipFill>
          <a:blip r:embed="rId35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8" descr="cai"/>
          <p:cNvPicPr/>
          <p:nvPr/>
        </p:nvPicPr>
        <p:blipFill>
          <a:blip r:embed="rId36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cai"/>
          <p:cNvPicPr/>
          <p:nvPr/>
        </p:nvPicPr>
        <p:blipFill>
          <a:blip r:embed="rId37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cai"/>
          <p:cNvPicPr/>
          <p:nvPr/>
        </p:nvPicPr>
        <p:blipFill>
          <a:blip r:embed="rId38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cai"/>
          <p:cNvPicPr/>
          <p:nvPr/>
        </p:nvPicPr>
        <p:blipFill>
          <a:blip r:embed="rId39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2" descr="cai"/>
          <p:cNvPicPr/>
          <p:nvPr/>
        </p:nvPicPr>
        <p:blipFill>
          <a:blip r:embed="rId40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3" descr="cai"/>
          <p:cNvPicPr/>
          <p:nvPr/>
        </p:nvPicPr>
        <p:blipFill>
          <a:blip r:embed="rId41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4" descr="cai"/>
          <p:cNvPicPr/>
          <p:nvPr/>
        </p:nvPicPr>
        <p:blipFill>
          <a:blip r:embed="rId42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5" descr="cai"/>
          <p:cNvPicPr/>
          <p:nvPr/>
        </p:nvPicPr>
        <p:blipFill>
          <a:blip r:embed="rId43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6" descr="cai"/>
          <p:cNvPicPr/>
          <p:nvPr/>
        </p:nvPicPr>
        <p:blipFill>
          <a:blip r:embed="rId44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7" descr="cai"/>
          <p:cNvPicPr/>
          <p:nvPr/>
        </p:nvPicPr>
        <p:blipFill>
          <a:blip r:embed="rId45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推荐：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必读的教育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影响孩子成绩的主要因素不是学校，而是家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果家庭教育出了问题，孩子在学校就可能会过的比较辛苦，孩子很可能会成为学校的“问题儿童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绩好的孩子，妈妈通常是有计划而且动作利落的人。父亲越认真，越有条理，越有礼貌，孩子成绩就越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让你的孩子成为有教养的人，有教养从守时，排队，在公共场合不大声说话，不轻易发怒开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做人要厚道。如果你的孩子比较厚道，请不要嘲笑他的软弱。喜欢占小便宜的人，往往吃大亏，因为他被别人厌恶。愿意吃小亏的人，将来会占大便宜，因为他被人喜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身体的活力能够带来精神的活力。身体好的人，性格阳光。身体不好的人，做事犹犹豫豫，躲躲闪闪，说话吞吞吐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要以为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只是长身体的年龄。如果父母让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在祖父母或外祖父母那里度过，等到孩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岁时父母再把孩子接回来上小学，那么，这个孩子在小学要么成为默默无语的沉默者，要么成为无法无天的捣乱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的成长有三个关键期：第一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第二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第三个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。如果错过了成长的关键期，后患无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是“三十而立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而是“三岁而立”。孩子三岁前后，就必须建立自食其力的勇气和习惯。凡是自己能够做的，必须自己做，凡是自己应该做的，当尽力去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果你的孩子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的时候喜欢弗罗斯特的诗句：“两条路在树林里分岔，我选择走人少的那一条”，这很正常，不要担心，他以后也许会选择人走的多的那一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7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一个无为的放任型父母。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一个积极的权威型父母。在孩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岁前后，他的身边最好有个消极的民主型父母。有效的教育是先严后松，无效的教育是先松后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8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必须留意你的孩子的学习成绩，但也不必太在意他的名次。倒是需要警惕那些学习成绩总是第一名的孩子。有些孩子学习成绩好，性格也好，有些孩子学习成绩很好，但性格却自私，缺乏同情心，没有生活情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家长必读的教育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条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的成长需要同伴，让孩子有自己的朋友，但不要有太杂乱的伙伴，在孩子没有形成成熟的理性和判断之前，警惕孩子沾染同伴的坏习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告诉你的孩子：认真听讲的孩子偶尔成绩好，认真自学的孩子永远成绩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黑体"/>
              </a:rPr>
              <a:t>再推荐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黑体"/>
              </a:rPr>
              <a:t>一本书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黑体"/>
              </a:rPr>
              <a:t>《孩子，你为什么必须刻苦学习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955960" y="54324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27760" y="579420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784760" y="5356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ff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1800" spc="1" strike="noStrike">
              <a:ln w="38160">
                <a:solidFill>
                  <a:srgbClr val="ffff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0504d"/>
                  </a:solidFill>
                  <a:round/>
                </a:ln>
                <a:solidFill>
                  <a:srgbClr val="ff7c80"/>
                </a:solidFill>
                <a:latin typeface="黑体"/>
              </a:rPr>
              <a:t>尊敬的各位家长</a:t>
            </a:r>
            <a:endParaRPr b="1" lang="en-US" sz="1800" spc="1" strike="noStrike">
              <a:ln w="9360">
                <a:solidFill>
                  <a:srgbClr val="c0504d"/>
                </a:solidFill>
                <a:round/>
              </a:ln>
              <a:solidFill>
                <a:srgbClr val="ff7c80"/>
              </a:solidFill>
              <a:latin typeface="黑体"/>
              <a:ea typeface="黑体"/>
            </a:endParaRPr>
          </a:p>
        </p:txBody>
      </p:sp>
      <p:pic>
        <p:nvPicPr>
          <p:cNvPr id="54" name="Picture 8" descr="200492211034417"/>
          <p:cNvPicPr/>
          <p:nvPr/>
        </p:nvPicPr>
        <p:blipFill>
          <a:blip r:embed="rId2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859280" y="5877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八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班全体师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11280" y="476280"/>
            <a:ext cx="648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4f81bd"/>
                </a:solidFill>
                <a:latin typeface="Arial"/>
                <a:ea typeface="华文隶书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家长们辛苦了，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rose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73,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20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143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对孩子而言，最大的幸福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981000"/>
            <a:ext cx="8715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雨果：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生命中最大的幸福就是确信我们是被爱的，完全因为我们的本色而被爱，或者尽管我们是这样的人，依旧被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乔治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布什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无条件的爱是父母送给孩子最好的礼物。一旦你知道你的家人总是爱你的，你做什么都会无拘无束。你会坦然地面对失败，也会义无反顾地去争取成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朱永新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对于一年级的孩子，父母给老师说的第一句话就是“孩子就拜托给你了”，意味着跟我没有关系了。事实上，无论孩子在哪里，总是离不开父母的影响和教育，包括在餐桌上的每一句话，包括在家庭的每一个身影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一个人形成不健全的人格，能从家庭当中找到某些冲突和矛盾的因素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285840"/>
            <a:ext cx="89298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一次与哈佛大学心理学系教授吉尔博特聊天时，杨澜问他手头事情太多，常分不清主次怎么办？吉尔博特教授回答说：“十年以后，你会因为今天少做了一个项目而遗憾，但你会因为没有多陪孩子一小时而后悔。所以，你知道答案啦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周国平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真爱孩子的人，一定会努力让孩子有一个幸福的童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舍得花时间陪孩子学习、闲谈、共度欢乐时光，让孩子经常享受到活生生的亲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教给孩子做人的道理，保护孩子天性、心理和智力的健康成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、培育孩子的人生智慧和独立精神，去创造自己的未来，而不是给孩子准备好一个现成的未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4200" y="214200"/>
            <a:ext cx="8786880" cy="4006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李嘉诚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说：“事业上再大的成功也弥补不了教育子女失败的缺憾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而要教育好自己的孩子，父母首先自己要善良、真诚、自信、负责、进取，要尽力去做一个最好的自己，因为孩子是以我们为榜样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Calibri"/>
                <a:ea typeface="华文隶书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Calibri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61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5280" y="4868640"/>
            <a:ext cx="8209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华文隶书"/>
              </a:rPr>
              <a:t>著名教育家苏霍姆林斯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2"/>
          <p:cNvSpPr/>
          <p:nvPr/>
        </p:nvSpPr>
        <p:spPr>
          <a:xfrm>
            <a:off x="533520" y="62064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逆反心理严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  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初二学生的另一特点是“不服管教”。一些同学对老师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家长的批评不再虚心接受，开始反驳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顶撞，甚至嘲笑师长，越是父母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﹑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老师不让做的事，他们越起劲，一定要和师长“对着干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8:49:18Z</dcterms:created>
  <dc:creator>微软用户</dc:creator>
  <dc:description/>
  <dc:language>en-US</dc:language>
  <cp:lastModifiedBy>悠悠天地</cp:lastModifiedBy>
  <dcterms:modified xsi:type="dcterms:W3CDTF">2021-09-23T01:53:19Z</dcterms:modified>
  <cp:revision>29</cp:revision>
  <dc:subject/>
  <dc:title>初二家长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8B1DC93861A416B99583291B81AEBA6</vt:lpwstr>
  </property>
  <property fmtid="{D5CDD505-2E9C-101B-9397-08002B2CF9AE}" pid="3" name="KSOProductBuildVer">
    <vt:lpwstr>2052-11.1.0.10700</vt:lpwstr>
  </property>
</Properties>
</file>