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7F06-BD96-4C4E-A47D-DD378185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3.xml"/><Relationship Id="rId24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slide" Target="../slides/slide21.xml"/><Relationship Id="rId1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33A-DC98-4B2E-91E4-DACB9FE5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BC0-1FF1-43B6-B586-F6533324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68C8-E606-498E-A834-8194C149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9B7-757A-468F-9694-F379D469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6C4-C8C4-4122-AB9A-22EBBFA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24C-F058-49D8-B928-FDAEB98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1F2-868E-4889-94F8-E65E0C73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DC8-EF6F-4548-827E-10513093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9E9-A8AD-4D0A-B19B-7FEC0E0B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09E-3D83-4D0A-99DD-0FAC2C20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84E-BFE1-4F8B-91C4-3CBB068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603-7D47-48BF-A7EB-4BC3D710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5AC-8083-4C7E-B7D9-45EB163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5FF-6074-43A3-9FB8-8D09B49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C5E-E055-48AC-84CE-B9ADD58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786-79AB-465A-A6DC-E4CD2CE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1FB-C602-4424-B40C-0C2CE7A1B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405975_1819530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1038240" y="1314360"/>
            <a:ext cx="676908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3780000" y="4297320"/>
            <a:ext cx="3232080" cy="1590480"/>
            <a:chOff x="3780000" y="4297320"/>
            <a:chExt cx="3232080" cy="1590480"/>
          </a:xfrm>
        </p:grpSpPr>
        <p:pic>
          <p:nvPicPr>
            <p:cNvPr id="51" name="Picture 5" descr="xkd"/>
            <p:cNvPicPr/>
            <p:nvPr/>
          </p:nvPicPr>
          <p:blipFill>
            <a:blip r:embed="rId3"/>
            <a:stretch/>
          </p:blipFill>
          <p:spPr>
            <a:xfrm>
              <a:off x="4572360" y="487368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xkd"/>
            <p:cNvPicPr/>
            <p:nvPr/>
          </p:nvPicPr>
          <p:blipFill>
            <a:blip r:embed="rId4"/>
            <a:stretch/>
          </p:blipFill>
          <p:spPr>
            <a:xfrm>
              <a:off x="3780000" y="429732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xkd"/>
            <p:cNvPicPr/>
            <p:nvPr/>
          </p:nvPicPr>
          <p:blipFill>
            <a:blip r:embed="rId5"/>
            <a:stretch/>
          </p:blipFill>
          <p:spPr>
            <a:xfrm>
              <a:off x="5869080" y="530532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xkd"/>
            <p:cNvPicPr/>
            <p:nvPr/>
          </p:nvPicPr>
          <p:blipFill>
            <a:blip r:embed="rId6"/>
            <a:stretch/>
          </p:blipFill>
          <p:spPr>
            <a:xfrm>
              <a:off x="5148360" y="4513320"/>
              <a:ext cx="1143000" cy="58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U_5172~2"/>
          <p:cNvPicPr/>
          <p:nvPr/>
        </p:nvPicPr>
        <p:blipFill>
          <a:blip r:embed="rId1"/>
          <a:stretch/>
        </p:blipFill>
        <p:spPr>
          <a:xfrm>
            <a:off x="4572000" y="0"/>
            <a:ext cx="3384720" cy="2428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714240" y="300024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286240" y="28576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500040" y="714240"/>
            <a:ext cx="3232080" cy="1590480"/>
            <a:chOff x="500040" y="714240"/>
            <a:chExt cx="3232080" cy="1590480"/>
          </a:xfrm>
        </p:grpSpPr>
        <p:pic>
          <p:nvPicPr>
            <p:cNvPr id="100" name="Picture 5" descr="xkd"/>
            <p:cNvPicPr/>
            <p:nvPr/>
          </p:nvPicPr>
          <p:blipFill>
            <a:blip r:embed="rId2"/>
            <a:stretch/>
          </p:blipFill>
          <p:spPr>
            <a:xfrm>
              <a:off x="1292400" y="129060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xkd"/>
            <p:cNvPicPr/>
            <p:nvPr/>
          </p:nvPicPr>
          <p:blipFill>
            <a:blip r:embed="rId3"/>
            <a:stretch/>
          </p:blipFill>
          <p:spPr>
            <a:xfrm>
              <a:off x="500040" y="71424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xkd"/>
            <p:cNvPicPr/>
            <p:nvPr/>
          </p:nvPicPr>
          <p:blipFill>
            <a:blip r:embed="rId4"/>
            <a:stretch/>
          </p:blipFill>
          <p:spPr>
            <a:xfrm>
              <a:off x="2589120" y="1722240"/>
              <a:ext cx="11430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xkd"/>
            <p:cNvPicPr/>
            <p:nvPr/>
          </p:nvPicPr>
          <p:blipFill>
            <a:blip r:embed="rId5"/>
            <a:stretch/>
          </p:blipFill>
          <p:spPr>
            <a:xfrm>
              <a:off x="1868400" y="930240"/>
              <a:ext cx="114300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燕尾形箭头 9"/>
          <p:cNvSpPr/>
          <p:nvPr/>
        </p:nvSpPr>
        <p:spPr>
          <a:xfrm flipV="1">
            <a:off x="3143160" y="3071880"/>
            <a:ext cx="1714680" cy="474480"/>
          </a:xfrm>
          <a:custGeom>
            <a:avLst/>
            <a:gdLst>
              <a:gd name="textAreaLeft" fmla="*/ 118440 w 1714680"/>
              <a:gd name="textAreaRight" fmla="*/ 1596240 w 1714680"/>
              <a:gd name="textAreaTop" fmla="*/ 118440 h 474480"/>
              <a:gd name="textAreaBottom" fmla="*/ 356040 h 47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11" y="5400"/>
                </a:lnTo>
                <a:lnTo>
                  <a:pt x="18611" y="0"/>
                </a:lnTo>
                <a:lnTo>
                  <a:pt x="21600" y="10800"/>
                </a:lnTo>
                <a:lnTo>
                  <a:pt x="18611" y="21600"/>
                </a:lnTo>
                <a:lnTo>
                  <a:pt x="18611" y="16200"/>
                </a:lnTo>
                <a:lnTo>
                  <a:pt x="0" y="16200"/>
                </a:lnTo>
                <a:lnTo>
                  <a:pt x="149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643200" y="2357280"/>
            <a:ext cx="7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14200" y="38577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找一找小蝌蚪在找妈妈的过程中身体发生了怎样的变化，文中是怎么描写的？用横线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760560" y="342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1918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里有一群小蝌蚪，大大的脑袋，黑灰色的身子，甩着长长的尾巴，快活地游来游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长出两条后腿。他们看见鲤鱼妈妈在教小鲤鱼捕食，就迎上去，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阿姨，我们的妈妈在哪里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妈妈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的妈妈有四条腿，宽嘴巴。你们到那边去找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长出两条前腿。他们看见一只乌龟摆动着四条腿在水里游，连忙追上去，叫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是你们的妈妈。你们的妈妈头顶上有两只大眼睛，披着绿衣裳。你们到那边去找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尾巴变短了。他们游到荷花旁边，看见荷叶上蹲着一只大青蛙，披着碧绿的衣裳，露着雪白的肚皮，鼓着一对大眼睛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过去，叫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妈妈低头一看，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孩子，你们已经长成青蛙了，快跳上来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后腿一蹬，向前一跳，蹦到了荷叶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什么时候，小青蛙的尾巴已经不见了。他们跟着妈妈，天天去捉害虫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21016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里有一群小蝌蚪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大的脑袋，黑灰色的身子，甩着长长的尾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快活地游来游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蝌蚪游哇游，过了几天，长出两条后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看见鲤鱼妈妈在教小鲤鱼捕食，就迎上去，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阿姨，我们的妈妈在哪里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妈妈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的妈妈有四条腿，宽嘴巴。你们到那边去找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蝌蚪游哇游，过了几天，长出两条前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看见一只乌龟摆动着四条腿在水里游，连忙追上去，叫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是你们的妈妈。你们的妈妈头顶上有两只大眼睛，披着绿衣裳。你们到那边去找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蝌蚪游哇游，过了几天，尾巴变短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游到荷花旁边，看见荷叶上蹲着一只大青蛙，披着碧绿的衣裳，露着雪白的肚皮，鼓着一对大眼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过去，叫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妈妈低头一看，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孩子，你们已经长成青蛙了，快跳上来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后腿一蹬，向前一跳，蹦到了荷叶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什么时候，小青蛙的尾巴已经不见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跟着妈妈，天天去捉害虫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ic_2529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nimg_net_016"/>
          <p:cNvPicPr/>
          <p:nvPr/>
        </p:nvPicPr>
        <p:blipFill>
          <a:blip r:embed="rId2"/>
          <a:stretch/>
        </p:blipFill>
        <p:spPr>
          <a:xfrm>
            <a:off x="324000" y="333360"/>
            <a:ext cx="996840" cy="19940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 rot="21159000">
            <a:off x="2050560" y="47628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说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256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池塘里有一群小蝌蚪，他们游哇游，过了几天，长出了两条（       ），又过了几天，长出了两条（       ），没过多久，（       ）不见了，变成了一只只能捉害虫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364000" y="321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后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03640" y="371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前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763640" y="4292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62728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青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2"/>
          <p:cNvPicPr/>
          <p:nvPr/>
        </p:nvPicPr>
        <p:blipFill>
          <a:blip r:embed="rId1"/>
          <a:stretch/>
        </p:blipFill>
        <p:spPr>
          <a:xfrm>
            <a:off x="1000080" y="2214720"/>
            <a:ext cx="2305080" cy="1982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饿"/>
          <p:cNvPicPr/>
          <p:nvPr/>
        </p:nvPicPr>
        <p:blipFill>
          <a:blip r:embed="rId2"/>
          <a:stretch/>
        </p:blipFill>
        <p:spPr>
          <a:xfrm>
            <a:off x="928800" y="4500720"/>
            <a:ext cx="2305080" cy="205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4453560" y="2713680"/>
            <a:ext cx="31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686840" y="5356800"/>
            <a:ext cx="31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妈妈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蝌蚪"/>
          <p:cNvPicPr/>
          <p:nvPr/>
        </p:nvPicPr>
        <p:blipFill>
          <a:blip r:embed="rId3"/>
          <a:stretch/>
        </p:blipFill>
        <p:spPr>
          <a:xfrm flipH="1" rot="18086400">
            <a:off x="8538120" y="4600440"/>
            <a:ext cx="432000" cy="64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蝌蚪"/>
          <p:cNvPicPr/>
          <p:nvPr/>
        </p:nvPicPr>
        <p:blipFill>
          <a:blip r:embed="rId4"/>
          <a:stretch/>
        </p:blipFill>
        <p:spPr>
          <a:xfrm flipH="1" rot="15708600">
            <a:off x="8603280" y="6057720"/>
            <a:ext cx="432000" cy="6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蝌蚪"/>
          <p:cNvPicPr/>
          <p:nvPr/>
        </p:nvPicPr>
        <p:blipFill>
          <a:blip r:embed="rId5"/>
          <a:stretch/>
        </p:blipFill>
        <p:spPr>
          <a:xfrm flipH="1" rot="17203800">
            <a:off x="8554320" y="5405040"/>
            <a:ext cx="431640" cy="647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571680" y="50004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蝌蚪在寻找妈妈的过程中，都得到了谁的帮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_2529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0" y="4356000"/>
            <a:ext cx="914400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长出两条后腿。他们看见鲤鱼妈妈在教小鲤鱼捕食，就迎上去，问：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阿姨，我们的妈妈在哪里？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妈妈说：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的妈妈四条腿，宽嘴巴。你们到那边去找吧！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28760" y="535788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鲤鱼阿姨，我们的妈妈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28760" y="57862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们的妈妈四条腿，宽嘴巴。你们到那边去找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ic_252914"/>
          <p:cNvPicPr/>
          <p:nvPr/>
        </p:nvPicPr>
        <p:blipFill>
          <a:blip r:embed="rId1"/>
          <a:stretch/>
        </p:blipFill>
        <p:spPr>
          <a:xfrm rot="18958800">
            <a:off x="323640" y="4076280"/>
            <a:ext cx="2517480" cy="208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55640" y="549360"/>
            <a:ext cx="5334120" cy="2849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鲤鱼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阿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，我们的妈妈在哪里？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_252913"/>
          <p:cNvPicPr/>
          <p:nvPr/>
        </p:nvPicPr>
        <p:blipFill>
          <a:blip r:embed="rId2"/>
          <a:stretch/>
        </p:blipFill>
        <p:spPr>
          <a:xfrm>
            <a:off x="6443640" y="404640"/>
            <a:ext cx="2700360" cy="172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348000" y="3645000"/>
            <a:ext cx="5545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们的妈妈四条腿，宽嘴巴。你们到那边去找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u=4135775407,924014602&amp;fm=0&amp;gp=0"/>
          <p:cNvPicPr/>
          <p:nvPr/>
        </p:nvPicPr>
        <p:blipFill>
          <a:blip r:embed="rId3"/>
          <a:stretch/>
        </p:blipFill>
        <p:spPr>
          <a:xfrm>
            <a:off x="7885080" y="5589720"/>
            <a:ext cx="1258920" cy="126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2195640" y="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203640" y="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ic_2529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长出两条前腿。他们看见一只乌龟摆动着四条腿在水里游，连忙追上去，叫着：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笑着说：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是你们的妈妈。你们的妈妈头顶上有两只大眼睛，披着绿衣裳。你们到那边去找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pic_252914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51280" y="609300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9640" y="333360"/>
            <a:ext cx="410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403280" y="404640"/>
            <a:ext cx="27432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迎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楷体_GB2312"/>
              </a:rPr>
              <a:t>上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u=4135775407,924014602&amp;fm=0&amp;gp=0"/>
          <p:cNvPicPr/>
          <p:nvPr/>
        </p:nvPicPr>
        <p:blipFill>
          <a:blip r:embed="rId2"/>
          <a:stretch/>
        </p:blipFill>
        <p:spPr>
          <a:xfrm>
            <a:off x="7885080" y="5524560"/>
            <a:ext cx="125892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39640" y="189000"/>
            <a:ext cx="446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780000" y="404640"/>
            <a:ext cx="2304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pic_252915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2"/>
          <p:cNvSpPr/>
          <p:nvPr/>
        </p:nvSpPr>
        <p:spPr>
          <a:xfrm>
            <a:off x="5580000" y="5013360"/>
            <a:ext cx="3240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追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楷体_GB2312"/>
              </a:rPr>
              <a:t>上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_252916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211640" y="189000"/>
            <a:ext cx="453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妈妈，妈妈！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u=4135775407,924014602&amp;fm=0&amp;gp=0"/>
          <p:cNvPicPr/>
          <p:nvPr/>
        </p:nvPicPr>
        <p:blipFill>
          <a:blip r:embed="rId2"/>
          <a:stretch/>
        </p:blipFill>
        <p:spPr>
          <a:xfrm>
            <a:off x="8134200" y="5524560"/>
            <a:ext cx="100980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4427640" y="3716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后腿一蹬，向前一跳，蹦到了荷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284720" y="1484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好孩子，你们已经长成青蛙了，快跳上来吧！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=4173550369,1861131001&amp;fm=52&amp;gp=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71280" y="714240"/>
            <a:ext cx="907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讲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姑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早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雨衣去上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蝌蚪甩着尾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乌龟妈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57120" y="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生字我来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R_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 flipV="1">
            <a:off x="714240" y="340740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（一）讨论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新宋体"/>
              </a:rPr>
              <a:t>你从小蝌蚪身上学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（二）思考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新宋体"/>
              </a:rPr>
              <a:t>要是自己在一个陌生的地方与父母走失了，你会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20110307173719-15306517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0" y="1413000"/>
            <a:ext cx="3492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只青蛙一天就可以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只虫子，一年就能吃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只虫子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987640" y="4941720"/>
            <a:ext cx="590544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是庄稼的好朋友，那么我们应该怎样对待青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6"/>
          <p:cNvSpPr txBox="1"/>
          <p:nvPr/>
        </p:nvSpPr>
        <p:spPr>
          <a:xfrm>
            <a:off x="1187280" y="333360"/>
            <a:ext cx="2089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noFill/>
                <a:latin typeface="宋体"/>
              </a:rPr>
              <a:t>你知道吗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pic>
        <p:nvPicPr>
          <p:cNvPr id="162" name="Picture 17" descr="ZW_0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718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-9085" t="0" r="0" b="0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0" y="1844640"/>
            <a:ext cx="716436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青蛙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动物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环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=4173550369,1861131001&amp;fm=52&amp;gp=0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780000" y="1125360"/>
            <a:ext cx="345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1052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19640" y="11253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阿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55640" y="263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476360" y="4437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867280" y="27813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头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292720" y="1052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打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419640" y="2637000"/>
            <a:ext cx="27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619280" y="1125360"/>
            <a:ext cx="187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348000" y="2276640"/>
            <a:ext cx="2519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867280" y="404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79280" y="692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里有一群小蝌蚪，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袋，黑灰色的身子，甩着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巴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79280" y="692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里有一群小蝌蚪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脑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黑灰色的身子，甩着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巴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79280" y="692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里有一群小蝌蚪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脑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黑灰色的身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甩着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巴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79280" y="692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里有一群小蝌蚪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脑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黑灰色的身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甩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_252913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u=4135775407,924014602&amp;fm=0&amp;gp=0"/>
          <p:cNvPicPr/>
          <p:nvPr/>
        </p:nvPicPr>
        <p:blipFill>
          <a:blip r:embed="rId2"/>
          <a:stretch/>
        </p:blipFill>
        <p:spPr>
          <a:xfrm>
            <a:off x="7885080" y="5524560"/>
            <a:ext cx="1258920" cy="1333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7"/>
          <p:cNvSpPr/>
          <p:nvPr/>
        </p:nvSpPr>
        <p:spPr>
          <a:xfrm>
            <a:off x="3851280" y="3645000"/>
            <a:ext cx="136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395280" y="4508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样子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700360" y="422100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(            )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的脑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050920" y="508464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的身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500200" y="5857920"/>
            <a:ext cx="501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（          ）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59280" y="422100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大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714760" y="500076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Arial"/>
              </a:rPr>
              <a:t>灰</a:t>
            </a:r>
            <a:r>
              <a:rPr b="0" lang="zh-CN" sz="4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714760" y="5857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长长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786120" y="1428840"/>
            <a:ext cx="50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着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碧绿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的衣裳，露着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雪白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的肚皮，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鼓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着一对大眼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U_5172~2"/>
          <p:cNvPicPr/>
          <p:nvPr/>
        </p:nvPicPr>
        <p:blipFill>
          <a:blip r:embed="rId1"/>
          <a:stretch/>
        </p:blipFill>
        <p:spPr>
          <a:xfrm>
            <a:off x="250920" y="476280"/>
            <a:ext cx="3384360" cy="4176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500800" y="14288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碧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428920" y="5143680"/>
            <a:ext cx="242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786200" y="20718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雪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857160" y="500076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1:14:00Z</dcterms:created>
  <dc:creator/>
  <dc:description/>
  <cp:keywords/>
  <dc:language>en-US</dc:language>
  <cp:lastModifiedBy>微软用户</cp:lastModifiedBy>
  <dcterms:modified xsi:type="dcterms:W3CDTF">2021-10-30T03:53:31Z</dcterms:modified>
  <cp:revision>2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64</vt:lpwstr>
  </property>
</Properties>
</file>