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11.wmf" ContentType="image/x-wmf"/>
  <Override PartName="/ppt/media/image12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13.png" ContentType="image/png"/>
  <Override PartName="/ppt/media/image7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E8A-D930-4D0D-B1F1-732EB24A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607-E67A-4D50-B04D-72BD542B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AED-5F0C-4F13-ABFA-12A3CAC3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218-330A-4497-9ADC-274F1C62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4EA-9FF2-442C-A1CB-06B797FA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1C8-2C6F-4999-9DDB-897E15F3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C49-04F8-4E84-AC5A-3E101EDF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C77-1ED1-4653-9261-7F548C11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5BF-0F0B-4C30-A8E5-BE2A8CC5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07E-FC5F-42E5-815D-87651180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E8F-EB22-4D19-8205-84184739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637-D0DB-4346-8F45-2C3D219F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4465-05DF-4FB2-AF8B-A23D34D38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_large_zTKW_1736000205982d1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 rot="5400000">
            <a:off x="-304560" y="2819160"/>
            <a:ext cx="441972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巩固提高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yugangfa.blog-cit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还知道哪些“但知其一，不知其二”却主观臆断，以致犯下错误或闹出笑话事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yugangfa.blog-cit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刻舟求剑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掩耳盗铃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瞎子摸象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》 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从三到万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说的就是“但知其一，不知其二”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_large_qmi9_16ec000755932d0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533520" y="53352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下列句子中加点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指代的意思，理解正确的一项是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讲学者设帐寺中，闻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沿河求之，不亦颠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老河兵闻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果得之于数里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①和②句相同，③和④句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①和③句相同，②和④句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. ①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③句不同，②和④句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. ①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④句相同，②和③句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744640" y="990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1"/>
          <p:cNvPicPr/>
          <p:nvPr/>
        </p:nvPicPr>
        <p:blipFill>
          <a:blip r:embed="rId2"/>
          <a:stretch/>
        </p:blipFill>
        <p:spPr>
          <a:xfrm>
            <a:off x="6858000" y="2438280"/>
            <a:ext cx="198108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_large_rr63_04a6000191a32d12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用自己的话写出下列代词指代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石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指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求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下流，固颠；求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地中，不更颠乎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指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反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指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小花-2"/>
          <p:cNvPicPr/>
          <p:nvPr/>
        </p:nvPicPr>
        <p:blipFill>
          <a:blip r:embed="rId2"/>
          <a:stretch/>
        </p:blipFill>
        <p:spPr>
          <a:xfrm>
            <a:off x="7696080" y="6019920"/>
            <a:ext cx="14479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_large_UGmE_58380002570b2d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533520" y="2070360"/>
            <a:ext cx="822960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讲学家和老河兵都说到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石性坚重，沙性松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但他们对沉在河中的石兽作出的结论是完全不同的。讲学家据此得出的最终结论是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___________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尔辈不能究物理；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是非木柿，岂能为暴涨携之去？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湮于沙上，渐沉渐深耳；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沿河求之，不亦颠乎？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老河兵的最终结论则为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水不能冲石；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再转不已，遂反朔流逆上矣；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求之下流，固颠；</a:t>
            </a:r>
            <a:r>
              <a:rPr b="1" lang="en-US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石必倒掷坎穴中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77800" y="1773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581440" y="3645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back2"/>
          <p:cNvPicPr/>
          <p:nvPr/>
        </p:nvPicPr>
        <p:blipFill>
          <a:blip r:embed="rId2"/>
          <a:stretch/>
        </p:blipFill>
        <p:spPr>
          <a:xfrm>
            <a:off x="7391520" y="5715000"/>
            <a:ext cx="11430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_large_wcPE_275100002c0d2d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下列叙述不符合原文意思的一项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、一种见解是从石性和沙性角度作分析，认为应在石兽落水处寻找石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、一种见解是从水暴涨冲击石兽而走作分析，认为应该到河的下游去寻找石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、一种见解是从石性、沙性和水冲击角度作综合分析，认为应到兽落水的上游去寻石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、三种见解都是正确的，只不过实践更重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26" descr="238"/>
          <p:cNvPicPr/>
          <p:nvPr/>
        </p:nvPicPr>
        <p:blipFill>
          <a:blip r:embed="rId2"/>
          <a:stretch/>
        </p:blipFill>
        <p:spPr>
          <a:xfrm>
            <a:off x="0" y="5950080"/>
            <a:ext cx="2057400" cy="907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6706800" y="1523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_large_SaLS_40510008a41c2d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90720" y="106668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下列句中划横线的词古义和今义相同的是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.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仿宋_GB2312"/>
                <a:ea typeface="仿宋_GB2312"/>
              </a:rPr>
              <a:t>但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知其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.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仿宋_GB2312"/>
                <a:ea typeface="仿宋_GB2312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非木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岂能为暴涨携之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仿宋_GB2312"/>
                <a:ea typeface="仿宋_GB2312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讲学家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仿宋_GB2312"/>
                <a:ea typeface="仿宋_GB2312"/>
              </a:rPr>
              <a:t>设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帐寺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838080" y="44197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：古义：只；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今义：但是，表转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：古义：代词，此，这，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今义：判断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：古义：离开；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今义：到某个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363400" y="1600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NA00864_"/>
          <p:cNvPicPr/>
          <p:nvPr/>
        </p:nvPicPr>
        <p:blipFill>
          <a:blip r:embed="rId2"/>
          <a:stretch/>
        </p:blipFill>
        <p:spPr>
          <a:xfrm>
            <a:off x="7848720" y="5954760"/>
            <a:ext cx="129528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917ab03955184500b8998fa5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1295280" y="1371600"/>
            <a:ext cx="4343400" cy="581400"/>
          </a:xfrm>
          <a:prstGeom prst="rect">
            <a:avLst/>
          </a:prstGeom>
          <a:noFill/>
          <a:ln cap="rnd" w="2844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自然现象的发生往往有着复杂的原因，我们不能只知其一，不知其二，仅根据自己的一知半解就作出主观判断，而要根据实践情况作出判断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毕业生.mp3" descr=""/>
          <p:cNvPicPr/>
          <p:nvPr/>
        </p:nvPicPr>
        <p:blipFill>
          <a:blip r:embed="rId2"/>
          <a:stretch/>
        </p:blipFill>
        <p:spPr>
          <a:xfrm>
            <a:off x="8839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80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8T07:02:05Z</dcterms:created>
  <dc:creator>lx</dc:creator>
  <dc:description/>
  <dc:language>en-US</dc:language>
  <cp:lastModifiedBy>lenovo</cp:lastModifiedBy>
  <dcterms:modified xsi:type="dcterms:W3CDTF">2015-12-18T07:07:0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99</vt:lpwstr>
  </property>
  <property fmtid="{D5CDD505-2E9C-101B-9397-08002B2CF9AE}" pid="3" name="Version">
    <vt:r8>1</vt:r8>
  </property>
</Properties>
</file>