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20.gif" ContentType="image/gif"/>
  <Override PartName="/ppt/media/image21.jpeg" ContentType="image/jpeg"/>
  <Override PartName="/ppt/media/image16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27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308-CBCB-43F7-9AA2-91B70D890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AF8-92EB-4C14-BC16-EEFD36DA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F37-E7DD-4E7E-9B4A-B39887CC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39A7-46CD-404F-BD3E-18345C35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88F-42D2-42BA-A0FA-8E639F01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8DB-6B12-4570-825C-B4EFF85F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260-857F-440B-9B29-83ED165C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663-D7C8-476F-AB22-92FA96CA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9B43-DA4D-480A-B0F6-C293DFAA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429-EBAF-4953-869A-BBE6091B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873-66D7-449B-B4C9-43B189E4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EB6-2A18-4849-B3FF-E4572CA6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6B9D-921A-4252-B826-B2876D8E76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44840" y="152280"/>
            <a:ext cx="261828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列夫</a:t>
            </a: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·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托尔斯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596200" y="3962520"/>
            <a:ext cx="1642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茨威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20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20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0" y="6237360"/>
            <a:ext cx="4859280" cy="620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284720" y="6237360"/>
            <a:ext cx="4859280" cy="620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0" y="476280"/>
            <a:ext cx="826920" cy="5832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8451720" y="620640"/>
            <a:ext cx="692280" cy="5545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55640" y="620640"/>
            <a:ext cx="7653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尴尬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gān   gà)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神色、态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自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处境苦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好处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炽热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ch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ì  rè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粗制滥造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là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藏污纳垢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cáng  wū  nà  gò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郁郁寡欢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guǎ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鹤立鸡群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hè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比喻一个人的才能或仪表在一群人里头显得很突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正襟危坐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jīn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理好衣襟端端正正坐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形容严肃庄重的样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588000" cy="981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780000" y="0"/>
            <a:ext cx="5364000" cy="981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5877000"/>
            <a:ext cx="6588000" cy="981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556000" y="5877000"/>
            <a:ext cx="6588000" cy="981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81000" cy="658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8163000" y="0"/>
            <a:ext cx="981000" cy="658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79480" y="1066680"/>
            <a:ext cx="7508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颔首低尾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hàn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低着头显得很谦卑恭顺的样子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诚惶诚恐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huáng  kǒng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惶恐不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无可置疑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zh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ì  yí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黯然失色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à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广袤无垠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mào   yín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广阔无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古代以东西长度为“广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南北掌舵为“袤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锃亮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zè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鬈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quán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髯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rá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55640" y="620640"/>
            <a:ext cx="5832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初读课文 整体感知</a:t>
            </a:r>
            <a:endParaRPr b="1" lang="en-US" sz="48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565360"/>
            <a:ext cx="8496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、托尔斯泰给你的总体印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、理清文章层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4680" y="1268280"/>
            <a:ext cx="16426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f217b"/>
                </a:solidFill>
                <a:latin typeface="宋体"/>
              </a:rPr>
              <a:t>外貌特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40320" y="4149720"/>
            <a:ext cx="16426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f217b"/>
                </a:solidFill>
                <a:latin typeface="宋体"/>
              </a:rPr>
              <a:t>眼光犀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1484280"/>
            <a:ext cx="533160" cy="3962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360" y="1219320"/>
            <a:ext cx="549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237600" y="981000"/>
            <a:ext cx="16426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8d10"/>
                </a:solidFill>
                <a:latin typeface="宋体"/>
              </a:rPr>
              <a:t>列夫</a:t>
            </a:r>
            <a:r>
              <a:rPr b="1" lang="en-US" sz="4800" spc="-1" strike="noStrike">
                <a:solidFill>
                  <a:srgbClr val="cc8d10"/>
                </a:solidFill>
                <a:latin typeface="宋体"/>
              </a:rPr>
              <a:t>·</a:t>
            </a:r>
            <a:r>
              <a:rPr b="1" lang="zh-CN" sz="4800" spc="-1" strike="noStrike">
                <a:solidFill>
                  <a:srgbClr val="cc8d10"/>
                </a:solidFill>
                <a:latin typeface="宋体"/>
              </a:rPr>
              <a:t>托尔斯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3120" y="968400"/>
            <a:ext cx="91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失调、平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丑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75720" y="3429000"/>
            <a:ext cx="16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如探照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匕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有魔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磁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344640" y="907920"/>
            <a:ext cx="182628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46c13"/>
                </a:solidFill>
                <a:latin typeface="Times New Roman"/>
                <a:ea typeface="方正姚体"/>
              </a:rPr>
              <a:t>深邃的精神世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295280" y="76212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你是从哪些地方读出“平庸、丑陋”这一印象的？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8" name=""/>
          <p:cNvSpPr/>
          <p:nvPr/>
        </p:nvSpPr>
        <p:spPr>
          <a:xfrm>
            <a:off x="826920" y="2205000"/>
            <a:ext cx="727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描写托尔斯泰的眉毛、须发、发肤、鼻子、眼睛的语句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并品评其表达效果。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修辞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含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作用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6000" cy="765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92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4932360" cy="692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211640" y="6165720"/>
            <a:ext cx="4932360" cy="692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76500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宽约一指的眉毛像纠缠不清的树根，朝上倒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55736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绺绺灰白的鬈发像泡沫一样堆在额头上，不管从哪个角度看，你都能见到热带森林般茂密的须发。他那天父般的犹如卷起的滔滔白浪的大胡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7680" y="1465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须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7680" y="62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眉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00320" y="3068640"/>
            <a:ext cx="51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像是用枝条扎成的村舍外墙那样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7680" y="3068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额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57336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藏污纳垢，缺少光泽，就像用枝条扎成的村舍外墙那样粗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1640" y="35002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皮 肤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443700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只宽宽的、两孔朝天的狮子鼻，仿佛被人一拳打塌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7680" y="4292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鼻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0064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像枪弹穿透了伪装的甲胄，它像金刚刀切开了玻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7680" y="5157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目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8000" y="33336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者在课文前半部分描写托尔斯泰平庸甚至丑陋的外貌，是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2720" y="2057400"/>
            <a:ext cx="853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写他平庸甚至丑陋的外貌是为了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反衬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他灵魂的高贵，反衬他的眼睛精美绝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运用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先抑后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手法：用伟人平庸丑陋的外表来反衬其眼睛的神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0" y="-452520"/>
            <a:ext cx="457200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26920" y="476280"/>
            <a:ext cx="4105440" cy="2016000"/>
          </a:xfrm>
          <a:prstGeom prst="cloudCallout">
            <a:avLst>
              <a:gd name="adj1" fmla="val -49032"/>
              <a:gd name="adj2" fmla="val 8204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3280" y="836640"/>
            <a:ext cx="146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比喻、夸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效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2781360"/>
            <a:ext cx="3024360" cy="1512720"/>
          </a:xfrm>
          <a:prstGeom prst="rightArrowCallout">
            <a:avLst>
              <a:gd name="adj1" fmla="val 25002"/>
              <a:gd name="adj2" fmla="val 25000"/>
              <a:gd name="adj3" fmla="val 33321"/>
              <a:gd name="adj4" fmla="val 6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66240" y="3141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修辞效果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2852640"/>
            <a:ext cx="47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形象鲜明，特征突出，喻意深刻，韵味无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87280" y="4508640"/>
            <a:ext cx="3311640" cy="151272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95360" y="4968720"/>
            <a:ext cx="153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夸张效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4076640"/>
            <a:ext cx="46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在描写人或事物时，故意言过其实，尽量作扩大或缩小的描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141300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托尔斯泰这对眼睛里有一百只眼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349360"/>
            <a:ext cx="867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黑体"/>
              </a:rPr>
              <a:t>夸张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突出了托尔斯泰那种能把万事万物尽收眼底的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黑体"/>
              </a:rPr>
              <a:t>全方位的观察力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195640" y="189000"/>
            <a:ext cx="26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语言赏析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heel spokes="8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573408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112536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这对珠宝有魔力，有磁性，可以把人世间的物质吸进去，然后向我们这个时代放射出精确无误的频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997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黑体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托尔斯泰用他的艺术巨笔把它们</a:t>
            </a:r>
            <a:r>
              <a:rPr b="1" lang="zh-CN" sz="4400" spc="-1" strike="noStrike">
                <a:solidFill>
                  <a:srgbClr val="660066"/>
                </a:solidFill>
                <a:latin typeface="Arial"/>
                <a:ea typeface="黑体"/>
              </a:rPr>
              <a:t>准确地展示时代的本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37000"/>
            <a:ext cx="9144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15000" cy="66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429000" y="0"/>
            <a:ext cx="5715000" cy="666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6191280"/>
            <a:ext cx="5715000" cy="666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429000" y="6191280"/>
            <a:ext cx="5715000" cy="666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4000" y="549360"/>
            <a:ext cx="64800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斯蒂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茨威格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1881—194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），奥地利著名小说家、传记作家，代表作有小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最初的经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个陌生女人的来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等；传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位大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罗曼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罗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等。之前，我们学过他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伟大的悲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476280"/>
            <a:ext cx="2800440" cy="3309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692280"/>
            <a:ext cx="9144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当这一副寒光四射的匕首转而对它们的主人时是十分可怕的，因为锋刃无情，直戳要害，正好刺中了他的心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52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0560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068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33"/>
                </a:solidFill>
                <a:latin typeface="Arial"/>
                <a:ea typeface="黑体"/>
              </a:rPr>
              <a:t>托尔斯泰对现实的批判极其深刻而准确的，具有准确的洞察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79280" y="1982880"/>
            <a:ext cx="860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托尔斯泰到晚年实现了他世界观的转变，坚决站到农民的立场上来，对富裕而有教养的阶级的生活及其基础──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土地私有制表示强烈的否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对国家和教会进行猛烈的抨击。然而，他</a:t>
            </a:r>
            <a:r>
              <a:rPr b="1" lang="zh-CN" sz="4000" spc="-1" strike="noStrike">
                <a:solidFill>
                  <a:srgbClr val="660066"/>
                </a:solidFill>
                <a:latin typeface="Arial"/>
              </a:rPr>
              <a:t>反对暴力革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宣扬基督教的博爱和自我修身，要从宗教、伦理中寻求解决社会矛盾的道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2487600" cy="4523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9280" y="26028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节课我学会了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627280" y="1341360"/>
            <a:ext cx="65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一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运用了大量的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比喻和夸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的修辞手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二、是作者写出自己心中伟人的平庸粗陋的一面。（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先抑后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的手法：用伟人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平庸丑陋的外表来反衬其眼睛的神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90600" y="-237960"/>
            <a:ext cx="9139320" cy="6960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08000" y="117360"/>
            <a:ext cx="34290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</a:rPr>
              <a:t>我的收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2421000"/>
            <a:ext cx="7848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肖像描写是刻划人物的重要方法。最主要的是要</a:t>
            </a:r>
            <a:r>
              <a:rPr b="1" lang="zh-CN" sz="5400" spc="-1" strike="noStrike">
                <a:solidFill>
                  <a:srgbClr val="800080"/>
                </a:solidFill>
                <a:latin typeface="Arial"/>
              </a:rPr>
              <a:t>形、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神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兼备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35280" y="134136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如何进行肖像描写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-318960" y="0"/>
            <a:ext cx="9745560" cy="68961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581280" y="15238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的脸上呈现出悲剧，一张含蓄了许多愁苦和力量的脸；火一样蓬勃的头发，盖在他的头上，好像有生以来从未梳过；深邃的眼睛略带灰色，有一种凝重不逼视的光；长而笨重的鼻子下一张紧闭的嘴，衬着略琏方形的下颏，整个描绘出坚忍无比的生的意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520" y="13176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拓展延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97000" y="-11160"/>
            <a:ext cx="9747360" cy="6891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114800" y="1219320"/>
            <a:ext cx="4402080" cy="47242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17928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两弯似蹙非蹙笼烟眉，一双似喜非喜含情目。态生两靥之愁，娇袭一身之病。泪光点点，娇喘微微。闲静时如姣花照水，行动处似弱柳扶风。心较比干多一窍，病如西子胜三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43600" y="1447920"/>
            <a:ext cx="3581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猜一猜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44720" y="476280"/>
            <a:ext cx="7013520" cy="5251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987640" y="59500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林黛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31640" y="2852640"/>
            <a:ext cx="87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模仿文中使用的修辞手法，描述一下你身边的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44280"/>
            <a:ext cx="59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妙笔生花，课堂练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列夫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托尔斯泰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1828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～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1910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850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世纪俄国最伟大的作家。出生于贵族家庭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47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退学回故乡在自己领地上作改革农奴制的尝试。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5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5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年在高加索军队中服役并开始写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58996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6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6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托尔斯泰创作了长篇历史小说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战争与和平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这是其创作历程中的第一个里程碑。小说结构宏大，人物众多，典型形象鲜活饱满，是一部具有史诗和编年史特色的鸿篇巨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7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7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他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次修改，完成其第二部里程碑式巨著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安娜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·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卡列尼娜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小说艺术已达炉火纯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8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9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创作的长篇小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复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他长期思想、艺术探索的总结，也是对俄国社会批判最全面深刻、有力的一部著作，成为世界文学不朽名著之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6450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9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月从家中出走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日病逝于一个小站，享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8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岁，一代文学巨匠走完其人生旅程。他逝世以后，遵照他的遗嘱，遗体安葬在一个小森林中，没有墓碑，没有十字架，茨威格称之为世间最美的坟墓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80880" y="366840"/>
            <a:ext cx="833148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95280" y="692280"/>
            <a:ext cx="8497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836640"/>
            <a:ext cx="8820000" cy="76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胡</a:t>
            </a:r>
            <a:r>
              <a:rPr b="1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髭</a:t>
            </a: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黝</a:t>
            </a: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黑  </a:t>
            </a:r>
            <a:r>
              <a:rPr b="1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鬈</a:t>
            </a: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发  粗制</a:t>
            </a:r>
            <a:r>
              <a:rPr b="1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滥</a:t>
            </a: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造  藏污纳</a:t>
            </a:r>
            <a:r>
              <a:rPr b="1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垢</a:t>
            </a: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华文中宋"/>
                <a:ea typeface="华文中宋"/>
              </a:rPr>
              <a:t>粗</a:t>
            </a:r>
            <a:r>
              <a:rPr b="1" lang="zh-CN" sz="3600" spc="-1" strike="noStrike">
                <a:solidFill>
                  <a:srgbClr val="cc0000"/>
                </a:solidFill>
                <a:latin typeface="华文中宋"/>
                <a:ea typeface="华文中宋"/>
              </a:rPr>
              <a:t>糙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尴尬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犀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利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锃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亮   甲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胄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  无可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置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疑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粲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然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滞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留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愚钝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器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宇   禁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锢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  郁郁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寡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欢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鹤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立鸡群    正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襟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危坐 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轩昂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颔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首低眉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诚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惶</a:t>
            </a: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黑体"/>
              </a:rPr>
              <a:t>诚恐  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侏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907920"/>
            <a:ext cx="72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836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z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836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yǒ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836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qu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692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l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8720" y="692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g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1844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1844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n g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1844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184464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zè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170028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zh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704000" y="170028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781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c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2781360"/>
            <a:ext cx="93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zh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27813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yú  dù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00720" y="2852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g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812000" y="278136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g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860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h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3860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8000" y="386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x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n 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3860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hà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4797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huá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771640" y="4869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h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-162000"/>
            <a:ext cx="3816360" cy="119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预习检查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43280" cy="765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1052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6093000"/>
            <a:ext cx="4643280" cy="765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500720" y="6093000"/>
            <a:ext cx="4643280" cy="765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0" y="333360"/>
            <a:ext cx="765000" cy="5975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8379000" y="981000"/>
            <a:ext cx="765000" cy="540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1413000"/>
            <a:ext cx="87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黝黑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yǒu  hēi)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：形容人的皮肤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滞留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zh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ì liú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停留不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愚钝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yú  dù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器宇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qì  yǔ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气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风度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禁锢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jìn  gù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束缚、限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轩昂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xuān  áng)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形容精神饱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气度不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犀利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xī  lì)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武器、言语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锋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锐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侏儒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zhū  rú)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身材异常矮小的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酒肆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jiǔ  sì)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：酒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9640" y="190440"/>
            <a:ext cx="316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词语解释</a:t>
            </a:r>
            <a:endParaRPr b="1" lang="en-US" sz="4400" spc="1" strike="noStrike">
              <a:ln w="1260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01:06:06Z</dcterms:created>
  <dc:creator> </dc:creator>
  <dc:description>  </dc:description>
  <cp:keywords/>
  <dc:language>en-US</dc:language>
  <cp:lastModifiedBy>微软用户</cp:lastModifiedBy>
  <dcterms:modified xsi:type="dcterms:W3CDTF">2014-03-14T03:35:58Z</dcterms:modified>
  <cp:revision>9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