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3DD-9075-4115-9BB2-B3E663AC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BD51-593B-4F9C-BC51-6CC044196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7C6A-4F73-4377-BA32-E838C796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7159-7411-4128-8BF0-031F5A2E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9A8E-AA74-42E8-B694-AE4C4C4FC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B98D-4ACC-4B73-8BBE-25347A69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B01B-03E1-454A-BF10-18217191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3DD-E664-4861-9F20-96D8A570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1367-A2ED-44B2-BDBC-0DD8A64F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32DB-74C8-4AA1-9EFF-4617E872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134-512E-4605-9ED3-CDED474B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9F06-9995-44C8-B602-B144DDBC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3CCE0-6660-4C4E-B1F8-1CBF89756D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20090819190043243"/>
          <p:cNvPicPr/>
          <p:nvPr/>
        </p:nvPicPr>
        <p:blipFill>
          <a:blip r:embed="rId1"/>
          <a:stretch/>
        </p:blipFill>
        <p:spPr>
          <a:xfrm>
            <a:off x="0" y="0"/>
            <a:ext cx="9144000" cy="749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归园田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其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种豆南山下，草盛豆苗稀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晨兴理荒秽，带月荷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锄归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道狭草木长，夕露沾我衣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衣沾不足惜，但使愿无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古筝名曲 平湖秋月.mp3" descr=""/>
          <p:cNvPicPr/>
          <p:nvPr/>
        </p:nvPicPr>
        <p:blipFill>
          <a:blip r:embed="rId2"/>
          <a:stretch/>
        </p:blipFill>
        <p:spPr>
          <a:xfrm>
            <a:off x="2484360" y="907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6659640" y="136224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陶渊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2816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陶渊明是整个中国文学传统上最和谐最完美的人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的生活方式和风格是简朴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令人敬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那些聪明与谙于世故的人自惭形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林语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96360" y="0"/>
            <a:ext cx="154764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古筝名曲 平湖秋月.mp3" descr=""/>
          <p:cNvPicPr/>
          <p:nvPr/>
        </p:nvPicPr>
        <p:blipFill>
          <a:blip r:embed="rId2"/>
          <a:stretch/>
        </p:blipFill>
        <p:spPr>
          <a:xfrm>
            <a:off x="6156360" y="4653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5281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、守己“愿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6443640" y="0"/>
            <a:ext cx="27003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250920" y="270828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结合自己心灵深处的”愿“，你想对陶渊明说些什么，想对自己说些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0090819190043243"/>
          <p:cNvPicPr/>
          <p:nvPr/>
        </p:nvPicPr>
        <p:blipFill>
          <a:blip r:embed="rId1"/>
          <a:stretch/>
        </p:blipFill>
        <p:spPr>
          <a:xfrm>
            <a:off x="0" y="-603360"/>
            <a:ext cx="9144000" cy="893304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971640" y="620640"/>
            <a:ext cx="73454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作业：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用诗歌或散文的形式写写   自己的“愿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诵这首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描画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400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某同学描述：日出而作的乡村生活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6019920" y="3500280"/>
            <a:ext cx="3124080" cy="3357720"/>
          </a:xfrm>
          <a:prstGeom prst="rect">
            <a:avLst/>
          </a:prstGeom>
          <a:ln w="0">
            <a:noFill/>
          </a:ln>
        </p:spPr>
      </p:pic>
      <p:pic>
        <p:nvPicPr>
          <p:cNvPr id="49" name="古筝名曲 平湖秋月.mp3" descr=""/>
          <p:cNvPicPr/>
          <p:nvPr/>
        </p:nvPicPr>
        <p:blipFill>
          <a:blip r:embed="rId2"/>
          <a:stretch/>
        </p:blipFill>
        <p:spPr>
          <a:xfrm>
            <a:off x="4932360" y="501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179280" y="3716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农民在田里辛勤工作的画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900000" y="148428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用自己的语言具体描述一下脑海中的画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79280" y="4653000"/>
            <a:ext cx="60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个农民早出晚归耕种豆苗的画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5281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162072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具体描述画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劳靖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陶渊明在乡间时，在南山种豆子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长得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盛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苗却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疏。早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来去田里清除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杂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日落之后扛着锄头回家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路长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草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生，叶上的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珠沾到了他的衣服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6019920" y="3789360"/>
            <a:ext cx="3124080" cy="33577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8"/>
          <p:cNvSpPr/>
          <p:nvPr/>
        </p:nvSpPr>
        <p:spPr>
          <a:xfrm>
            <a:off x="395280" y="49417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劳靖丹、杨城凯、戚远超、莫玉珊、王鑫雅、周俊辉、沈婷婷、冯清芸、王银嫣、顾周琳、计佳苗、马旷迪、李嘉政、周莎、俞世杰、郑韬、杨宇莹、马莉君、姚璐涛、沈盈璐、姚佳辉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学描述具体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643280" y="69228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抓住景物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500040" y="4351320"/>
            <a:ext cx="55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周莎提问：为什么要写这么多景物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读情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隶书"/>
              </a:rPr>
              <a:t>以景传情，情景交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900000" y="2637000"/>
            <a:ext cx="5040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种豆南山下，草盛豆苗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晨兴理荒秽，带月荷锄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道狭草木长，夕露沾我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衣沾不足惜，但使愿无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6093000" y="2205000"/>
            <a:ext cx="3051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冯清芸、庞奕扬、庞昊、庞荧洁、戚远超、王鑫雅、莫玉珊、、计佳苗、郑韬、杨宇莹、马莉君、姚佳辉、方杰、魏郑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同学读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诗人田园劳作的快乐，他对田园生活的热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468360" y="3357720"/>
            <a:ext cx="83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郑韬提问：如果诗人希望自由的生活，为什么他还要提生活的艰辛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马旷迪提问：陶渊明在诗中多次提到“野草“”荒草”有何用意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5724360" y="4797360"/>
            <a:ext cx="4140360" cy="23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699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马旷迪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王鑫雅、方杰、沈逸辉、马翰勤、王银嫣、顾周琳、计佳苗、李嘉政、周莎、郑韬、姚璐涛、沈盈璐、姚佳辉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提问</a:t>
            </a:r>
            <a:br>
              <a:rPr sz="2400"/>
            </a:br>
            <a:br>
              <a:rPr sz="2400"/>
            </a:b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“但使愿无违”中的“愿”具体指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003640" y="5300640"/>
            <a:ext cx="4140360" cy="2322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39640" y="3645000"/>
            <a:ext cx="8425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马旷迪、王银嫣、冯清芸、郑韬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位同学有精彩回答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179280" y="4292640"/>
            <a:ext cx="832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躬耕田园、坚持自我意愿、保持高尚节操、远离官场、安贫乐道、不与世俗同流合污、不在污浊的世界中失去自我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843280" y="33336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、悟“愿”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9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人希望老师补充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陶渊明归隐的原因及写诗的背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348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3851280" y="2289600"/>
            <a:ext cx="49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陶渊明少年时期有“猛志逸四海，骞翮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iān h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思远翥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h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”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杂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的大志，直到二十九岁的“高龄”才出仕为官，但终其一生，他所做的也不过是祭酒、参军、县丞一类芝麻小官，不仅“大济苍生”的宏志无法施展，而且他出身庶族，还受人轻视，他感到“不堪吏职，少日自解归”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晋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陶潜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。他辞职回家后，州里又来召他做主簿，他也辞谢了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3708360" y="5300640"/>
            <a:ext cx="54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先师有遗训，忧道不忧贫。瞻望邈难逮，转欲志长勤。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癸卯岁始春怀古田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560" y="4149720"/>
            <a:ext cx="633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官场十三年，是他为实现“大济苍生”的理想抱负而不断尝试、不断失望、终至绝望的十三年。最后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归去来兮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表明与上层统治阶级决裂，不与世俗同流合污的决心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11280" y="192528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他又为彭泽令，就在他上任八十余日之时，逢郡都邮来巡，属吏告之应束带进见，他长叹到：“我不能为五斗折腰向乡里小儿。”并即日解印挂职而归，从此，他结束了他仕途的努力，义无反顾地走了归田之路，也给后人留下了其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不为五斗米折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的佳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1895400" y="333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陶渊明不为五斗米折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900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超然  洒脱  自然的陶渊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少无适俗韵，性本爱丘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久在樊笼里，复得返自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归园田居五首（其一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611280" y="4723560"/>
            <a:ext cx="59767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90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采菊东篱下，悠然见南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中有真意，欲辩已忘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饮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2T05:25:42Z</dcterms:created>
  <dc:creator>Administrator</dc:creator>
  <dc:description/>
  <dc:language>en-US</dc:language>
  <cp:lastModifiedBy>User</cp:lastModifiedBy>
  <dcterms:modified xsi:type="dcterms:W3CDTF">2012-11-14T01:57:45Z</dcterms:modified>
  <cp:revision>4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