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19C4-C6E4-4E16-9DAA-69A1ECD9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A7C2-2412-436E-8D51-EF2A0908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D82D-0FCC-40B1-A2A4-63E420DB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DDBD-E304-4E1D-BF30-8F4C4E18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8AD5-EE62-4292-8967-3FE88843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283A-0724-419C-90C0-E520607A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4815-6356-47E8-AB3D-880244DE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4558-6563-448F-B052-0079AAA2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0933-5A35-4C32-8AC5-9C1A5B60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04D6-CE32-498B-A3D9-2461F1B0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1235-C1EC-4162-B877-8C358B96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6EB-5189-49DC-8974-E1C1F2A8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452A-E720-48DC-9E54-BB2B873177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195640" y="5759280"/>
            <a:ext cx="419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碧水之月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" descr="http://www.23book.com/upload/2016/03/31/531727d2-b336-47c1-986a-a39320e45760.jpg"/>
          <p:cNvPicPr/>
          <p:nvPr/>
        </p:nvPicPr>
        <p:blipFill>
          <a:blip r:embed="rId1"/>
          <a:stretch/>
        </p:blipFill>
        <p:spPr>
          <a:xfrm>
            <a:off x="380880" y="304920"/>
            <a:ext cx="6248520" cy="632448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5397480" y="304920"/>
            <a:ext cx="3289320" cy="6324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Times New Roman"/>
              </a:rPr>
              <a:t>记承天寺夜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苏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11280" y="1412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但愿人长久，千里共婵娟”（《水调歌头。明月几时有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900000" y="446940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可怜一溪风月，莫教踏碎琼瑶”（《 西江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顷在黄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55640" y="134100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庭下如积水空明，水中藻、荇交横，盖竹柏影也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内容占位符 2"/>
          <p:cNvSpPr/>
          <p:nvPr/>
        </p:nvSpPr>
        <p:spPr>
          <a:xfrm>
            <a:off x="684360" y="3429000"/>
            <a:ext cx="77724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江山风月，本无常主，闲者便是主人。”（《临皋闲题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863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何夜无月？何处无竹柏？但少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闲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吾两人者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394920" y="1412640"/>
            <a:ext cx="8497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理解这句话中“闲人”的含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24000" y="2421000"/>
            <a:ext cx="856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两层意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①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自嘲。作为贬谪之人，有职无权，清闲无事，不能为国效力，施展才华抱负，只能深夜闲游赏月。透露出不能为朝廷尽忠的抱怨和牢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②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自许。世上那些汲汲于功名利禄的人，那里有空领略这月下的美景呢。如果不是我们两个富有雅趣之人欣赏，岂不浪费了？体现了作者达观的生活态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26920" y="76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《定风波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月七日，沙湖道中遇雨。雨具先去，同行皆狼狈，余独不觉。已而遂晴，故作此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莫听穿林打叶声，何妨吟啸且徐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竹杖芒鞋轻胜马，谁怕？一蓑烟雨任平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料峭春风吹酒醒，微冷，山头斜照却相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回首向来萧瑟处，归去，也无风雨也无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39939" descr="dp"/>
          <p:cNvPicPr/>
          <p:nvPr/>
        </p:nvPicPr>
        <p:blipFill>
          <a:blip r:embed="rId1"/>
          <a:stretch/>
        </p:blipFill>
        <p:spPr>
          <a:xfrm>
            <a:off x="4800600" y="609480"/>
            <a:ext cx="411480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标题 39937"/>
          <p:cNvSpPr/>
          <p:nvPr/>
        </p:nvSpPr>
        <p:spPr>
          <a:xfrm>
            <a:off x="2484360" y="0"/>
            <a:ext cx="3429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文本占位符 39938"/>
          <p:cNvSpPr/>
          <p:nvPr/>
        </p:nvSpPr>
        <p:spPr>
          <a:xfrm>
            <a:off x="179280" y="620640"/>
            <a:ext cx="50292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苏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03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10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字子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号东坡居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川眉山人。北宋著名政治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思想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文学家。父亲苏洵和弟弟苏辙都是著名的政论家，他们父子三人合称为“三苏”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其诗，词，赋，散文，均成就极高，且善书法和绘画，是中国文学艺术史上罕见的全才，也是中国数千年历史上被公认文学艺术造诣最杰出的大家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内容占位符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宋体"/>
              </a:rPr>
              <a:t>本文写于宋神宗元丰六年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宋体"/>
              </a:rPr>
              <a:t>10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宋体"/>
              </a:rPr>
              <a:t>年），当时，作者被贬谪到黄州已经有四年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宋体"/>
              </a:rPr>
              <a:t>元丰二年七月，御史李定等摘出苏轼的有关新法的诗句，说他以诗讪谤，八月，将他逮捕入狱。经过长时间的审问折磨，差一点丢了脑袋。这就是历史上有名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宋体"/>
              </a:rPr>
              <a:t>乌台诗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宋体"/>
              </a:rPr>
              <a:t>。十二月作者获释出狱，被贬到黄州任团练副使，但不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宋体"/>
              </a:rPr>
              <a:t>签书公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宋体"/>
              </a:rPr>
              <a:t>，也就是说做着有职无权的闲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Times New Roman"/>
              </a:rPr>
              <a:t>写作背景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标题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读准下列生字注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_GB2312"/>
              </a:rPr>
              <a:t>藻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荇（   　　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_GB2312"/>
              </a:rPr>
              <a:t>遂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（ 　  ）至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未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_GB2312"/>
              </a:rPr>
              <a:t>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（ 　　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竹柏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 ）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2209680" y="23623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zǎoxì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2362320" y="40384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qǐ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2362320" y="487692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ǎ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1981080" y="32004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u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内容占位符 2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衣欲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月色入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欣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起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无与为乐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至承天寺寻张怀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怀民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未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相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步于中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水中藻、荇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交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竹柏影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少闲人如吾两人者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标题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解释下列红体字词的意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029200" y="13716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脱下，解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5029200" y="19051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门，这里指门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5029200" y="23623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高兴的样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4952880" y="28195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考虑，想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4952880" y="38098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4952880" y="33526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于是，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2"/>
          <p:cNvSpPr/>
          <p:nvPr/>
        </p:nvSpPr>
        <p:spPr>
          <a:xfrm>
            <a:off x="5029200" y="44197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共同，一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5105520" y="49528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横斜交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5105520" y="54100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大概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15"/>
          <p:cNvSpPr/>
          <p:nvPr/>
        </p:nvSpPr>
        <p:spPr>
          <a:xfrm>
            <a:off x="5029200" y="59436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只，只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标题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译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内容占位符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宋体"/>
              </a:rPr>
              <a:t>元丰六年十月十二日，晚上。解开衣服将要睡觉时，月光从门射进来，我愉快地起来行走。想到没有可与自己一起游乐的人，于是到承天寺，找张怀民。张怀民也没有睡觉，我们在庭院中散步。庭院中的月光宛如一泓积水那样清澈透明，水中藻、荇纵横交叉，大概是绿竹和翠柏的影子吧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宋体"/>
              </a:rPr>
              <a:t>    哪夜没有月光，哪里没有绿竹和翠柏，只是缺少像我们两个这样的闲人罢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内容占位符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记承天寺夜游》仅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字，记叙了在一个月光皎洁的夜晚，作者约好友张怀民在承天寺夜游的情景。文中创造了一个清幽宁静的艺术氛围，传达了作者复杂微妙的心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内容占位符 2"/>
          <p:cNvSpPr/>
          <p:nvPr/>
        </p:nvSpPr>
        <p:spPr>
          <a:xfrm>
            <a:off x="380880" y="1828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平生亲友无一字见及，有书与之亦不答”。（《答李端叔书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826920" y="39337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谪黄冈四五年，孤舟出没烟波里。故人不复通问讯，疾病饥寒宜死矣。”（《送沈逵赴广南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内容占位符 2"/>
          <p:cNvSpPr/>
          <p:nvPr/>
        </p:nvSpPr>
        <p:spPr>
          <a:xfrm>
            <a:off x="0" y="1523880"/>
            <a:ext cx="8763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请你采用抓关键句、关键词的方法，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从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句中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词，看出了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苏轼的知音”的句式说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228600" y="3505320"/>
            <a:ext cx="8381880" cy="1800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示例：我从“念无与为乐者，遂至承天寺寻张怀民”中的“遂”这个词，发现了张怀民是苏轼的知音。“念无与为乐者”，就是说他发现在自己住的这里没有能够和他共享这份欢乐的人，于是他决定去承天寺找张怀民，“遂”，说明他找张怀民的想法是毫不犹豫的，这说明两个人的关系非常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标题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在这个普普通通的夜晚，谁是苏轼的知音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10:09:45Z</dcterms:created>
  <dc:creator>shiyi</dc:creator>
  <dc:description/>
  <dc:language>en-US</dc:language>
  <cp:lastModifiedBy>freeuser</cp:lastModifiedBy>
  <dcterms:modified xsi:type="dcterms:W3CDTF">2011-03-15T22:03:45Z</dcterms:modified>
  <cp:revision>232</cp:revision>
  <dc:subject/>
  <dc:title>PowerPoint 演示文稿</dc:title>
</cp:coreProperties>
</file>