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whoosh.wav" ContentType="audio/x-wav"/>
  <Override PartName="/ppt/media/image5.png" ContentType="image/png"/>
  <Override PartName="/ppt/media/image15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19B9-2418-4B6B-A037-D06D33BA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8EE-BF8D-4000-AABF-F8C3D23C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EC4A-1685-4C65-8594-45ABFCF1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3FFA-07E4-4FC7-A56E-649A4A89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DDD4-A3CA-489B-B2D7-E448F522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41B4-7985-4344-A1F9-74BB2CDE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061D-B77D-4767-9417-3BF77747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8C51-399C-4F96-871C-83A0848D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67C8-F3D9-4605-A35D-9CE0B122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AAB0-8C83-4D8A-A56B-39DF689E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CF03-8931-43D7-BCD7-17E87291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EA89-CD3C-4035-96E8-35B1D476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027D-A247-4770-97DB-63EB450D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E9D4-6990-4C4F-A9A3-134C55F1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8615-B00B-434E-9B41-478FA864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DC0D-C8A2-40BF-9ABA-306DE44A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F73C-8F8B-4793-BD0C-44FC9BCC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338E9-B3A8-41A5-994E-D7F3F2A8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C2278-6895-4810-8BA2-68DF6F62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9F9E9-1DC9-4605-8150-52FE8677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8F7B5-3111-4BA8-B147-45B6ED77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F2AFE-3796-44E7-9AF7-4EBC7771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4AA9-FC72-481E-A57F-7FC37D50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85BC1-8492-47C3-9FA0-B9CDD17C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3208D-165C-4617-A9F3-92576204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5EF7B-5F3D-4FC0-BB46-77783EB2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1A626-2FEA-4DCA-8DCC-061DEF02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73143-B819-4216-839A-C8AD8E0B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80996-4683-4359-80FC-B124746A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59401-E003-4579-A239-6D662FBD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B7B6D-E2C9-4694-904F-4F5F82DD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DB620-600D-4DC8-852D-3DB2C5F6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95308-3594-4F5B-BEAC-97EDB75A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C96-4F2A-4F73-B134-BF0C4DC9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3EA6A-8BCE-4417-B357-02E8C8D3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8DAF3-5820-409C-AF3D-E60BE571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93CD8-8BEC-4875-B565-770B8286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C9A3F-2900-4CDA-9711-128AAC84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F86DA-236E-45EF-86A7-5114080B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8CC21-413D-4010-942F-E27A5A35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25CAF-9B1C-4B0E-A1A5-B88EAEC9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519EF-7F62-4E73-BDC1-10F577CF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5D6C7-EFDE-49E0-A45B-DC073C65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89468-4193-4138-A815-003F8D4B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58B2-42A6-4B05-9856-EF4B6EE4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F13F2-942C-4028-A5F8-051CD88E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8DCA0-2D4A-40B1-8DA7-F863A9EB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A99DB-AD75-456A-A7F2-03C3CD60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ED2D3-446C-4DD8-952B-A9E7C9E4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9FBA0-C313-4E44-9DFB-D1BD6C31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545F2-3E30-4316-B135-522B1E22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AB4B5-C50E-41DD-8453-4671E354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11F0D-4CAA-420D-9B25-A010ADEB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B0550-FDE4-417D-A0D0-0F4847D7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88C2B-4F1C-48E3-AE69-0D4E2751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CA55-ABB2-4156-806E-84CEDCE7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174B0-9710-4F6C-B995-7029105E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FB105-B727-4695-A8D2-C13AC6ED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45621-FD15-4DFE-A9A4-712FB6A7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61BF4-CB2A-4549-B6D8-26871D08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18A16-9A44-4EF4-8E6E-7B0E71D2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75C0B-F855-4DF2-826D-62774EA9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49701-25C8-4526-9139-D6190E7F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29735-781A-448E-A290-78162F7A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6E026-F36C-4487-8CC1-09EC15A1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865DE-72B4-4A9C-BF21-97BB3FAF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1083-50D0-4961-8112-16434327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1F3D3-00F1-4CB2-841A-F26966C9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54DDF-7FF0-47DF-A288-B9EF762D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0AF51-2E00-4036-8BD8-CC58EB7C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48FE-7150-4245-9392-E6B3FEC6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B612-FB07-44C4-ABA9-DEEACC12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1027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10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4F12-79B8-4ADD-AD42-9E854CAD11A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94FA-47E6-48C1-8999-B418A63ED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2F63-A810-45CE-8F6B-659D665A5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B1C5-C7B1-428C-947C-F14EBA762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2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11D5-D996-4575-96FA-6E918BE2090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1249-6D72-46E1-9EB4-D72ED053B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..\..\..\&#22810;&#23186;&#20307;&#25945;&#23398;&#26448;&#26009;\&#21516;&#27493;&#25945;&#23398;2\&#38475;&#23460;&#38125;\d408w005.htm" TargetMode="External"/><Relationship Id="rId3" Type="http://schemas.openxmlformats.org/officeDocument/2006/relationships/hyperlink" Target="..\..\..\&#22810;&#23186;&#20307;&#25945;&#23398;&#26448;&#26009;\&#21516;&#27493;&#25945;&#23398;2\&#38475;&#23460;&#38125;\d408t001.htm" TargetMode="External"/><Relationship Id="rId4" Type="http://schemas.openxmlformats.org/officeDocument/2006/relationships/hyperlink" Target="..\..\..\&#22810;&#23186;&#20307;&#25945;&#23398;&#26448;&#26009;\&#21516;&#27493;&#25945;&#23398;2\&#38475;&#23460;&#38125;\d408t003.htm" TargetMode="External"/><Relationship Id="rId5" Type="http://schemas.openxmlformats.org/officeDocument/2006/relationships/hyperlink" Target="..\..\..\&#22810;&#23186;&#20307;&#25945;&#23398;&#26448;&#26009;\&#21516;&#27493;&#25945;&#23398;2\&#38475;&#23460;&#38125;\d408w006.htm" TargetMode="External"/><Relationship Id="rId6" Type="http://schemas.openxmlformats.org/officeDocument/2006/relationships/hyperlink" Target="..\..\..\&#22810;&#23186;&#20307;&#25945;&#23398;&#26448;&#26009;\&#21516;&#27493;&#25945;&#23398;2\&#38475;&#23460;&#38125;\d408w008.htm" TargetMode="External"/><Relationship Id="rId7" Type="http://schemas.openxmlformats.org/officeDocument/2006/relationships/hyperlink" Target="..\..\..\&#22810;&#23186;&#20307;&#25945;&#23398;&#26448;&#26009;\&#21516;&#27493;&#25945;&#23398;2\&#38475;&#23460;&#38125;\d408w009.htm" TargetMode="External"/><Relationship Id="rId8" Type="http://schemas.openxmlformats.org/officeDocument/2006/relationships/hyperlink" Target="..\..\..\&#22810;&#23186;&#20307;&#25945;&#23398;&#26448;&#26009;\&#21516;&#27493;&#25945;&#23398;2\&#38475;&#23460;&#38125;\d408w010.htm" TargetMode="External"/><Relationship Id="rId9" Type="http://schemas.openxmlformats.org/officeDocument/2006/relationships/hyperlink" Target="..\..\..\&#22810;&#23186;&#20307;&#25945;&#23398;&#26448;&#26009;\&#21516;&#27493;&#25945;&#23398;2\&#38475;&#23460;&#38125;\d408w011.htm" TargetMode="External"/><Relationship Id="rId10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284,15,&#24187;&#28783;&#29255; 15" TargetMode="External"/><Relationship Id="rId2" Type="http://schemas.openxmlformats.org/officeDocument/2006/relationships/hyperlink" Target="274,14,&#24187;&#28783;&#29255; 14" TargetMode="External"/><Relationship Id="rId3" Type="http://schemas.openxmlformats.org/officeDocument/2006/relationships/hyperlink" Target="263,15,&#24187;&#28783;&#29255; 15" TargetMode="External"/><Relationship Id="rId4" Type="http://schemas.openxmlformats.org/officeDocument/2006/relationships/hyperlink" Target="277,15,&#24187;&#28783;&#29255; 15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&#38475;&#23460;&#38125;.swf" TargetMode="Externa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Image-19"/>
          <p:cNvPicPr/>
          <p:nvPr/>
        </p:nvPicPr>
        <p:blipFill>
          <a:blip r:embed="rId1"/>
          <a:stretch/>
        </p:blipFill>
        <p:spPr>
          <a:xfrm>
            <a:off x="152388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331440" y="152280"/>
            <a:ext cx="38631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隶书"/>
                <a:ea typeface="隶书"/>
              </a:rPr>
              <a:t>         </a:t>
            </a: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唐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·</a:t>
            </a: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刘禹锡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隶书"/>
                <a:ea typeface="隶书"/>
              </a:rPr>
              <a:t>陋室铭</a:t>
            </a:r>
            <a:endParaRPr b="0" lang="en-US" sz="8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1066680" y="1066680"/>
            <a:ext cx="655344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80421"/>
                </a:solidFill>
                <a:latin typeface="Times New Roman"/>
                <a:ea typeface="隶书"/>
              </a:rPr>
              <a:t>韵脚</a:t>
            </a:r>
            <a:r>
              <a:rPr b="0" lang="zh-CN" sz="6000" spc="-1" strike="noStrike">
                <a:solidFill>
                  <a:srgbClr val="5b5249"/>
                </a:solidFill>
                <a:latin typeface="Times New Roman"/>
                <a:ea typeface="隶书"/>
              </a:rPr>
              <a:t>：</a:t>
            </a:r>
            <a:r>
              <a:rPr b="0" lang="zh-CN" sz="6000" spc="-1" strike="noStrike">
                <a:solidFill>
                  <a:srgbClr val="0b0a09"/>
                </a:solidFill>
                <a:latin typeface="Times New Roman"/>
                <a:ea typeface="隶书"/>
              </a:rPr>
              <a:t>名、灵、      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b0a09"/>
                </a:solidFill>
                <a:latin typeface="Times New Roman"/>
                <a:ea typeface="隶书"/>
              </a:rPr>
              <a:t>馨、青、丁、经、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b0a09"/>
                </a:solidFill>
                <a:latin typeface="Times New Roman"/>
                <a:ea typeface="隶书"/>
              </a:rPr>
              <a:t>形、亭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5" name="AutoShape 3">
            <a:hlinkClick r:id="" action="ppaction://hlinkshowjump?jump=previousslide"/>
          </p:cNvPr>
          <p:cNvSpPr/>
          <p:nvPr/>
        </p:nvSpPr>
        <p:spPr>
          <a:xfrm>
            <a:off x="7543800" y="60958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975" h="21600">
                <a:moveTo>
                  <a:pt x="7960" y="3985"/>
                </a:moveTo>
                <a:lnTo>
                  <a:pt x="14958" y="3985"/>
                </a:lnTo>
                <a:lnTo>
                  <a:pt x="19014" y="7484"/>
                </a:lnTo>
                <a:lnTo>
                  <a:pt x="19014" y="17615"/>
                </a:lnTo>
                <a:lnTo>
                  <a:pt x="7960" y="17615"/>
                </a:lnTo>
                <a:close/>
              </a:path>
              <a:path fill="darken" w="26975" h="21600">
                <a:moveTo>
                  <a:pt x="14958" y="3985"/>
                </a:moveTo>
                <a:lnTo>
                  <a:pt x="19014" y="7484"/>
                </a:lnTo>
                <a:lnTo>
                  <a:pt x="14958" y="7484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0" y="1158840"/>
            <a:ext cx="64771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b5481"/>
                </a:solidFill>
                <a:latin typeface="Times New Roman"/>
                <a:ea typeface="宋体"/>
              </a:rPr>
              <a:t>陋室铭</a:t>
            </a:r>
            <a:r>
              <a:rPr b="0" lang="zh-CN" sz="3200" spc="-1" strike="noStrike" u="sng">
                <a:solidFill>
                  <a:srgbClr val="00ccff"/>
                </a:solidFill>
                <a:uFillTx/>
                <a:latin typeface="Times New Roman"/>
                <a:ea typeface="宋体"/>
                <a:hlinkClick r:id="rId2"/>
              </a:rPr>
              <a:t> </a:t>
            </a:r>
            <a:r>
              <a:rPr b="1" lang="zh-CN" sz="3200" spc="-1" strike="noStrike">
                <a:solidFill>
                  <a:srgbClr val="2b5481"/>
                </a:solidFill>
                <a:latin typeface="Times New Roman"/>
                <a:ea typeface="宋体"/>
              </a:rPr>
              <a:t>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5481"/>
                </a:solidFill>
                <a:latin typeface="Times New Roman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2b5481"/>
                </a:solidFill>
                <a:latin typeface="Times New Roman"/>
                <a:ea typeface="宋体"/>
              </a:rPr>
              <a:t>刘禹锡</a:t>
            </a:r>
            <a:r>
              <a:rPr b="0" lang="zh-CN" sz="3200" spc="-1" strike="noStrike" u="sng">
                <a:solidFill>
                  <a:srgbClr val="00ccff"/>
                </a:solidFill>
                <a:uFillTx/>
                <a:latin typeface="Times New Roman"/>
                <a:ea typeface="宋体"/>
                <a:hlinkClick r:id="rId3"/>
              </a:rPr>
              <a:t> </a:t>
            </a:r>
            <a:r>
              <a:rPr b="1" lang="zh-CN" sz="3200" spc="-1" strike="noStrike">
                <a:solidFill>
                  <a:srgbClr val="2b5481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5481"/>
                </a:solidFill>
                <a:latin typeface="Times New Roman"/>
                <a:ea typeface="宋体"/>
              </a:rPr>
              <a:t>山不在高，有仙则名。水不在深，有龙则灵。</a:t>
            </a:r>
            <a:r>
              <a:rPr b="0" lang="zh-CN" sz="3200" spc="-1" strike="noStrike" u="sng">
                <a:solidFill>
                  <a:srgbClr val="00ccff"/>
                </a:solidFill>
                <a:uFillTx/>
                <a:latin typeface="Times New Roman"/>
                <a:ea typeface="宋体"/>
                <a:hlinkClick r:id="rId4"/>
              </a:rPr>
              <a:t> </a:t>
            </a:r>
            <a:r>
              <a:rPr b="1" lang="zh-CN" sz="3200" spc="-1" strike="noStrike">
                <a:solidFill>
                  <a:srgbClr val="2b5481"/>
                </a:solidFill>
                <a:latin typeface="Times New Roman"/>
                <a:ea typeface="宋体"/>
              </a:rPr>
              <a:t>斯是陋室，惟吾德馨</a:t>
            </a:r>
            <a:r>
              <a:rPr b="1" lang="zh-CN" sz="2400" spc="-1" strike="noStrike">
                <a:solidFill>
                  <a:srgbClr val="2b5481"/>
                </a:solidFill>
                <a:latin typeface="Times New Roman"/>
                <a:ea typeface="宋体"/>
              </a:rPr>
              <a:t>。</a:t>
            </a:r>
            <a:r>
              <a:rPr b="0" lang="zh-CN" sz="3200" spc="-1" strike="noStrike" u="sng">
                <a:solidFill>
                  <a:srgbClr val="00ccff"/>
                </a:solidFill>
                <a:uFillTx/>
                <a:latin typeface="Times New Roman"/>
                <a:ea typeface="宋体"/>
                <a:hlinkClick r:id="rId5"/>
              </a:rPr>
              <a:t> </a:t>
            </a:r>
            <a:r>
              <a:rPr b="1" lang="zh-CN" sz="3200" spc="-1" strike="noStrike">
                <a:solidFill>
                  <a:srgbClr val="2b5481"/>
                </a:solidFill>
                <a:latin typeface="Times New Roman"/>
                <a:ea typeface="宋体"/>
              </a:rPr>
              <a:t>苔痕上阶绿，草色入帘青</a:t>
            </a:r>
            <a:r>
              <a:rPr b="1" lang="zh-CN" sz="2400" spc="-1" strike="noStrike">
                <a:solidFill>
                  <a:srgbClr val="2b5481"/>
                </a:solidFill>
                <a:latin typeface="Times New Roman"/>
                <a:ea typeface="宋体"/>
              </a:rPr>
              <a:t>。</a:t>
            </a:r>
            <a:r>
              <a:rPr b="1" lang="zh-CN" sz="3200" spc="-1" strike="noStrike">
                <a:solidFill>
                  <a:srgbClr val="2b5481"/>
                </a:solidFill>
                <a:latin typeface="Times New Roman"/>
                <a:ea typeface="宋体"/>
              </a:rPr>
              <a:t>谈笑有鸿儒，往来无白丁。</a:t>
            </a:r>
            <a:r>
              <a:rPr b="0" lang="zh-CN" sz="3200" spc="-1" strike="noStrike" u="sng">
                <a:solidFill>
                  <a:srgbClr val="00ccff"/>
                </a:solidFill>
                <a:uFillTx/>
                <a:latin typeface="Times New Roman"/>
                <a:ea typeface="宋体"/>
                <a:hlinkClick r:id="rId6"/>
              </a:rPr>
              <a:t> </a:t>
            </a:r>
            <a:r>
              <a:rPr b="1" lang="zh-CN" sz="3200" spc="-1" strike="noStrike">
                <a:solidFill>
                  <a:srgbClr val="2b5481"/>
                </a:solidFill>
                <a:latin typeface="Times New Roman"/>
                <a:ea typeface="宋体"/>
              </a:rPr>
              <a:t>可以调素琴，阅金经。无丝竹之乱耳，无案牍之劳形。</a:t>
            </a:r>
            <a:r>
              <a:rPr b="0" lang="zh-CN" sz="3200" spc="-1" strike="noStrike" u="sng">
                <a:solidFill>
                  <a:srgbClr val="00ccff"/>
                </a:solidFill>
                <a:uFillTx/>
                <a:latin typeface="Times New Roman"/>
                <a:ea typeface="宋体"/>
                <a:hlinkClick r:id="rId7"/>
              </a:rPr>
              <a:t> </a:t>
            </a:r>
            <a:r>
              <a:rPr b="1" lang="zh-CN" sz="3200" spc="-1" strike="noStrike">
                <a:solidFill>
                  <a:srgbClr val="2b5481"/>
                </a:solidFill>
                <a:latin typeface="Times New Roman"/>
                <a:ea typeface="宋体"/>
              </a:rPr>
              <a:t>南阳诸葛庐，西蜀子云亭。</a:t>
            </a:r>
            <a:r>
              <a:rPr b="0" lang="zh-CN" sz="3200" spc="-1" strike="noStrike" u="sng">
                <a:solidFill>
                  <a:srgbClr val="00ccff"/>
                </a:solidFill>
                <a:uFillTx/>
                <a:latin typeface="Times New Roman"/>
                <a:ea typeface="宋体"/>
                <a:hlinkClick r:id="rId8"/>
              </a:rPr>
              <a:t> </a:t>
            </a:r>
            <a:r>
              <a:rPr b="1" lang="zh-CN" sz="3200" spc="-1" strike="noStrike">
                <a:solidFill>
                  <a:srgbClr val="2b5481"/>
                </a:solidFill>
                <a:latin typeface="Times New Roman"/>
                <a:ea typeface="宋体"/>
              </a:rPr>
              <a:t>孔子云：何陋之有？</a:t>
            </a:r>
            <a:r>
              <a:rPr b="0" lang="zh-CN" sz="3200" spc="-1" strike="noStrike" u="sng">
                <a:solidFill>
                  <a:srgbClr val="00ccff"/>
                </a:solidFill>
                <a:uFillTx/>
                <a:latin typeface="Times New Roman"/>
                <a:ea typeface="宋体"/>
                <a:hlinkClick r:id="rId9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8532720" y="6093000"/>
            <a:ext cx="216000" cy="28872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8720"/>
              <a:gd name="textAreaBottom" fmla="*/ 275040 h 288720"/>
            </a:gdLst>
            <a:ahLst/>
            <a:rect l="textAreaLeft" t="textAreaTop" r="textAreaRight" b="textAreaBottom"/>
            <a:pathLst>
              <a:path w="21600" h="28860">
                <a:moveTo>
                  <a:pt x="0" y="0"/>
                </a:moveTo>
                <a:lnTo>
                  <a:pt x="21600" y="0"/>
                </a:lnTo>
                <a:lnTo>
                  <a:pt x="21600" y="28860"/>
                </a:lnTo>
                <a:lnTo>
                  <a:pt x="0" y="28860"/>
                </a:lnTo>
                <a:close/>
              </a:path>
              <a:path fill="lightenLess" w="21600" h="288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60">
                <a:moveTo>
                  <a:pt x="21600" y="0"/>
                </a:moveTo>
                <a:lnTo>
                  <a:pt x="21600" y="28860"/>
                </a:lnTo>
                <a:lnTo>
                  <a:pt x="20200" y="27460"/>
                </a:lnTo>
                <a:lnTo>
                  <a:pt x="20200" y="1400"/>
                </a:lnTo>
                <a:close/>
              </a:path>
              <a:path fill="darkenLess" w="21600" h="28860">
                <a:moveTo>
                  <a:pt x="21600" y="28860"/>
                </a:moveTo>
                <a:lnTo>
                  <a:pt x="0" y="28860"/>
                </a:lnTo>
                <a:lnTo>
                  <a:pt x="1400" y="27460"/>
                </a:lnTo>
                <a:lnTo>
                  <a:pt x="20200" y="27460"/>
                </a:lnTo>
                <a:close/>
              </a:path>
              <a:path fill="lighten" w="21600" h="28860">
                <a:moveTo>
                  <a:pt x="0" y="288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60"/>
                </a:lnTo>
                <a:close/>
              </a:path>
              <a:path fill="darken" w="21600" h="28860">
                <a:moveTo>
                  <a:pt x="3794" y="14430"/>
                </a:moveTo>
                <a:lnTo>
                  <a:pt x="17806" y="7423"/>
                </a:lnTo>
                <a:lnTo>
                  <a:pt x="17806" y="2143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4"/>
          <p:cNvSpPr/>
          <p:nvPr/>
        </p:nvSpPr>
        <p:spPr>
          <a:xfrm>
            <a:off x="1042920" y="1700280"/>
            <a:ext cx="756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0b0a09"/>
                </a:solidFill>
                <a:latin typeface="隶书"/>
                <a:ea typeface="隶书"/>
              </a:rPr>
              <a:t>山不一定要高，有仙人</a:t>
            </a:r>
            <a:r>
              <a:rPr b="0" lang="en-US" sz="3600" spc="-1" strike="noStrike">
                <a:solidFill>
                  <a:srgbClr val="0b0a09"/>
                </a:solidFill>
                <a:latin typeface="隶书"/>
                <a:ea typeface="隶书"/>
              </a:rPr>
              <a:t>(</a:t>
            </a:r>
            <a:r>
              <a:rPr b="0" lang="zh-CN" sz="3600" spc="-1" strike="noStrike">
                <a:solidFill>
                  <a:srgbClr val="0b0a09"/>
                </a:solidFill>
                <a:latin typeface="隶书"/>
                <a:ea typeface="隶书"/>
              </a:rPr>
              <a:t>居住</a:t>
            </a:r>
            <a:r>
              <a:rPr b="0" lang="en-US" sz="3600" spc="-1" strike="noStrike">
                <a:solidFill>
                  <a:srgbClr val="0b0a09"/>
                </a:solidFill>
                <a:latin typeface="隶书"/>
                <a:ea typeface="隶书"/>
              </a:rPr>
              <a:t>)</a:t>
            </a:r>
            <a:r>
              <a:rPr b="0" lang="zh-CN" sz="3600" spc="-1" strike="noStrike">
                <a:solidFill>
                  <a:srgbClr val="0b0a09"/>
                </a:solidFill>
                <a:latin typeface="隶书"/>
                <a:ea typeface="隶书"/>
              </a:rPr>
              <a:t>就有名；水不一定要深，有龙</a:t>
            </a:r>
            <a:r>
              <a:rPr b="0" lang="en-US" sz="3600" spc="-1" strike="noStrike">
                <a:solidFill>
                  <a:srgbClr val="0b0a09"/>
                </a:solidFill>
                <a:latin typeface="隶书"/>
                <a:ea typeface="隶书"/>
              </a:rPr>
              <a:t>(</a:t>
            </a:r>
            <a:r>
              <a:rPr b="0" lang="zh-CN" sz="3600" spc="-1" strike="noStrike">
                <a:solidFill>
                  <a:srgbClr val="0b0a09"/>
                </a:solidFill>
                <a:latin typeface="隶书"/>
                <a:ea typeface="隶书"/>
              </a:rPr>
              <a:t>居住</a:t>
            </a:r>
            <a:r>
              <a:rPr b="0" lang="en-US" sz="3600" spc="-1" strike="noStrike">
                <a:solidFill>
                  <a:srgbClr val="0b0a09"/>
                </a:solidFill>
                <a:latin typeface="隶书"/>
                <a:ea typeface="隶书"/>
              </a:rPr>
              <a:t>)</a:t>
            </a:r>
            <a:r>
              <a:rPr b="0" lang="zh-CN" sz="3600" spc="-1" strike="noStrike">
                <a:solidFill>
                  <a:srgbClr val="0b0a09"/>
                </a:solidFill>
                <a:latin typeface="隶书"/>
                <a:ea typeface="隶书"/>
              </a:rPr>
              <a:t>就有灵气了。这间简陋的房子，好就好在主人有美好的德行。苔藓给石阶铺上绿毯，芳草将帘内映得碧青。说说笑笑的是学问渊博者，来来往往的没有粗鄙的人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" name="WordArt 5"/>
          <p:cNvSpPr txBox="1"/>
          <p:nvPr/>
        </p:nvSpPr>
        <p:spPr>
          <a:xfrm>
            <a:off x="2843280" y="1052640"/>
            <a:ext cx="3047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参考译文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4"/>
          <p:cNvSpPr/>
          <p:nvPr/>
        </p:nvSpPr>
        <p:spPr>
          <a:xfrm>
            <a:off x="971640" y="1628640"/>
            <a:ext cx="77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b0a09"/>
                </a:solidFill>
                <a:latin typeface="隶书"/>
                <a:ea typeface="隶书"/>
              </a:rPr>
              <a:t>可以弹奏素朴的古琴，浏览珍贵的佛经。没有</a:t>
            </a:r>
            <a:r>
              <a:rPr b="0" lang="en-US" sz="3600" spc="-1" strike="noStrike">
                <a:solidFill>
                  <a:srgbClr val="0b0a09"/>
                </a:solidFill>
                <a:latin typeface="隶书"/>
                <a:ea typeface="隶书"/>
              </a:rPr>
              <a:t>(</a:t>
            </a:r>
            <a:r>
              <a:rPr b="0" lang="zh-CN" sz="3600" spc="-1" strike="noStrike">
                <a:solidFill>
                  <a:srgbClr val="0b0a09"/>
                </a:solidFill>
                <a:latin typeface="隶书"/>
                <a:ea typeface="隶书"/>
              </a:rPr>
              <a:t>嘈杂的</a:t>
            </a:r>
            <a:r>
              <a:rPr b="0" lang="en-US" sz="3600" spc="-1" strike="noStrike">
                <a:solidFill>
                  <a:srgbClr val="0b0a09"/>
                </a:solidFill>
                <a:latin typeface="隶书"/>
                <a:ea typeface="隶书"/>
              </a:rPr>
              <a:t>)</a:t>
            </a:r>
            <a:r>
              <a:rPr b="0" lang="zh-CN" sz="3600" spc="-1" strike="noStrike">
                <a:solidFill>
                  <a:srgbClr val="0b0a09"/>
                </a:solidFill>
                <a:latin typeface="隶书"/>
                <a:ea typeface="隶书"/>
              </a:rPr>
              <a:t>音乐扰乱耳朵，没有</a:t>
            </a:r>
            <a:r>
              <a:rPr b="0" lang="en-US" sz="3600" spc="-1" strike="noStrike">
                <a:solidFill>
                  <a:srgbClr val="0b0a09"/>
                </a:solidFill>
                <a:latin typeface="隶书"/>
                <a:ea typeface="隶书"/>
              </a:rPr>
              <a:t>(</a:t>
            </a:r>
            <a:r>
              <a:rPr b="0" lang="zh-CN" sz="3600" spc="-1" strike="noStrike">
                <a:solidFill>
                  <a:srgbClr val="0b0a09"/>
                </a:solidFill>
                <a:latin typeface="隶书"/>
                <a:ea typeface="隶书"/>
              </a:rPr>
              <a:t>成堆的</a:t>
            </a:r>
            <a:r>
              <a:rPr b="0" lang="en-US" sz="3600" spc="-1" strike="noStrike">
                <a:solidFill>
                  <a:srgbClr val="0b0a09"/>
                </a:solidFill>
                <a:latin typeface="隶书"/>
                <a:ea typeface="隶书"/>
              </a:rPr>
              <a:t>)</a:t>
            </a:r>
            <a:r>
              <a:rPr b="0" lang="zh-CN" sz="3600" spc="-1" strike="noStrike">
                <a:solidFill>
                  <a:srgbClr val="0b0a09"/>
                </a:solidFill>
                <a:latin typeface="隶书"/>
                <a:ea typeface="隶书"/>
              </a:rPr>
              <a:t>公文劳累身心。</a:t>
            </a:r>
            <a:r>
              <a:rPr b="0" lang="en-US" sz="3600" spc="-1" strike="noStrike">
                <a:solidFill>
                  <a:srgbClr val="0b0a09"/>
                </a:solidFill>
                <a:latin typeface="隶书"/>
                <a:ea typeface="隶书"/>
              </a:rPr>
              <a:t>(</a:t>
            </a:r>
            <a:r>
              <a:rPr b="0" lang="zh-CN" sz="3600" spc="-1" strike="noStrike">
                <a:solidFill>
                  <a:srgbClr val="0b0a09"/>
                </a:solidFill>
                <a:latin typeface="隶书"/>
                <a:ea typeface="隶书"/>
              </a:rPr>
              <a:t>它好比</a:t>
            </a:r>
            <a:r>
              <a:rPr b="0" lang="en-US" sz="3600" spc="-1" strike="noStrike">
                <a:solidFill>
                  <a:srgbClr val="0b0a09"/>
                </a:solidFill>
                <a:latin typeface="隶书"/>
                <a:ea typeface="隶书"/>
              </a:rPr>
              <a:t>)</a:t>
            </a:r>
            <a:r>
              <a:rPr b="0" lang="zh-CN" sz="3600" spc="-1" strike="noStrike">
                <a:solidFill>
                  <a:srgbClr val="0b0a09"/>
                </a:solidFill>
                <a:latin typeface="隶书"/>
                <a:ea typeface="隶书"/>
              </a:rPr>
              <a:t>南阳诸葛亮的草庐，西蜀扬子云的玄亭。孔子说：有什么简陋的呢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1066680" y="2558880"/>
            <a:ext cx="10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陋室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Line 3"/>
          <p:cNvSpPr/>
          <p:nvPr/>
        </p:nvSpPr>
        <p:spPr>
          <a:xfrm>
            <a:off x="2133720" y="2895480"/>
            <a:ext cx="685800" cy="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2819520" y="2514600"/>
            <a:ext cx="11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德馨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3886200" y="2133720"/>
            <a:ext cx="304920" cy="1447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170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4114800" y="1905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环境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4952880" y="1905120"/>
            <a:ext cx="26434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（</a:t>
            </a:r>
            <a:r>
              <a:rPr b="0" lang="zh-CN" sz="3600" spc="-1" strike="noStrike" u="sng">
                <a:solidFill>
                  <a:srgbClr val="b0ae6a"/>
                </a:solidFill>
                <a:uFillTx/>
                <a:latin typeface="Times New Roman"/>
                <a:ea typeface="楷体_GB2312"/>
                <a:hlinkClick r:id="rId1"/>
              </a:rPr>
              <a:t>幽雅</a:t>
            </a:r>
            <a:r>
              <a:rPr b="0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4038480" y="2514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交往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5320440" y="25146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（</a:t>
            </a:r>
            <a:r>
              <a:rPr b="0" lang="zh-CN" sz="3600" spc="-1" strike="noStrike" u="sng">
                <a:solidFill>
                  <a:srgbClr val="b0ae6a"/>
                </a:solidFill>
                <a:uFillTx/>
                <a:latin typeface="Times New Roman"/>
                <a:ea typeface="楷体_GB2312"/>
                <a:hlinkClick r:id="rId2"/>
              </a:rPr>
              <a:t>文雅</a:t>
            </a:r>
            <a:r>
              <a:rPr b="0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4114800" y="3092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生活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5320440" y="312408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（</a:t>
            </a:r>
            <a:r>
              <a:rPr b="0" lang="zh-CN" sz="3600" spc="-1" strike="noStrike" u="sng">
                <a:solidFill>
                  <a:srgbClr val="b0ae6a"/>
                </a:solidFill>
                <a:uFillTx/>
                <a:latin typeface="Times New Roman"/>
                <a:ea typeface="楷体_GB2312"/>
                <a:hlinkClick r:id="rId3"/>
              </a:rPr>
              <a:t>高雅</a:t>
            </a:r>
            <a:r>
              <a:rPr b="0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AutoShape 12"/>
          <p:cNvSpPr/>
          <p:nvPr/>
        </p:nvSpPr>
        <p:spPr>
          <a:xfrm>
            <a:off x="6781680" y="213372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170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6526800" y="2514600"/>
            <a:ext cx="1155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不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1066680" y="4540320"/>
            <a:ext cx="38102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b0ae6a"/>
                </a:solidFill>
                <a:uFillTx/>
                <a:latin typeface="Times New Roman"/>
                <a:ea typeface="楷体_GB2312"/>
                <a:hlinkClick r:id="rId4"/>
              </a:rPr>
              <a:t>诸葛庐、子云亭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" name="Line 15"/>
          <p:cNvSpPr/>
          <p:nvPr/>
        </p:nvSpPr>
        <p:spPr>
          <a:xfrm>
            <a:off x="1600200" y="3276720"/>
            <a:ext cx="0" cy="121896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186160" y="4581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何陋之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6" name="Text Box 17"/>
          <p:cNvSpPr/>
          <p:nvPr/>
        </p:nvSpPr>
        <p:spPr>
          <a:xfrm>
            <a:off x="862560" y="1187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山  水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2819520" y="1187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名  灵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" name="Line 19"/>
          <p:cNvSpPr/>
          <p:nvPr/>
        </p:nvSpPr>
        <p:spPr>
          <a:xfrm>
            <a:off x="1676520" y="1981080"/>
            <a:ext cx="0" cy="56844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" name="Line 20"/>
          <p:cNvSpPr/>
          <p:nvPr/>
        </p:nvSpPr>
        <p:spPr>
          <a:xfrm>
            <a:off x="3429000" y="1981080"/>
            <a:ext cx="0" cy="60984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0" name="Rectangle 21"/>
          <p:cNvSpPr/>
          <p:nvPr/>
        </p:nvSpPr>
        <p:spPr>
          <a:xfrm>
            <a:off x="1363320" y="1882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比兴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1" name="Rectangle 22"/>
          <p:cNvSpPr/>
          <p:nvPr/>
        </p:nvSpPr>
        <p:spPr>
          <a:xfrm>
            <a:off x="1224720" y="3595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类 比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" name="AutoShape 23"/>
          <p:cNvSpPr/>
          <p:nvPr/>
        </p:nvSpPr>
        <p:spPr>
          <a:xfrm>
            <a:off x="7543800" y="2743200"/>
            <a:ext cx="228600" cy="2057400"/>
          </a:xfrm>
          <a:custGeom>
            <a:avLst/>
            <a:gdLst>
              <a:gd name="textAreaLeft" fmla="*/ 0 w 228600"/>
              <a:gd name="textAreaRight" fmla="*/ 8244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170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7228080" y="1600200"/>
            <a:ext cx="127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高洁傲岸  安贫乐道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4" name="Text Box 25"/>
          <p:cNvSpPr/>
          <p:nvPr/>
        </p:nvSpPr>
        <p:spPr>
          <a:xfrm>
            <a:off x="3108240" y="5661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0421"/>
                </a:solidFill>
                <a:latin typeface="楷体_GB2312"/>
                <a:ea typeface="楷体_GB2312"/>
              </a:rPr>
              <a:t>托物言志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Line 26"/>
          <p:cNvSpPr/>
          <p:nvPr/>
        </p:nvSpPr>
        <p:spPr>
          <a:xfrm>
            <a:off x="2133720" y="1523880"/>
            <a:ext cx="685800" cy="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3960" y="2276640"/>
            <a:ext cx="789840" cy="22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陋室铭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" name="AutoShape 29"/>
          <p:cNvSpPr/>
          <p:nvPr/>
        </p:nvSpPr>
        <p:spPr>
          <a:xfrm flipH="1" rot="10800000">
            <a:off x="682920" y="1412640"/>
            <a:ext cx="215640" cy="3576600"/>
          </a:xfrm>
          <a:custGeom>
            <a:avLst/>
            <a:gdLst>
              <a:gd name="textAreaLeft" fmla="*/ 137880 w 215640"/>
              <a:gd name="textAreaRight" fmla="*/ 216000 w 215640"/>
              <a:gd name="textAreaTop" fmla="*/ 92880 h 3576600"/>
              <a:gd name="textAreaBottom" fmla="*/ 3483720 h 357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8906"/>
                </a:lnTo>
                <a:cubicBezTo>
                  <a:pt x="10800" y="9806"/>
                  <a:pt x="5400" y="10705"/>
                  <a:pt x="0" y="10705"/>
                </a:cubicBezTo>
                <a:cubicBezTo>
                  <a:pt x="5400" y="10705"/>
                  <a:pt x="10800" y="11605"/>
                  <a:pt x="10800" y="12504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170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8" name="AutoShape 32"/>
          <p:cNvSpPr/>
          <p:nvPr/>
        </p:nvSpPr>
        <p:spPr>
          <a:xfrm>
            <a:off x="8244000" y="638172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7301" y="10818"/>
                </a:moveTo>
                <a:lnTo>
                  <a:pt x="17806" y="3812"/>
                </a:lnTo>
                <a:lnTo>
                  <a:pt x="17806" y="17824"/>
                </a:lnTo>
                <a:close/>
              </a:path>
              <a:path fill="darken" w="21600" h="21636">
                <a:moveTo>
                  <a:pt x="3794" y="3812"/>
                </a:moveTo>
                <a:lnTo>
                  <a:pt x="5456" y="3812"/>
                </a:lnTo>
                <a:lnTo>
                  <a:pt x="5456" y="17824"/>
                </a:lnTo>
                <a:lnTo>
                  <a:pt x="3794" y="17824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3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Image-25"/>
          <p:cNvPicPr/>
          <p:nvPr/>
        </p:nvPicPr>
        <p:blipFill>
          <a:blip r:embed="rId1"/>
          <a:stretch/>
        </p:blipFill>
        <p:spPr>
          <a:xfrm>
            <a:off x="990720" y="0"/>
            <a:ext cx="70866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"/>
          <p:cNvSpPr/>
          <p:nvPr/>
        </p:nvSpPr>
        <p:spPr>
          <a:xfrm>
            <a:off x="8077320" y="838080"/>
            <a:ext cx="838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宋体"/>
              </a:rPr>
              <a:t>草色入帘青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152280" y="901800"/>
            <a:ext cx="914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宋体"/>
              </a:rPr>
              <a:t>苔痕上阶绿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0" y="2590920"/>
            <a:ext cx="9144000" cy="990360"/>
            <a:chOff x="0" y="2590920"/>
            <a:chExt cx="9144000" cy="990360"/>
          </a:xfrm>
        </p:grpSpPr>
        <p:sp>
          <p:nvSpPr>
            <p:cNvPr id="343" name="Oval 6"/>
            <p:cNvSpPr/>
            <p:nvPr/>
          </p:nvSpPr>
          <p:spPr>
            <a:xfrm>
              <a:off x="0" y="2666880"/>
              <a:ext cx="1219320" cy="91440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4" name="Oval 7"/>
            <p:cNvSpPr/>
            <p:nvPr/>
          </p:nvSpPr>
          <p:spPr>
            <a:xfrm>
              <a:off x="7924680" y="2590920"/>
              <a:ext cx="1219320" cy="91440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5" name="Line 8"/>
            <p:cNvSpPr/>
            <p:nvPr/>
          </p:nvSpPr>
          <p:spPr>
            <a:xfrm>
              <a:off x="1219320" y="3200400"/>
              <a:ext cx="213336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6" name="Line 9"/>
            <p:cNvSpPr/>
            <p:nvPr/>
          </p:nvSpPr>
          <p:spPr>
            <a:xfrm>
              <a:off x="5638680" y="3200400"/>
              <a:ext cx="236232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7" name="Text Box 10"/>
            <p:cNvSpPr/>
            <p:nvPr/>
          </p:nvSpPr>
          <p:spPr>
            <a:xfrm>
              <a:off x="3581280" y="2895480"/>
              <a:ext cx="1981440" cy="581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拟   人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48" name="Text Box 11"/>
          <p:cNvSpPr/>
          <p:nvPr/>
        </p:nvSpPr>
        <p:spPr>
          <a:xfrm>
            <a:off x="152280" y="259092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宋体"/>
              </a:rPr>
              <a:t>上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8077320" y="25909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宋体"/>
              </a:rPr>
              <a:t>入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50" name="Group 13"/>
          <p:cNvGrpSpPr/>
          <p:nvPr/>
        </p:nvGrpSpPr>
        <p:grpSpPr>
          <a:xfrm>
            <a:off x="304920" y="5029200"/>
            <a:ext cx="8458200" cy="685800"/>
            <a:chOff x="304920" y="5029200"/>
            <a:chExt cx="8458200" cy="685800"/>
          </a:xfrm>
        </p:grpSpPr>
        <p:sp>
          <p:nvSpPr>
            <p:cNvPr id="351" name="AutoShape 14"/>
            <p:cNvSpPr/>
            <p:nvPr/>
          </p:nvSpPr>
          <p:spPr>
            <a:xfrm rot="16200000">
              <a:off x="4305240" y="1409760"/>
              <a:ext cx="533520" cy="807696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210240 h 8076960"/>
                <a:gd name="textAreaBottom" fmla="*/ 7866720 h 807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52" name="AutoShape 15"/>
            <p:cNvSpPr/>
            <p:nvPr/>
          </p:nvSpPr>
          <p:spPr>
            <a:xfrm>
              <a:off x="304920" y="5105520"/>
              <a:ext cx="533160" cy="152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53" name="AutoShape 16"/>
            <p:cNvSpPr/>
            <p:nvPr/>
          </p:nvSpPr>
          <p:spPr>
            <a:xfrm>
              <a:off x="8229600" y="5029200"/>
              <a:ext cx="533520" cy="152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54" name="Text Box 17"/>
          <p:cNvSpPr/>
          <p:nvPr/>
        </p:nvSpPr>
        <p:spPr>
          <a:xfrm>
            <a:off x="2209680" y="563868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宋体"/>
              </a:rPr>
              <a:t>恬静幽雅赏心悦目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" name="AutoShape 18"/>
          <p:cNvSpPr/>
          <p:nvPr/>
        </p:nvSpPr>
        <p:spPr>
          <a:xfrm>
            <a:off x="8748720" y="6165720"/>
            <a:ext cx="395280" cy="35892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786" h="21600">
                <a:moveTo>
                  <a:pt x="0" y="0"/>
                </a:moveTo>
                <a:lnTo>
                  <a:pt x="23786" y="0"/>
                </a:lnTo>
                <a:lnTo>
                  <a:pt x="23786" y="21600"/>
                </a:lnTo>
                <a:lnTo>
                  <a:pt x="0" y="21600"/>
                </a:lnTo>
                <a:close/>
              </a:path>
              <a:path fill="lightenLess" w="23786" h="21600">
                <a:moveTo>
                  <a:pt x="0" y="0"/>
                </a:moveTo>
                <a:lnTo>
                  <a:pt x="23786" y="0"/>
                </a:lnTo>
                <a:lnTo>
                  <a:pt x="22386" y="1400"/>
                </a:lnTo>
                <a:lnTo>
                  <a:pt x="1400" y="1400"/>
                </a:lnTo>
                <a:close/>
              </a:path>
              <a:path fill="darken" w="23786" h="21600">
                <a:moveTo>
                  <a:pt x="23786" y="0"/>
                </a:moveTo>
                <a:lnTo>
                  <a:pt x="23786" y="21600"/>
                </a:lnTo>
                <a:lnTo>
                  <a:pt x="22386" y="20200"/>
                </a:lnTo>
                <a:lnTo>
                  <a:pt x="22386" y="1400"/>
                </a:lnTo>
                <a:close/>
              </a:path>
              <a:path fill="darkenLess" w="23786" h="21600">
                <a:moveTo>
                  <a:pt x="23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6" y="20200"/>
                </a:lnTo>
                <a:close/>
              </a:path>
              <a:path fill="lighten" w="23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6" h="21600">
                <a:moveTo>
                  <a:pt x="4887" y="3794"/>
                </a:moveTo>
                <a:lnTo>
                  <a:pt x="18899" y="10800"/>
                </a:lnTo>
                <a:lnTo>
                  <a:pt x="4887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4" descr="w066"/>
          <p:cNvPicPr/>
          <p:nvPr/>
        </p:nvPicPr>
        <p:blipFill>
          <a:blip r:embed="rId1"/>
          <a:stretch/>
        </p:blipFill>
        <p:spPr>
          <a:xfrm>
            <a:off x="9144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AutoShape 5"/>
          <p:cNvSpPr/>
          <p:nvPr/>
        </p:nvSpPr>
        <p:spPr>
          <a:xfrm>
            <a:off x="8028000" y="6308640"/>
            <a:ext cx="289080" cy="144720"/>
          </a:xfrm>
          <a:custGeom>
            <a:avLst/>
            <a:gdLst>
              <a:gd name="textAreaLeft" fmla="*/ 9360 w 289080"/>
              <a:gd name="textAreaRight" fmla="*/ 279720 w 28908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43093" h="21600">
                <a:moveTo>
                  <a:pt x="0" y="0"/>
                </a:moveTo>
                <a:lnTo>
                  <a:pt x="43093" y="0"/>
                </a:lnTo>
                <a:lnTo>
                  <a:pt x="43093" y="21600"/>
                </a:lnTo>
                <a:lnTo>
                  <a:pt x="0" y="21600"/>
                </a:lnTo>
                <a:close/>
              </a:path>
              <a:path fill="lightenLess" w="43093" h="21600">
                <a:moveTo>
                  <a:pt x="0" y="0"/>
                </a:moveTo>
                <a:lnTo>
                  <a:pt x="43093" y="0"/>
                </a:lnTo>
                <a:lnTo>
                  <a:pt x="41693" y="1400"/>
                </a:lnTo>
                <a:lnTo>
                  <a:pt x="1400" y="1400"/>
                </a:lnTo>
                <a:close/>
              </a:path>
              <a:path fill="darken" w="43093" h="21600">
                <a:moveTo>
                  <a:pt x="43093" y="0"/>
                </a:moveTo>
                <a:lnTo>
                  <a:pt x="43093" y="21600"/>
                </a:lnTo>
                <a:lnTo>
                  <a:pt x="41693" y="20200"/>
                </a:lnTo>
                <a:lnTo>
                  <a:pt x="41693" y="1400"/>
                </a:lnTo>
                <a:close/>
              </a:path>
              <a:path fill="darkenLess" w="43093" h="21600">
                <a:moveTo>
                  <a:pt x="4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3" y="20200"/>
                </a:lnTo>
                <a:close/>
              </a:path>
              <a:path fill="lighten" w="4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3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406440" y="11858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622440" y="1401840"/>
            <a:ext cx="54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-17640" y="127440"/>
            <a:ext cx="100332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b0a09"/>
                </a:solidFill>
                <a:latin typeface="Times New Roman"/>
                <a:ea typeface="华文新魏"/>
              </a:rPr>
              <a:t>谈笑有鸿儒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8210520" y="279720"/>
            <a:ext cx="100332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b0a09"/>
                </a:solidFill>
                <a:latin typeface="Times New Roman"/>
                <a:ea typeface="华文新魏"/>
              </a:rPr>
              <a:t>往来无白丁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3"/>
          <p:cNvSpPr/>
          <p:nvPr/>
        </p:nvSpPr>
        <p:spPr>
          <a:xfrm>
            <a:off x="838836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4278960" y="5257800"/>
            <a:ext cx="275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80421"/>
                </a:solidFill>
                <a:latin typeface="Times New Roman"/>
                <a:ea typeface="华文新魏"/>
              </a:rPr>
              <a:t>可以调素琴</a:t>
            </a:r>
            <a:r>
              <a:rPr b="0" lang="en-US" sz="4800" spc="-1" strike="noStrike">
                <a:solidFill>
                  <a:srgbClr val="f80421"/>
                </a:solidFill>
                <a:latin typeface="Times New Roman"/>
                <a:ea typeface="华文新魏"/>
              </a:rPr>
              <a:t>,</a:t>
            </a:r>
            <a:r>
              <a:rPr b="0" lang="zh-CN" sz="4800" spc="-1" strike="noStrike">
                <a:solidFill>
                  <a:srgbClr val="f80421"/>
                </a:solidFill>
                <a:latin typeface="Times New Roman"/>
                <a:ea typeface="华文新魏"/>
              </a:rPr>
              <a:t>阅金经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828800" y="615636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0421"/>
                </a:solidFill>
                <a:latin typeface="华文新魏"/>
                <a:ea typeface="华文新魏"/>
              </a:rPr>
              <a:t>无丝竹之乱耳，无案牍之劳形</a:t>
            </a:r>
            <a:r>
              <a:rPr b="0" lang="zh-CN" sz="4000" spc="-1" strike="noStrike">
                <a:solidFill>
                  <a:srgbClr val="f80421"/>
                </a:solidFill>
                <a:latin typeface="华文新魏"/>
                <a:ea typeface="华文新魏"/>
              </a:rPr>
              <a:t>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" descr="l1"/>
          <p:cNvPicPr/>
          <p:nvPr/>
        </p:nvPicPr>
        <p:blipFill>
          <a:blip r:embed="rId1"/>
          <a:stretch/>
        </p:blipFill>
        <p:spPr>
          <a:xfrm>
            <a:off x="0" y="0"/>
            <a:ext cx="4572000" cy="68612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l5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6"/>
          <p:cNvSpPr/>
          <p:nvPr/>
        </p:nvSpPr>
        <p:spPr>
          <a:xfrm>
            <a:off x="2234520" y="228600"/>
            <a:ext cx="468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南阳诸葛庐           西蜀子云亭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8" name="AutoShape 7"/>
          <p:cNvSpPr/>
          <p:nvPr/>
        </p:nvSpPr>
        <p:spPr>
          <a:xfrm rot="16194000">
            <a:off x="4109760" y="-357480"/>
            <a:ext cx="533160" cy="3352680"/>
          </a:xfrm>
          <a:custGeom>
            <a:avLst/>
            <a:gdLst>
              <a:gd name="textAreaLeft" fmla="*/ 340560 w 533160"/>
              <a:gd name="textAreaRight" fmla="*/ 533520 w 53316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48000" y="170028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远大抱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0" name="AutoShape 9"/>
          <p:cNvSpPr/>
          <p:nvPr/>
        </p:nvSpPr>
        <p:spPr>
          <a:xfrm>
            <a:off x="8172360" y="6165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4"/>
          <p:cNvSpPr/>
          <p:nvPr/>
        </p:nvSpPr>
        <p:spPr>
          <a:xfrm>
            <a:off x="826920" y="220500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707ed"/>
                </a:solidFill>
                <a:latin typeface="Times New Roman"/>
                <a:ea typeface="隶书"/>
              </a:rPr>
              <a:t>通过描写客观景物，寄托传达作者的某种感情、抱负和志趣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2" name="WordArt 5"/>
          <p:cNvSpPr txBox="1"/>
          <p:nvPr/>
        </p:nvSpPr>
        <p:spPr>
          <a:xfrm>
            <a:off x="2700360" y="620640"/>
            <a:ext cx="3048120" cy="17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托物言志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611280" y="476280"/>
            <a:ext cx="871848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f80421"/>
                </a:solidFill>
                <a:latin typeface="华文新魏"/>
                <a:ea typeface="华文新魏"/>
              </a:rPr>
              <a:t>在狱咏蝉</a:t>
            </a:r>
            <a:r>
              <a:rPr b="1" lang="zh-CN" sz="32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骆宾王</a:t>
            </a:r>
            <a:r>
              <a:rPr b="0" lang="zh-CN" sz="2400" spc="-1" strike="noStrike">
                <a:solidFill>
                  <a:srgbClr val="5b5249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西</a:t>
            </a:r>
            <a:r>
              <a:rPr b="1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陆蝉声唱，南冠客思侵。那堪玄鬓影，来对白头吟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露重飞难进，风多响易沉。无人信高洁，谁为表予心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。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                   </a:t>
            </a:r>
            <a:r>
              <a:rPr b="1" lang="zh-CN" sz="3200" spc="-1" strike="noStrike">
                <a:solidFill>
                  <a:srgbClr val="f80421"/>
                </a:solidFill>
                <a:latin typeface="华文新魏"/>
                <a:ea typeface="华文新魏"/>
              </a:rPr>
              <a:t>梅花</a:t>
            </a:r>
            <a:r>
              <a:rPr b="0" lang="zh-CN" sz="32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王安石</a:t>
            </a:r>
            <a:r>
              <a:rPr b="1" lang="zh-CN" sz="2400" spc="-1" strike="noStrike">
                <a:solidFill>
                  <a:srgbClr val="5b5249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墙角数枝梅</a:t>
            </a:r>
            <a:r>
              <a:rPr b="1" lang="en-US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凌寒独自开。 遥知不是雪</a:t>
            </a:r>
            <a:r>
              <a:rPr b="1" lang="en-US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为有暗香来。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f80421"/>
                </a:solidFill>
                <a:latin typeface="华文新魏"/>
                <a:ea typeface="华文新魏"/>
              </a:rPr>
              <a:t>竹石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郑板桥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咬定青山不放松</a:t>
            </a:r>
            <a:r>
              <a:rPr b="0" lang="en-US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立根原在破岩中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千磨万击还坚劲</a:t>
            </a:r>
            <a:r>
              <a:rPr b="0" lang="en-US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任尔东西南北风</a:t>
            </a:r>
            <a:r>
              <a:rPr b="0" lang="en-US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2800" spc="-1" strike="noStrike">
                <a:solidFill>
                  <a:srgbClr val="f80421"/>
                </a:solidFill>
                <a:latin typeface="华文新魏"/>
                <a:ea typeface="华文新魏"/>
              </a:rPr>
              <a:t>石灰吟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于谦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千锤万击出深山</a:t>
            </a:r>
            <a:r>
              <a:rPr b="0" lang="en-US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烈火焚烧若等闲</a:t>
            </a:r>
            <a:r>
              <a:rPr b="0" lang="en-US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粉身碎骨全不怕</a:t>
            </a:r>
            <a:r>
              <a:rPr b="0" lang="en-US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要留清白在人间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2800" spc="-1" strike="noStrike">
                <a:solidFill>
                  <a:srgbClr val="f80421"/>
                </a:solidFill>
                <a:latin typeface="华文新魏"/>
                <a:ea typeface="华文新魏"/>
              </a:rPr>
              <a:t>画菊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郑思肖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花开不并百花从，独立疏篱趣未穷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宁可枝头抱香死，何曾吹落北风中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1447920" y="7621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拓展升华      自由表达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838080" y="19810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   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隶书"/>
              </a:rPr>
              <a:t>本文作者通过赞美陋室表达了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一种</a:t>
            </a:r>
            <a:r>
              <a:rPr b="1" lang="zh-CN" sz="4000" spc="-1" strike="noStrike">
                <a:solidFill>
                  <a:srgbClr val="f80421"/>
                </a:solidFill>
                <a:latin typeface="Times New Roman"/>
                <a:ea typeface="黑体"/>
              </a:rPr>
              <a:t>高洁傲岸的节操和安贫乐道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的情趣。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隶书"/>
              </a:rPr>
              <a:t>是作者对自己的一种警戒。下面请同学们讲一讲自己喜欢的座右铭，它给你什么启示和警戒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762120" y="457200"/>
            <a:ext cx="402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1707ed"/>
                </a:solidFill>
                <a:latin typeface="Times New Roman"/>
                <a:ea typeface="方正舒体"/>
              </a:rPr>
              <a:t>考考你？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533520" y="15238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、解释下列句中划线的词语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457200" y="2209680"/>
            <a:ext cx="59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A </a:t>
            </a:r>
            <a:r>
              <a:rPr b="0" lang="zh-CN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斯是陋室，惟吾德馨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9" name="Line 13"/>
          <p:cNvSpPr/>
          <p:nvPr/>
        </p:nvSpPr>
        <p:spPr>
          <a:xfrm>
            <a:off x="1339920" y="2743200"/>
            <a:ext cx="228600" cy="0"/>
          </a:xfrm>
          <a:prstGeom prst="line">
            <a:avLst/>
          </a:prstGeom>
          <a:ln w="28440">
            <a:solidFill>
              <a:srgbClr val="f804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0" name="Line 16"/>
          <p:cNvSpPr/>
          <p:nvPr/>
        </p:nvSpPr>
        <p:spPr>
          <a:xfrm>
            <a:off x="3505320" y="2743200"/>
            <a:ext cx="609480" cy="0"/>
          </a:xfrm>
          <a:prstGeom prst="line">
            <a:avLst/>
          </a:prstGeom>
          <a:ln w="28440">
            <a:solidFill>
              <a:srgbClr val="f804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1" name="Text Box 17"/>
          <p:cNvSpPr/>
          <p:nvPr/>
        </p:nvSpPr>
        <p:spPr>
          <a:xfrm>
            <a:off x="4191120" y="22096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B </a:t>
            </a:r>
            <a:r>
              <a:rPr b="0" lang="zh-CN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谈笑有鸿儒，往来无白丁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2" name="Line 21"/>
          <p:cNvSpPr/>
          <p:nvPr/>
        </p:nvSpPr>
        <p:spPr>
          <a:xfrm>
            <a:off x="5796000" y="2708280"/>
            <a:ext cx="609480" cy="0"/>
          </a:xfrm>
          <a:prstGeom prst="line">
            <a:avLst/>
          </a:prstGeom>
          <a:ln w="28440">
            <a:solidFill>
              <a:srgbClr val="f804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3" name="Line 22"/>
          <p:cNvSpPr/>
          <p:nvPr/>
        </p:nvSpPr>
        <p:spPr>
          <a:xfrm>
            <a:off x="7848720" y="2666880"/>
            <a:ext cx="609480" cy="0"/>
          </a:xfrm>
          <a:prstGeom prst="line">
            <a:avLst/>
          </a:prstGeom>
          <a:ln w="28440">
            <a:solidFill>
              <a:srgbClr val="f804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4" name="Text Box 23"/>
          <p:cNvSpPr/>
          <p:nvPr/>
        </p:nvSpPr>
        <p:spPr>
          <a:xfrm>
            <a:off x="457200" y="29098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、把下列文言句子译成现代文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5" name="Text Box 24"/>
          <p:cNvSpPr/>
          <p:nvPr/>
        </p:nvSpPr>
        <p:spPr>
          <a:xfrm>
            <a:off x="533520" y="5029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C</a:t>
            </a:r>
            <a:r>
              <a:rPr b="0" lang="zh-CN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无丝竹之乱耳，无案牍之劳形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6" name="Text Box 25"/>
          <p:cNvSpPr/>
          <p:nvPr/>
        </p:nvSpPr>
        <p:spPr>
          <a:xfrm>
            <a:off x="609480" y="58672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D</a:t>
            </a:r>
            <a:r>
              <a:rPr b="0" lang="zh-CN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孔子云：何陋之有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7" name="Text Box 26"/>
          <p:cNvSpPr/>
          <p:nvPr/>
        </p:nvSpPr>
        <p:spPr>
          <a:xfrm>
            <a:off x="2628720" y="43434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B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苔痕上阶绿，草色人帘青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8" name="Text Box 27"/>
          <p:cNvSpPr/>
          <p:nvPr/>
        </p:nvSpPr>
        <p:spPr>
          <a:xfrm>
            <a:off x="1164600" y="3584520"/>
            <a:ext cx="303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A</a:t>
            </a:r>
            <a:r>
              <a:rPr b="0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斯是陋室，惟吾德馨</a:t>
            </a:r>
            <a:r>
              <a:rPr b="0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。 </a:t>
            </a:r>
            <a:br>
              <a:rPr sz="2800"/>
            </a:b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3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3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500"/>
                            </p:stCondLst>
                            <p:childTnLst>
                              <p:par>
                                <p:cTn id="47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671760" y="1565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    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533520" y="1033560"/>
            <a:ext cx="15849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  </a:t>
            </a: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理解性默写</a:t>
            </a:r>
            <a:br>
              <a:rPr sz="2800"/>
            </a:b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描写陋室环境的句子是</a:t>
            </a: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文章点明全文主旨的句子是：</a:t>
            </a:r>
            <a:br>
              <a:rPr sz="2800"/>
            </a:b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表现陋室主人交往之雅的句子是：</a:t>
            </a:r>
            <a:br>
              <a:rPr sz="2800"/>
            </a:b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用类比赞美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陋室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的句子是：</a:t>
            </a:r>
            <a:br>
              <a:rPr sz="2800"/>
            </a:b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E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作者在文中结尾把自己与古代贤士相比，表现出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了他的高尚情趣的一句话是：</a:t>
            </a:r>
            <a:br>
              <a:rPr sz="2800"/>
            </a:b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2612880" y="1928880"/>
            <a:ext cx="252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苔痕上阶绿，草色入帘青</a:t>
            </a:r>
            <a:br>
              <a:rPr sz="2800"/>
            </a:b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3445200" y="2666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斯是陋室，惟吾德馨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3572280" y="3657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谈笑有鸿儒，往来无白丁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3420000" y="44434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南阳诸葛庐，西蜀子云亭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3572280" y="5715000"/>
            <a:ext cx="35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南阳诸葛庐，西蜀子云亭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1985760" y="1143000"/>
            <a:ext cx="581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课文内容理解</a:t>
            </a:r>
            <a:br>
              <a:rPr sz="2800"/>
            </a:b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下列对文章内容的赏析有错误的一项是（ ）</a:t>
            </a:r>
            <a:br>
              <a:rPr sz="2800"/>
            </a:b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山不在高，有仙则名。水不在深，有龙则灵。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表现了作者希望为国效力、建功立业的远大志向。</a:t>
            </a:r>
            <a:br>
              <a:rPr sz="2800"/>
            </a:b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苔痕上阶绿，草色入帘青。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写出了环境的清幽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雅致。</a:t>
            </a:r>
            <a:br>
              <a:rPr sz="2800"/>
            </a:b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谈笑有鸿儒，往来无白丁。可以调素琴，阅金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经。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写出了作者生活情趣的高雅。</a:t>
            </a:r>
            <a:br>
              <a:rPr sz="2800"/>
            </a:b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文章举诸葛庐、子云亭的例子，是为了说明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陋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室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不陋的道理。</a:t>
            </a:r>
            <a:br>
              <a:rPr sz="2800"/>
            </a:b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）、文章表达了作者怎样的思想感情？</a:t>
            </a:r>
            <a:br>
              <a:rPr sz="2800"/>
            </a:b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  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7870680" y="1557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0421"/>
                </a:solidFill>
                <a:latin typeface="楷体_GB2312"/>
                <a:ea typeface="楷体_GB2312"/>
              </a:rPr>
              <a:t>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974880" y="5835600"/>
            <a:ext cx="81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0421"/>
                </a:solidFill>
                <a:latin typeface="楷体_GB2312"/>
                <a:ea typeface="楷体_GB2312"/>
              </a:rPr>
              <a:t>*</a:t>
            </a:r>
            <a:r>
              <a:rPr b="1" lang="zh-CN" sz="2800" spc="-1" strike="noStrike">
                <a:solidFill>
                  <a:srgbClr val="f80421"/>
                </a:solidFill>
                <a:latin typeface="楷体_GB2312"/>
                <a:ea typeface="楷体_GB2312"/>
              </a:rPr>
              <a:t>表达了作者高洁傲岸的节操和安贫乐道的情趣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0" y="969840"/>
            <a:ext cx="853272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  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  </a:t>
            </a: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开放性试题</a:t>
            </a:r>
            <a:br>
              <a:rPr sz="3200"/>
            </a:b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  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铭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是古代刻在器物上用来警戒自己或称功颂德的文字，后成为一种文体。人们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经常用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座右铭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来激励鞭策自己。请你从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平时积累的古诗文中写出一则有关学习方面的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座右铭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 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1932120" y="4653000"/>
            <a:ext cx="4911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421"/>
                </a:solidFill>
                <a:latin typeface="楷体_GB2312"/>
                <a:ea typeface="楷体_GB2312"/>
              </a:rPr>
              <a:t>*</a:t>
            </a:r>
            <a:r>
              <a:rPr b="1" lang="zh-CN" sz="3200" spc="-1" strike="noStrike">
                <a:solidFill>
                  <a:srgbClr val="f80421"/>
                </a:solidFill>
                <a:latin typeface="楷体_GB2312"/>
                <a:ea typeface="楷体_GB2312"/>
              </a:rPr>
              <a:t>示例：学而不思则罔，思而不学则殆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421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80421"/>
                </a:solidFill>
                <a:latin typeface="楷体_GB2312"/>
                <a:ea typeface="楷体_GB2312"/>
              </a:rPr>
              <a:t>少壮不努力，老大徒伤悲</a:t>
            </a:r>
            <a:br>
              <a:rPr sz="3200"/>
            </a:br>
            <a:r>
              <a:rPr b="1" lang="zh-CN" sz="32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 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1447920" y="1447920"/>
            <a:ext cx="670536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07ed"/>
                </a:solidFill>
                <a:latin typeface="Times New Roman"/>
                <a:ea typeface="隶书"/>
              </a:rPr>
              <a:t>       </a:t>
            </a:r>
            <a:r>
              <a:rPr b="0" lang="zh-CN" sz="5400" spc="-1" strike="noStrike">
                <a:solidFill>
                  <a:srgbClr val="1707ed"/>
                </a:solidFill>
                <a:latin typeface="Times New Roman"/>
                <a:ea typeface="隶书"/>
              </a:rPr>
              <a:t>迁移拓展</a:t>
            </a:r>
            <a:r>
              <a:rPr b="0" lang="zh-CN" sz="4400" spc="-1" strike="noStrike">
                <a:solidFill>
                  <a:srgbClr val="1707ed"/>
                </a:solidFill>
                <a:latin typeface="Times New Roman"/>
                <a:ea typeface="隶书"/>
              </a:rPr>
              <a:t>：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707ed"/>
                </a:solidFill>
                <a:latin typeface="Times New Roman"/>
                <a:ea typeface="隶书"/>
              </a:rPr>
              <a:t>       </a:t>
            </a:r>
            <a:r>
              <a:rPr b="0" lang="zh-CN" sz="4400" spc="-1" strike="noStrike">
                <a:solidFill>
                  <a:srgbClr val="1707ed"/>
                </a:solidFill>
                <a:latin typeface="Times New Roman"/>
                <a:ea typeface="隶书"/>
              </a:rPr>
              <a:t>用现代汉语写两句话，描写一种花或者你的居室，要求字数一样多，并且意思相对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380880" y="76212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小结：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1295280" y="198108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07ed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本文是作者用来自述其志的，这个“</a:t>
            </a:r>
            <a:r>
              <a:rPr b="1" lang="zh-CN" sz="32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志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”就是作者</a:t>
            </a:r>
            <a:r>
              <a:rPr b="1" lang="zh-CN" sz="32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高洁傲岸的节操和安贫乐道的情趣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。但作者在文章里却没有直说，而是借“</a:t>
            </a:r>
            <a:r>
              <a:rPr b="1" lang="zh-CN" sz="32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陋室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”这个“</a:t>
            </a:r>
            <a:r>
              <a:rPr b="1" lang="zh-CN" sz="32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物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”表达出来的，即通过对陋室的环境及室主人的日常生活的描写，间接地表达出作者的思想感情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>
            <a:off x="2209680" y="1979640"/>
            <a:ext cx="525780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707ed"/>
                </a:solidFill>
                <a:latin typeface="Times New Roman"/>
                <a:ea typeface="隶书"/>
              </a:rPr>
              <a:t>作业：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07ed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、熟练背诵并默写全文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07ed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、预习</a:t>
            </a:r>
            <a:r>
              <a:rPr b="1" lang="en-US" sz="3200" spc="-1" strike="noStrike">
                <a:solidFill>
                  <a:srgbClr val="1707ed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爱莲说</a:t>
            </a:r>
            <a:r>
              <a:rPr b="1" lang="en-US" sz="3200" spc="-1" strike="noStrike">
                <a:solidFill>
                  <a:srgbClr val="1707ed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0" y="53352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    </a:t>
            </a:r>
            <a:r>
              <a:rPr b="1" lang="en-US" sz="60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  </a:t>
            </a:r>
            <a:r>
              <a:rPr b="1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铭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：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古代刻在器物上用来警戒自己或者称述功德的文字，叫做“铭”，后来就成为一种文体。这种文体一般都是用韵的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457200" y="3886200"/>
            <a:ext cx="289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座右铭</a:t>
            </a:r>
            <a:r>
              <a:rPr b="0" lang="en-US" sz="4800" spc="-1" strike="noStrike">
                <a:solidFill>
                  <a:srgbClr val="5b5249"/>
                </a:solidFill>
                <a:latin typeface="Times New Roman"/>
                <a:ea typeface="隶书"/>
              </a:rPr>
              <a:t>: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3276720" y="39625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b5249"/>
                </a:solidFill>
                <a:latin typeface="Times New Roman"/>
                <a:ea typeface="隶书"/>
              </a:rPr>
              <a:t>写出来放在座位右边的格言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587160" y="549360"/>
            <a:ext cx="7001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Times New Roman"/>
                <a:ea typeface="隶书"/>
              </a:rPr>
              <a:t>作者简介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隶书"/>
              </a:rPr>
              <a:t>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刘禹锡（</a:t>
            </a:r>
            <a:r>
              <a:rPr b="1" lang="en-US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772—842</a:t>
            </a: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），字梦得，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唐代洛阳（现在属河南省）人，著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名诗人。唐顺宗时，曾参加王叔文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集团的政治革新运动，不久失败，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被贬为朗州司马。后又连任连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州、夔州、和州等地刺史。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年回洛阳任  太子宾客</a:t>
            </a:r>
            <a:r>
              <a:rPr b="1" lang="en-US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,</a:t>
            </a: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世称刘     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宾客。作品有</a:t>
            </a:r>
            <a:r>
              <a:rPr b="1" lang="en-US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《</a:t>
            </a: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刘宾客集</a:t>
            </a:r>
            <a:r>
              <a:rPr b="1" lang="en-US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》</a:t>
            </a: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63" name="Picture 5" descr="刘禹锡"/>
          <p:cNvPicPr/>
          <p:nvPr/>
        </p:nvPicPr>
        <p:blipFill>
          <a:blip r:embed="rId1"/>
          <a:stretch/>
        </p:blipFill>
        <p:spPr>
          <a:xfrm>
            <a:off x="6423120" y="3908520"/>
            <a:ext cx="272088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755640" y="1916280"/>
            <a:ext cx="78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07ed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刘禹锡</a:t>
            </a:r>
            <a:r>
              <a:rPr b="1" lang="zh-CN" sz="3200" spc="-1" strike="noStrike">
                <a:solidFill>
                  <a:srgbClr val="1707ed"/>
                </a:solidFill>
                <a:latin typeface="楷体_GB2312"/>
                <a:ea typeface="楷体_GB2312"/>
              </a:rPr>
              <a:t>因参加王叔文的政治革新运动得罪了当朝的权贵，被贬成安徽省和州通判。按当时规定，他应住衙门里的三间屋子。可是和州知县见他被贬而来，便多方刁难。半年时间连搬三次家，住房一次比一次小，最后成了一间陋室。在此情景下，刘禹锡愤然提笔写了</a:t>
            </a:r>
            <a:r>
              <a:rPr b="1" lang="en-US" sz="3200" spc="-1" strike="noStrike">
                <a:solidFill>
                  <a:srgbClr val="1707ed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1707ed"/>
                </a:solidFill>
                <a:latin typeface="楷体_GB2312"/>
                <a:ea typeface="楷体_GB2312"/>
              </a:rPr>
              <a:t>陋室铭</a:t>
            </a:r>
            <a:r>
              <a:rPr b="1" lang="en-US" sz="3200" spc="-1" strike="noStrike">
                <a:solidFill>
                  <a:srgbClr val="1707ed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1707ed"/>
                </a:solidFill>
                <a:latin typeface="楷体_GB2312"/>
                <a:ea typeface="楷体_GB2312"/>
              </a:rPr>
              <a:t>一文，收录在</a:t>
            </a:r>
            <a:r>
              <a:rPr b="1" lang="en-US" sz="3200" spc="-1" strike="noStrike">
                <a:solidFill>
                  <a:srgbClr val="1707ed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1707ed"/>
                </a:solidFill>
                <a:latin typeface="楷体_GB2312"/>
                <a:ea typeface="楷体_GB2312"/>
              </a:rPr>
              <a:t>全唐文</a:t>
            </a:r>
            <a:r>
              <a:rPr b="1" lang="en-US" sz="3200" spc="-1" strike="noStrike">
                <a:solidFill>
                  <a:srgbClr val="1707ed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1707ed"/>
                </a:solidFill>
                <a:latin typeface="楷体_GB2312"/>
                <a:ea typeface="楷体_GB2312"/>
              </a:rPr>
              <a:t>中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WordArt 6"/>
          <p:cNvSpPr txBox="1"/>
          <p:nvPr/>
        </p:nvSpPr>
        <p:spPr>
          <a:xfrm>
            <a:off x="3132000" y="981000"/>
            <a:ext cx="274320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写作背景</a:t>
            </a:r>
            <a:endParaRPr b="0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2818800" y="549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1707ed"/>
                </a:solidFill>
                <a:latin typeface="Times New Roman"/>
                <a:ea typeface="方正舒体"/>
              </a:rPr>
              <a:t>学习目标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468360" y="1700280"/>
            <a:ext cx="849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707ed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1707ed"/>
                </a:solidFill>
                <a:latin typeface="楷体_GB2312"/>
                <a:ea typeface="楷体_GB2312"/>
              </a:rPr>
              <a:t>、朗读、背诵全文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707ed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1707ed"/>
                </a:solidFill>
                <a:latin typeface="楷体_GB2312"/>
                <a:ea typeface="楷体_GB2312"/>
              </a:rPr>
              <a:t>、学习托物言志的写作技巧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2012760" y="69696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707ed"/>
                </a:solidFill>
                <a:latin typeface="Times New Roman"/>
                <a:ea typeface="隶书"/>
              </a:rPr>
              <a:t>一、给下列红色的字注音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042920" y="220968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德</a:t>
            </a:r>
            <a:r>
              <a:rPr b="0" lang="zh-CN" sz="40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馨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4929120" y="2209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鸿儒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966600" y="342900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苔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痕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5005440" y="342900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案</a:t>
            </a:r>
            <a:r>
              <a:rPr b="0" lang="zh-CN" sz="40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牍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414880" y="22795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421"/>
                </a:solidFill>
                <a:latin typeface="Times New Roman"/>
              </a:rPr>
              <a:t>xī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6021360" y="235584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421"/>
                </a:solidFill>
                <a:latin typeface="Times New Roman"/>
              </a:rPr>
              <a:t>hóng r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2135880" y="334656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421"/>
                </a:solidFill>
                <a:latin typeface="Times New Roman"/>
              </a:rPr>
              <a:t>tái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6249960" y="35751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421"/>
                </a:solidFill>
                <a:latin typeface="Times New Roman"/>
              </a:rPr>
              <a:t>d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1042920" y="454356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西</a:t>
            </a:r>
            <a:r>
              <a:rPr b="0" lang="zh-CN" sz="4000" spc="-1" strike="noStrike">
                <a:solidFill>
                  <a:srgbClr val="f80421"/>
                </a:solidFill>
                <a:latin typeface="楷体_GB2312"/>
                <a:ea typeface="楷体_GB2312"/>
              </a:rPr>
              <a:t>蜀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2135160" y="456552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421"/>
                </a:solidFill>
                <a:latin typeface="Times New Roman"/>
              </a:rPr>
              <a:t>shǔ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5143680" y="4572000"/>
            <a:ext cx="132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80421"/>
                </a:solidFill>
                <a:latin typeface="Times New Roman"/>
              </a:rPr>
              <a:t>调</a:t>
            </a:r>
            <a:r>
              <a:rPr b="0" lang="zh-CN" sz="4000" spc="-1" strike="noStrike">
                <a:solidFill>
                  <a:srgbClr val="0b0a09"/>
                </a:solidFill>
                <a:latin typeface="Times New Roman"/>
              </a:rPr>
              <a:t>素琴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6860520" y="46418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421"/>
                </a:solidFill>
                <a:latin typeface="Times New Roman"/>
              </a:rPr>
              <a:t>tiáo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304920" y="228600"/>
            <a:ext cx="85341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二、解释下列词语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  <a:ea typeface="隶书"/>
              </a:rPr>
              <a:t>：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457200" y="121932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名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258920" y="119700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a09"/>
                </a:solidFill>
                <a:latin typeface="Times New Roman"/>
                <a:ea typeface="楷体_GB2312"/>
              </a:rPr>
              <a:t>著名</a:t>
            </a:r>
            <a:r>
              <a:rPr b="0" lang="zh-CN" sz="2800" spc="-1" strike="noStrike">
                <a:solidFill>
                  <a:srgbClr val="0b0a09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395280" y="1773360"/>
            <a:ext cx="31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惟吾德馨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2340000" y="1773360"/>
            <a:ext cx="52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b0a09"/>
                </a:solidFill>
                <a:latin typeface="Times New Roman"/>
                <a:ea typeface="楷体_GB2312"/>
              </a:rPr>
              <a:t>惟，只是；德馨，品德尚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395280" y="2421000"/>
            <a:ext cx="16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鸿儒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1547640" y="242100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0a09"/>
                </a:solidFill>
                <a:latin typeface="Times New Roman"/>
                <a:ea typeface="楷体_GB2312"/>
              </a:rPr>
              <a:t>指知识渊博的学者。鸿，大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179280" y="3500280"/>
            <a:ext cx="203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1600200" y="426708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395280" y="4437000"/>
            <a:ext cx="18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案牍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1547640" y="44370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指官府的文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468360" y="5805360"/>
            <a:ext cx="24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Times New Roman"/>
                <a:ea typeface="楷体_GB2312"/>
              </a:rPr>
              <a:t>何陋之有</a:t>
            </a:r>
            <a:r>
              <a:rPr b="0" lang="zh-CN" sz="2800" spc="-1" strike="noStrike">
                <a:solidFill>
                  <a:srgbClr val="ff6699"/>
                </a:solidFill>
                <a:latin typeface="Times New Roman"/>
                <a:ea typeface="楷体_GB2312"/>
              </a:rPr>
              <a:t>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" name="Text Box 18"/>
          <p:cNvSpPr/>
          <p:nvPr/>
        </p:nvSpPr>
        <p:spPr>
          <a:xfrm>
            <a:off x="2268360" y="580536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b0a09"/>
                </a:solidFill>
                <a:latin typeface="Times New Roman"/>
                <a:ea typeface="楷体_GB2312"/>
              </a:rPr>
              <a:t>之，宾语前置的标志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695880" y="5157720"/>
            <a:ext cx="85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Times New Roman"/>
                <a:ea typeface="楷体_GB2312"/>
              </a:rPr>
              <a:t>劳形</a:t>
            </a:r>
            <a:r>
              <a:rPr b="1" lang="zh-CN" sz="2400" spc="-1" strike="noStrike">
                <a:solidFill>
                  <a:srgbClr val="ff6699"/>
                </a:solidFill>
                <a:latin typeface="Times New Roman"/>
                <a:ea typeface="楷体_GB2312"/>
              </a:rPr>
              <a:t>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1692360" y="5157720"/>
            <a:ext cx="35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b0a09"/>
                </a:solidFill>
                <a:latin typeface="Times New Roman"/>
                <a:ea typeface="楷体_GB2312"/>
              </a:rPr>
              <a:t>使身体劳累</a:t>
            </a:r>
            <a:r>
              <a:rPr b="0" lang="zh-CN" sz="3200" spc="-1" strike="noStrike">
                <a:solidFill>
                  <a:srgbClr val="0b0a09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Text Box 23"/>
          <p:cNvSpPr/>
          <p:nvPr/>
        </p:nvSpPr>
        <p:spPr>
          <a:xfrm>
            <a:off x="559440" y="371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Times New Roman"/>
                <a:ea typeface="楷体_GB2312"/>
              </a:rPr>
              <a:t>调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" name="Text Box 24"/>
          <p:cNvSpPr/>
          <p:nvPr/>
        </p:nvSpPr>
        <p:spPr>
          <a:xfrm>
            <a:off x="3478320" y="37162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b0a09"/>
                </a:solidFill>
                <a:latin typeface="Times New Roman"/>
                <a:ea typeface="楷体_GB2312"/>
              </a:rPr>
              <a:t>调弄，这里指弹（琴）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569520" y="3068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Times New Roman"/>
                <a:ea typeface="楷体_GB2312"/>
              </a:rPr>
              <a:t>白丁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2705400" y="2997360"/>
            <a:ext cx="37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b0a09"/>
                </a:solidFill>
                <a:latin typeface="Times New Roman"/>
                <a:ea typeface="楷体_GB2312"/>
              </a:rPr>
              <a:t>平民，这里指没有什么学问的人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" name="AutoShape 28"/>
          <p:cNvSpPr/>
          <p:nvPr/>
        </p:nvSpPr>
        <p:spPr>
          <a:xfrm>
            <a:off x="7885080" y="515772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10800" y="6483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6980">
                <a:moveTo>
                  <a:pt x="10800" y="685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6980">
                <a:moveTo>
                  <a:pt x="8224" y="10914"/>
                </a:moveTo>
                <a:lnTo>
                  <a:pt x="12088" y="10914"/>
                </a:lnTo>
                <a:lnTo>
                  <a:pt x="12088" y="17911"/>
                </a:lnTo>
                <a:lnTo>
                  <a:pt x="13376" y="17911"/>
                </a:lnTo>
                <a:lnTo>
                  <a:pt x="13376" y="18834"/>
                </a:lnTo>
                <a:lnTo>
                  <a:pt x="8224" y="18834"/>
                </a:lnTo>
                <a:lnTo>
                  <a:pt x="8224" y="17911"/>
                </a:lnTo>
                <a:lnTo>
                  <a:pt x="9512" y="17911"/>
                </a:lnTo>
                <a:lnTo>
                  <a:pt x="9512" y="11819"/>
                </a:lnTo>
                <a:lnTo>
                  <a:pt x="8224" y="11819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609480" y="457200"/>
            <a:ext cx="43434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  <a:hlinkClick r:id="rId1"/>
              </a:rPr>
              <a:t>朗读课文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685800" y="17524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8c48"/>
                </a:solidFill>
                <a:latin typeface="Times New Roman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f08c48"/>
                </a:solidFill>
                <a:latin typeface="Times New Roman"/>
                <a:ea typeface="华文行楷"/>
              </a:rPr>
              <a:t>、本文是一篇韵文，句尾的字要押韵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8c48"/>
                </a:solidFill>
                <a:latin typeface="Times New Roman"/>
                <a:ea typeface="华文行楷"/>
              </a:rPr>
              <a:t>2</a:t>
            </a:r>
            <a:r>
              <a:rPr b="1" lang="zh-CN" sz="4000" spc="-1" strike="noStrike">
                <a:solidFill>
                  <a:srgbClr val="f08c48"/>
                </a:solidFill>
                <a:latin typeface="Times New Roman"/>
                <a:ea typeface="华文行楷"/>
              </a:rPr>
              <a:t>、朗读时要注意句子的平仄、节奏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8c48"/>
                </a:solidFill>
                <a:latin typeface="Times New Roman"/>
                <a:ea typeface="华文行楷"/>
              </a:rPr>
              <a:t>3</a:t>
            </a:r>
            <a:r>
              <a:rPr b="1" lang="zh-CN" sz="4000" spc="-1" strike="noStrike">
                <a:solidFill>
                  <a:srgbClr val="f08c48"/>
                </a:solidFill>
                <a:latin typeface="Times New Roman"/>
                <a:ea typeface="华文行楷"/>
              </a:rPr>
              <a:t>、朗读时语气要平缓，有些音节要适当拉长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7772400" y="64008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800" h="21600">
                <a:moveTo>
                  <a:pt x="15505" y="14281"/>
                </a:moveTo>
                <a:lnTo>
                  <a:pt x="15505" y="12323"/>
                </a:lnTo>
                <a:cubicBezTo>
                  <a:pt x="15505" y="11496"/>
                  <a:pt x="15836" y="10800"/>
                  <a:pt x="16437" y="10800"/>
                </a:cubicBezTo>
                <a:cubicBezTo>
                  <a:pt x="17568" y="10800"/>
                  <a:pt x="18465" y="9434"/>
                  <a:pt x="18465" y="7849"/>
                </a:cubicBezTo>
                <a:cubicBezTo>
                  <a:pt x="18465" y="5534"/>
                  <a:pt x="16611" y="3794"/>
                  <a:pt x="14400" y="3794"/>
                </a:cubicBezTo>
                <a:cubicBezTo>
                  <a:pt x="12189" y="3794"/>
                  <a:pt x="10518" y="5534"/>
                  <a:pt x="10518" y="7849"/>
                </a:cubicBezTo>
                <a:lnTo>
                  <a:pt x="12372" y="7849"/>
                </a:lnTo>
                <a:cubicBezTo>
                  <a:pt x="12372" y="6709"/>
                  <a:pt x="13295" y="5821"/>
                  <a:pt x="14400" y="5821"/>
                </a:cubicBezTo>
                <a:cubicBezTo>
                  <a:pt x="15505" y="5821"/>
                  <a:pt x="16437" y="6709"/>
                  <a:pt x="16437" y="7849"/>
                </a:cubicBezTo>
                <a:cubicBezTo>
                  <a:pt x="16437" y="8589"/>
                  <a:pt x="15967" y="9320"/>
                  <a:pt x="15505" y="9320"/>
                </a:cubicBezTo>
                <a:cubicBezTo>
                  <a:pt x="14400" y="9320"/>
                  <a:pt x="13295" y="10800"/>
                  <a:pt x="13295" y="12323"/>
                </a:cubicBezTo>
                <a:lnTo>
                  <a:pt x="13295" y="14281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7T01:07:09Z</dcterms:created>
  <dc:creator>wwd</dc:creator>
  <dc:description/>
  <dc:language>en-US</dc:language>
  <cp:lastModifiedBy>Lyre.芊妤</cp:lastModifiedBy>
  <dcterms:modified xsi:type="dcterms:W3CDTF">2022-04-05T02:23:02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3EDF5D5D3764C9EB3058C90D43D74B0</vt:lpwstr>
  </property>
  <property fmtid="{D5CDD505-2E9C-101B-9397-08002B2CF9AE}" pid="3" name="KSOProductBuildVer">
    <vt:lpwstr>2052-11.1.0.11365</vt:lpwstr>
  </property>
</Properties>
</file>