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whoosh.wav" ContentType="audio/x-wav"/>
  <Override PartName="/ppt/media/image5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A9B-C4D5-4E8C-B1DD-57EB631A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EB0-C5E3-4B11-A3A7-1446D692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CA2-E54C-41EA-A606-7A2976BD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207-04F2-4095-AD5B-F150621C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6419-2BDF-4B8C-AC27-C4C5D2FC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913-8860-4BF9-95A8-0EDEF24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7DA-46D4-4A52-B9D2-B8E6899A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DD75-3D77-4EF0-BD3D-F7E22CCA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65EB-F387-4F65-A484-E588D5C4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E6DD-2689-46A0-84CB-CD8780CD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E4C-9A49-4683-B543-6DB59E5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881-CA54-474E-B478-6A11C27D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B536-19CD-41D0-802D-0443FBF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C4B-811F-4A42-93FA-587E385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7DE4-C84E-4A1E-A067-3098403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8FB-AF36-4B08-9DAD-B5D0D7B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AF45-852D-4C3F-AA8D-5FD2B460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D03E-962A-4D30-BF12-B788307E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BD91-89BF-42A3-A4DD-B77F1159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E4B2-ECA9-46BC-AADF-A217633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78F1C-0AD4-44DE-A7F8-CCBAA72F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D815-55E0-4262-8F2F-B2BB0B51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049-CD2C-45FC-A57B-04437F4D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1BC9-513A-4291-B247-08093DF9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97A6-3904-43F2-B88E-F1B5EF8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6DDC-F5D5-4549-8943-DC5169D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E9D3-3621-4185-8A49-AEAEB44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0476-F3B8-4B3E-83A2-4F1242F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732D-7C5F-406F-AF31-40E04ABB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21A9-6E67-4D5A-AC5B-D1FB6C8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EE02-F156-446D-9A1E-02176144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05DA-48F7-4137-9B3F-14D7D61F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06D7-E036-4FDD-8BB7-CD5A2CFC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78A-12E9-48FC-A99C-B8359319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F57D-A709-4968-AD7F-61817A70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BA03-D78F-4C57-9D90-3226D76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8D7D-8CC5-4C4B-88AD-470E2B0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8A2B-4063-4C31-9944-693AD79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5AFF-4630-4E25-97A1-0182264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6609-8C5A-4D89-B75F-C1871A62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AACB-54C1-49CB-B143-EDCDCCB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05D1-B401-4179-8F69-D900D375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EB9E-AE70-4DBF-9806-91CD059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5A75-0A3A-4583-89A5-5CDF1E36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A97-44FF-4A54-963E-7EDA578B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BD5E8-8774-4F77-8F15-6C239A6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BC709-2AC5-4250-AECE-5CF34C22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90A04-3C87-4C07-BC08-7B72604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7C8D-D6FE-4457-B8BE-74CA4FBB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3DD5-621D-4877-A26C-902B9D46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BB34-2641-45B7-BB8B-DB26B0C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B041-F2E0-4431-934B-270F603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3752-C5AA-4454-B02B-E90380F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9108-1370-46A4-993E-491E6A8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87EA-C56A-489C-B592-3CACC339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6B7-8600-4571-B96E-6E3F31BB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9067E-CCE5-4C41-BC8A-F17B3AB3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641EC-D82C-4FAE-BD7E-604A0232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381D-DA5C-419A-A25F-748BF703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D6B96-59E1-44A9-98ED-A3DDACBD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7201-F303-43E8-9F59-8DF0156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B242A-75E7-4150-BE07-A4A7F680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77C0-EDF3-4CFB-BB12-0C59CBC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9207-C239-4815-ADA8-667BB4E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21F4-E5AA-461E-8241-825F871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358A-96EE-4ABB-B67B-B9AF1EA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DA2-49C3-4CD2-8B3E-A8CE0D7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7839-3D5E-4D0F-84AD-A76DBE76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D5C7-33A6-4FB7-9136-A8C40079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9F68D-6957-43B5-844C-858E638B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673-7A2F-4749-BCE9-CBDE6EC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FB4-50D9-4044-B360-09468B7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C3D8-BC1C-4502-88E4-625A8F56012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F4B6-C679-4689-8778-45CFA66C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F12-F798-47C0-B130-5A1B92DE5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9621-856A-447F-A80B-30698BC16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56C8-2979-4FA2-BA2E-AC37055530E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C7E8-2552-443B-8BA2-D1D84B184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..\..\..\&#22810;&#23186;&#20307;&#25945;&#23398;&#26448;&#26009;\&#21516;&#27493;&#25945;&#23398;2\&#38475;&#23460;&#38125;\d408w005.htm" TargetMode="External"/><Relationship Id="rId3" Type="http://schemas.openxmlformats.org/officeDocument/2006/relationships/hyperlink" Target="..\..\..\&#22810;&#23186;&#20307;&#25945;&#23398;&#26448;&#26009;\&#21516;&#27493;&#25945;&#23398;2\&#38475;&#23460;&#38125;\d408t001.htm" TargetMode="External"/><Relationship Id="rId4" Type="http://schemas.openxmlformats.org/officeDocument/2006/relationships/hyperlink" Target="..\..\..\&#22810;&#23186;&#20307;&#25945;&#23398;&#26448;&#26009;\&#21516;&#27493;&#25945;&#23398;2\&#38475;&#23460;&#38125;\d408t003.htm" TargetMode="External"/><Relationship Id="rId5" Type="http://schemas.openxmlformats.org/officeDocument/2006/relationships/hyperlink" Target="..\..\..\&#22810;&#23186;&#20307;&#25945;&#23398;&#26448;&#26009;\&#21516;&#27493;&#25945;&#23398;2\&#38475;&#23460;&#38125;\d408w006.htm" TargetMode="External"/><Relationship Id="rId6" Type="http://schemas.openxmlformats.org/officeDocument/2006/relationships/hyperlink" Target="..\..\..\&#22810;&#23186;&#20307;&#25945;&#23398;&#26448;&#26009;\&#21516;&#27493;&#25945;&#23398;2\&#38475;&#23460;&#38125;\d408w008.htm" TargetMode="External"/><Relationship Id="rId7" Type="http://schemas.openxmlformats.org/officeDocument/2006/relationships/hyperlink" Target="..\..\..\&#22810;&#23186;&#20307;&#25945;&#23398;&#26448;&#26009;\&#21516;&#27493;&#25945;&#23398;2\&#38475;&#23460;&#38125;\d408w009.htm" TargetMode="External"/><Relationship Id="rId8" Type="http://schemas.openxmlformats.org/officeDocument/2006/relationships/hyperlink" Target="..\..\..\&#22810;&#23186;&#20307;&#25945;&#23398;&#26448;&#26009;\&#21516;&#27493;&#25945;&#23398;2\&#38475;&#23460;&#38125;\d408w010.htm" TargetMode="External"/><Relationship Id="rId9" Type="http://schemas.openxmlformats.org/officeDocument/2006/relationships/hyperlink" Target="..\..\..\&#22810;&#23186;&#20307;&#25945;&#23398;&#26448;&#26009;\&#21516;&#27493;&#25945;&#23398;2\&#38475;&#23460;&#38125;\d408w011.htm" TargetMode="External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84,15,&#24187;&#28783;&#29255; 15" TargetMode="External"/><Relationship Id="rId2" Type="http://schemas.openxmlformats.org/officeDocument/2006/relationships/hyperlink" Target="274,14,&#24187;&#28783;&#29255; 14" TargetMode="External"/><Relationship Id="rId3" Type="http://schemas.openxmlformats.org/officeDocument/2006/relationships/hyperlink" Target="263,15,&#24187;&#28783;&#29255; 15" TargetMode="External"/><Relationship Id="rId4" Type="http://schemas.openxmlformats.org/officeDocument/2006/relationships/hyperlink" Target="277,15,&#24187;&#28783;&#29255; 15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38475;&#23460;&#38125;.swf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Image-19"/>
          <p:cNvPicPr/>
          <p:nvPr/>
        </p:nvPicPr>
        <p:blipFill>
          <a:blip r:embed="rId1"/>
          <a:stretch/>
        </p:blipFill>
        <p:spPr>
          <a:xfrm>
            <a:off x="15238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331440" y="152280"/>
            <a:ext cx="3863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·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刘禹锡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陋室铭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1066680" y="1066680"/>
            <a:ext cx="65534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80421"/>
                </a:solidFill>
                <a:latin typeface="Times New Roman"/>
                <a:ea typeface="隶书"/>
              </a:rPr>
              <a:t>韵脚</a:t>
            </a:r>
            <a:r>
              <a:rPr b="0" lang="zh-CN" sz="60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r>
              <a:rPr b="0" lang="zh-CN" sz="6000" spc="-1" strike="noStrike">
                <a:solidFill>
                  <a:srgbClr val="0b0a09"/>
                </a:solidFill>
                <a:latin typeface="Times New Roman"/>
                <a:ea typeface="隶书"/>
              </a:rPr>
              <a:t>名、灵、     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b0a09"/>
                </a:solidFill>
                <a:latin typeface="Times New Roman"/>
                <a:ea typeface="隶书"/>
              </a:rPr>
              <a:t>馨、青、丁、经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b0a09"/>
                </a:solidFill>
                <a:latin typeface="Times New Roman"/>
                <a:ea typeface="隶书"/>
              </a:rPr>
              <a:t>形、亭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AutoShape 3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975" h="21600">
                <a:moveTo>
                  <a:pt x="7960" y="3985"/>
                </a:moveTo>
                <a:lnTo>
                  <a:pt x="14958" y="3985"/>
                </a:lnTo>
                <a:lnTo>
                  <a:pt x="19014" y="7484"/>
                </a:lnTo>
                <a:lnTo>
                  <a:pt x="19014" y="17615"/>
                </a:lnTo>
                <a:lnTo>
                  <a:pt x="7960" y="17615"/>
                </a:lnTo>
                <a:close/>
              </a:path>
              <a:path fill="darken" w="26975" h="21600">
                <a:moveTo>
                  <a:pt x="14958" y="3985"/>
                </a:moveTo>
                <a:lnTo>
                  <a:pt x="19014" y="7484"/>
                </a:lnTo>
                <a:lnTo>
                  <a:pt x="14958" y="7484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0" y="1158840"/>
            <a:ext cx="6477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5481"/>
                </a:solidFill>
                <a:latin typeface="Times New Roman"/>
                <a:ea typeface="宋体"/>
              </a:rPr>
              <a:t>陋室铭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2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刘禹锡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3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山不在高，有仙则名。水不在深，有龙则灵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4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斯是陋室，惟吾德馨</a:t>
            </a:r>
            <a:r>
              <a:rPr b="1" lang="zh-CN" sz="2400" spc="-1" strike="noStrike">
                <a:solidFill>
                  <a:srgbClr val="2b5481"/>
                </a:solidFill>
                <a:latin typeface="Times New Roman"/>
                <a:ea typeface="宋体"/>
              </a:rPr>
              <a:t>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5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苔痕上阶绿，草色入帘青</a:t>
            </a:r>
            <a:r>
              <a:rPr b="1" lang="zh-CN" sz="2400" spc="-1" strike="noStrike">
                <a:solidFill>
                  <a:srgbClr val="2b5481"/>
                </a:solidFill>
                <a:latin typeface="Times New Roman"/>
                <a:ea typeface="宋体"/>
              </a:rPr>
              <a:t>。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谈笑有鸿儒，往来无白丁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6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可以调素琴，阅金经。无丝竹之乱耳，无案牍之劳形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7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南阳诸葛庐，西蜀子云亭。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8"/>
              </a:rPr>
              <a:t> </a:t>
            </a:r>
            <a:r>
              <a:rPr b="1" lang="zh-CN" sz="3200" spc="-1" strike="noStrike">
                <a:solidFill>
                  <a:srgbClr val="2b5481"/>
                </a:solidFill>
                <a:latin typeface="Times New Roman"/>
                <a:ea typeface="宋体"/>
              </a:rPr>
              <a:t>孔子云：何陋之有？</a:t>
            </a:r>
            <a:r>
              <a:rPr b="0" lang="zh-CN" sz="3200" spc="-1" strike="noStrike" u="sng">
                <a:solidFill>
                  <a:srgbClr val="00ccff"/>
                </a:solidFill>
                <a:uFillTx/>
                <a:latin typeface="Times New Roman"/>
                <a:ea typeface="宋体"/>
                <a:hlinkClick r:id="rId9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8532720" y="6093000"/>
            <a:ext cx="216000" cy="28872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860">
                <a:moveTo>
                  <a:pt x="0" y="0"/>
                </a:moveTo>
                <a:lnTo>
                  <a:pt x="21600" y="0"/>
                </a:lnTo>
                <a:lnTo>
                  <a:pt x="21600" y="28860"/>
                </a:lnTo>
                <a:lnTo>
                  <a:pt x="0" y="28860"/>
                </a:lnTo>
                <a:close/>
              </a:path>
              <a:path fill="lightenLess" w="21600" h="288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60">
                <a:moveTo>
                  <a:pt x="21600" y="0"/>
                </a:moveTo>
                <a:lnTo>
                  <a:pt x="21600" y="28860"/>
                </a:lnTo>
                <a:lnTo>
                  <a:pt x="20200" y="27460"/>
                </a:lnTo>
                <a:lnTo>
                  <a:pt x="20200" y="1400"/>
                </a:lnTo>
                <a:close/>
              </a:path>
              <a:path fill="darkenLess" w="21600" h="28860">
                <a:moveTo>
                  <a:pt x="21600" y="28860"/>
                </a:moveTo>
                <a:lnTo>
                  <a:pt x="0" y="28860"/>
                </a:lnTo>
                <a:lnTo>
                  <a:pt x="1400" y="27460"/>
                </a:lnTo>
                <a:lnTo>
                  <a:pt x="20200" y="27460"/>
                </a:lnTo>
                <a:close/>
              </a:path>
              <a:path fill="lighten" w="21600" h="28860">
                <a:moveTo>
                  <a:pt x="0" y="288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60"/>
                </a:lnTo>
                <a:close/>
              </a:path>
              <a:path fill="darken" w="21600" h="28860">
                <a:moveTo>
                  <a:pt x="3794" y="14430"/>
                </a:moveTo>
                <a:lnTo>
                  <a:pt x="17806" y="7423"/>
                </a:lnTo>
                <a:lnTo>
                  <a:pt x="17806" y="2143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1042920" y="170028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山不一定要高，有仙人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居住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就有名；水不一定要深，有龙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居住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就有灵气了。这间简陋的房子，好就好在主人有美好的德行。苔藓给石阶铺上绿毯，芳草将帘内映得碧青。说说笑笑的是学问渊博者，来来往往的没有粗鄙的人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WordArt 5"/>
          <p:cNvSpPr txBox="1"/>
          <p:nvPr/>
        </p:nvSpPr>
        <p:spPr>
          <a:xfrm>
            <a:off x="2843280" y="105264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参考译文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971640" y="162864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可以弹奏素朴的古琴，浏览珍贵的佛经。没有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嘈杂的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音乐扰乱耳朵，没有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成堆的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公文劳累身心。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它好比</a:t>
            </a:r>
            <a:r>
              <a:rPr b="0" lang="en-US" sz="3600" spc="-1" strike="noStrike">
                <a:solidFill>
                  <a:srgbClr val="0b0a09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0b0a09"/>
                </a:solidFill>
                <a:latin typeface="隶书"/>
                <a:ea typeface="隶书"/>
              </a:rPr>
              <a:t>南阳诸葛亮的草庐，西蜀扬子云的玄亭。孔子说：有什么简陋的呢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066680" y="25588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陋室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133720" y="2895480"/>
            <a:ext cx="68580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819520" y="251460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德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886200" y="21337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4114800" y="1905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环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952880" y="1905120"/>
            <a:ext cx="264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1"/>
              </a:rPr>
              <a:t>幽雅</a:t>
            </a: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038480" y="2514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交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5320440" y="25146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2"/>
              </a:rPr>
              <a:t>文雅</a:t>
            </a: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4114800" y="3092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生活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320440" y="312408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（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3"/>
              </a:rPr>
              <a:t>高雅</a:t>
            </a: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AutoShape 12"/>
          <p:cNvSpPr/>
          <p:nvPr/>
        </p:nvSpPr>
        <p:spPr>
          <a:xfrm>
            <a:off x="6781680" y="213372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6526800" y="25146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不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1066680" y="4540320"/>
            <a:ext cx="3810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4"/>
              </a:rPr>
              <a:t>诸葛庐、子云亭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1600200" y="3276720"/>
            <a:ext cx="0" cy="12189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186160" y="45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何陋之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862560" y="1187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山  水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2819520" y="118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名  灵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>
            <a:off x="1676520" y="1981080"/>
            <a:ext cx="0" cy="56844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Line 20"/>
          <p:cNvSpPr/>
          <p:nvPr/>
        </p:nvSpPr>
        <p:spPr>
          <a:xfrm>
            <a:off x="3429000" y="1981080"/>
            <a:ext cx="0" cy="60984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363320" y="1882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比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1224720" y="3595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类 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7543800" y="27432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7228080" y="1600200"/>
            <a:ext cx="127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高洁傲岸  安贫乐道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3108240" y="566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托物言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2133720" y="1523880"/>
            <a:ext cx="68580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3960" y="2276640"/>
            <a:ext cx="78984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陋室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AutoShape 29"/>
          <p:cNvSpPr/>
          <p:nvPr/>
        </p:nvSpPr>
        <p:spPr>
          <a:xfrm flipH="1" rot="10800000">
            <a:off x="682920" y="1412640"/>
            <a:ext cx="215640" cy="3576600"/>
          </a:xfrm>
          <a:custGeom>
            <a:avLst/>
            <a:gdLst>
              <a:gd name="textAreaLeft" fmla="*/ 137880 w 215640"/>
              <a:gd name="textAreaRight" fmla="*/ 216000 w 215640"/>
              <a:gd name="textAreaTop" fmla="*/ 92880 h 3576600"/>
              <a:gd name="textAreaBottom" fmla="*/ 3483720 h 357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906"/>
                </a:lnTo>
                <a:cubicBezTo>
                  <a:pt x="10800" y="9806"/>
                  <a:pt x="5400" y="10705"/>
                  <a:pt x="0" y="10705"/>
                </a:cubicBezTo>
                <a:cubicBezTo>
                  <a:pt x="5400" y="10705"/>
                  <a:pt x="10800" y="11605"/>
                  <a:pt x="10800" y="12504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AutoShape 32"/>
          <p:cNvSpPr/>
          <p:nvPr/>
        </p:nvSpPr>
        <p:spPr>
          <a:xfrm>
            <a:off x="824400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7301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5456" y="3812"/>
                </a:lnTo>
                <a:lnTo>
                  <a:pt x="5456" y="17824"/>
                </a:lnTo>
                <a:lnTo>
                  <a:pt x="3794" y="17824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Image-25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8077320" y="838080"/>
            <a:ext cx="83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草色入帘青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52280" y="901800"/>
            <a:ext cx="91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苔痕上阶绿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0" y="2590920"/>
            <a:ext cx="9144000" cy="990360"/>
            <a:chOff x="0" y="2590920"/>
            <a:chExt cx="9144000" cy="990360"/>
          </a:xfrm>
        </p:grpSpPr>
        <p:sp>
          <p:nvSpPr>
            <p:cNvPr id="343" name="Oval 6"/>
            <p:cNvSpPr/>
            <p:nvPr/>
          </p:nvSpPr>
          <p:spPr>
            <a:xfrm>
              <a:off x="0" y="2666880"/>
              <a:ext cx="121932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4" name="Oval 7"/>
            <p:cNvSpPr/>
            <p:nvPr/>
          </p:nvSpPr>
          <p:spPr>
            <a:xfrm>
              <a:off x="7924680" y="2590920"/>
              <a:ext cx="1219320" cy="9144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5" name="Line 8"/>
            <p:cNvSpPr/>
            <p:nvPr/>
          </p:nvSpPr>
          <p:spPr>
            <a:xfrm>
              <a:off x="1219320" y="3200400"/>
              <a:ext cx="213336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638680" y="3200400"/>
              <a:ext cx="23623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Text Box 10"/>
            <p:cNvSpPr/>
            <p:nvPr/>
          </p:nvSpPr>
          <p:spPr>
            <a:xfrm>
              <a:off x="3581280" y="2895480"/>
              <a:ext cx="19814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宋体"/>
                </a:rPr>
                <a:t>拟   人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8" name="Text Box 11"/>
          <p:cNvSpPr/>
          <p:nvPr/>
        </p:nvSpPr>
        <p:spPr>
          <a:xfrm>
            <a:off x="152280" y="25909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8077320" y="25909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入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50" name="Group 13"/>
          <p:cNvGrpSpPr/>
          <p:nvPr/>
        </p:nvGrpSpPr>
        <p:grpSpPr>
          <a:xfrm>
            <a:off x="304920" y="5029200"/>
            <a:ext cx="8458200" cy="685800"/>
            <a:chOff x="304920" y="5029200"/>
            <a:chExt cx="8458200" cy="685800"/>
          </a:xfrm>
        </p:grpSpPr>
        <p:sp>
          <p:nvSpPr>
            <p:cNvPr id="351" name="AutoShape 14"/>
            <p:cNvSpPr/>
            <p:nvPr/>
          </p:nvSpPr>
          <p:spPr>
            <a:xfrm rot="16200000">
              <a:off x="4305240" y="1409760"/>
              <a:ext cx="533520" cy="80769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210240 h 8076960"/>
                <a:gd name="textAreaBottom" fmla="*/ 786672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>
              <a:off x="304920" y="5105520"/>
              <a:ext cx="533160" cy="152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>
              <a:off x="8229600" y="5029200"/>
              <a:ext cx="533520" cy="152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54" name="Text Box 17"/>
          <p:cNvSpPr/>
          <p:nvPr/>
        </p:nvSpPr>
        <p:spPr>
          <a:xfrm>
            <a:off x="2209680" y="56386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宋体"/>
              </a:rPr>
              <a:t>恬静幽雅赏心悦目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AutoShape 18"/>
          <p:cNvSpPr/>
          <p:nvPr/>
        </p:nvSpPr>
        <p:spPr>
          <a:xfrm>
            <a:off x="8748720" y="6165720"/>
            <a:ext cx="395280" cy="35892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786" h="21600">
                <a:moveTo>
                  <a:pt x="0" y="0"/>
                </a:moveTo>
                <a:lnTo>
                  <a:pt x="23786" y="0"/>
                </a:lnTo>
                <a:lnTo>
                  <a:pt x="23786" y="21600"/>
                </a:lnTo>
                <a:lnTo>
                  <a:pt x="0" y="21600"/>
                </a:lnTo>
                <a:close/>
              </a:path>
              <a:path fill="lightenLess" w="23786" h="21600">
                <a:moveTo>
                  <a:pt x="0" y="0"/>
                </a:moveTo>
                <a:lnTo>
                  <a:pt x="23786" y="0"/>
                </a:lnTo>
                <a:lnTo>
                  <a:pt x="22386" y="1400"/>
                </a:lnTo>
                <a:lnTo>
                  <a:pt x="1400" y="1400"/>
                </a:lnTo>
                <a:close/>
              </a:path>
              <a:path fill="darken" w="23786" h="21600">
                <a:moveTo>
                  <a:pt x="23786" y="0"/>
                </a:moveTo>
                <a:lnTo>
                  <a:pt x="23786" y="21600"/>
                </a:lnTo>
                <a:lnTo>
                  <a:pt x="22386" y="20200"/>
                </a:lnTo>
                <a:lnTo>
                  <a:pt x="22386" y="1400"/>
                </a:lnTo>
                <a:close/>
              </a:path>
              <a:path fill="darkenLess" w="23786" h="21600">
                <a:moveTo>
                  <a:pt x="23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6" y="20200"/>
                </a:lnTo>
                <a:close/>
              </a:path>
              <a:path fill="lighten" w="23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6" h="21600">
                <a:moveTo>
                  <a:pt x="4887" y="3794"/>
                </a:moveTo>
                <a:lnTo>
                  <a:pt x="18899" y="10800"/>
                </a:lnTo>
                <a:lnTo>
                  <a:pt x="488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w066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5"/>
          <p:cNvSpPr/>
          <p:nvPr/>
        </p:nvSpPr>
        <p:spPr>
          <a:xfrm>
            <a:off x="8028000" y="6308640"/>
            <a:ext cx="289080" cy="144720"/>
          </a:xfrm>
          <a:custGeom>
            <a:avLst/>
            <a:gdLst>
              <a:gd name="textAreaLeft" fmla="*/ 9360 w 289080"/>
              <a:gd name="textAreaRight" fmla="*/ 279720 w 28908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43093" h="21600">
                <a:moveTo>
                  <a:pt x="0" y="0"/>
                </a:moveTo>
                <a:lnTo>
                  <a:pt x="43093" y="0"/>
                </a:lnTo>
                <a:lnTo>
                  <a:pt x="43093" y="21600"/>
                </a:lnTo>
                <a:lnTo>
                  <a:pt x="0" y="21600"/>
                </a:lnTo>
                <a:close/>
              </a:path>
              <a:path fill="lightenLess" w="43093" h="21600">
                <a:moveTo>
                  <a:pt x="0" y="0"/>
                </a:moveTo>
                <a:lnTo>
                  <a:pt x="43093" y="0"/>
                </a:lnTo>
                <a:lnTo>
                  <a:pt x="41693" y="1400"/>
                </a:lnTo>
                <a:lnTo>
                  <a:pt x="1400" y="1400"/>
                </a:lnTo>
                <a:close/>
              </a:path>
              <a:path fill="darken" w="43093" h="21600">
                <a:moveTo>
                  <a:pt x="43093" y="0"/>
                </a:moveTo>
                <a:lnTo>
                  <a:pt x="43093" y="21600"/>
                </a:lnTo>
                <a:lnTo>
                  <a:pt x="41693" y="20200"/>
                </a:lnTo>
                <a:lnTo>
                  <a:pt x="41693" y="1400"/>
                </a:lnTo>
                <a:close/>
              </a:path>
              <a:path fill="darkenLess" w="43093" h="21600">
                <a:moveTo>
                  <a:pt x="4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3" y="20200"/>
                </a:lnTo>
                <a:close/>
              </a:path>
              <a:path fill="lighten" w="4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3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406440" y="11858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22440" y="140184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-17640" y="12744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b0a09"/>
                </a:solidFill>
                <a:latin typeface="Times New Roman"/>
                <a:ea typeface="华文新魏"/>
              </a:rPr>
              <a:t>谈笑有鸿儒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8210520" y="27972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b0a09"/>
                </a:solidFill>
                <a:latin typeface="Times New Roman"/>
                <a:ea typeface="华文新魏"/>
              </a:rPr>
              <a:t>往来无白丁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3"/>
          <p:cNvSpPr/>
          <p:nvPr/>
        </p:nvSpPr>
        <p:spPr>
          <a:xfrm>
            <a:off x="838836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10818" y="3837"/>
                </a:moveTo>
                <a:lnTo>
                  <a:pt x="13394" y="6448"/>
                </a:ln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lnTo>
                  <a:pt x="17781" y="10800"/>
                </a:lnTo>
                <a:lnTo>
                  <a:pt x="16127" y="10800"/>
                </a:lnTo>
                <a:lnTo>
                  <a:pt x="16127" y="17989"/>
                </a:lnTo>
                <a:lnTo>
                  <a:pt x="5509" y="17989"/>
                </a:lnTo>
                <a:lnTo>
                  <a:pt x="5509" y="10800"/>
                </a:lnTo>
                <a:lnTo>
                  <a:pt x="3855" y="10800"/>
                </a:lnTo>
                <a:close/>
              </a:path>
              <a:path fill="darkenLess" w="21636" h="21600">
                <a:moveTo>
                  <a:pt x="13394" y="6448"/>
                </a:moveTo>
                <a:lnTo>
                  <a:pt x="13394" y="4707"/>
                </a:lnTo>
                <a:lnTo>
                  <a:pt x="15170" y="4707"/>
                </a:lnTo>
                <a:lnTo>
                  <a:pt x="15170" y="8224"/>
                </a:lnTo>
                <a:close/>
              </a:path>
              <a:path fill="darkenLess" w="21636" h="21600">
                <a:moveTo>
                  <a:pt x="9895" y="14299"/>
                </a:moveTo>
                <a:lnTo>
                  <a:pt x="11741" y="14299"/>
                </a:lnTo>
                <a:lnTo>
                  <a:pt x="11741" y="17989"/>
                </a:lnTo>
                <a:lnTo>
                  <a:pt x="16127" y="17989"/>
                </a:lnTo>
                <a:lnTo>
                  <a:pt x="16127" y="10800"/>
                </a:lnTo>
                <a:lnTo>
                  <a:pt x="5509" y="10800"/>
                </a:lnTo>
                <a:lnTo>
                  <a:pt x="5509" y="17989"/>
                </a:lnTo>
                <a:lnTo>
                  <a:pt x="9895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278960" y="5257800"/>
            <a:ext cx="27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421"/>
                </a:solidFill>
                <a:latin typeface="Times New Roman"/>
                <a:ea typeface="华文新魏"/>
              </a:rPr>
              <a:t>可以调素琴</a:t>
            </a:r>
            <a:r>
              <a:rPr b="0" lang="en-US" sz="4800" spc="-1" strike="noStrike">
                <a:solidFill>
                  <a:srgbClr val="f80421"/>
                </a:solidFill>
                <a:latin typeface="Times New Roman"/>
                <a:ea typeface="华文新魏"/>
              </a:rPr>
              <a:t>,</a:t>
            </a:r>
            <a:r>
              <a:rPr b="0" lang="zh-CN" sz="4800" spc="-1" strike="noStrike">
                <a:solidFill>
                  <a:srgbClr val="f80421"/>
                </a:solidFill>
                <a:latin typeface="Times New Roman"/>
                <a:ea typeface="华文新魏"/>
              </a:rPr>
              <a:t>阅金经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828800" y="6156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421"/>
                </a:solidFill>
                <a:latin typeface="华文新魏"/>
                <a:ea typeface="华文新魏"/>
              </a:rPr>
              <a:t>无丝竹之乱耳，无案牍之劳形</a:t>
            </a:r>
            <a:r>
              <a:rPr b="0" lang="zh-CN" sz="4000" spc="-1" strike="noStrike">
                <a:solidFill>
                  <a:srgbClr val="f80421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l1"/>
          <p:cNvPicPr/>
          <p:nvPr/>
        </p:nvPicPr>
        <p:blipFill>
          <a:blip r:embed="rId1"/>
          <a:stretch/>
        </p:blipFill>
        <p:spPr>
          <a:xfrm>
            <a:off x="0" y="0"/>
            <a:ext cx="4572000" cy="6861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l5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2234520" y="228600"/>
            <a:ext cx="468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南阳诸葛庐           西蜀子云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AutoShape 7"/>
          <p:cNvSpPr/>
          <p:nvPr/>
        </p:nvSpPr>
        <p:spPr>
          <a:xfrm rot="16194000">
            <a:off x="4109760" y="-35748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48000" y="1700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远大抱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8172360" y="6165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826920" y="220500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7ed"/>
                </a:solidFill>
                <a:latin typeface="Times New Roman"/>
                <a:ea typeface="隶书"/>
              </a:rPr>
              <a:t>通过描写客观景物，寄托传达作者的某种感情、抱负和志趣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WordArt 5"/>
          <p:cNvSpPr txBox="1"/>
          <p:nvPr/>
        </p:nvSpPr>
        <p:spPr>
          <a:xfrm>
            <a:off x="2700360" y="620640"/>
            <a:ext cx="304812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托物言志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476280"/>
            <a:ext cx="87184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80421"/>
                </a:solidFill>
                <a:latin typeface="华文新魏"/>
                <a:ea typeface="华文新魏"/>
              </a:rPr>
              <a:t>在狱咏蝉</a:t>
            </a:r>
            <a:r>
              <a:rPr b="1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骆宾王</a:t>
            </a: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西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陆蝉声唱，南冠客思侵。那堪玄鬓影，来对白头吟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露重飞难进，风多响易沉。无人信高洁，谁为表予心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</a:t>
            </a:r>
            <a:r>
              <a:rPr b="1" lang="zh-CN" sz="3200" spc="-1" strike="noStrike">
                <a:solidFill>
                  <a:srgbClr val="f80421"/>
                </a:solidFill>
                <a:latin typeface="华文新魏"/>
                <a:ea typeface="华文新魏"/>
              </a:rPr>
              <a:t>梅花</a:t>
            </a:r>
            <a:r>
              <a:rPr b="0" lang="zh-CN" sz="32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王安石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墙角数枝梅</a:t>
            </a:r>
            <a:r>
              <a:rPr b="1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凌寒独自开。 遥知不是雪</a:t>
            </a:r>
            <a:r>
              <a:rPr b="1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为有暗香来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80421"/>
                </a:solidFill>
                <a:latin typeface="华文新魏"/>
                <a:ea typeface="华文新魏"/>
              </a:rPr>
              <a:t>竹石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郑板桥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咬定青山不放松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立根原在破岩中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千磨万击还坚劲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任尔东西南北风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2800" spc="-1" strike="noStrike">
                <a:solidFill>
                  <a:srgbClr val="f80421"/>
                </a:solidFill>
                <a:latin typeface="华文新魏"/>
                <a:ea typeface="华文新魏"/>
              </a:rPr>
              <a:t>石灰吟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于谦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千锤万击出深山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烈火焚烧若等闲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粉身碎骨全不怕</a:t>
            </a:r>
            <a:r>
              <a:rPr b="0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要留清白在人间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f80421"/>
                </a:solidFill>
                <a:latin typeface="华文新魏"/>
                <a:ea typeface="华文新魏"/>
              </a:rPr>
              <a:t>画菊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郑思肖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花开不并百花从，独立疏篱趣未穷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宁可枝头抱香死，何曾吹落北风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447920" y="7621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拓展升华      自由表达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8080" y="1981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本文作者通过赞美陋室表达了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一种</a:t>
            </a:r>
            <a:r>
              <a:rPr b="1" lang="zh-CN" sz="4000" spc="-1" strike="noStrike">
                <a:solidFill>
                  <a:srgbClr val="f80421"/>
                </a:solidFill>
                <a:latin typeface="Times New Roman"/>
                <a:ea typeface="黑体"/>
              </a:rPr>
              <a:t>高洁傲岸的节操和安贫乐道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的情趣。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是作者对自己的一种警戒。下面请同学们讲一讲自己喜欢的座右铭，它给你什么启示和警戒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762120" y="457200"/>
            <a:ext cx="40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1707ed"/>
                </a:solidFill>
                <a:latin typeface="Times New Roman"/>
                <a:ea typeface="方正舒体"/>
              </a:rPr>
              <a:t>考考你？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33520" y="1523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、解释下列句中划线的词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457200" y="220968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A 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斯是陋室，惟吾德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1339920" y="2743200"/>
            <a:ext cx="22860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505320" y="2743200"/>
            <a:ext cx="60948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4191120" y="2209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B 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谈笑有鸿儒，往来无白丁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5796000" y="2708280"/>
            <a:ext cx="60948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7848720" y="2666880"/>
            <a:ext cx="609480" cy="0"/>
          </a:xfrm>
          <a:prstGeom prst="line">
            <a:avLst/>
          </a:prstGeom>
          <a:ln w="28440">
            <a:solidFill>
              <a:srgbClr val="f80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457200" y="2909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、把下列文言句子译成现代文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533520" y="5029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无丝竹之乱耳，无案牍之劳形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609480" y="5867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D</a:t>
            </a:r>
            <a:r>
              <a:rPr b="0" lang="zh-CN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孔子云：何陋之有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2628720" y="43434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B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苔痕上阶绿，草色人帘青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1164600" y="3584520"/>
            <a:ext cx="303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楷体_GB2312"/>
                <a:ea typeface="楷体_GB2312"/>
              </a:rPr>
              <a:t>A</a:t>
            </a:r>
            <a:r>
              <a:rPr b="0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斯是陋室，惟吾德馨</a:t>
            </a:r>
            <a:r>
              <a:rPr b="0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71760" y="1565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   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533520" y="1033560"/>
            <a:ext cx="15849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理解性默写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描写陋室环境的句子是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文章点明全文主旨的句子是：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表现陋室主人交往之雅的句子是：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用类比赞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陋室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的句子是：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作者在文中结尾把自己与古代贤士相比，表现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了他的高尚情趣的一句话是：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12880" y="192888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苔痕上阶绿，草色入帘青</a:t>
            </a: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445200" y="2666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斯是陋室，惟吾德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3572280" y="3657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谈笑有鸿儒，往来无白丁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420000" y="4443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南阳诸葛庐，西蜀子云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572280" y="571500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南阳诸葛庐，西蜀子云亭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985760" y="1143000"/>
            <a:ext cx="581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课文内容理解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下列对文章内容的赏析有错误的一项是（ ）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山不在高，有仙则名。水不在深，有龙则灵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表现了作者希望为国效力、建功立业的远大志向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苔痕上阶绿，草色入帘青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写出了环境的清幽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雅致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谈笑有鸿儒，往来无白丁。可以调素琴，阅金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经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写出了作者生活情趣的高雅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文章举诸葛庐、子云亭的例子，是为了说明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室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不陋的道理。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）、文章表达了作者怎样的思想感情？</a:t>
            </a:r>
            <a:br>
              <a:rPr sz="2800"/>
            </a:b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7870680" y="15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974880" y="58356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表达了作者高洁傲岸的节操和安贫乐道的情趣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0" y="969840"/>
            <a:ext cx="8532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  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开放性试题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铭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是古代刻在器物上用来警戒自己或称功颂德的文字，后成为一种文体。人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经常用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座右铭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来激励鞭策自己。请你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平时积累的古诗文中写出一则有关学习方面的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座右铭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 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932120" y="4653000"/>
            <a:ext cx="491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示例：学而不思则罔，思而不学则殆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少壮不努力，老大徒伤悲</a:t>
            </a:r>
            <a:br>
              <a:rPr sz="3200"/>
            </a:b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 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447920" y="1447920"/>
            <a:ext cx="670536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1707ed"/>
                </a:solidFill>
                <a:latin typeface="Times New Roman"/>
                <a:ea typeface="隶书"/>
              </a:rPr>
              <a:t>迁移拓展</a:t>
            </a:r>
            <a:r>
              <a:rPr b="0" lang="zh-CN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1707ed"/>
                </a:solidFill>
                <a:latin typeface="Times New Roman"/>
                <a:ea typeface="隶书"/>
              </a:rPr>
              <a:t>用现代汉语写两句话，描写一种花或者你的居室，要求字数一样多，并且意思相对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380880" y="762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小结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295280" y="19810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07ed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本文是作者用来自述其志的，这个“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志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”就是作者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高洁傲岸的节操和安贫乐道的情趣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。但作者在文章里却没有直说，而是借“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陋室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”这个“</a:t>
            </a:r>
            <a:r>
              <a:rPr b="1" lang="zh-CN" sz="32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物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  <a:ea typeface="楷体_GB2312"/>
              </a:rPr>
              <a:t>”表达出来的，即通过对陋室的环境及室主人的日常生活的描写，间接地表达出作者的思想感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2209680" y="1979640"/>
            <a:ext cx="5257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7ed"/>
                </a:solidFill>
                <a:latin typeface="Times New Roman"/>
                <a:ea typeface="隶书"/>
              </a:rPr>
              <a:t>作业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、熟练背诵并默写全文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、预习</a:t>
            </a: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爱莲说</a:t>
            </a: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5335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铭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古代刻在器物上用来警戒自己或者称述功德的文字，叫做“铭”，后来就成为一种文体。这种文体一般都是用韵的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57200" y="38862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座右铭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276720" y="39625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写出来放在座位右边的格言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587160" y="549360"/>
            <a:ext cx="700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隶书"/>
              </a:rPr>
              <a:t>作者简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刘禹锡（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772—842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），字梦得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唐代洛阳（现在属河南省）人，著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名诗人。唐顺宗时，曾参加王叔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集团的政治革新运动，不久失败，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被贬为朗州司马。后又连任连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州、夔州、和州等地刺史。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年回洛阳任  太子宾客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世称刘  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宾客。作品有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刘宾客集</a:t>
            </a:r>
            <a:r>
              <a:rPr b="1" lang="en-US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1707ed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3" name="Picture 5" descr="刘禹锡"/>
          <p:cNvPicPr/>
          <p:nvPr/>
        </p:nvPicPr>
        <p:blipFill>
          <a:blip r:embed="rId1"/>
          <a:stretch/>
        </p:blipFill>
        <p:spPr>
          <a:xfrm>
            <a:off x="6423120" y="3908520"/>
            <a:ext cx="27208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755640" y="191628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7e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刘禹锡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因参加王叔文的政治革新运动得罪了当朝的权贵，被贬成安徽省和州通判。按当时规定，他应住衙门里的三间屋子。可是和州知县见他被贬而来，便多方刁难。半年时间连搬三次家，住房一次比一次小，最后成了一间陋室。在此情景下，刘禹锡愤然提笔写了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陋室铭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一文，收录在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全唐文</a:t>
            </a:r>
            <a:r>
              <a:rPr b="1" lang="en-US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中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3132000" y="981000"/>
            <a:ext cx="27432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写作背景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818800" y="54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707ed"/>
                </a:solidFill>
                <a:latin typeface="Times New Roman"/>
                <a:ea typeface="方正舒体"/>
              </a:rPr>
              <a:t>学习目标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1700280"/>
            <a:ext cx="84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、朗读、背诵全文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1707ed"/>
                </a:solidFill>
                <a:latin typeface="楷体_GB2312"/>
                <a:ea typeface="楷体_GB2312"/>
              </a:rPr>
              <a:t>、学习托物言志的写作技巧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2012760" y="6969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707ed"/>
                </a:solidFill>
                <a:latin typeface="Times New Roman"/>
                <a:ea typeface="隶书"/>
              </a:rPr>
              <a:t>一、给下列红色的字注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042920" y="22096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德</a:t>
            </a: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929120" y="2209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鸿儒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6660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苔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500544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案</a:t>
            </a:r>
            <a:r>
              <a:rPr b="0" lang="zh-CN" sz="4000" spc="-1" strike="noStrike">
                <a:solidFill>
                  <a:srgbClr val="f80421"/>
                </a:solidFill>
                <a:latin typeface="Times New Roman"/>
                <a:ea typeface="楷体_GB2312"/>
              </a:rPr>
              <a:t>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414880" y="22795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xī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021360" y="235584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hóng r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2135880" y="334656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tá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249960" y="3575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d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042920" y="454356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西</a:t>
            </a:r>
            <a:r>
              <a:rPr b="0" lang="zh-CN" sz="4000" spc="-1" strike="noStrike">
                <a:solidFill>
                  <a:srgbClr val="f80421"/>
                </a:solidFill>
                <a:latin typeface="楷体_GB2312"/>
                <a:ea typeface="楷体_GB2312"/>
              </a:rPr>
              <a:t>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135160" y="45655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5143680" y="4572000"/>
            <a:ext cx="13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80421"/>
                </a:solidFill>
                <a:latin typeface="Times New Roman"/>
              </a:rPr>
              <a:t>调</a:t>
            </a:r>
            <a:r>
              <a:rPr b="0" lang="zh-CN" sz="4000" spc="-1" strike="noStrike">
                <a:solidFill>
                  <a:srgbClr val="0b0a09"/>
                </a:solidFill>
                <a:latin typeface="Times New Roman"/>
              </a:rPr>
              <a:t>素琴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6860520" y="4641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21"/>
                </a:solidFill>
                <a:latin typeface="Times New Roman"/>
              </a:rPr>
              <a:t>tiá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04920" y="22860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二、解释下列词语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57200" y="12193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名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58920" y="11970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著名</a:t>
            </a:r>
            <a:r>
              <a:rPr b="0" lang="zh-CN" sz="28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95280" y="177336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惟吾德馨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340000" y="1773360"/>
            <a:ext cx="52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惟，只是；德馨，品德尚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95280" y="2421000"/>
            <a:ext cx="16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鸿儒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547640" y="24210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指知识渊博的学者。鸿，大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79280" y="3500280"/>
            <a:ext cx="203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1600200" y="426708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395280" y="44370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案牍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547640" y="4437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官府的文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468360" y="580536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何陋之有</a:t>
            </a:r>
            <a:r>
              <a:rPr b="0" lang="zh-CN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268360" y="58053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之，宾语前置的标志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695880" y="5157720"/>
            <a:ext cx="8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劳形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692360" y="515772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使身体劳累</a:t>
            </a:r>
            <a:r>
              <a:rPr b="0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55944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调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478320" y="3716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调弄，这里指弹（琴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69520" y="306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白丁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2705400" y="2997360"/>
            <a:ext cx="37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b0a09"/>
                </a:solidFill>
                <a:latin typeface="Times New Roman"/>
                <a:ea typeface="楷体_GB2312"/>
              </a:rPr>
              <a:t>平民，这里指没有什么学问的人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7885080" y="5157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48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80">
                <a:moveTo>
                  <a:pt x="10800" y="685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80">
                <a:moveTo>
                  <a:pt x="8224" y="10914"/>
                </a:moveTo>
                <a:lnTo>
                  <a:pt x="12088" y="10914"/>
                </a:lnTo>
                <a:lnTo>
                  <a:pt x="12088" y="17911"/>
                </a:lnTo>
                <a:lnTo>
                  <a:pt x="13376" y="17911"/>
                </a:lnTo>
                <a:lnTo>
                  <a:pt x="13376" y="18834"/>
                </a:lnTo>
                <a:lnTo>
                  <a:pt x="8224" y="18834"/>
                </a:lnTo>
                <a:lnTo>
                  <a:pt x="8224" y="17911"/>
                </a:lnTo>
                <a:lnTo>
                  <a:pt x="9512" y="17911"/>
                </a:lnTo>
                <a:lnTo>
                  <a:pt x="9512" y="11819"/>
                </a:lnTo>
                <a:lnTo>
                  <a:pt x="8224" y="11819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09480" y="457200"/>
            <a:ext cx="4343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  <a:hlinkClick r:id="rId1"/>
              </a:rPr>
              <a:t>朗读课文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85800" y="17524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、本文是一篇韵文，句尾的字要押韵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、朗读时要注意句子的平仄、节奏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f08c48"/>
                </a:solidFill>
                <a:latin typeface="Times New Roman"/>
                <a:ea typeface="华文行楷"/>
              </a:rPr>
              <a:t>、朗读时语气要平缓，有些音节要适当拉长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777240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0" h="21600">
                <a:moveTo>
                  <a:pt x="15505" y="14281"/>
                </a:moveTo>
                <a:lnTo>
                  <a:pt x="15505" y="12323"/>
                </a:lnTo>
                <a:cubicBezTo>
                  <a:pt x="15505" y="11496"/>
                  <a:pt x="15836" y="10800"/>
                  <a:pt x="16437" y="10800"/>
                </a:cubicBezTo>
                <a:cubicBezTo>
                  <a:pt x="17568" y="10800"/>
                  <a:pt x="18465" y="9434"/>
                  <a:pt x="18465" y="7849"/>
                </a:cubicBezTo>
                <a:cubicBezTo>
                  <a:pt x="18465" y="5534"/>
                  <a:pt x="16611" y="3794"/>
                  <a:pt x="14400" y="3794"/>
                </a:cubicBezTo>
                <a:cubicBezTo>
                  <a:pt x="12189" y="3794"/>
                  <a:pt x="10518" y="5534"/>
                  <a:pt x="10518" y="7849"/>
                </a:cubicBezTo>
                <a:lnTo>
                  <a:pt x="12372" y="7849"/>
                </a:lnTo>
                <a:cubicBezTo>
                  <a:pt x="12372" y="6709"/>
                  <a:pt x="13295" y="5821"/>
                  <a:pt x="14400" y="5821"/>
                </a:cubicBezTo>
                <a:cubicBezTo>
                  <a:pt x="15505" y="5821"/>
                  <a:pt x="16437" y="6709"/>
                  <a:pt x="16437" y="7849"/>
                </a:cubicBezTo>
                <a:cubicBezTo>
                  <a:pt x="16437" y="8589"/>
                  <a:pt x="15967" y="9320"/>
                  <a:pt x="15505" y="9320"/>
                </a:cubicBezTo>
                <a:cubicBezTo>
                  <a:pt x="14400" y="9320"/>
                  <a:pt x="13295" y="10800"/>
                  <a:pt x="13295" y="12323"/>
                </a:cubicBezTo>
                <a:lnTo>
                  <a:pt x="13295" y="14281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1:07:09Z</dcterms:created>
  <dc:creator>wwd</dc:creator>
  <dc:description/>
  <dc:language>en-US</dc:language>
  <cp:lastModifiedBy>Lyre.芊妤</cp:lastModifiedBy>
  <dcterms:modified xsi:type="dcterms:W3CDTF">2022-04-05T02:23:02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3EDF5D5D3764C9EB3058C90D43D74B0</vt:lpwstr>
  </property>
  <property fmtid="{D5CDD505-2E9C-101B-9397-08002B2CF9AE}" pid="3" name="KSOProductBuildVer">
    <vt:lpwstr>2052-11.1.0.11365</vt:lpwstr>
  </property>
</Properties>
</file>